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D53-7745-4C87-B0BD-7941B693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6B4-AF80-4E47-8D43-F290CE43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47D-CA98-4FE0-AE2C-D78069A2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B16-836F-42F3-BBEE-E88CA10F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423-59B1-416A-AD2E-793E85BF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DE3C-8AAA-444C-A774-EE994718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DA85-DAF7-495D-B65F-4E2B959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04E8-2657-4012-BEC1-3B6D60A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EAC-FD84-4040-94D5-820E425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DC9F-761C-499D-A1C4-A8779859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397-1BCB-4AE4-9BE6-B7F03C5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635-A271-4394-80D0-216C3BE1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DB59-6682-4BC7-9847-CC4E6C1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93ED-C7DF-4040-B0F9-22ECBDE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1CE5-208E-4000-B158-7570A52F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814-8CA8-412B-A522-5EF3C0EF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80DA-2AB9-43D2-A2B7-68BBB563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9A2-E15D-4854-B82C-CF3A6F1C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FAC-51EA-4A98-9D36-4CFCFA91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5ED-AA93-402C-B4EE-24C8758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636-0AEA-4239-BCDF-190E6F86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00A-1AA1-4AF1-93BA-6D10A5B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4DF-DA4B-4DFA-84E2-A601E85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2AB-5DFE-4A8D-9913-5B4857F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A62-E1A6-4BB4-AEA8-FA000C811F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9444-F2A4-475D-BBBD-47C7B017D1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30760" y="2468520"/>
            <a:ext cx="5313240" cy="3913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71880" cy="428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drink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5373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fir [‘kefə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For centuries, additives have serve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variety of foods. Our ancestors used sal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dd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b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pice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reserved fru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pickled cucumbers i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onsumers demanded a food supply that should b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 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ves perform a variety of useful functions in foods that consumers ofte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additives could b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were willing to grow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harvest and grind it, spend many hours cooking and canning, or accept increased risks 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 Following are some reasons why ingredients are added to foods: to maintain or impro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improve or maintai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A food additive is any substance added to food. There are tw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first includes those additives whose use doesn’t need to be preceded by … … . The other type includes additives whose use needs … … depending on whether it … … … when combined with … …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A color additive is any … … … which is capable of … … . They are used 1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color loss due to … to light, air, temperature extremes, moisture and storage conditions; 2) to correct … … in color; 3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s that occur naturally; and 4) to provide color to … … …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For centuries, … … 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variety of foods. Our ancestors …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dded …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reserved fru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pickled … 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onsumers demanded … … that should b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… 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ves … … … functions in foods that … ofte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… could b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were willing to grow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harvest and … it, spend many hours … and … , or accept increased risks 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 Following are some reasons why … … … … : to maintain or impro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improve or maintai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…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A food additive is any … added to … . There are tw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first … … … whose use doesn’t need … by … … . The other type … … whose use needs … … depending on whether it … … … when … with … …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A color additive is any … … … which is … of … … . They are used 1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color loss due to … to light, air, temperature extremes, moisture and storage conditions; 2) to correct … … in color; 3)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s that occur naturally; and 4) to provide color to … … …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For centuries, … … 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… of … . Our …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dded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reserved 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pickled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Consumers … … … that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 …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ves … … … … … that … ofte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… could be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…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… and … it, … many hours … and …, or accept … … of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 Following are … … why … … … … :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… 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…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A … … is any … … … . There are tw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first … … … … … … … … by … … . The other … … … … … … … … depending on … … … … … when … with … …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A … … is any … … … which is … of … … . They are used 1) 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… … due to … … … … …; 2) to correct … … …; 3) 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s that … …; and 4) to provide … … … …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981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981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ur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981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vour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2205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un + 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221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+ ful = use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149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our + ful = colou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149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ur + ful = flavou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 VS us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urful VS colour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vourful VS flavour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id of a qualit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un +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7656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551664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589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8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tant processed pa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51560" cy="374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35360" y="3281400"/>
            <a:ext cx="5408640" cy="302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12000" y="476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ke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797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u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433760" cy="297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3151080"/>
            <a:ext cx="5940360" cy="3230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35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128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38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38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25760" y="2448000"/>
            <a:ext cx="6618240" cy="386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307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eat 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57400" y="2217600"/>
            <a:ext cx="6186600" cy="464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08320" cy="3701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drink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2916360" cy="540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124440" cy="590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6278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drink… rather than …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19:46Z</dcterms:created>
  <dc:creator>пользователь</dc:creator>
  <dc:description/>
  <dc:language>en-US</dc:language>
  <cp:lastModifiedBy>пользователь</cp:lastModifiedBy>
  <dcterms:modified xsi:type="dcterms:W3CDTF">2009-10-22T17:05:30Z</dcterms:modified>
  <cp:revision>5</cp:revision>
  <dc:subject/>
  <dc:title>Slide 1</dc:title>
</cp:coreProperties>
</file>