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BD8-EF15-44B8-B3F2-328966C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A72-2DF3-4F97-BC56-A95500F5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680-A842-492E-A80B-9D9A232F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449-CD65-4478-BA5B-EE67DC94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E69-55BD-486F-9FCA-14E8F425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0F3-355B-479F-8109-035ADA4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36C5-F53F-48B2-AC50-9413247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FC0-F81D-4DBE-B198-94F09E7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75DB-493E-4D6E-9EDD-2473840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8BC-F3EA-4AE8-A181-D0251F4E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6B58-0684-4504-86DD-8A8F7E0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DC1-C59E-4361-BAA3-57A3CB4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6994-E69D-4B52-9C06-70B5D55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D344-CF70-481E-A539-03F9136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F867-4A42-4AF4-81D0-32B3602B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0484-E39D-49D0-BCE6-13336C6E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68A8-78DF-47F6-9396-FA239D76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3C2-7A4F-45D8-984A-6ED96EC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955-BA62-44E6-A8A5-7582E888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C5B-D28D-44ED-B0CE-733D8A2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502-1C70-4A84-9A89-116013F4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67E-A049-464D-960A-4CC8630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84C-B2E3-4A6C-B20D-0F1F520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FB1-6240-4CFC-A133-C3F43B1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88D7-F56E-4477-A109-3E67C35E2B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B31-78BF-45B5-A4C4-7922BDCACB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30760" y="2468520"/>
            <a:ext cx="5313240" cy="3913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71880" cy="428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537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fir [‘kefə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centuries, additives have serve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variety of foods. Our ancestors used sal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dd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b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pice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eserved fru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pickled cucumbers 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nsumers demanded a food supply that should b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 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perform a variety of useful functions in foods that consumers ofte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dditives could b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were willing to gro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rvest and grind it, spend many hours cooking and canning, or accept increased risks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Following are some reasons why ingredients are added to foods: to maintain or impro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improve or mainta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 food additive is any substance added to food. There are tw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first includes those additives whose use doesn’t need to be preceded by … … . The other type includes additives whose use needs … … depending on whether it … … … when combined with …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A color additive is any … … … which is capable of … … . They are used 1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color loss due to … to light, air, temperature extremes, moisture and storage conditions; 2) to correct … … in color; 3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 that occur naturally; and 4) to provide color to … … …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centuries, … …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variety of foods. Our ancestors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dded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eserved fru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pickled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nsumers demanded … … that should b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 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… … … functions in foods that … ofte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… could b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were willing to gro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rvest and … it, spend many hours … and … , or accept increased risks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Following are some reasons why … … … … : to maintain or impro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improve or mainta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 food additive is any … added to … . There are tw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first … … … whose use doesn’t need … by … … . The other type … … whose use needs … … depending on whether it … … … when … with …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A color additive is any … … … which is … of … … . They are used 1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color loss due to … to light, air, temperature extremes, moisture and storage conditions; 2) to correct … … in color; 3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 that occur naturally; and 4) to provide color to … … …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For centuries, … … 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… of … . Our …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dded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reserved 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pickled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onsumers … … … that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 …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ves … … … … … that … ofte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… could b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…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and … it, … many hours … and …, or accept … … of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Following are … … why … … … … :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A … … is any … … … . There are tw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first … … … … … … … … by … … . The other … … … … … … … … depending on … … … … … when … with … 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A … … is any … … … which is … of … … . They are used 1)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… … due to … … … … …; 2) to correct … … …; 3)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s that … …; and 4) to provide … … … …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981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98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u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981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205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un + 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+ ful = us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149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ur + ful = colou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149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ur + ful = flavou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VS us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urful VS colour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ful VS flavour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id of a qualit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un +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5516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589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8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tant processed 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51560" cy="374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35360" y="3281400"/>
            <a:ext cx="5408640" cy="302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2000" y="476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ke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797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u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433760" cy="297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3151080"/>
            <a:ext cx="5940360" cy="3230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35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38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38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25760" y="2448000"/>
            <a:ext cx="6618240" cy="386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07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57400" y="2217600"/>
            <a:ext cx="6186600" cy="464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08320" cy="3701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2916360" cy="540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124440" cy="59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19:46Z</dcterms:created>
  <dc:creator>пользователь</dc:creator>
  <dc:description/>
  <dc:language>en-US</dc:language>
  <cp:lastModifiedBy>пользователь</cp:lastModifiedBy>
  <dcterms:modified xsi:type="dcterms:W3CDTF">2009-10-22T17:05:30Z</dcterms:modified>
  <cp:revision>5</cp:revision>
  <dc:subject/>
  <dc:title>Slide 1</dc:title>
</cp:coreProperties>
</file>