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0EB1-3C11-4607-93F5-B25564F64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A6C2-A632-46FE-BD3A-500DDF3D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A2E5-0075-4E96-B053-80E858B1F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159B-4A58-4E60-9FE7-433DE501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5979-312B-4F67-B5B1-A11970165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1F09-9D73-4150-9F6A-6C3CB334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1D63-91C1-4335-A62A-AE7B2A91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6B09-D443-4FE5-8238-EC8DF8F5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BE92-4CF0-4D2E-BDB2-2AB050B5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3437-B842-4CEC-A0FB-08A1203C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51C6-2392-4745-BB4A-A2E3CC95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F707-5D50-4396-ACC8-4B7B9D9B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1ABD-EAB2-459C-983B-9782A438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B71B-8AD1-48D5-9EB9-F9CCD8F5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8B12-67A4-466B-89B0-5AB7C754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61B1-540C-4554-8266-3F14BBBE9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0A28-EF73-45E2-8E31-397710703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A6BA-CE63-4FAB-83A8-4D240D35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3FED-C409-4FEB-80B5-80A50717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C2D6-6966-4438-8C96-887695F9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45A1-7390-4315-BC56-E576A7E2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AE19-37BB-4BCB-BFF1-37CD45ED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B654-1E6B-440D-9FD0-A3594977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33C3-D10E-4230-8B44-E01E9250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A9C7-06E7-4B78-9E84-322E44502E3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FD52-ACAD-418E-92D2-C0209B73B23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00720" y="371628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a p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00720" y="220500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chick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0720" y="170028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tato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00720" y="3333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ege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3068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g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00720" y="486900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epp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00720" y="602136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ucu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00720" y="544500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re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00720" y="4292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00720" y="119700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476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To bak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105264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To roa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170028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pe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23493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st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299736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bo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364500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stuf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42210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pick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4869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sl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54450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st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602136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smok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20:07:09Z</dcterms:created>
  <dc:creator>пользователь</dc:creator>
  <dc:description/>
  <dc:language>en-US</dc:language>
  <cp:lastModifiedBy>пользователь</cp:lastModifiedBy>
  <dcterms:modified xsi:type="dcterms:W3CDTF">2009-10-26T21:52:19Z</dcterms:modified>
  <cp:revision>4</cp:revision>
  <dc:subject/>
  <dc:title>Slide 1</dc:title>
</cp:coreProperties>
</file>