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592-8C3E-4ACE-A3DD-252EBDA2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615-4820-4D67-BEF7-9E1C8BE4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FC8-F57D-445B-9595-C9F05D4B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841-BAA0-4E26-A65B-7CB4352F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32F5-502F-4E9D-BBF9-CD0C8475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B891-78B3-462C-B6BD-FCE13C6D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CE65-A264-4E21-AE4E-96488ABB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4A8A-E204-4829-89A0-E2236A5B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AE17-FF22-423C-865F-C1C44A2B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165E-67AB-4CE6-B439-70B12ED9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311E-86DD-430F-A298-C19C5158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D58-68FE-4C6D-A992-4BD30866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4A6A-F9AA-4DB7-B142-CDB576C2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3618-B57B-4BE6-A043-F943C5AD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DF6C-CDBC-41A9-A922-D3F5997C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A9A0-F004-47FD-855C-0290B4DE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D11E-5EC5-451F-9171-B56D4FD9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C75-43A4-4E0C-B73F-22293F22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964-7916-4760-8AFC-ED9921F5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963-CD5A-4684-B73F-5CB3551F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671-0E31-4515-B265-342D8FBB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6AE-21C7-4E84-93EC-C6D2F171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D8A-170E-4E48-8502-A15D06E9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391-7A68-42F5-82D3-36510195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D31A-546F-4D4B-92C3-BB63E86890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F4DC-7896-4700-B267-A4C96C7958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00720" y="37162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a p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2205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chic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17002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tat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3333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ege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068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g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4869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p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6021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c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544500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429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11970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76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To b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52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To ro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70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3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t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9973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bo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tu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4221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ick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86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l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445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t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6021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mo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0:07:09Z</dcterms:created>
  <dc:creator>пользователь</dc:creator>
  <dc:description/>
  <dc:language>en-US</dc:language>
  <cp:lastModifiedBy>пользователь</cp:lastModifiedBy>
  <dcterms:modified xsi:type="dcterms:W3CDTF">2009-10-26T21:52:19Z</dcterms:modified>
  <cp:revision>4</cp:revision>
  <dc:subject/>
  <dc:title>Slide 1</dc:title>
</cp:coreProperties>
</file>