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9B0C-2D49-49AF-85B6-C9B8D9DC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EDF7-027F-4F56-BE92-EF76F29A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6252-0EEE-4EEB-BC6C-B5B6BAD2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349-9707-4FEE-B2DF-85BB0F2E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CEBF-2319-4EC2-864E-B16D5CC6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E747-F55A-41C1-8A78-9A3668A1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058D-5068-42E0-BB8B-2A69AF35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7697-55CE-406C-BEA5-47C4708A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4F1A-4F58-4D02-876A-5228AED4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2D8E-9F77-47C3-8A73-24907FAA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D12C-8DE5-4BF1-871F-96F289B6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4F98-27CB-4737-AEE1-0141E9DC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D43E-D74E-48D0-BEA0-E146BF3F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D333-A81A-4513-BB49-52D679A5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F312-67B3-429A-8EE7-10487798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0AEB-61E6-420E-A3B3-CA1C4749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7DBF-6196-4CE3-BA2A-F41CFCE6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C928-28E1-4DF5-A12A-6AADEE7F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0DD9-AAD9-44DB-9FE5-C6EE2F2A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4745-6C09-45A6-A10D-663E11CC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AE04-DE63-4858-8342-943A8BBB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5DB4-0F0A-4CCC-8097-061C3CAE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3373-7364-410D-B6A9-55B9EF91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2602-4BAA-4811-99A2-8D033BB9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F384-73BF-41AE-88C0-187F88CF73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0F59-D995-4F3B-A35E-D4ADB5A8D40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ЛИЧНОСТЬ В ИСТОРИ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4859280" y="260280"/>
            <a:ext cx="4145040" cy="62136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179280" y="692280"/>
            <a:ext cx="4608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гда войско Разина было разбит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 Симбирском (окт. 1670), Алё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вела лесами свой отряд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считывавший около 600 чел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 г. Темников и соединилас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отрядом сподвижника Разина 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Ф. Сидоровым. Вместе они захватили город и стали обороняться от осадивших Темников войск во главе с воеводой князе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Ю. Долгорук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е с Сидоровым 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правляла городским хозяйств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обороной города, лечи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неных травами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реньями, за что её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звали колдуньей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4456080" cy="51548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4923000" y="260280"/>
            <a:ext cx="4332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ле поражения Алёна встрет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мертный приговор спокойно, 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ытки перенесла сто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ужественно, что палачи бы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трясены и распустили слух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лёна— колдунь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тому и боли не чувству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её казни соорудили сруб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 дерева, обложив его солом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сухими ветками. Она сказа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д смертью: «если 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ыскать поболее люде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ые поступали бы, как и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стало, и бились так ж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рабро, как она, тогд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верное, поворотил бы княз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рий вспять! Затем Ал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крестилась, смело прыгну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сруб, захлопнула за соб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ышку, и никто не услыш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ее ни единого звука, пока плам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сожрало все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2627280" y="1197000"/>
            <a:ext cx="3997440" cy="554508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АДМИРАЛ Ф.Ф. УШАК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496908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438440" cy="33336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179280" y="4067280"/>
            <a:ext cx="9217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ёдор Ушаков родился 13 (24) февраля 1745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ельце Бурнаково (ныне Рыбинский район Ярославской области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ебогатой дворянской семье: отец — Фёдор Игнатьевич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шаков (1710—1781), сержант лейб-гвардии Преображенского полка в отставке, дядя — старец Феодор Санаксарский. Крещён в церкви соседнего села Хопылево. Окончил Морской кадетский корпус (1766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ужил на Балтийском фло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835280" y="115920"/>
            <a:ext cx="5486400" cy="37940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69840" y="3979800"/>
            <a:ext cx="9255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1775 года командовал фрегатом. В 1780 году назначен командир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мператорской яхты. В 1780—82 командир линейного корабля «Викто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1783 года на Черноморском флоте, участвова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постройке кораблей в Херсоне и строительстве пункта базиров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флота в Севастополе. Свою первую награду — орден Свят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ладимира IV степени (1784) получил за успешную борьбу с эпидемией чумы в Херсоне. В начале русско-турецкой войны 1787—1791 год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мандир линейного корабля «Святой Павел» и авангар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ерноморского фло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268360" y="3213000"/>
            <a:ext cx="4608720" cy="34578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34920" y="333360"/>
            <a:ext cx="9311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мандуя с 1790 года Черноморским флот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бегнув к созданной им новой манёвренной тактик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нципиально отличавшейся от принятой в то врем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нейной тактики, в 1790 и 1791 гг. одержал ряд блестящ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бед над турецким фло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урки с почтением и страхом называли его «Ушак-паш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789 году произведён в контр-адмира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4176720" cy="29829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-326160" y="3860640"/>
            <a:ext cx="981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 время Средиземноморского похода 1798—1800 гг.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шаков проявил себя как крупный флотоводец, искус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литик и дипломат при создании греческой Республики Се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тровов под протекторатом России и Тур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1799 году произведён в адмирал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1800 году эскадра Ушакова вернулась в Севастопо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968720" cy="33130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5292720" y="907920"/>
            <a:ext cx="3679920" cy="44024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48960" y="4076640"/>
            <a:ext cx="52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плоход «Адмирал Ушаков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877280" y="566100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рейсер «Адмирал Ушак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121280" cy="54943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430160" y="2276640"/>
            <a:ext cx="4835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атриарх Никон –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еформат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усской церкв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5619960" cy="42102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178640" y="501336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щи Адмирала Ф. Ушакова в кафедральн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боре в Саранс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2624040" cy="332424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2365560" cy="31528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1908000" y="260280"/>
            <a:ext cx="3624480" cy="27162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4"/>
          <a:stretch/>
        </p:blipFill>
        <p:spPr>
          <a:xfrm>
            <a:off x="3492360" y="3716280"/>
            <a:ext cx="352908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4583160" cy="64692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5092560" y="765000"/>
            <a:ext cx="4161240" cy="51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2 лет ушёл в Макарь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елтоводский монастыр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л в нём послушником д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624 года. В 1635 году Никит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возрасте 30 лет, приня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триг с имен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икон в Анзерском скит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ловецкого монастыря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643 году был избр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гуменом Кожеозерск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астыря. В 1646 год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правился в Москву, с поклон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молодому цар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лексею Михайловичу. Царь вел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икону остаться в Москв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Патриарху Иосифу —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вятить его в архимандри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воспасского монастыр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224240" cy="5805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4489920" y="1916280"/>
            <a:ext cx="473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5 июля 1652 года Ник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л торжественно возведё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престол патриарх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сковских и Всероссийски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ал Новоиерусалимск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настырь в 1656 го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реформу церкв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орой произошёл раско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796000" y="2205000"/>
            <a:ext cx="3168720" cy="44006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108000" y="4630680"/>
            <a:ext cx="489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вёл рефор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еркви, в результа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торой произошё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скол церкв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4723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793800" y="666720"/>
            <a:ext cx="75564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32720" cy="55371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473840" y="6021360"/>
            <a:ext cx="61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уд над патриархом Нико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684360" y="668160"/>
            <a:ext cx="792000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63520" y="189000"/>
            <a:ext cx="4781520" cy="6480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219640" y="1484280"/>
            <a:ext cx="354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ёна Арзамасская— женщин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таман отря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 время крестьянск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стания под руководств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. Рази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9:52:21Z</dcterms:created>
  <dc:creator>Михаил</dc:creator>
  <dc:description/>
  <dc:language>en-US</dc:language>
  <cp:lastModifiedBy>Михаил</cp:lastModifiedBy>
  <dcterms:modified xsi:type="dcterms:W3CDTF">2010-05-14T20:40:16Z</dcterms:modified>
  <cp:revision>2</cp:revision>
  <dc:subject/>
  <dc:title>ЛИЧНОСТЬ В ИСТОРИИ</dc:title>
</cp:coreProperties>
</file>