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82A-970A-47E7-9F78-DFE0A44D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AAF-66A9-4288-834E-FE38ADC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B97-386A-4651-84AE-939D5F80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5A0-9F3D-403A-A2E5-624C7845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BE7C-AE20-4ED1-BAC5-50885642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BF67-886F-4003-8F3F-1E27C674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FD65-6F30-4BB3-B884-62B633A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1BAA-6177-46CB-A901-77E3E5D2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E067-C89B-4767-8423-007E19DC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EDB3-AEA7-446F-B86B-55D1F8D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EED-869F-4284-85F1-A48577F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C9F-AFED-43B1-B19C-9B5A112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DD5-8AB8-4FE1-A4F5-FC8893DF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3BC-3B7A-4FD0-BACE-A35E199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B271-F5F8-4DD0-8AA7-24662471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C7B4-5B3D-4427-83AB-3BFB804C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B7C2-8C63-43FF-A69C-D9E8C915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26B-A489-45E3-A234-0ED0DD2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E4D-FAA5-4248-B230-F4553F5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8B4-ACE9-4C4B-B967-11EE44A6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269-8516-47EB-8B4C-5260A93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827-EC57-4818-AAA8-2E34C477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B3D-22D0-4172-A084-AB971AF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ECF-DF8E-4A81-9774-DC474F5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C95F-4863-4702-A99F-93CB161B58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D7AA-DCF4-4901-A0C2-56FF5219F1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ЛИЧНОСТЬ В ИСТОР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145040" cy="6213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79280" y="692280"/>
            <a:ext cx="460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войско Разина было разби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Симбирском (окт. 1670), Алё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ела лесами свой отря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читывавший около 600 чел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 г. Темников и соединила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отрядом сподвижника Разина 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. Сидоровым. Вместе они захватили город и стали обороняться от осадивших Темников войск во главе с воеводой княз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Ю. Долгорук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е с Сидоровым 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равляла городским хозяйств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обороной города, леч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неных трав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реньями, за что е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звали колдунь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456080" cy="5154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923000" y="260280"/>
            <a:ext cx="433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поражения Алёна встрет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ртный приговор спокойно,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ытки перенесла ст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жественно, что палачи бы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рясены и распустили слух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ёна— колдун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ому и боли не чув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её казни соорудили сру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дерева, обложив его соло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ухими ветками. Она сказ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смертью: «если 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ыскать поболее люд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ые поступали бы, как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ало, и бились так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рабро, как она, тог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верное, поворотил бы княз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й вспять! Затем А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крестилась, смело прыгну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уб, захлопнула за со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ышку, и никто не услыш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ее ни единого звука, пока пла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сожрало вс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997440" cy="5545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ДМИРАЛ Ф.Ф. УША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96908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38440" cy="33336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4067280"/>
            <a:ext cx="921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ёдор Ушаков родился 13 (24) февраля 174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льце Бурнаково (ныне Рыбинский район Ярославской области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богатой дворянской семье: отец — Фёдор Игнатьеви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шаков (1710—1781), сержант лейб-гвардии Преображенского полка в отставке, дядя — старец Феодор Санаксарский. Крещён в церкви соседнего села Хопылево. Окончил Морской кадетский корпус (1766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жил на Балтийском фл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486400" cy="3794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9840" y="3979800"/>
            <a:ext cx="925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775 года командовал фрегатом. В 1780 году назначен командир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ператорской яхты. В 1780—82 командир линейного корабля «Викто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783 года на Черноморском флоте, участвов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остройке кораблей в Херсоне и строительстве пункта базир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лота в Севастополе. Свою первую награду — орден Свят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ладимира IV степени (1784) получил за успешную борьбу с эпидемией чумы в Херсоне. В начале русско-турецкой войны 1787—1791 го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андир линейного корабля «Святой Павел» и авангар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номорского фл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608720" cy="3457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4920" y="333360"/>
            <a:ext cx="931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андуя с 1790 года Черноморским фло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бегнув к созданной им новой манёвренной такт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иально отличавшейся от принятой в то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ейной тактики, в 1790 и 1791 гг. одержал ряд блест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ед над турецким фло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рки с почтением и страхом называли его «Ушак-паш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89 году произведён в контр-адмир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-326160" y="3860640"/>
            <a:ext cx="981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 время Средиземноморского похода 1798—1800 гг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шаков проявил себя как крупный флотоводец, искус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итик и дипломат при создании греческой Республики Се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тровов под протекторатом России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799 году произведён в адмир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00 году эскадра Ушакова вернулась в Севастоп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968720" cy="33130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679920" cy="44024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8960" y="407664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плоход «Адмирал Ушак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77280" y="56610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ейсер «Адмирал Ушак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21280" cy="5494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430160" y="2276640"/>
            <a:ext cx="483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триарх Никон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форма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усской церк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61996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78640" y="50133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щи Адмирала Ф. Ушакова в кафедра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боре в Саранс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2624040" cy="33242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365560" cy="31528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3624480" cy="2716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492360" y="371628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4583160" cy="646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092560" y="765000"/>
            <a:ext cx="41612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2 лет ушёл в Макарь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лтоводский монастыр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 в нём послушником д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24 года. В 1635 году Ники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возрасте 30 лет, приня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риг с имен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н в Анзерском ски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овецкого монастыря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643 году был изб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уменом Кожеозер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я. В 1646 го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правился в Москву, с покло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молодому цар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ею Михайловичу. Царь вел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ну остаться в Моск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Патриарху Иосифу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вятить его в архимандр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воспасского монасты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24240" cy="580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489920" y="1916280"/>
            <a:ext cx="473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5 июля 1652 года Ни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 торжественно возведё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рестол патриарх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их и Всероссийск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л Новоиерусалим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астырь в 1656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реформу церкв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й произошёл раск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168720" cy="44006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08000" y="4630680"/>
            <a:ext cx="48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ёл ре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ркви, в резуль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торой произошё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кол церк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472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93800" y="666720"/>
            <a:ext cx="75564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32720" cy="5537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73840" y="6021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д над патриархом Ни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84360" y="668160"/>
            <a:ext cx="7920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63520" y="189000"/>
            <a:ext cx="4781520" cy="6480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219640" y="1484280"/>
            <a:ext cx="354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ёна Арзамасская— женщи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аман от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время крестья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стания под руководств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. Раз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52:21Z</dcterms:created>
  <dc:creator>Михаил</dc:creator>
  <dc:description/>
  <dc:language>en-US</dc:language>
  <cp:lastModifiedBy>Михаил</cp:lastModifiedBy>
  <dcterms:modified xsi:type="dcterms:W3CDTF">2010-05-14T20:40:16Z</dcterms:modified>
  <cp:revision>2</cp:revision>
  <dc:subject/>
  <dc:title>ЛИЧНОСТЬ В ИСТОРИИ</dc:title>
</cp:coreProperties>
</file>