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F3D2-2FB0-4CB2-8C5A-58A41D804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04C7-B180-40A0-B206-73DEF842E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510B-43D1-4586-979B-8DC357441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8059-6BFE-4316-9E1C-7D57C2347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AFA63-2D23-4BA4-A41C-DEF7959CB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5981F-3DA8-4289-BC39-967F3F83E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6F694-69C4-41F5-AE0A-F342C7571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DB3AC-4BE3-4BC7-AD0C-BFAD77B7C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27C7C-9731-4E29-959F-0DDB874D7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FB308-8630-451D-A980-394A82D82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5F4EA-36D0-4E00-BAED-1E0187C2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AA95-9F7D-443C-ACA7-D2CDA5D5B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6AF24-06BF-4FA2-990A-2C8B6294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DDE6F-8FBC-4909-9ECD-46C6DAA2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5D50B-EA3F-4CC1-A934-59CF79C76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95B12-2BB9-42FA-811A-B5F4DEDE1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F82C7-F850-43D3-8D3A-CDCCC5A4A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228B-B5FB-4EA4-B8B4-D54E263FC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70A0-6F62-4EBE-8A98-F006D6EC4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5C9F-C1A1-4841-84B3-11F36DE5A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6945-F57E-480E-80CB-E0D712B44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B5D7-345A-4486-8417-2F31DDD5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1CE5-3FC7-4D73-9166-AA88ECBB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6716-28BD-45FB-B4EF-BB0EDDD4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9BAF6-D3DA-4684-A42A-51EDDCDD4AF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B932F-94C0-4B7B-84EC-6880C6E63054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86920" y="1370160"/>
            <a:ext cx="6464520" cy="47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На пути к профессии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395280" y="2205000"/>
            <a:ext cx="6972480" cy="34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Цель: 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Познакомить  учащихся с новыми, интересными профессиями; выявить, какие из профессий сегодня востребованы; закрепить и углубить знания о профессиях; дать себе правильную оценку 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Составила педагог-психолог МБОУ « Гимназия №2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Лайс Л.А.; г.Вышний Волочёк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Комментарии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Веб – мастер – человек, координирующий все работы по созданию, наполнению и поддержке интернет-проекта.Должен уметь оценить бюджет проекта, сроки его реализации и возможности по окупаемости денежных вложений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Маркетолог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Работает на рынке ценных бумаг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Тот, кто изучает рынок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Тот, кто изучает товарные марки и бренды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Комментарий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Это специалист по изучению вкусов покупателей и продвижению товара. Он исследует, какая продукция будет пользоваться наибольшим спросом и почему, оценивает рынок конкретных товаров и услуг, проводит тщательный мониторинг отрасли, организует работу, обрабатывает информацию с помощью специальных компьютерных программ, представляет подробный отчёт с цифрами, графиками, сравнительными характеристиками, делает прогноз и разрабатывает рекомендации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Фандрайзер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ищет деньги и возможности организаций на реализацию проектов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специалист по подбору персонала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изучает пути развития предприятия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Комментарий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Отвечает за привлечение материальных ресурсов в организацию. Спрос на профессию постоянно высок. Представитель данной профессии должен быть очень коммуникабельным, дипломатичным человеком, знающим нормативную (законодательную) базу по налогообложению и практику её применения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Р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R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– агент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связан с политикой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Специалист по рекламе и связям с общественностью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Выполняет посреднические услуги между организациями и людьм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Комментарий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Это специалист по рекламе и связям с общественностью. Практически в каждой крупной фирме работают специалисты по Р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R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. Основные обязанности Р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R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-агента, - формировать имидж фирмы, продвигать её интересы, налаживать контакты со СМИ, организовывать пресс-конференци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БАЙЕР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Английское слово, буквально означает «покупатель», но в бизнесе этим термином обозначают менеджера по закупкам. Подобная должность существует в любой сфере, связанной с куплей-продажей чего бы то ни было. Профессия байера творческая и требует знания иностранных языков, психологии и маркетинг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Трейдер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Это человек, совершающий операции на международном валютном рынке, зарабатывающий деньги на разнице курсов мировых валют. Суть работы – купить дешевле и продать дороже, увеличив капитал, свой собственный или клиента. Деятельность трейдера заключается в анализе поступающей рыночной информации, построении на её основе прогнозов и выборе момента для совершения сделок. Также он должен обладать оперативностью, интуицией и организаторскими способностями. Но валютных трейдеров со светлой головой и холодным сердцем немного, поэтому они так ценятся и их зарплаты столь высок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Барист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Специалист по варке кофе. Профессия бариста пришла в нашу страну из Италии. Итальянцы – истинные любители кофе. Опытный бариста знает всё о кофе, он разбирается в его сортах, отличает по аромату степень обжарки зёрен, умеет рисовать на кофейной пенке – это искусство бариста называется « латте-арт». Помимо всего прочего, бариста знает, как правильно подавать и пить каждый вид кофе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Титестер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Дегустатор чая. Титестер – профессионал по вкусу, запаху и виду может определить сорт чая, место, где чай был выращен, сезон сбора, способ хранения и переработки. Идеальный титестер не курит, не пьёт алкоголя, более того, ему нельзя даже находиться в одной комнате с курящими людьми и пользоваться парфюмерией. Еда титестера очень ограничена: он не ест копчёностей, жареного и специй. Очень опасен для титестера насморк. Овладеть этой специальностью может далеко не каждый. Здесь нужен довольно специфический талант. Чтобы стать титестером высшей категории, нужно учиться более десяти лет!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Переворачиватель пингвинов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Да-да, это не шутка, а такая профессия действительно существует. Ею владеют всего два человека на планете, которые работают на полярных станциях в Антарктиде. После взлёта или посадки самолёта они ходят вокруг аэродрома и ставят на ноги бедных пингвинов, которых звуковой волной опрокидывает на спину. Дело в том, что из этого положения птица сама выбраться не может, и в природе не бывает таких ситуаций, чтобы случилась подобная неприятность. Переворачиватель пингвинов очень редкая, но очень добрая професси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Логист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ЗАНИМАЕТСЯ ЛОГИКОЙ;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СПЕЦИАЛИСТ ПО ОРГАНИЗАЦИИ ТРАНСПОРТИРОВКИ ПРОДУКЦИИ;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ОРГАНИЗУЕТ КОНФЕРЕНЦИИ И НАУЧНЫЕ САММИТЫ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Комментарий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Логист – специалист по организации транспортировки продукци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Задача логиста – организовать доставку товара в нужное место, к определённому времени и с минимальными затратами. Профессия приобретает всё большой спрос, для её получения необходимы экономическое образование и курсы специализаци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Веб-мастер…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Работает на компьютере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Разрабатывает программы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Разрабатывает проекты сайтов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3T13:33:54Z</dcterms:created>
  <dc:creator>1</dc:creator>
  <dc:description/>
  <dc:language>en-US</dc:language>
  <cp:lastModifiedBy>1</cp:lastModifiedBy>
  <dcterms:modified xsi:type="dcterms:W3CDTF">2013-02-28T16:32:56Z</dcterms:modified>
  <cp:revision>5</cp:revision>
  <dc:subject/>
  <dc:title>На пути к профессии.</dc:title>
</cp:coreProperties>
</file>