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D22-E6BB-47C1-B33F-A740D046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A94-1D95-468F-A439-3831DC3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4F7-789B-4961-BA31-99E12D50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48C-E12F-4BD8-93CD-082A8731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D42F-E8BF-48DF-847E-87470F0E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E86-D8D3-407D-881F-1DA4317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83A-7793-43B7-B516-DA3C40E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5DDC-EF11-49AC-A228-1090E63D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0D72-68C3-455A-A3EA-882CA12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3293-97AC-41C4-8FF7-BFA8CC1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3F21-553C-4E2D-86E5-7B9DB90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CA6-B6DE-4D21-A338-6C4994B4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EFEC-274A-4EB8-AB36-F738C18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893-9F85-4DC3-98A5-0C4E0899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E9D-39DF-4907-92AF-A2BBAC9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82E1-A2EA-43FF-AC9C-ABF98BF1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22D9-8A55-49B7-A33A-5B87B341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61A-0C44-43B1-A458-5510445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CFF-7030-4B76-ADE9-48FE9E84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CAB-2AED-4031-AC64-0BCBBAB1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167-FC62-4A5F-8C83-E0F7295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6B1-BFEA-40E3-AC13-C899060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62A-D9ED-4D77-9D2A-F925782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C2C-C25E-4DFD-902D-4F225E9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95B-DFFF-4DE7-A936-BF744F22D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476-5633-4620-B943-EEA5959B334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1370160"/>
            <a:ext cx="64645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 пути к професс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69724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знакомить  учащихся с новыми, интересными профессиями; выявить, какие из профессий сегодня востребованы; закрепить и углубить знания о профессиях; дать себе правильную оценку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ставила педагог-психолог МБОУ « Гимназия №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айс Л.А.; г.Вышний Волочё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б – мастер – человек, координирующий все работы по созданию, наполнению и поддержке интернет-проекта.Должен уметь оценить бюджет проекта, сроки его реализации и возможности по окупаемости денежных вложен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ркетолог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ет на рынке ценных бумаг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т, кто изучает рыно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Это специалист по изучению вкусов покупателей и продвижению товара. Он исследует, какая продукция будет пользоваться наибольшим спросом и почему, оценивает рынок конкретных товаров и услуг, проводит тщательный мониторинг отрасли, организует работу, обрабатывает информацию с помощью специальных компьютерных программ, представляет подробный отчёт с цифрами, графиками, сравнительными характеристиками, делает прогноз и разрабатывает рекомендац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андрайз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щет деньги и возможности организаций на реализацию проект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пециалист по подбору персонал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учает пути развития предприят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твечает за привлечение материальных ресурсов в организацию. Спрос на профессию постоянно высок. Представитель данной профессии должен быть очень коммуникабельным, дипломатичным человеком, знающим нормативную (законодательную) базу по налогообложению и практику её примен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– аген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вязан с политикой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пециалист по рекламе и связям с общественностью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ыполняет посреднические услуги между организациями и люд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то специалист по рекламе и связям с общественностью. Практически в каждой крупной фирме работают специалисты по Р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Основные обязанности Р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агента, - формировать имидж фирмы, продвигать её интересы, налаживать контакты со СМИ, организовывать пресс-конферен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ЙЕ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глийское слово, буквально означает «покупатель», но в бизнесе этим термином обозначают менеджера по закупкам. Подобная должность существует в любой сфере, связанной с куплей-продажей чего бы то ни было. Профессия байера творческая и требует знания иностранных языков, психологии и маркетинг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ейд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то человек, совершающий операции на международном валютном рынке, зарабатывающий деньги на разнице курсов мировых валют. Суть работы – купить дешевле и продать дороже, увеличив капитал, свой собственный или клиента. Деятельность трейдера заключается в анализе поступающей рыночной информации, построении на её основе прогнозов и выборе момента для совершения сделок. Также он должен обладать оперативностью, интуицией и организаторскими способностями. Но валютных трейдеров со светлой головой и холодным сердцем немного, поэтому они так ценятся и их зарплаты столь высо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ари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ециалист по варке кофе. Профессия бариста пришла в нашу страну из Италии. Итальянцы – истинные любители кофе. Опытный бариста знает всё о кофе, он разбирается в его сортах, отличает по аромату степень обжарки зёрен, умеет рисовать на кофейной пенке – это искусство бариста называется « латте-арт». Помимо всего прочего, бариста знает, как правильно подавать и пить каждый вид коф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итест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егустатор чая. Титестер – профессионал по вкусу, запаху и виду может определить сорт чая, место, где чай был выращен, сезон сбора, способ хранения и переработки. Идеальный титестер не курит, не пьёт алкоголя, более того, ему нельзя даже находиться в одной комнате с курящими людьми и пользоваться парфюмерией. Еда титестера очень ограничена: он не ест копчёностей, жареного и специй. Очень опасен для титестера насморк. Овладеть этой специальностью может далеко не каждый. Здесь нужен довольно специфический талант. Чтобы стать титестером высшей категории, нужно учиться более десяти л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ереворачиватель пингвино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-да, это не шутка, а такая профессия действительно существует. Ею владеют всего два человека на планете, которые работают на полярных станциях в Антарктиде. После взлёта или посадки самолёта они ходят вокруг аэродрома и ставят на ноги бедных пингвинов, которых звуковой волной опрокидывает на спину. Дело в том, что из этого положения птица сама выбраться не может, и в природе не бывает таких ситуаций, чтобы случилась подобная неприятность. Переворачиватель пингвинов очень редкая, но очень добрая професс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огис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НИМАЕТСЯ ЛОГИКО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ПЕЦИАЛИСТ ПО ОРГАНИЗАЦИИ ТРАНСПОРТИРОВКИ ПРОДУК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РГАНИЗУЕТ КОНФЕРЕНЦИИ И НАУЧНЫЕ САММИТ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огист – специалист по организации транспортировки продук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ча логиста – организовать доставку товара в нужное место, к определённому времени и с минимальными затратами. Профессия приобретает всё большой спрос, для её получения необходимы экономическое образование и курсы специализа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б-мастер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ботает на компьютер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рабатывает программ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рабатывает проекты сай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33:54Z</dcterms:created>
  <dc:creator>1</dc:creator>
  <dc:description/>
  <dc:language>en-US</dc:language>
  <cp:lastModifiedBy>1</cp:lastModifiedBy>
  <dcterms:modified xsi:type="dcterms:W3CDTF">2013-02-28T16:32:56Z</dcterms:modified>
  <cp:revision>5</cp:revision>
  <dc:subject/>
  <dc:title>На пути к профессии.</dc:title>
</cp:coreProperties>
</file>