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36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39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5DC-CC2F-4117-90F0-08BA2E30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A56-E1B2-46B5-A3A2-4576602C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F04-4453-4410-8A92-EDB958B0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AEE-BB2D-4D74-9BE1-2A04DD66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D383-3D07-4498-B8B5-D72EC92A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E25F-4A9F-4D32-801A-23384623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0394-49DD-466D-9E81-88BFD5B1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D0B9-C94B-43E3-8582-0822104B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E9EC-72CA-46C8-928B-E428AD3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1E3E-1253-4C32-A492-B58E1BC2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127F-DB1B-4235-A32F-46F53253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C6B-4047-4CC4-BBCC-09F0A606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1351-EDC7-4F6E-8A4E-502FFC59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457F-8269-4D1C-91EC-9CD82F7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70FC-641D-496B-B950-55E1666E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E858-2D19-45AC-9DF8-1D6C83BF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A438-5A52-458B-A73C-A78F285A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6EA-2C27-43E6-B255-9B8BC0A7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10A-6AB3-4D11-A67D-AF4BB96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926-93E7-4B26-A165-F29651FB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A0E-AD66-4414-AD2F-6D43DEE9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73A-051B-41A5-8F00-3A7CAD3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AEE-2D2C-44CD-A53E-6752B11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252-CAD1-484B-99CC-0102E30C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24E7-846D-475E-ACB2-EB08A5C4803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6BA5-343C-41A5-BA2A-A3C9EBA7C42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646360" y="280836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Заголовок 4" descr=""/>
          <p:cNvPicPr/>
          <p:nvPr/>
        </p:nvPicPr>
        <p:blipFill>
          <a:blip r:embed="rId1"/>
          <a:stretch/>
        </p:blipFill>
        <p:spPr>
          <a:xfrm>
            <a:off x="274680" y="-6480"/>
            <a:ext cx="8888400" cy="5346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952520" y="48769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Шатаев И.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Средняя школа №16» 11 класс г.Кимры Тверская обл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3429000" y="4648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ВИНЬО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6248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Авиньон. Папский дворец на берегу Роны. Место пленения римских пап в 14 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5" descr="АВИНЬОН"/>
          <p:cNvPicPr/>
          <p:nvPr/>
        </p:nvPicPr>
        <p:blipFill>
          <a:blip r:embed="rId1"/>
          <a:stretch/>
        </p:blipFill>
        <p:spPr>
          <a:xfrm>
            <a:off x="2362320" y="1143000"/>
            <a:ext cx="44863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3886200" y="5105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ЙМ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ГОТИЧЕСКИЙ СОБОР В РЕЙМСЕ (13 в"/>
          <p:cNvPicPr/>
          <p:nvPr/>
        </p:nvPicPr>
        <p:blipFill>
          <a:blip r:embed="rId1"/>
          <a:stretch/>
        </p:blipFill>
        <p:spPr>
          <a:xfrm>
            <a:off x="2362320" y="838080"/>
            <a:ext cx="4876560" cy="3786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0" y="594360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ин из главных туристических центров страны - Реймс, расположен на северо-востоке Франции. Это один из первых центров христианства в стране (уже в начале V в. здесь строится первый собор) и место рождения королевства Франция. Именно здесь в 496 г. н. э. первый король франков Хлодвиг принимает христианство, и с тех пор здесь прошли миропомазание на трон двадцать пять королей Франции. Здесь находится и "главный собор Франции" - Собор Реймской Богоматери (1210-1275 гг., неоднократно перестраивался в XIV-XV вв.) длиной более 138 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582720" y="510552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Л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ЛИЛЛЬ"/>
          <p:cNvPicPr/>
          <p:nvPr/>
        </p:nvPicPr>
        <p:blipFill>
          <a:blip r:embed="rId1"/>
          <a:stretch/>
        </p:blipFill>
        <p:spPr>
          <a:xfrm>
            <a:off x="2362320" y="990720"/>
            <a:ext cx="4686120" cy="3557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0" y="60958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 Cyr"/>
              </a:rPr>
              <a:t>Лилль. Площадь Шарля де Голл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920" y="502920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АСБУР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5867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асбург, "столица объединенной Европы", расположен на границе с Германией. Город впитал в свой облик влияние французской и немецкой культур, приобретя свою ярко выраженную индивидуальность. Исторический центр Страсбурга расположен на острове (взят под эгиду Юнеско в 1988 г.), образованном рекой Илль и каналами. Монументальный готический собор Нотр-Дам - самый высокий костел в Европе (высота 142 м.). Вблизи парка Оранжери возвышается новый символ города - комплекс зданий Совета Европы, Европейского суда по правам человека и Дворца Европы, занимающие площадь 220 тыс. кв. м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strasbourg"/>
          <p:cNvPicPr/>
          <p:nvPr/>
        </p:nvPicPr>
        <p:blipFill>
          <a:blip r:embed="rId1"/>
          <a:stretch/>
        </p:blipFill>
        <p:spPr>
          <a:xfrm>
            <a:off x="914400" y="1600200"/>
            <a:ext cx="4114800" cy="261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mg3ee0545a4c8e1"/>
          <p:cNvPicPr/>
          <p:nvPr/>
        </p:nvPicPr>
        <p:blipFill>
          <a:blip r:embed="rId2"/>
          <a:stretch/>
        </p:blipFill>
        <p:spPr>
          <a:xfrm>
            <a:off x="6477120" y="1066680"/>
            <a:ext cx="2395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736440" y="4952880"/>
            <a:ext cx="16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О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7200" y="6019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 Cyr"/>
              </a:rPr>
              <a:t>Лион. Ратуша 17 в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ЛИОН"/>
          <p:cNvPicPr/>
          <p:nvPr/>
        </p:nvPicPr>
        <p:blipFill>
          <a:blip r:embed="rId1"/>
          <a:stretch/>
        </p:blipFill>
        <p:spPr>
          <a:xfrm>
            <a:off x="1447920" y="304920"/>
            <a:ext cx="59436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3431160" y="510552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РС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47480" y="6172200"/>
            <a:ext cx="587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сель. Крупный портовый город на средиземноморсокм побережье Фран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МАРСЕЛЬ, крупный портовый город на средиземноморском побережье Франции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896920" y="5334120"/>
            <a:ext cx="383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МКИ ЛУА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80880" y="609588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 Cyr"/>
              </a:rPr>
              <a:t>Замок Шамбор, самый большой замок Луары. Строительство велось в 1526-1544 по приказу короля Франциска </a:t>
            </a:r>
            <a:r>
              <a:rPr b="0" lang="en-US" sz="1200" spc="-1" strike="noStrike">
                <a:solidFill>
                  <a:srgbClr val="ffffff"/>
                </a:solidFill>
                <a:latin typeface="Times New Roman Cyr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Times New Roman Cyr"/>
              </a:rPr>
              <a:t>. В замке 440 комнат,  365 каминов, 63 лестниц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ЗАМОК ШАМБОР, самый большой замок Луары"/>
          <p:cNvPicPr/>
          <p:nvPr/>
        </p:nvPicPr>
        <p:blipFill>
          <a:blip r:embed="rId1"/>
          <a:stretch/>
        </p:blipFill>
        <p:spPr>
          <a:xfrm>
            <a:off x="2819520" y="1523880"/>
            <a:ext cx="40384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430440" y="502920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РЕТА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80880" y="6172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ыс Ра (Бретань), глубоко вдающийся в акваторию Атлантического океана, самая западная точка страны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МЫС РА (Бретань), глубоко вдающийся в акваторию Атлантического океана, самая западная точка страны"/>
          <p:cNvPicPr/>
          <p:nvPr/>
        </p:nvPicPr>
        <p:blipFill>
          <a:blip r:embed="rId1"/>
          <a:stretch/>
        </p:blipFill>
        <p:spPr>
          <a:xfrm>
            <a:off x="2209680" y="1295280"/>
            <a:ext cx="457200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3509640" y="4915080"/>
            <a:ext cx="34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РМАНД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019920"/>
            <a:ext cx="86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ндия славится красотой своих суровых побережий, тенистыми лесами и престижными курортами - Довиль, Дьепп, Ле Тук, Кабур и др. Здесь сотни полей для игры в гольф, казино, ночных клубов, ипподромов и прочих спортивных сооружений, а у берегов швартуются целые флотилии яхт - это один из наиболее популярных центров яхтенного спорта Европы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ПОБЕРЕЖЬЕ НОРМАНДИИ, исторической провинции на северо-западе Франции"/>
          <p:cNvPicPr/>
          <p:nvPr/>
        </p:nvPicPr>
        <p:blipFill>
          <a:blip r:embed="rId1"/>
          <a:stretch/>
        </p:blipFill>
        <p:spPr>
          <a:xfrm>
            <a:off x="1523880" y="457200"/>
            <a:ext cx="64008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040280" y="525780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ШАРТ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4920" y="586728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 юго-западу от Парижа лежит знаменитый Шартр, прославившийся своим собором Нотр-Дам ("Шартрский Собор", XII в.), стены и башни которого украшаены множеством "горгулий" - фантастических животных и демонов, будто сошедших с гравюр Дюрера. Собор Шартрской Богоматери возведен на месте древней святыни друидов. Строительство началось в 11 в., храм был освящен в 1260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СОБОР ШАРТСКОЙ БОГОМАТЕРИ, возведенный на месте древней святыни друидов"/>
          <p:cNvPicPr/>
          <p:nvPr/>
        </p:nvPicPr>
        <p:blipFill>
          <a:blip r:embed="rId1"/>
          <a:stretch/>
        </p:blipFill>
        <p:spPr>
          <a:xfrm>
            <a:off x="2971800" y="990720"/>
            <a:ext cx="34783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643840" y="2808360"/>
            <a:ext cx="41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РАНЦИ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eiffel 1"/>
          <p:cNvPicPr/>
          <p:nvPr/>
        </p:nvPicPr>
        <p:blipFill>
          <a:blip r:embed="rId1"/>
          <a:stretch/>
        </p:blipFill>
        <p:spPr>
          <a:xfrm>
            <a:off x="457200" y="380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sacre"/>
          <p:cNvPicPr/>
          <p:nvPr/>
        </p:nvPicPr>
        <p:blipFill>
          <a:blip r:embed="rId2"/>
          <a:stretch/>
        </p:blipFill>
        <p:spPr>
          <a:xfrm>
            <a:off x="5410080" y="380880"/>
            <a:ext cx="3124440" cy="20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etoile2"/>
          <p:cNvPicPr/>
          <p:nvPr/>
        </p:nvPicPr>
        <p:blipFill>
          <a:blip r:embed="rId3"/>
          <a:stretch/>
        </p:blipFill>
        <p:spPr>
          <a:xfrm>
            <a:off x="457200" y="4114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vigne2"/>
          <p:cNvPicPr/>
          <p:nvPr/>
        </p:nvPicPr>
        <p:blipFill>
          <a:blip r:embed="rId4"/>
          <a:stretch/>
        </p:blipFill>
        <p:spPr>
          <a:xfrm>
            <a:off x="5486400" y="4038480"/>
            <a:ext cx="31240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890160" y="5334120"/>
            <a:ext cx="19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Ц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28600" y="63468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цца - "столица" Лазурного берега, раскинувшаяся на берегу бухты Байе-дез-Ангез ("Бухта Ангелов"), окруженной предгорьями Приморских Альп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6" descr="СРЕДИЗЕМНОМОРСКИЙ ГОРОД-КУРОРТ НИЦЦА на Лазурном берегу (Французская Ривьера)"/>
          <p:cNvPicPr/>
          <p:nvPr/>
        </p:nvPicPr>
        <p:blipFill>
          <a:blip r:embed="rId1"/>
          <a:stretch/>
        </p:blipFill>
        <p:spPr>
          <a:xfrm>
            <a:off x="2362320" y="1143000"/>
            <a:ext cx="48006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736080" y="5105520"/>
            <a:ext cx="25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РС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52280" y="5853240"/>
            <a:ext cx="8991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сика –это французский отстров в Средиземном море с необыкновенным ландшафтом. Это бурные реки с разноцветной галькой, прекрасные пляжи, тихие бухты и гранитные скалы залива Порто, подводные пещеры, "лунный пейзаж" пустыни Агриаты, ореховые рощи хребта Кастаньичча, зеленая горная дубовая долина Гуиззани, залив Бонифацио с крутыми белыми прибрежными скалами, чистые горные озера Агриат, Мело, Глория, Нину и Капителлу, гора Монте-Синту (2710 м.) и ещё 20 горных вершин, превышающих 2 тыс. метров, мягкие мускатные вина и церкви из розового и зеленого мрамора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6" descr="корс 4"/>
          <p:cNvPicPr/>
          <p:nvPr/>
        </p:nvPicPr>
        <p:blipFill>
          <a:blip r:embed="rId1"/>
          <a:stretch/>
        </p:blipFill>
        <p:spPr>
          <a:xfrm>
            <a:off x="3200400" y="990720"/>
            <a:ext cx="2698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457200" y="51814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НОДЕЛ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948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5" descr="vine 1"/>
          <p:cNvPicPr/>
          <p:nvPr/>
        </p:nvPicPr>
        <p:blipFill>
          <a:blip r:embed="rId1"/>
          <a:stretch/>
        </p:blipFill>
        <p:spPr>
          <a:xfrm>
            <a:off x="4267080" y="2971800"/>
            <a:ext cx="3353040" cy="2444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vine"/>
          <p:cNvPicPr/>
          <p:nvPr/>
        </p:nvPicPr>
        <p:blipFill>
          <a:blip r:embed="rId2"/>
          <a:stretch/>
        </p:blipFill>
        <p:spPr>
          <a:xfrm>
            <a:off x="762120" y="2590920"/>
            <a:ext cx="3276360" cy="240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odorniu_vineyard"/>
          <p:cNvPicPr/>
          <p:nvPr/>
        </p:nvPicPr>
        <p:blipFill>
          <a:blip r:embed="rId3"/>
          <a:stretch/>
        </p:blipFill>
        <p:spPr>
          <a:xfrm>
            <a:off x="304920" y="152280"/>
            <a:ext cx="1676160" cy="107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виноград"/>
          <p:cNvPicPr/>
          <p:nvPr/>
        </p:nvPicPr>
        <p:blipFill>
          <a:blip r:embed="rId4"/>
          <a:stretch/>
        </p:blipFill>
        <p:spPr>
          <a:xfrm>
            <a:off x="5486400" y="6094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vinogradnik 1"/>
          <p:cNvPicPr/>
          <p:nvPr/>
        </p:nvPicPr>
        <p:blipFill>
          <a:blip r:embed="rId5"/>
          <a:stretch/>
        </p:blipFill>
        <p:spPr>
          <a:xfrm>
            <a:off x="2209680" y="304920"/>
            <a:ext cx="3124440" cy="211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виноград 1"/>
          <p:cNvPicPr/>
          <p:nvPr/>
        </p:nvPicPr>
        <p:blipFill>
          <a:blip r:embed="rId6"/>
          <a:stretch/>
        </p:blipFill>
        <p:spPr>
          <a:xfrm>
            <a:off x="380880" y="1447920"/>
            <a:ext cx="1600200" cy="1063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2"/>
          <p:cNvSpPr/>
          <p:nvPr/>
        </p:nvSpPr>
        <p:spPr>
          <a:xfrm>
            <a:off x="0" y="587124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Более одной трети вин, производимых в странах ЕС, изготовлены во Франции, которая является крупнейшим в Европе поставщиком вина. Сорта вин различаются от обычных столовых, производимых главным образом в Лангедоке на юге Франции, до более высокосортной продукции виноградников Бордо, Бургундии, Реймса (где делают шампанское), долины Роны и Эльзас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4040280" y="495288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Ы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4480" y="6400800"/>
            <a:ext cx="82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Франция также славится как производитель многочисленных сортов сы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fromage"/>
          <p:cNvPicPr/>
          <p:nvPr/>
        </p:nvPicPr>
        <p:blipFill>
          <a:blip r:embed="rId1"/>
          <a:stretch/>
        </p:blipFill>
        <p:spPr>
          <a:xfrm>
            <a:off x="1981080" y="4572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832400" y="5791320"/>
            <a:ext cx="561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УКТЫ ПИТ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boulangerie grand"/>
          <p:cNvPicPr/>
          <p:nvPr/>
        </p:nvPicPr>
        <p:blipFill>
          <a:blip r:embed="rId1"/>
          <a:stretch/>
        </p:blipFill>
        <p:spPr>
          <a:xfrm>
            <a:off x="457200" y="304920"/>
            <a:ext cx="343548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legumes"/>
          <p:cNvPicPr/>
          <p:nvPr/>
        </p:nvPicPr>
        <p:blipFill>
          <a:blip r:embed="rId2"/>
          <a:stretch/>
        </p:blipFill>
        <p:spPr>
          <a:xfrm>
            <a:off x="4724280" y="304920"/>
            <a:ext cx="3494160" cy="5333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72440" y="6402240"/>
            <a:ext cx="44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ева – французские баг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tn_fete03_grenouille_jpg"/>
          <p:cNvPicPr/>
          <p:nvPr/>
        </p:nvPicPr>
        <p:blipFill>
          <a:blip r:embed="rId1"/>
          <a:stretch/>
        </p:blipFill>
        <p:spPr>
          <a:xfrm>
            <a:off x="3809880" y="45720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tn_fete03_grenouille_jpg 1"/>
          <p:cNvPicPr/>
          <p:nvPr/>
        </p:nvPicPr>
        <p:blipFill>
          <a:blip r:embed="rId2"/>
          <a:stretch/>
        </p:blipFill>
        <p:spPr>
          <a:xfrm>
            <a:off x="5715000" y="4038480"/>
            <a:ext cx="2743200" cy="191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wine"/>
          <p:cNvPicPr/>
          <p:nvPr/>
        </p:nvPicPr>
        <p:blipFill>
          <a:blip r:embed="rId3"/>
          <a:stretch/>
        </p:blipFill>
        <p:spPr>
          <a:xfrm>
            <a:off x="2286000" y="3733920"/>
            <a:ext cx="97308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трюфель"/>
          <p:cNvPicPr/>
          <p:nvPr/>
        </p:nvPicPr>
        <p:blipFill>
          <a:blip r:embed="rId4"/>
          <a:stretch/>
        </p:blipFill>
        <p:spPr>
          <a:xfrm>
            <a:off x="5562720" y="2590920"/>
            <a:ext cx="1828800" cy="1063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i_1049205847_Midii"/>
          <p:cNvPicPr/>
          <p:nvPr/>
        </p:nvPicPr>
        <p:blipFill>
          <a:blip r:embed="rId5"/>
          <a:stretch/>
        </p:blipFill>
        <p:spPr>
          <a:xfrm>
            <a:off x="380880" y="41148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i_1049269390_Ousters"/>
          <p:cNvPicPr/>
          <p:nvPr/>
        </p:nvPicPr>
        <p:blipFill>
          <a:blip r:embed="rId6"/>
          <a:stretch/>
        </p:blipFill>
        <p:spPr>
          <a:xfrm>
            <a:off x="6477120" y="457200"/>
            <a:ext cx="2133360" cy="160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midii_otvarn"/>
          <p:cNvPicPr/>
          <p:nvPr/>
        </p:nvPicPr>
        <p:blipFill>
          <a:blip r:embed="rId7"/>
          <a:stretch/>
        </p:blipFill>
        <p:spPr>
          <a:xfrm>
            <a:off x="4572000" y="457200"/>
            <a:ext cx="1676520" cy="160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oysters%201"/>
          <p:cNvPicPr/>
          <p:nvPr/>
        </p:nvPicPr>
        <p:blipFill>
          <a:blip r:embed="rId8"/>
          <a:stretch/>
        </p:blipFill>
        <p:spPr>
          <a:xfrm>
            <a:off x="380880" y="304920"/>
            <a:ext cx="3606840" cy="3200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3"/>
          <p:cNvSpPr/>
          <p:nvPr/>
        </p:nvSpPr>
        <p:spPr>
          <a:xfrm>
            <a:off x="152280" y="602316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 продукты питания и блюда также считаются типичными для Франции. Слева направо по рядам – устрицы, мидии, устрица, белый трюфель, мидия, бокалы вина, лягушачьи лапки (2 блюд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907640" y="5410080"/>
            <a:ext cx="64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РАНЦУЗСКИЙ ЗАВТРА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5" descr="dejeuner 1"/>
          <p:cNvPicPr/>
          <p:nvPr/>
        </p:nvPicPr>
        <p:blipFill>
          <a:blip r:embed="rId1"/>
          <a:stretch/>
        </p:blipFill>
        <p:spPr>
          <a:xfrm>
            <a:off x="914400" y="380880"/>
            <a:ext cx="7543800" cy="4942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152280" y="6247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ранцузский завтрак состоит из кофе, чая или какао и круассана или хлеба с маслом и джемом. Любой прием пищи во Франции - настоящее искусство и даже завтрак является ценным моментом дня, особенно во время отдых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52280" y="53341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СОКАЯ МО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9" descr="ax6"/>
          <p:cNvPicPr/>
          <p:nvPr/>
        </p:nvPicPr>
        <p:blipFill>
          <a:blip r:embed="rId1"/>
          <a:stretch/>
        </p:blipFill>
        <p:spPr>
          <a:xfrm>
            <a:off x="609480" y="2362320"/>
            <a:ext cx="3619800" cy="27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untitled"/>
          <p:cNvPicPr/>
          <p:nvPr/>
        </p:nvPicPr>
        <p:blipFill>
          <a:blip r:embed="rId2"/>
          <a:stretch/>
        </p:blipFill>
        <p:spPr>
          <a:xfrm>
            <a:off x="4572000" y="3809880"/>
            <a:ext cx="2590920" cy="215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45_moda_pokaz"/>
          <p:cNvPicPr/>
          <p:nvPr/>
        </p:nvPicPr>
        <p:blipFill>
          <a:blip r:embed="rId3"/>
          <a:stretch/>
        </p:blipFill>
        <p:spPr>
          <a:xfrm>
            <a:off x="4800600" y="152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2125"/>
          <p:cNvPicPr/>
          <p:nvPr/>
        </p:nvPicPr>
        <p:blipFill>
          <a:blip r:embed="rId4"/>
          <a:stretch/>
        </p:blipFill>
        <p:spPr>
          <a:xfrm>
            <a:off x="3276720" y="304920"/>
            <a:ext cx="1141200" cy="1904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0201310501"/>
          <p:cNvPicPr/>
          <p:nvPr/>
        </p:nvPicPr>
        <p:blipFill>
          <a:blip r:embed="rId5"/>
          <a:stretch/>
        </p:blipFill>
        <p:spPr>
          <a:xfrm>
            <a:off x="380880" y="304920"/>
            <a:ext cx="2438640" cy="1806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image0"/>
          <p:cNvPicPr/>
          <p:nvPr/>
        </p:nvPicPr>
        <p:blipFill>
          <a:blip r:embed="rId6"/>
          <a:stretch/>
        </p:blipFill>
        <p:spPr>
          <a:xfrm>
            <a:off x="7543800" y="3429000"/>
            <a:ext cx="992160" cy="2133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moda"/>
          <p:cNvPicPr/>
          <p:nvPr/>
        </p:nvPicPr>
        <p:blipFill>
          <a:blip r:embed="rId7"/>
          <a:stretch/>
        </p:blipFill>
        <p:spPr>
          <a:xfrm>
            <a:off x="4876920" y="2209680"/>
            <a:ext cx="1828800" cy="1305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1850"/>
          <p:cNvPicPr/>
          <p:nvPr/>
        </p:nvPicPr>
        <p:blipFill>
          <a:blip r:embed="rId8"/>
          <a:stretch/>
        </p:blipFill>
        <p:spPr>
          <a:xfrm>
            <a:off x="7162920" y="228600"/>
            <a:ext cx="1515960" cy="2819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2" descr="fashion69L_Pic"/>
          <p:cNvPicPr/>
          <p:nvPr/>
        </p:nvPicPr>
        <p:blipFill>
          <a:blip r:embed="rId9"/>
          <a:stretch/>
        </p:blipFill>
        <p:spPr>
          <a:xfrm>
            <a:off x="7467480" y="3352680"/>
            <a:ext cx="1154160" cy="2248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4"/>
          <p:cNvSpPr/>
          <p:nvPr/>
        </p:nvSpPr>
        <p:spPr>
          <a:xfrm>
            <a:off x="228600" y="6095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ранцузские имена Шанель (Chanel), Диор (Dior), Ив Сен-Лоран (Yves Saint-Laurent) ассоциируются с переломной эпохой в истории костюма - эпохой возникновения Высокой моды (Haute Couture), когда моделирование одежды возводится в ранг искусства и обрастает множеством леген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-164628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-164628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503360" y="5181480"/>
            <a:ext cx="638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ФЛАГ ФРАНЦИ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6" descr="fg_franc"/>
          <p:cNvPicPr/>
          <p:nvPr/>
        </p:nvPicPr>
        <p:blipFill>
          <a:blip r:embed="rId1"/>
          <a:stretch/>
        </p:blipFill>
        <p:spPr>
          <a:xfrm>
            <a:off x="1981080" y="1066680"/>
            <a:ext cx="5105520" cy="336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44956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анция - одна из крупнейших европейских стран; она расположена в западной части Европейского материка. Территория Франции - 552 тыс. кв.км. Очертания Франции напоминают правильный пятиугольник со сторонами примерно по 600 км каждая. Более половины периметра составляют морские границы, омываемые Северным морем, проливом Ла-Манш, Атлантическим океаном и Средиземным мор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lm_franc"/>
          <p:cNvPicPr/>
          <p:nvPr/>
        </p:nvPicPr>
        <p:blipFill>
          <a:blip r:embed="rId1"/>
          <a:stretch/>
        </p:blipFill>
        <p:spPr>
          <a:xfrm>
            <a:off x="2209680" y="380880"/>
            <a:ext cx="4619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-3370320" y="14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5889600"/>
            <a:ext cx="8686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 Франции сосредоточено огромное количество культурных ценностей, практически каждый город, а иногда и небольшие деревеньки представляют собой настоящие музеи истории и культуры. Франция - страна древних замков, соборов, дворцов, музеев, театров, лыжных курортов в Альпах, прекрасных пляжей  атлантического и средиземноморского побережий и обширных виноградни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karta"/>
          <p:cNvPicPr/>
          <p:nvPr/>
        </p:nvPicPr>
        <p:blipFill>
          <a:blip r:embed="rId1"/>
          <a:srcRect l="0" t="0" r="0" b="7792"/>
          <a:stretch/>
        </p:blipFill>
        <p:spPr>
          <a:xfrm>
            <a:off x="2666880" y="1066680"/>
            <a:ext cx="480564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429000" y="5638680"/>
            <a:ext cx="205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АРИ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6477120"/>
            <a:ext cx="861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риж – столица Франции с Х в. н. э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:\Documents and Settings\Name\Рабочий стол\Новая папка\map-paris-sightseeing-russian.jpg"/>
          <p:cNvPicPr/>
          <p:nvPr/>
        </p:nvPicPr>
        <p:blipFill>
          <a:blip r:embed="rId1"/>
          <a:stretch/>
        </p:blipFill>
        <p:spPr>
          <a:xfrm>
            <a:off x="1752480" y="914400"/>
            <a:ext cx="6056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2362320" y="4572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НЫЕ МАССИВ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52280" y="548784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рные массивы, занимающие более половины страны, окаймляют территорию Франции с востока и юга. Это, прежде всего, Альпы (высшая точка - гора Монблан; 4807 м), отделяющие страну от Италии и Швейцарии, и Пиренеи (на территории Франции их высочайшая вершина - пик Посетс; 2371 м). На границе со Швейцарией расположились хребты пониже - Юра (до 1718 м), севернее, вдоль границ с Германией, Люксембургом и Бельгией - Вогезы (до 1423 м) и невысокие Арденны (до 694 м). Единственные горы во внутренних районах Франции - обширный Центральный массив (высотой до 1886 м), сильно разрушенный за миллионы лет. Горы давно бы уже превратились в невысокое плоскогорье, если бы не конусы теперь уже потухших вулкан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arte_relief_01b"/>
          <p:cNvPicPr/>
          <p:nvPr/>
        </p:nvPicPr>
        <p:blipFill>
          <a:blip r:embed="rId1"/>
          <a:stretch/>
        </p:blipFill>
        <p:spPr>
          <a:xfrm>
            <a:off x="2362320" y="304920"/>
            <a:ext cx="4260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819520" y="5410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ШАМО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52280" y="6095880"/>
            <a:ext cx="86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ранцузские Альпы - самые высокие горы Западной Европы, крупнейший в мире центр зимнего спорта. Популярнейшие курорты - Шамони и Куршевель, Валь д'Изер и Тинь в Валь Торансе, Ле Дез Альп, Ля Плянь, Межев, Мерибель и др.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Шамони - самый старый зимний курорт мира, расположенный у подножия г. Монбла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sh1"/>
          <p:cNvPicPr/>
          <p:nvPr/>
        </p:nvPicPr>
        <p:blipFill>
          <a:blip r:embed="rId1"/>
          <a:stretch/>
        </p:blipFill>
        <p:spPr>
          <a:xfrm>
            <a:off x="1066680" y="838080"/>
            <a:ext cx="27100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hamoni1"/>
          <p:cNvPicPr/>
          <p:nvPr/>
        </p:nvPicPr>
        <p:blipFill>
          <a:blip r:embed="rId2"/>
          <a:stretch/>
        </p:blipFill>
        <p:spPr>
          <a:xfrm>
            <a:off x="5791320" y="304920"/>
            <a:ext cx="184788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hamoni-view-scaly"/>
          <p:cNvPicPr/>
          <p:nvPr/>
        </p:nvPicPr>
        <p:blipFill>
          <a:blip r:embed="rId3"/>
          <a:stretch/>
        </p:blipFill>
        <p:spPr>
          <a:xfrm>
            <a:off x="5257800" y="3048120"/>
            <a:ext cx="29224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3811680" y="510552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593424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ки: Сена, пересекающая столицу страны; Луара, славящаяся замками на её берегах; Гаронна, воды которой орошают знаменитые бордоские виноградники, а также Рейн, пограничный с Германией (на картинке река Сена в Париже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5" descr="sena"/>
          <p:cNvPicPr/>
          <p:nvPr/>
        </p:nvPicPr>
        <p:blipFill>
          <a:blip r:embed="rId1"/>
          <a:stretch/>
        </p:blipFill>
        <p:spPr>
          <a:xfrm>
            <a:off x="2590920" y="1295280"/>
            <a:ext cx="4419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9:12:27Z</dcterms:created>
  <dc:creator/>
  <dc:description/>
  <dc:language>en-US</dc:language>
  <cp:lastModifiedBy>user</cp:lastModifiedBy>
  <dcterms:modified xsi:type="dcterms:W3CDTF">2013-02-28T14:03:40Z</dcterms:modified>
  <cp:revision>135</cp:revision>
  <dc:subject/>
  <dc:title>Презентация к докладу на неделе французского языка. 15.11.2012. (Учитель французского языка – Ишутина Т.В.) </dc:title>
</cp:coreProperties>
</file>