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94FE-A20E-4295-BDB8-47FAD740DD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D4D9-4F6F-46F4-A1B7-470734B178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8E7-3201-4B04-9852-6601EBC5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F55-EA31-4B42-9CFA-69CCA89E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68C-9D21-46CF-8020-84BBA464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4AF-E043-4753-8DC9-47DD4F1B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B78-8690-437E-91B1-2257D801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CA3-D2FF-4718-A2C3-B97C7526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D1D-4591-4189-8972-FF6F620C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BEF-88C9-4B05-A2F1-F581D628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C55-95BD-4631-95CA-CE345783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792-F3C9-4190-BA8A-3D23FEE7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269-4813-493A-9656-425279D9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211-B51E-45A1-BF58-3CA97554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4FAE-1986-4C8F-A4FB-3B33DE71C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78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Полководцы Росс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0" y="371628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Презентацию приготовил Никифоров Ники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класс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“2-1” 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ГБОУ СОШ 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rcRect l="16179" t="0" r="16179" b="0"/>
          <a:stretch/>
        </p:blipFill>
        <p:spPr>
          <a:xfrm>
            <a:off x="109440" y="4840200"/>
            <a:ext cx="1506600" cy="314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00000" y="333360"/>
            <a:ext cx="1501920" cy="208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276720" y="115920"/>
            <a:ext cx="2077920" cy="2706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656400" y="333360"/>
            <a:ext cx="2209680" cy="244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2050920" y="4724280"/>
            <a:ext cx="1465560" cy="194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716360" y="4581360"/>
            <a:ext cx="1635120" cy="2157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705636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ихаил Илларионович Кутуз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3276720" y="1268280"/>
            <a:ext cx="5616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хаил Илларионович Кутузов (1745-1813) — светлейший князь Смоленский (1812), русский полководец, генерал-фельдмаршал (1812). Ученик Александра Васильевича Сувор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хаил Кутузов - участник русско-турецких войн 18 в., отличился при штурме Измаила. В русско-австро-французскую войну 1805 командовал русскими войсками в Австрии и искусным маневром вывел их из-под угрозы окружения. В русско-турецкую войну 1806-1812 главнокомандующий Молдавской армией (1811-1812), одержал победы под Рушуком и Слободзеей, заключил Бухарестский мирный договор. В Отечественную войну 1812 М. Кутузов главнокомандующий русской армией (с августа), разгромившей армию Наполеона. В январе 1813 армия под командованием Кутузова вступила в пределы Зап. Европ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2706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Николай Николаевич Раевск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560" y="160020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иколай Николаевич Раевский – известный русский полководец, герой Отечественной Войны 1812 года. Николай Раевский родился 14 сентября 1771 года, в городе Москве.  Николай был болезненным мальчиком. Воспитанием Раевского занимались родители матери, в их доме он проводил много времени. Здесь он получил образование, в совершенстве знал французский язык. Службу в русской армии Николай Раевский начал в 1786 году, в возрасте 14 лет в  лейб-гвардии Преображенском пол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Через год, в 1787 году началась война с Турцией. Раевский отправляет в театр боевых действий в качестве волонтера. Николай был определен в действующую русскую армию, в казачий отряд, под командование Орл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3492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7280" y="3357360"/>
            <a:ext cx="8856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нязь из грузинского царского дома Багратиони. Участвовал в покорении Кавказа в 1783 - 1790 годах, в русско-турецкой войне 1787 - 1791 годов, Польской войне 1794 года; в Итальянском и Швейцарском походах, где был правой рукой А.В.Суворова; при взятии Брешии, Бергамо, Лекко, Тортоны, Турина и Милана, в битвах при Треббии и Нови где находился в самых трудных и решающих местах; в войнах против Франции в 1805 - 1807 годах, в русско-турецкой войне 1806 - 1812 годов и русско-шведской войне 1808 - 1809 годов. Герой Отечественной войны 1812 года; в звании генерала от инфантерии командовал 2-й армией, расположенной в начале войны южнее Белостока; блестяще проведя серию арьергардных боев, благополучно привел армию к Смоленску, где соединился с 1-й армией Барклая де Толли, не дав Наполеону возможность разбить разрозненные русские войска поодиночке. В Бородинском сражении руководил войсками левого фланга, куда неприятель направил основной удар; более шести часов войска Багратиона удерживали один из основных пунктов русской позиции - Семеновские (Багратионовы) флеши, где сам он был смертельно ранен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Умер 24 (12 по старому стилю) сентября 1812 года в деревне Симы Владимирской губерни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 1839 году по инициативе Д.В.Давыдова его прах перевезен на Бородинское поле и с почестями захоронен на батарее Раевског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635280" y="48276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БАГРАТИО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Петр Иванови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765 - 181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352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40" y="6714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рклай Де Толли Михаил Богданович (1757-1818) (Михаэл Андреас). Родился 13 (24) декабря 1757, имение Памушис близ Жейме, Литва. Скончался — 14 (26) мая 1818, Инстербург (Пруссия), ныне Черняховск, Россия) — князь (1815), российский генерал-фельдмаршал (1814). Командир дивизии и корпуса в войнах с Францией и Швецией. В 1810-12 военный министр. В Отечественную войну 1812 главнокомандующий 1-й армией, а в июле — августе фактически всеми действовавшими русскими армиями. В 1813-14 главнокомандующий русско-прусской армией, с 1815 — 1-й арми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схождение и начало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рклай Де Толли происходил из древнего шотландского баронского рода. Его предки в начале 17 века из-за религиозных преследований переселились в Германию, а затем — в Прибалтику, дед был бургомистром Риги, отец служил в русской армии и вышел в отставку в чине поруч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 Барклай воспитывался с 3-х лет в семье своего дяди — бригадира русской армии Е. фон Вермелена. По обычаю того времени в 1767 был записан на службу гефрейт-капралом в Новотроицкий кирасирский полк, а действительную службу начал с 1776 в рядах Псковского карабинерного полка, уже имея чин вахмист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778 Барклай Де Толли получил первое офицерское звание — корнета, а с 1783 по 1790 занимал адъютантские должности у ряда генерал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487600" y="842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клай Де Тол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выдов Денис Василь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Родился в семье бригадира Василия Денисовича Давыдова (1747—-1808), служившего под командованием А. В. Суворова. Получил блестящее для своего времени домашнее воспитание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 1801 г. поступил юнкером в Кавалергардский полк и в 1802 г. получил чин корнета. В 1804 г. «за писание возмутительных стихов» был переведён в Белорусский гусарский полк, в 1806 г. зачислен в Гусарский лейб-гвардии полк поручико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807 г. был началом боевого поприща Давыдова: назначенный адъютантом к кн. Багратиону, он участвова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Зимой 1808 г. состоял в русской армии, действовавшей в Финляндии, прошёл вместе с Кульневым до Улеаборга, занял с казаками о-в Карлоэ и, возвратясь к авангарду, отступил по льду Ботнического залив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 1809 г., состоя при кн. Багратионе, командовавшем войсками в Молдавии, Давыдов участвовал в различных боевых операциях против турок, а затем, когда Багратион был сменен гр. Каменским, поступил в авангард молдавской армии под начальство Кульнев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ри начале войны 1812 г. Давыдов состоял подполковником в Ахтырском гусарском полку и находился в авангардных войсках ген. Васильчикова. 21 августа 1812 года, в виду деревни Бородино, где он вырос, где уже торопливо разбирали родительский дом на фортификационные укрепления, за пять дней до великого сражения, Денис Васильевич и предложил Багратиону идею партизанского отряда. Из письма Давыдова князю, генералу Багратиону: "Ваше сиятельство! Вам известно, что я, оставя место адъютанта вашего, столь лестное для моего самолюбия, вступая в гусарский полк, имел предметом партизанскую службу и по силам лет моих, и по опытности, и, если смею сказать, по отваге моей... Вы мой единственный благодетель; позвольте мне предстать к вам для объяснений моих намерений; если они будут вам угодны, употребите меня по желанию моему и будьте надеждны, что тот, который носит звание адъютанта Багратиона пять лет сряду, тот поддержит честь сию со всею ревностию, какой бедственного положение любезного нашего отечества требует..."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179280" y="1225440"/>
            <a:ext cx="65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о́ргий Константи́нович Жу́ков (19 ноября (1 декабря) 1896, деревня Стрелковка Калужской губернии — 18 июня 1974, Москва) — советский военачальник, Маршал Советского Союза (1943), министр обороны СССР (1955—1957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ырежды Герой Советского Союза, кавалер двух орденов «Победа», множества других советских и иностранных орденов и медалей. В ходе Великой Отечественной войны последовательно занимал должности начальника Генерального штаба, командующего фронтом, члена Ставки Верховного Главнокомандования, заместителя Верховного Главнокомандующего. В послевоенное время занимал пост Главкома сухопутных войск, командовал Одесским, затем Уральским военными округами. После смерти И. В. Сталина стал первым заместителем министра обороны СССР, а с 1955 года по 1957 — министром обороны СССР. В 1957 исключён из состава ЦК партии, снят со всех постов в армии и в 1958 году отправлен в отстав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320760" y="0"/>
            <a:ext cx="90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Георгий Константинович Жуков 1896-197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688080" y="1341360"/>
            <a:ext cx="245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740720" y="115920"/>
            <a:ext cx="1120680" cy="11509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0" y="72396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ья Муромец - самый известный, но в то же время самый загадочный герой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усског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тории. Трудно найти такого человека в России, который не слышал бы никогда об этом славном богатыре из древнего города Мурома. Большинство знает о нем лишь то, что запомнилось им с детства из былин и сказок, и часто бывают поражены сложностью и многозначностью этого образа. Над разрешением загадок, связанных с ним, уже почти два столетия бьются ученые разных специальностей, но тайны все же остают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ши предки XVI - начала XIX вв. не сомневались в том, что Илья Муромец - реальная историческая личность, воин, служивший киевскому князю. Между тем русские летописи не упоминают его имени. Зато он является главным действующим лицом не только наших былин, но и германских эпических поэм XIIIв., основанных на более ранних сказаниях. В них он представлен могучим витязем, княжеского рода Ильей Русским. В документальном источнике имя этого известного героя впервые упомянуто в 1574 г. Посланник римского императора Эрих Лассота, посетивший Киев в 1594 г., оставил описание гробницы Ильи Муромца, находившейся в богатырском приделе Софийского собора. Для знаменитого героя и его товарища был сооружен специальный придел, т. е. им была оказана такая же честь, как и великим князьям. В то время богатырская гробница была уже пуста; останки же известного Ильи были перенесены в Антониеву пещеру Киево-Печерского монастыря. В 1638 г. эти мощи были описаны иноком этой знаменитой лавры Афанасием Кальнофойским, который определил, что Илья Муромец жил 450 лет назад, т. е. в 118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835280" y="2350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лья Муроме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0" y="692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няжение Олега стало поворотным этапом русской истории. Именно он явился первым представителем княжеской династии, под властью которой началось объединение Киевской Рус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детских годах Олега нам практически ничего неизвестно. По данным летописи, он был князем в Новгороде и в 879 году стал правителем Руси после смерти Рюрика. По существу же, Олег был регентом, поскольку от Рюрика остался малолетний сын Игор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м шагом Олега стало овладение Киевом, в котором в то время правили варяжские князья Аскольд и Дир. Не решившись на прямой штурм хорошо укрепленного города, Олег выдал себя за купца, который будто бы направлялся с товарами в Царьград ( так на Руси именовался Константинополь). Пригласив Аскольда и Дира на встречу, Олег с помощью дружинников убил их и захватил город. Таким образом, 882 год стал поворотным годом в судьбе восточных славян. Именно с этого времени и начинались хронологические отсчеты в русских летопис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ладев киевским престолом, Олег сразу же погрузился в заботы, важнейшими из которых стали освобождение от власти хазарского каганата и подчинение Киеву южнославянских плем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0" y="510372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ля обороны от кочевников князь создал хорошо укрепленные рубежи. После этого ему удалось подчинить своей власти племена древлян, северян и радимичей. Постепенно под власть Олега попали все племена, заселявшие соседние с Русью земли, — вятичи, хорваты, дулебы, тиверцы. Так в руках Олега сосредоточилась власть над обширной территорией от Ладожского озера на севере до низовьев Днепра на юг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050920" y="1411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лег Рюрик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-14400" y="83664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брачный сын великого князя Святослава Игоревича от уроженки города Любеч по имени Малуша, ключницы княгини Ольги. Владимир — сын рабы («робичич» по словам Рогнеды)[2], но сын в обычаях язычников законный, так как понятия восточных славян о браке были прежними. Многожёнство оставалось в обычае, социальное происхождение определялось по отцу и династические права не ущемлялись, о чём свидетельствует и чётко выраженное княжеское им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д рождения Владимира неизвестен. Его отец Святослав родился в 942, а старший сын Владимира Вышеслав — около 977, откуда историки выводят год рождения Владимира 960-й с точностью до нескольких лет. Как сообщают поздние источники XVI века Никоновская и Устюжская летописи, Владимир Святославич родился в селе Будутине под Псковом, куда разгневанная Ольга отослала Малуш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дальнейшей судьбе Малуши летописи не сообщают, а малолетний Владимир вернулся в Киев, где находился под присмотром княгини Ольги. Воспитанием его занимался скорее всего дядя по матери Добрыня, так как в обычаях Руси было доверять воспитание наследников членам старшей друж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0" y="5645160"/>
            <a:ext cx="917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 Повести временных лет Владимир среди сыновей Святослава был третьим по старшинству после Ярополка и Оле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1042920" y="25236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ладимир Красно Солныш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451640" y="0"/>
            <a:ext cx="1541520" cy="2160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0" y="157176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ВОЛОДОВИЧ МОНОМАХ (церковное имя Василий) (1052–1125) – князь смоленский (с 1067), черниговский (с 1078) великий князь киевский (1113–1125), военачальник, писатель, сын киевского князя Всеволода Ярославича и греческой княжны Анны (Марии) Koнстантиновны Мономах, дочери византийского императора Константина IX Мономаха, и потому получил это прозвищ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1077 Мономах впервые выступил в борьбе с кочевниками – половцами, выполняя приказ великого киевского князя Изясла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и русских князей снискал себе славу миротворца. Но стремление поддерживать мир между князьями нередко приводило князя Владимира в самый центр междоусобных войн. В 1078 участвовал в бою на Нежатиной Ниве, где решался междоусобный спор о киевском княжении, когда его отец стал киевским князем. Будучи князем смоленским, Владимир получил от отца в 1078 в правление Чернигов. Владея им, возвел в своей резиденции замок в Любече с глубокими подземными ходами для хранения сокровищ, запасов продовольствия и воды на случай осады. Но, когда в 1094 князь Олег Святославович явился под стены Чернигова во главе половецкого войска, желая заполучить город, в котором когда-то правил его отец, Владимир не пожелал устраивать сражение и ушел из города с небольшой дружиной в Переславль, где и княжил, спасая народ от бесчинств половцев. Позже он передал Переславль своему брату Ростиславу и княжил в Смоленске. Стремился поддерживать мир с удельными князьями, помогал им в борьбе с врагами: черниговскому князю Святославу – с немецким императором Генрихом IV, когда «ходил с дружиною» через Богемию в Силезию. Был одним из инициаторов и активных участников съездов удельных князей – в Любече (в 1097) и в Уветичах (Витичеве) (в 110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116000" y="9079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ладимир Всеволодович Монома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севолод Большое Гнез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севолод Юрьевич родился в 1154 году в Дмитрове. Он был сыном великого князя Юрия Долгорукого и «грекыни» (византийской принцессы?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осле смерти отца в 1162 году вместе с матерью и младшим братом Михаилом Всеволод был изгнан из суздальской земли старшим братом Андреем Боголюбским. До 15 лет он воспитывался в Константинополе при дворе византийского императора Мануила I Комнин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осле возвращения на Русь Всеволод помирился с Андреем Боголюбским и вместе с ним и другими князьями участвовал в походе на Киев в марте 1169 года, закончившимся провозглашением брата великим князем Киевским. Андрей Боголюбский покинул Киев, а Всеволод остался там жить вместе с дядей, князем Глебом Георгиевичем, которого великий князь посадил вместо себя наместником. В 1171 году Всеволод Юрьевич принимал участие в усобицах за великокняжеский стол, развернувшихся после смерти дяд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 1173 году Всеволод Юрьевич взял власть в Киеве и в течение 5 недель был великим князем Киевским, но вскоре был пленен соперником, смоленским князем Романом Ростиславичем. Из плена он был выкуплен младшим братом Михаилом Юрьевиче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 1174 году, после гибели Андрея Боголюбского в результате заговора бояр, Всеволод Юрьевич договорился с младшим братом Михаилом о разделе «наследства»: помог ему овладеть Владимиром, а сам обосновался в Суздале. В 1175 году, когда Михаил Юрьевич скоропостижно скончался, Всеволод Юрьевич захватил Переславль-Залесский, а после него и Владимир, провозгласив себя в 1177 году великим князем Владимирски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Захват власти Всеволодом III вызвал новую усобицу: на «владимирский стол» претендовали ростовские князья и черниговский князь Святослав Всеволодович. Добиваясь признания в качестве самого могущественного правителя с самым сильным войском и дружиной, Всеволод III в 1178 году сжег Торжок и взял Волок. Борьба за владимирский престол продолжалась до 1182 года, когда Всеволод III окончательно победил князей-соперников и конфисковал земли и имущество ростовских боя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лександр Ярославич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в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Ярославич Невский (1221 - 1263) – князь новгородский, киевский, владимирский. Был сыном переяславльского князя. В 1225 году в биографии Александра Невского произошло посвящение в во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8 году поселился в Новгороде, а в 1230 году стал князем новгородских земель. В 1236 году, после отъезда Ярослава стал самостоятельно защищать земли от шведов, ливонцев, литовцев. В 1239 году Александр женился на дочке Брячислава Полоцкого, Александре. В июле 1240 года состоялась знаменитая Невская битва, когда Александр напала на шведов на Неве и победи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же ливонцы взяли Псков, Тёсов, подобрались к Новгороду, Александр снова разбил врагов. После этого в своей биографии Александр Невский напал на ливонцев 5 апреля 1242 года (Ледовое побоище на Чудском озере). Князь на протяжении 6 лет отражал нападения врагов. Затем он уехал из Новгорода во Владимир. Когда умер Ярослав, Святослав, Александр Невский получил власть в Кие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всю свою жизнь Невский не проиграл ни одного сражения. Он был талантливым дипломатом, полководцем, смог защитить Русь от многих врагов, а также предотвратить походы монголо-татар. Александр Невский имел четырех сыновей: Василия (1245 – 1271, новгородский князь), Дмитрия (1250 – 1294, новгородский, переяславский, владимирский князь ), Андрея (1255 – 1304, костромской, владимирский, новгородский, городецкий князь), Даниила (1261 – 1303, московский князь), а также дочь Евдок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7164360" y="115920"/>
            <a:ext cx="15447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3"/>
          <p:cNvSpPr/>
          <p:nvPr/>
        </p:nvSpPr>
        <p:spPr>
          <a:xfrm>
            <a:off x="-20520" y="1225440"/>
            <a:ext cx="66085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вум своим сыновьям Иван Красный завещал владения, оставленные Иваном Калитой соответственно Семёну и ему. После скорой смерти младшего брата эти владения соединились под властью Дмитрия. В период малолетства Дмитрия, как и в правление его отца, на государственные дела имел большое влияние митрополит Алекс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Золотой Орде со смертью Бердибека началась т.н. «великая замятня» — продолжительный период борьбы за власть. В 1360 году хан Наврус отдал великое княжение Владимирское нижегородскому князю Андрею Константиновичу, но тот не решился вступать в конфликт с Москвой и передал ярлык своему брату, суздальскому князю Дмитрию Суздальскому. Одиннадцатилетний Дмитрий отправился в Орд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коре Наврус был убит, а Орда разделилась между двумя ханами: ставленником правителя западной части Орды Мамая Абдуллой и сарайским ханом Мюридом. Дмитрий получил ярлык сначала от Мюрида, затем от Абдуллы, тогда Мюрид дал ярлык Дмитрию Суздальскому. Через 12 дней Дмитрий Суздальский был изгнан войском Дмитрия Московского, и с тех пор великое княжение оставалось в руках московских князей. В 1363 году Дмитрий «взял свою волю» над князем Константином Ростовским, а князей Ивана Фёдоровича Стародубского и Дмитрия Галицкого выгнал из их княжест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611280" y="4046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Дмитрий Иванович Донс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0" t="0" r="65623" b="30621"/>
          <a:stretch/>
        </p:blipFill>
        <p:spPr>
          <a:xfrm>
            <a:off x="7093080" y="115920"/>
            <a:ext cx="18856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6480" y="17640"/>
            <a:ext cx="65102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уворов Александр Васил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 ноября 1729, Москва — 6 мая 1800, Санкт-Петербур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0" y="150336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чало военной курьеры Сувор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лся Александр Васильевич Суворов в семье дворяни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о отец был генералом русской армии, строго следившим за воспитанием и обучением сына. Самым любимым предметом юного Суворова была военная история, при этом он владел семью языками. В 1742 его, по обычаю того времени, записали в лейб-гвардии Семеновский полк рядовым. Действительную службу он начал в семнадцать лет капралом. С этого момента вся жизнь Суворова была подчинена военной службе. Позднее Суворов писал о себе: «Я только военный человек и иных дарований чужд». Обладая сравнительно слабым здоровьем, Суворов постоянно закалял себя физически. Уже тогда он зарекомендовал себя исправным и требовательным унтер-офицером. В 1754 был произведен в первый офицерский чин поручика и определен в Ингерманландский пехотный полк. Боевое крещение получил во время Семилетней войны, затем принял участие в боевых действиях против пруссаков в период 1758-1761, в частности, в кровопролитном сражении при Кунерсдорфе в 1759. С 1761 Суворов успешно командовал кавалерийским полком и за отличие в боях был произведен в полковники. Таким образом, за шесть лет он проделал путь от младшего офицера до полковника и удостоился похвалы от многих русских военачальников за хладнокровие и храбрость на полях сра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12040" y="0"/>
            <a:ext cx="1863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05:38:22Z</dcterms:created>
  <dc:creator>rebel1</dc:creator>
  <dc:description/>
  <dc:language>en-US</dc:language>
  <cp:lastModifiedBy>User</cp:lastModifiedBy>
  <dcterms:modified xsi:type="dcterms:W3CDTF">2013-02-28T15:43:16Z</dcterms:modified>
  <cp:revision>50</cp:revision>
  <dc:subject/>
  <dc:title>Жуков</dc:title>
</cp:coreProperties>
</file>