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871F-F83C-429C-A858-E4C45D493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F11-B4C9-436D-A74B-E2318BD3D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A58-8CDC-46BD-BBF6-A00D1FAE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6C1-D122-46D9-9DA1-BA6D2A6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F00-1CF2-4BEB-B1B8-A95D0ED7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051-CD0A-4294-81C4-2C1E18AD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5F4-EAF3-40C4-A1F5-E87EAACA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FB8-47E1-4DCD-9D08-E40EFBC4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9D2-451B-4F97-9B02-17E0C63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FC6-7C56-438E-B11F-D4CF11C5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8EB-8000-4E8E-AC03-D85284F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320-EAC9-4A31-8A07-B502F7E1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B3D-46C2-4719-95F5-658504B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210-8ED3-475A-8196-0D93FE1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E67-6DD1-4821-A81B-760925865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8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Полководцы Росс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371628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езентацию приготовил Никифоров Ники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класс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“2-1”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ГБОУ СОШ 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rcRect l="16179" t="0" r="16179" b="0"/>
          <a:stretch/>
        </p:blipFill>
        <p:spPr>
          <a:xfrm>
            <a:off x="109440" y="4840200"/>
            <a:ext cx="150660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1501920" cy="20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76720" y="115920"/>
            <a:ext cx="2077920" cy="270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56400" y="333360"/>
            <a:ext cx="2209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050920" y="4724280"/>
            <a:ext cx="146556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716360" y="4581360"/>
            <a:ext cx="1635120" cy="215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05636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хаил Илларионович Кутуз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276720" y="1268280"/>
            <a:ext cx="561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Илларионович Кутузов (1745-1813) — светлейший князь Смоленский (1812), русский полководец, генерал-фельдмаршал (1812). Ученик Александра Васильевича Сувор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Кутузов - участник русско-турецких войн 18 в., отличился при штурме Измаила. В русско-австро-французскую войну 1805 командовал русскими войсками в Австрии и искусным маневром вывел их из-под угрозы окружения. В русско-турецкую войну 1806-1812 главнокомандующий Молдавской армией (1811-1812), одержал победы под Рушуком и Слободзеей, заключил Бухарестский мирный договор. В Отечественную войну 1812 М. Кутузов главнокомандующий русской армией (с августа), разгромившей армию Наполеона. В январе 1813 армия под командованием Кутузова вступила в пределы Зап. Евро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2706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иколай Николаевич Рае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колай Николаевич Раевский – известный русский полководец, герой Отечественной Войны 1812 года. Николай Раевский родился 14 сентября 1771 года, в городе Москве.  Николай был болезненным мальчиком. Воспитанием Раевского занимались родители матери, в их доме он проводил много времени. Здесь он получил образование, в совершенстве знал французский язык. Службу в русской армии Николай Раевский начал в 1786 году, в возрасте 14 лет в  лейб-гвардии Преображенском по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рез год, в 1787 году началась война с Турцией. Раевский отправляет в театр боевых действий в качестве волонтера. Николай был определен в действующую русскую армию, в казачий отряд, под командование Орл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3492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7280" y="3357360"/>
            <a:ext cx="8856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нязь из грузинского царского дома Багратиони. Участвовал в покорении Кавказа в 1783 - 1790 годах, в русско-турецкой войне 1787 - 1791 годов, Польской войне 1794 года; в Итальянском и Швейцарском походах, где был правой рукой А.В.Суворова; при взятии Брешии, Бергамо, Лекко, Тортоны, Турина и Милана, в битвах при Треббии и Нови где находился в самых трудных и решающих местах; в войнах против Франции в 1805 - 1807 годах, в русско-турецкой войне 1806 - 1812 годов и русско-шведской войне 1808 - 1809 годов. Герой Отечественной войны 1812 года; в звании генерала от инфантерии командовал 2-й армией, расположенной в начале войны южнее Белостока; блестяще проведя серию арьергардных боев, благополучно привел армию к Смоленску, где соединился с 1-й армией Барклая де Толли, не дав Наполеону возможность разбить разрозненные русские войска поодиночке. В Бородинском сражении руководил войсками левого фланга, куда неприятель направил основной удар; более шести часов войска Багратиона удерживали один из основных пунктов русской позиции - Семеновские (Багратионовы) флеши, где сам он был смертельно ранен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мер 24 (12 по старому стилю) сентября 1812 года в деревне Симы Владимирской губерн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1839 году по инициативе Д.В.Давыдова его прах перевезен на Бородинское поле и с почестями захоронен на батарее Раевског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635280" y="48276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БАГРАТИ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Петр Иван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765 - 181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35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40" y="6714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клай Де Толли Михаил Богданович (1757-1818) (Михаэл Андреас). Родился 13 (24) декабря 1757, имение Памушис близ Жейме, Литва. Скончался — 14 (26) мая 1818, Инстербург (Пруссия), ныне Черняховск, Россия) — князь (1815), российский генерал-фельдмаршал (1814). Командир дивизии и корпуса в войнах с Францией и Швецией. В 1810-12 военный министр. В Отечественную войну 1812 главнокомандующий 1-й армией, а в июле — августе фактически всеми действовавшими русскими армиями. В 1813-14 главнокомандующий русско-прусской армией, с 1815 — 1-й арми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схождение и начало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клай Де Толли происходил из древнего шотландского баронского рода. Его предки в начале 17 века из-за религиозных преследований переселились в Германию, а затем — в Прибалтику, дед был бургомистром Риги, отец служил в русской армии и вышел в отставку в чине пору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 Барклай воспитывался с 3-х лет в семье своего дяди — бригадира русской армии Е. фон Вермелена. По обычаю того времени в 1767 был записан на службу гефрейт-капралом в Новотроицкий кирасирский полк, а действительную службу начал с 1776 в рядах Псковского карабинерного полка, уже имея чин вахмист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778 Барклай Де Толли получил первое офицерское звание — корнета, а с 1783 по 1790 занимал адъютантские должности у ряда генера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487600" y="842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клай Де Тол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ыдов Денис Васил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одился в семье бригадира Василия Денисовича Давыдова (1747—-1808), служившего под командованием А. В. Суворова. Получил блестящее для своего времени домашнее воспитани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801 г. поступил юнкером в Кавалергардский полк и в 1802 г. получил чин корнета. В 1804 г. «за писание возмутительных стихов» был переведён в Белорусский гусарский полк, в 1806 г. зачислен в Гусарский лейб-гвардии полк поручик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807 г. был началом боевого поприща Давыдова: назначенный адъютантом к кн. Багратиону, он участвова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имой 1808 г. состоял в русской армии, действовавшей в Финляндии, прошёл вместе с Кульневым до Улеаборга, занял с казаками о-в Карлоэ и, возвратясь к авангарду, отступил по льду Ботнического зали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809 г., состоя при кн. Багратионе, командовавшем войсками в Молдавии, Давыдов участвовал в различных боевых операциях против турок, а затем, когда Багратион был сменен гр. Каменским, поступил в авангард молдавской армии под начальство Кульне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 начале войны 1812 г. Давыдов состоял подполковником в Ахтырском гусарском полку и находился в авангардных войсках ген. Васильчикова. 21 августа 1812 года, в виду деревни Бородино, где он вырос, где уже торопливо разбирали родительский дом на фортификационные укрепления, за пять дней до великого сражения, Денис Васильевич и предложил Багратиону идею партизанского отряда. Из письма Давыдова князю, генералу Багратиону: "Ваше сиятельство! Вам известно, что я, оставя место адъютанта вашего, столь лестное для моего самолюбия, вступая в гусарский полк, имел предметом партизанскую службу и по силам лет моих, и по опытности, и, если смею сказать, по отваге моей... Вы мой единственный благодетель; позвольте мне предстать к вам для объяснений моих намерений; если они будут вам угодны, употребите меня по желанию моему и будьте надеждны, что тот, который носит звание адъютанта Багратиона пять лет сряду, тот поддержит честь сию со всею ревностию, какой бедственного положение любезного нашего отечества требует...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79280" y="1225440"/>
            <a:ext cx="65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́ргий Константи́нович Жу́ков (19 ноября (1 декабря) 1896, деревня Стрелковка Калужской губернии — 18 июня 1974, Москва) — советский военачальник, Маршал Советского Союза (1943), министр обороны СССР (1955—1957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ежды Герой Советского Союза, кавалер двух орденов «Победа», множества других советских и иностранных орденов и медалей. В ходе Великой Отечественной войны последовательно занимал должности начальника Генерального штаба, командующего фронтом, члена Ставки Верховного Главнокомандования, заместителя Верховного Главнокомандующего. В послевоенное время занимал пост Главкома сухопутных войск, командовал Одесским, затем Уральским военными округами. После смерти И. В. Сталина стал первым заместителем министра обороны СССР, а с 1955 года по 1957 — министром обороны СССР. В 1957 исключён из состава ЦК партии, снят со всех постов в армии и в 1958 году отправлен в отстав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20760" y="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Георгий Константинович Жуков 1896-197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8080" y="1341360"/>
            <a:ext cx="245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740720" y="115920"/>
            <a:ext cx="1120680" cy="1150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72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ья Муромец - самый известный, но в то же время самый загадочный герой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сск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и. Трудно найти такого человека в России, который не слышал бы никогда об этом славном богатыре из древнего города Мурома. Большинство знает о нем лишь то, что запомнилось им с детства из былин и сказок, и часто бывают поражены сложностью и многозначностью этого образа. Над разрешением загадок, связанных с ним, уже почти два столетия бьются ученые разных специальностей, но тайны все же ост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и предки XVI - начала XIX вв. не сомневались в том, что Илья Муромец - реальная историческая личность, воин, служивший киевскому князю. Между тем русские летописи не упоминают его имени. Зато он является главным действующим лицом не только наших былин, но и германских эпических поэм XIIIв., основанных на более ранних сказаниях. В них он представлен могучим витязем, княжеского рода Ильей Русским. В документальном источнике имя этого известного героя впервые упомянуто в 1574 г. Посланник римского императора Эрих Лассота, посетивший Киев в 1594 г., оставил описание гробницы Ильи Муромца, находившейся в богатырском приделе Софийского собора. Для знаменитого героя и его товарища был сооружен специальный придел, т. е. им была оказана такая же честь, как и великим князьям. В то время богатырская гробница была уже пуста; останки же известного Ильи были перенесены в Антониеву пещеру Киево-Печерского монастыря. В 1638 г. эти мощи были описаны иноком этой знаменитой лавры Афанасием Кальнофойским, который определил, что Илья Муромец жил 450 лет назад, т. е. в 118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835280" y="2350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лья Муром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0" y="6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яжение Олега стало поворотным этапом русской истории. Именно он явился первым представителем княжеской династии, под властью которой началось объединение Киевской Ру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детских годах Олега нам практически ничего неизвестно. По данным летописи, он был князем в Новгороде и в 879 году стал правителем Руси после смерти Рюрика. По существу же, Олег был регентом, поскольку от Рюрика остался малолетний сын Игор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 шагом Олега стало овладение Киевом, в котором в то время правили варяжские князья Аскольд и Дир. Не решившись на прямой штурм хорошо укрепленного города, Олег выдал себя за купца, который будто бы направлялся с товарами в Царьград ( так на Руси именовался Константинополь). Пригласив Аскольда и Дира на встречу, Олег с помощью дружинников убил их и захватил город. Таким образом, 882 год стал поворотным годом в судьбе восточных славян. Именно с этого времени и начинались хронологические отсчеты в русских летопис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в киевским престолом, Олег сразу же погрузился в заботы, важнейшими из которых стали освобождение от власти хазарского каганата и подчинение Киеву южнославянских плем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0" y="5103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ля обороны от кочевников князь создал хорошо укрепленные рубежи. После этого ему удалось подчинить своей власти племена древлян, северян и радимичей. Постепенно под власть Олега попали все племена, заселявшие соседние с Русью земли, — вятичи, хорваты, дулебы, тиверцы. Так в руках Олега сосредоточилась власть над обширной территорией от Ладожского озера на севере до низовьев Днепра на ю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0920" y="1411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лег Рюрик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-14400" y="8366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брачный сын великого князя Святослава Игоревича от уроженки города Любеч по имени Малуша, ключницы княгини Ольги. Владимир — сын рабы («робичич» по словам Рогнеды)[2], но сын в обычаях язычников законный, так как понятия восточных славян о браке были прежними. Многожёнство оставалось в обычае, социальное происхождение определялось по отцу и династические права не ущемлялись, о чём свидетельствует и чётко выраженное княжеское им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 рождения Владимира неизвестен. Его отец Святослав родился в 942, а старший сын Владимира Вышеслав — около 977, откуда историки выводят год рождения Владимира 960-й с точностью до нескольких лет. Как сообщают поздние источники XVI века Никоновская и Устюжская летописи, Владимир Святославич родился в селе Будутине под Псковом, куда разгневанная Ольга отослала Малуш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дальнейшей судьбе Малуши летописи не сообщают, а малолетний Владимир вернулся в Киев, где находился под присмотром княгини Ольги. Воспитанием его занимался скорее всего дядя по матери Добрыня, так как в обычаях Руси было доверять воспитание наследников членам старшей друж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5645160"/>
            <a:ext cx="91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Повести временных лет Владимир среди сыновей Святослава был третьим по старшинству после Ярополка и Ол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042920" y="252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ладимир Красно Солныш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54152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0" y="157176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ВОЛОДОВИЧ МОНОМАХ (церковное имя Василий) (1052–1125) – князь смоленский (с 1067), черниговский (с 1078) великий князь киевский (1113–1125), военачальник, писатель, сын киевского князя Всеволода Ярославича и греческой княжны Анны (Марии) Koнстантиновны Мономах, дочери византийского императора Константина IX Мономаха, и потому получил это прозв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077 Мономах впервые выступил в борьбе с кочевниками – половцами, выполняя приказ великого киевского князя Изясла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и русских князей снискал себе славу миротворца. Но стремление поддерживать мир между князьями нередко приводило князя Владимира в самый центр междоусобных войн. В 1078 участвовал в бою на Нежатиной Ниве, где решался междоусобный спор о киевском княжении, когда его отец стал киевским князем. Будучи князем смоленским, Владимир получил от отца в 1078 в правление Чернигов. Владея им, возвел в своей резиденции замок в Любече с глубокими подземными ходами для хранения сокровищ, запасов продовольствия и воды на случай осады. Но, когда в 1094 князь Олег Святославович явился под стены Чернигова во главе половецкого войска, желая заполучить город, в котором когда-то правил его отец, Владимир не пожелал устраивать сражение и ушел из города с небольшой дружиной в Переславль, где и княжил, спасая народ от бесчинств половцев. Позже он передал Переславль своему брату Ростиславу и княжил в Смоленске. Стремился поддерживать мир с удельными князьями, помогал им в борьбе с врагами: черниговскому князю Святославу – с немецким императором Генрихом IV, когда «ходил с дружиною» через Богемию в Силезию. Был одним из инициаторов и активных участников съездов удельных князей – в Любече (в 1097) и в Уветичах (Витичеве) (в 110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116000" y="9079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ладимир Всеволодович Моном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еволод Большое Гнез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севолод Юрьевич родился в 1154 году в Дмитрове. Он был сыном великого князя Юрия Долгорукого и «грекыни» (византийской принцессы?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сле смерти отца в 1162 году вместе с матерью и младшим братом Михаилом Всеволод был изгнан из суздальской земли старшим братом Андреем Боголюбским. До 15 лет он воспитывался в Константинополе при дворе византийского императора Мануила I Комнин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сле возвращения на Русь Всеволод помирился с Андреем Боголюбским и вместе с ним и другими князьями участвовал в походе на Киев в марте 1169 года, закончившимся провозглашением брата великим князем Киевским. Андрей Боголюбский покинул Киев, а Всеволод остался там жить вместе с дядей, князем Глебом Георгиевичем, которого великий князь посадил вместо себя наместником. В 1171 году Всеволод Юрьевич принимал участие в усобицах за великокняжеский стол, развернувшихся после смерти дяд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173 году Всеволод Юрьевич взял власть в Киеве и в течение 5 недель был великим князем Киевским, но вскоре был пленен соперником, смоленским князем Романом Ростиславичем. Из плена он был выкуплен младшим братом Михаилом Юрьевиче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174 году, после гибели Андрея Боголюбского в результате заговора бояр, Всеволод Юрьевич договорился с младшим братом Михаилом о разделе «наследства»: помог ему овладеть Владимиром, а сам обосновался в Суздале. В 1175 году, когда Михаил Юрьевич скоропостижно скончался, Всеволод Юрьевич захватил Переславль-Залесский, а после него и Владимир, провозгласив себя в 1177 году великим князем Владимирски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ахват власти Всеволодом III вызвал новую усобицу: на «владимирский стол» претендовали ростовские князья и черниговский князь Святослав Всеволодович. Добиваясь признания в качестве самого могущественного правителя с самым сильным войском и дружиной, Всеволод III в 1178 году сжег Торжок и взял Волок. Борьба за владимирский престол продолжалась до 1182 года, когда Всеволод III окончательно победил князей-соперников и конфисковал земли и имущество ростовских боя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ександр Ярославич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в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ич Невский (1221 - 1263) – князь новгородский, киевский, владимирский. Был сыном переяславльского князя. В 1225 году в биографии Александра Невского произошло посвящение в во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поселился в Новгороде, а в 1230 году стал князем новгородских земель. В 1236 году, после отъезда Ярослава стал самостоятельно защищать земли от шведов, ливонцев, литовцев. В 1239 году Александр женился на дочке Брячислава Полоцкого, Александре. В июле 1240 года состоялась знаменитая Невская битва, когда Александр напала на шведов на Неве и побед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же ливонцы взяли Псков, Тёсов, подобрались к Новгороду, Александр снова разбил врагов. После этого в своей биографии Александр Невский напал на ливонцев 5 апреля 1242 года (Ледовое побоище на Чудском озере). Князь на протяжении 6 лет отражал нападения врагов. Затем он уехал из Новгорода во Владимир. Когда умер Ярослав, Святослав, Александр Невский получил власть в Кие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сю свою жизнь Невский не проиграл ни одного сражения. Он был талантливым дипломатом, полководцем, смог защитить Русь от многих врагов, а также предотвратить походы монголо-татар. Александр Невский имел четырех сыновей: Василия (1245 – 1271, новгородский князь), Дмитрия (1250 – 1294, новгородский, переяславский, владимирский князь ), Андрея (1255 – 1304, костромской, владимирский, новгородский, городецкий князь), Даниила (1261 – 1303, московский князь), а также дочь Евдок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544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-20520" y="1225440"/>
            <a:ext cx="66085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ум своим сыновьям Иван Красный завещал владения, оставленные Иваном Калитой соответственно Семёну и ему. После скорой смерти младшего брата эти владения соединились под властью Дмитрия. В период малолетства Дмитрия, как и в правление его отца, на государственные дела имел большое влияние митрополит Алек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олотой Орде со смертью Бердибека началась т.н. «великая замятня» — продолжительный период борьбы за власть. В 1360 году хан Наврус отдал великое княжение Владимирское нижегородскому князю Андрею Константиновичу, но тот не решился вступать в конфликт с Москвой и передал ярлык своему брату, суздальскому князю Дмитрию Суздальскому. Одиннадцатилетний Дмитрий отправился в Ор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коре Наврус был убит, а Орда разделилась между двумя ханами: ставленником правителя западной части Орды Мамая Абдуллой и сарайским ханом Мюридом. Дмитрий получил ярлык сначала от Мюрида, затем от Абдуллы, тогда Мюрид дал ярлык Дмитрию Суздальскому. Через 12 дней Дмитрий Суздальский был изгнан войском Дмитрия Московского, и с тех пор великое княжение оставалось в руках московских князей. В 1363 году Дмитрий «взял свою волю» над князем Константином Ростовским, а князей Ивана Фёдоровича Стародубского и Дмитрия Галицкого выгнал из их княж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11280" y="404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митрий Иванович Донс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65623" b="30621"/>
          <a:stretch/>
        </p:blipFill>
        <p:spPr>
          <a:xfrm>
            <a:off x="7093080" y="115920"/>
            <a:ext cx="18856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6480" y="17640"/>
            <a:ext cx="6510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уворо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 ноября 1729, Москва — 6 мая 1800, Санкт-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0" y="150336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ало военной курьеры Сувор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Александр Васильевич Суворов в семье дворяни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отец был генералом русской армии, строго следившим за воспитанием и обучением сына. Самым любимым предметом юного Суворова была военная история, при этом он владел семью языками. В 1742 его, по обычаю того времени, записали в лейб-гвардии Семеновский полк рядовым. Действительную службу он начал в семнадцать лет капралом. С этого момента вся жизнь Суворова была подчинена военной службе. Позднее Суворов писал о себе: «Я только военный человек и иных дарований чужд». Обладая сравнительно слабым здоровьем, Суворов постоянно закалял себя физически. Уже тогда он зарекомендовал себя исправным и требовательным унтер-офицером. В 1754 был произведен в первый офицерский чин поручика и определен в Ингерманландский пехотный полк. Боевое крещение получил во время Семилетней войны, затем принял участие в боевых действиях против пруссаков в период 1758-1761, в частности, в кровопролитном сражении при Кунерсдорфе в 1759. С 1761 Суворов успешно командовал кавалерийским полком и за отличие в боях был произведен в полковники. Таким образом, за шесть лет он проделал путь от младшего офицера до полковника и удостоился похвалы от многих русских военачальников за хладнокровие и храбрость на полях сра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12040" y="0"/>
            <a:ext cx="1863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5:38:22Z</dcterms:created>
  <dc:creator>rebel1</dc:creator>
  <dc:description/>
  <dc:language>en-US</dc:language>
  <cp:lastModifiedBy>User</cp:lastModifiedBy>
  <dcterms:modified xsi:type="dcterms:W3CDTF">2013-02-28T15:43:16Z</dcterms:modified>
  <cp:revision>50</cp:revision>
  <dc:subject/>
  <dc:title>Жуков</dc:title>
</cp:coreProperties>
</file>