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3D1-32DF-4E7F-9B6F-E408AA5A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CAD-ACA3-4DE8-8C94-DD7F5A54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F6A-A2AB-437A-9422-E5117013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EC2-F200-4963-8EFE-2ABB4D76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A27A-937A-46D4-AFB3-D297EA0B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DBC0-4126-426C-9455-B4A7F73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CB4E-5890-4350-89C1-7552A31F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DB3E-3152-4C4E-ABEF-7538C9B6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8E40-D46B-4773-AEF2-BABA7266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AD55-E885-4B5C-91C1-AD0A9339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6DE0-4144-4FA9-9A0A-A81F563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80C-91AA-4623-8C36-494489A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2240-0F9D-402D-98CF-45E4F38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BD84-8FBD-436C-B0FB-2564AA0B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7739-CDD6-4EB2-AF4B-BDADD66F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5313-26DF-4BD4-A9D3-EA15AE5D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552B-9707-4BE0-94FF-9E4706E3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687-B6CF-451A-87AE-D0498069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5FE-064B-49EE-B84E-375897D4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876-924D-4C21-8F85-7337234E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CBE-04AE-422B-999F-A4B4474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984-25F1-4585-8589-0BD038AE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FB1-3579-4E7C-BD27-1E54B51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31C-F7A4-4457-BB4E-7CBAA78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C3AB-CC3D-40FA-BB08-B13908666D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5BD2-AB1B-4D7A-96A2-6E3A042A5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36360" y="358920"/>
            <a:ext cx="9144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обенности генезис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рода окраски мраморного оникса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a3e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спублики Татарстан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a3e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816200" y="3300480"/>
            <a:ext cx="54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959120" y="394812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998160" y="602136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ЗАН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859000" y="3286080"/>
            <a:ext cx="28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ту выполнил учащий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А класса школы № 9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ловский А.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 П. Топырки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чные руководител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патин О.Н., д.г.-м.н.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колаев А.Г., ассистен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60360" y="691920"/>
            <a:ext cx="457200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тические спектры поглощения, а также спектры люминесценции мраморных ониксов записывались в высокочувствительном режиме «счета фотонов» на специализированных спектрометрических  установках, собранных на базе монохроматоров МДР-2 и ММУМ, микроскопов, фотоноприемниках ФЭУ-79, ФЭУ-62, ФЭУ-100 с управлением от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BM PC AT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минесценция исследовалась при 77 К, а спектры поглощения при комнатной температур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ональные, разноокрашенные образцы излучались по зонам методом оптикоспектроскопического микрозондового сканирования. Размер светового зонда составляет 15 мк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8" descr="28565"/>
          <p:cNvPicPr/>
          <p:nvPr/>
        </p:nvPicPr>
        <p:blipFill>
          <a:blip r:embed="rId1"/>
          <a:stretch/>
        </p:blipFill>
        <p:spPr>
          <a:xfrm>
            <a:off x="5268960" y="549360"/>
            <a:ext cx="3335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14188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трографическое изучение мраморного оникса в шлифах показало, что все изученные образцы мраморного оникса различных месторождений и проявлений представляют собой лучистые или струйчатые агрегаты сильно вытянутых ксеноморфных кристаллов кальцита. Данные лучистые агрегаты ориентированы перпендикулярно подложке вмещающих пород, которые были представлены известняками, либо известковистыми доломит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WordArt 8" descr=""/>
          <p:cNvPicPr/>
          <p:nvPr/>
        </p:nvPicPr>
        <p:blipFill>
          <a:blip r:embed="rId1"/>
          <a:stretch/>
        </p:blipFill>
        <p:spPr>
          <a:xfrm>
            <a:off x="749160" y="60480"/>
            <a:ext cx="8004240" cy="130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Красновидово"/>
          <p:cNvPicPr/>
          <p:nvPr/>
        </p:nvPicPr>
        <p:blipFill>
          <a:blip r:embed="rId2"/>
          <a:stretch/>
        </p:blipFill>
        <p:spPr>
          <a:xfrm>
            <a:off x="468360" y="1484280"/>
            <a:ext cx="4608360" cy="23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453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006880" y="620640"/>
            <a:ext cx="3813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тмеченные особенности характера и формы расположения включений органического вещества в субстрате мраморного оникса свидетельствуют, по нашему мнению, о сингенетичности включений органического вещества и натеков кальцита, а также о том, что основная масса органики захватывалась растущим агрегатом кальцита в периферической, растущей части оникса, куда органическое вещество вместе с ионами Са2+, НСО3-, СО32- и другими компонентами в составе питающего его раствора поступало из пор подложки вмещающей породы. Очевидно, что концентрация органического вещества в питающем водном растворе варьировала во времени, что и приводило к формированию специфической волнообразной полосчатости мраморного оникс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8" descr="Красновидово"/>
          <p:cNvPicPr/>
          <p:nvPr/>
        </p:nvPicPr>
        <p:blipFill>
          <a:blip r:embed="rId1"/>
          <a:stretch/>
        </p:blipFill>
        <p:spPr>
          <a:xfrm>
            <a:off x="214200" y="357120"/>
            <a:ext cx="5004000" cy="3311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3203640" y="1628640"/>
            <a:ext cx="936720" cy="5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14"/>
          <p:cNvSpPr/>
          <p:nvPr/>
        </p:nvSpPr>
        <p:spPr>
          <a:xfrm flipH="1">
            <a:off x="2843280" y="2205000"/>
            <a:ext cx="792000" cy="25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214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ряду с рентгендифрактометрическим изучением образцов нами были изучены оптические спектры поглощения мраморных ониксов. Следует отметить, что все полученные в процессе экспериментального изучения оптические спектры оникса оказались однотипными и различались лишь интенсивностью тех или иных полос поглощ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4572000" y="1268280"/>
            <a:ext cx="4321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43280" y="213840"/>
            <a:ext cx="450072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 увеличении в составе мраморного оникса органических молекул либо ионов трехвалентного железа окно пропускания в оптических спектрах минерала будет смещаться в длинноволновый диапазон, окраска мраморного оникса приобретет более красноватый, либо бурый оттенок. При увеличении доли ионов двух- валентного железа окно пропускания в оптических спектрах мраморных ониксов будет сужаться, в окраске оникса будет больше оранжевых, желтых и, возможно, зеленых оттенков. В связи с тем, что формирование агрегатов мраморного оникса зачастую связано с близповерхностными, высокоокислительными условиями среды минералообразования, доминирующим цветом мраморного оникса является коричневый, тогда как известные по литературным данным редкие зеленоватые ониксы, очевидно, формировались в условиях восстановительной среды, когда железо входило в структуру кальцита в двухвалентном состоян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7" descr="Красновидово1"/>
          <p:cNvPicPr/>
          <p:nvPr/>
        </p:nvPicPr>
        <p:blipFill>
          <a:blip r:embed="rId1"/>
          <a:stretch/>
        </p:blipFill>
        <p:spPr>
          <a:xfrm>
            <a:off x="468360" y="404640"/>
            <a:ext cx="3743280" cy="2911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SC03953"/>
          <p:cNvPicPr/>
          <p:nvPr/>
        </p:nvPicPr>
        <p:blipFill>
          <a:blip r:embed="rId2"/>
          <a:stretch/>
        </p:blipFill>
        <p:spPr>
          <a:xfrm>
            <a:off x="468360" y="3429000"/>
            <a:ext cx="37465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495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им образом, окраска мраморного оникса является важнейшей типоморфной характеристикой, позволяющей характеризовать окислительно-восстановительный потенциал среды минералообразова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ультаты, подтверждающие эти выводы, были получены нами и при изучении люминесцентных свойств мраморного оникса. В основных литературных источниках, посвященных данному вопросу, люминесценция мраморного оникса не описа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учение люминесцентных свойств имеющейся коллекции мраморных ониксов показало, что подавляющее большинство образцов обнаруживает люминесценцию с максимумом в области длин волн 420-440 н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684360" y="620640"/>
            <a:ext cx="4046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едует отметить, что хлороформные вытяжки из мраморных ониксов не люминесцировали, тогда как спирто-бензольные вытяжки из мраморного оникса обнаруживали люминесценцию, аналогичную вышеописанной для исходных образцов мраморного оникса. Это позволило сделать заключение, что органическое вещество, вносящее основной вклад в природу окраски мраморного оникса, представляет собой теригенную органику угольного ряда, имеющую в своем составе преимущественно кислородные лиганд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572000" y="1500120"/>
            <a:ext cx="43578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веденное экспериментальное изучение мраморного оникса ряда место- рождений и проявлений Республики Татарстан комплексом петрографических и физических методов исследования минерального вещества позволяет утверждать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. Определяющим компонентом природы окраски мраморного оникса являются органические соединения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. Органические вещества в изученных образцах мраморного оникса, окра- шенного в коричневый цвет различных оттенков, представлены угольным рядом и имеют теригенную природу, что свидетельствует о высоком окислительном потенциале сред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. Окраска мраморного оникса отражает окислительно-восстановительные условия среды минералообразования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4. Разнообразие структурно-морфологических типов мраморного оникса и его окраски определяется цикличностью и вариабельностью экзогенных факторов обстановк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5. Мраморный оникс является единственным ювелирно-поделочным камнем в Республике Татарстан, поэтому нам так важно знать о природе его окраски, и выявлений генетических особенностей формирования мраморного оникс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2556000" y="0"/>
            <a:ext cx="396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4" name="Picture 10" descr="Камское Юрьевская6"/>
          <p:cNvPicPr/>
          <p:nvPr/>
        </p:nvPicPr>
        <p:blipFill>
          <a:blip r:embed="rId1"/>
          <a:stretch/>
        </p:blipFill>
        <p:spPr>
          <a:xfrm>
            <a:off x="5500800" y="1000080"/>
            <a:ext cx="2322360" cy="3097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Камское Юрьевская5"/>
          <p:cNvPicPr/>
          <p:nvPr/>
        </p:nvPicPr>
        <p:blipFill>
          <a:blip r:embed="rId2"/>
          <a:stretch/>
        </p:blipFill>
        <p:spPr>
          <a:xfrm>
            <a:off x="5072040" y="4357800"/>
            <a:ext cx="3328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Андерсон Б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Определение драгоценных камней.- Москва: мир, 1983.- С.387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Бахтин А.И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ородообразовающие силикаты: оптические спектры, кристаллохимия, закономерности окраски, типоморфизм. – Казань: Изд-во Казан. Ун-та, 1985. – 192 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Бахтин А.И., Горобец Б.С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Оптическая спектроскопия минералов и руд и ее применение в геологоразведочных работах. - Казань: Изд-во Казан. ун-та, 1992. - 235 с.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Бахтин АИ., Лопатин О.Н., Денисов И.Г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Кристаллохимические особенности природных оливинов по люминесцентным данным. /Геохимия. 1995. N 7, С. 967 - 973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Васянов Г.П, Шишкин А.В, Шевелев А.И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Некоторые закономерности формирования и локализации мраморного оникса на территории Республики Татарстан в сб: Пермские отложения Республики Татарстан// Материалы республиканской пермской геологической конференции. 27февраля–1марта 1996 г. Казань: Экоцентр.1996. с 110-113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Горобец Б.С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Спектры люминесценции минералов. М.: Изд-во ВИМС, 1981. 264 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Коноваленко С.И., Бахтин А.И., Лопатин О.Н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рирода окраски цветных и полихромных турмалинов из миароловых пегматитов Юго-Западного Памира. / Минерал. журн. 1991. Т. 13, N 2. С. 54 - 62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Платонов АН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Природа окраски минералов. - Киев: Наукова Думка, 1976. - 264 с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Силантьев В.В., Балабанов Ю.П., Галушин Г.А., Губарева В.С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 др. Геологические памятники природы Республики Татарстан.- Казань: Акварель- Арт, 2007.-296 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Степина З.А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Метод люминесцентной корреляции и расчленения карбонатных толщ на примере нижнего и среднего карбона Южного Тимана. / Литология и полезные ископаемые. 1965. N 6. С.20 - 36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Таращан А.Н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Люминесценция минералов. - Киев: Наукова Думка, 1976. - 296 с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Шевелев А.И., Силантьев В.В., Мусин Р.Х.,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 др. Геология Приказанского района. Путеводитель по полигонам учебных геологических практик.- Казань: ЗАО «Новое знание», 2007.-208 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Штрюбель Г., Циммер З.Х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Минералогический словарь. - М.: Недра, 1987. - С.299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images.yandex.ru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4321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 термином «мраморный оникс» в настоящие время понимают плотные, просвечивающие до полупрозрачных полосчатые агрегаты кальцита или арагонита. Как правило, агрегаты мраморного оникса образуют натеки, корки, конкреционные формы с элементами радиально-лучистого строения, колломорфные агрегаты, формирующиеся в отложениях горячих минеральных источников вулканических областей, или в карстовых пещерах. Месторождение мраморного оникса издавна известны человеку в Алжире, Египте, Мексике, Аргентине, Пакистане, а также в странах СНГ-России, Туркмении, Армении, Киргизии и п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1" descr="DSC03952"/>
          <p:cNvPicPr/>
          <p:nvPr/>
        </p:nvPicPr>
        <p:blipFill>
          <a:blip r:embed="rId1"/>
          <a:stretch/>
        </p:blipFill>
        <p:spPr>
          <a:xfrm>
            <a:off x="4643280" y="571680"/>
            <a:ext cx="425448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новная ценность мраморного оникса как сырья  определяется тем, что он издавна используется в качестве ювелирно-поделочного, а в отдельных случаях и облицовочного камня, обладая  просвечиваемостью и специфической окраской, представляющей собой зачастую чередованием разноокрашенных коричневых зон. Хотя известны мраморные ониксы белого, зеленого и практически черного окра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www"/>
          <p:cNvPicPr/>
          <p:nvPr/>
        </p:nvPicPr>
        <p:blipFill>
          <a:blip r:embed="rId1"/>
          <a:stretch/>
        </p:blipFill>
        <p:spPr>
          <a:xfrm>
            <a:off x="4714920" y="214200"/>
            <a:ext cx="4000320" cy="3181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9703387_1_644x461"/>
          <p:cNvPicPr/>
          <p:nvPr/>
        </p:nvPicPr>
        <p:blipFill>
          <a:blip r:embed="rId2"/>
          <a:stretch/>
        </p:blipFill>
        <p:spPr>
          <a:xfrm>
            <a:off x="4786200" y="3716280"/>
            <a:ext cx="40006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215640"/>
            <a:ext cx="82296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сих пор окраска мраморного оникса является не изученной. Несмотря на широкую распространенность и декоративные свойства, природа окраски мраморного оникса в литературных источниках, посвященных данному вопросу, не освещалась. В месте с тем окраска позволяет выявить кристаллохимические, а, следовательно, и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енетически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собенности минералов и их агрегатов и тем самым воспроизводить реальные условия минерало- и рудообразов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9" descr="Камское Юрьевская1"/>
          <p:cNvPicPr/>
          <p:nvPr/>
        </p:nvPicPr>
        <p:blipFill>
          <a:blip r:embed="rId1"/>
          <a:stretch/>
        </p:blipFill>
        <p:spPr>
          <a:xfrm>
            <a:off x="571680" y="2786040"/>
            <a:ext cx="8072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и объекты изуч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зучение природы окраски мраморного оникса различных месторождений Республики Татарстан и выявление генетических особенностей формирования мраморного оникс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бъекты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: образцы мраморного оникса, отобранные из Пичкасского месторождений, разрезов у сел Красновидово, Камское Устье, Антоновки (Республика Татарстан), а так же из месторождений Ундорское (Ульяновская область) и ряда проявлений из сопредельных территори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13" descr="7b8f1f3d5a5a0cbf87f710661f41bb64"/>
          <p:cNvPicPr/>
          <p:nvPr/>
        </p:nvPicPr>
        <p:blipFill>
          <a:blip r:embed="rId1"/>
          <a:stretch/>
        </p:blipFill>
        <p:spPr>
          <a:xfrm>
            <a:off x="428760" y="1197000"/>
            <a:ext cx="400032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DSC03949"/>
          <p:cNvPicPr/>
          <p:nvPr/>
        </p:nvPicPr>
        <p:blipFill>
          <a:blip r:embed="rId2"/>
          <a:stretch/>
        </p:blipFill>
        <p:spPr>
          <a:xfrm>
            <a:off x="500040" y="3929040"/>
            <a:ext cx="4000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495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иболее разнообразные формы выделения мраморного оникса наблюдаются на Пичкасском месторождении: трещинный, натечно-корковый и глыбовый. Преобладает мраморный оникс тонкополосчатый, полупросвечивающий, темно-коричневых оттен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явления мраморного оникса у с. Красновидово разбросаны вдоль береговой линии и приурочены к нижней части разреза, который является опорным для Приказанского района. В этом разрезе наибольший интерес для геологов и палеонтологов представляет слой оолитового известняка, содержащий богатую морскую фаун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285840" y="928800"/>
            <a:ext cx="4592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428400"/>
            <a:ext cx="464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ложения у села Камское Устье, благодаря наличию уникального для этих мест минерального комплекса полезных ископаемых, издавна привлекал внимание исследователей. Здесь широко развиты нерудные и горючие полезные ископаемые, такие как: доломит, гипс, строительный песок, самородная сера и битум. Кроме промышленно значимых полезных ископаемых встречаются минералогические находки: мраморный оникс, агаты, халцедоны, пейзажные камни, реже аметистовый кварц. Мраморный оникс представлен в виде жильных тел рассекающий доломиты и доломитовый мергели в субгоризонтальном и субвертикальном направлениях . Их цветовая гамма  варьирует от темно-коричневого до желто-бурого оттенка, реже встречается бледно- желтый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7" descr="сканирование0002"/>
          <p:cNvPicPr/>
          <p:nvPr/>
        </p:nvPicPr>
        <p:blipFill>
          <a:blip r:embed="rId1"/>
          <a:stretch/>
        </p:blipFill>
        <p:spPr>
          <a:xfrm>
            <a:off x="4859280" y="214200"/>
            <a:ext cx="407664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7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роцессе экспериментальных работ наряду с традиционным петрографическим изучением образцов в шлифах нами был использован ряд современных физических методов исследования минерального вещества. Для характеристики минерального состава мраморного оникса проводились рентгендифрактометрические исследования, а для изучения кристаллохимии и природы окраски мраморного оникса использовался метод оптической спектроскопии, а именно изучались спектры поглощения и спектры люминесценции мраморных оникс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755640" y="33336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изучения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нтгендифрактометрическое изучение мраморного оникса проводилось порошковым методом в прецезионном варианте, что определялось высокоточной юстировкой рентгеновской трубки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 Kα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излучение, рентгеновский дифрактометр ДРОН-3,0), многократной цифровой записью дифрактограмм с одного препарата, компьютерной обработкой полученных рентгендифрактометрических кривы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3697200" cy="2776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286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55:29Z</dcterms:created>
  <dc:creator>User</dc:creator>
  <dc:description/>
  <dc:language>en-US</dc:language>
  <cp:lastModifiedBy>1</cp:lastModifiedBy>
  <dcterms:modified xsi:type="dcterms:W3CDTF">2013-02-28T14:20:58Z</dcterms:modified>
  <cp:revision>26</cp:revision>
  <dc:subject/>
  <dc:title>Слайд 1</dc:title>
</cp:coreProperties>
</file>