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gif" ContentType="image/gif"/>
  <Override PartName="/ppt/media/image14.png" ContentType="image/png"/>
  <Override PartName="/ppt/media/image7.jpeg" ContentType="image/jpeg"/>
  <Override PartName="/ppt/media/image6.jpeg" ContentType="image/jpeg"/>
  <Override PartName="/ppt/media/image10.gif" ContentType="image/gif"/>
  <Override PartName="/ppt/media/image9.png" ContentType="image/png"/>
  <Override PartName="/ppt/media/image5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26.gif" ContentType="image/gif"/>
  <Override PartName="/ppt/media/image15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837-9110-4B70-ACD3-F79CB0A3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62E-318D-49D7-A0D3-CD0F5E35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DF9-C8F7-4588-A5EE-62C2295C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763-962B-4A72-A8E8-004E41D6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1F6-C1AD-4E8C-9FE9-5B326DA2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31B-3E77-4B66-86EC-E980523E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53D-EA78-4E3B-9480-BBD7B13B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419-AD4A-462B-A806-D9E4E881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E59-F0DE-4993-BDC7-89B2AD17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D6D-CE6D-44F0-BE80-0BB6867E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8E3-5DB8-4B60-A15B-70D76856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D21-44CE-43A6-9007-2D0E6F75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7BB0-42A6-432E-8B15-DD29379FD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тепанова Татья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учитель истории  и общество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МАОУ СОШ № 13 г.Тамбов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838080" y="2368440"/>
            <a:ext cx="2971800" cy="43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дого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9112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Текст 11"/>
          <p:cNvSpPr/>
          <p:nvPr/>
        </p:nvSpPr>
        <p:spPr>
          <a:xfrm>
            <a:off x="152280" y="1981080"/>
            <a:ext cx="41911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Таня.F52B12A72E7B40C\Рабочий стол\труд\trudovoy-dogovor.jpg"/>
          <p:cNvPicPr/>
          <p:nvPr/>
        </p:nvPicPr>
        <p:blipFill>
          <a:blip r:embed="rId1"/>
          <a:stretch/>
        </p:blipFill>
        <p:spPr>
          <a:xfrm>
            <a:off x="674640" y="2666880"/>
            <a:ext cx="396396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Текст 11"/>
          <p:cNvSpPr/>
          <p:nvPr/>
        </p:nvSpPr>
        <p:spPr>
          <a:xfrm>
            <a:off x="152280" y="1981080"/>
            <a:ext cx="34290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28600" y="274680"/>
            <a:ext cx="8458200" cy="155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 на отдых и социальн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Documents and Settings\Чупров Леонид\Мои документы\А. наглядность\А. фон природа\02.gif"/>
          <p:cNvPicPr/>
          <p:nvPr/>
        </p:nvPicPr>
        <p:blipFill>
          <a:blip r:embed="rId1"/>
          <a:stretch/>
        </p:blipFill>
        <p:spPr>
          <a:xfrm>
            <a:off x="247680" y="2057400"/>
            <a:ext cx="3276720" cy="444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Documents and Settings\Чупров Леонид\Мои документы\А. наглядность\А. люди анимация\peopls166.gif"/>
          <p:cNvPicPr/>
          <p:nvPr/>
        </p:nvPicPr>
        <p:blipFill>
          <a:blip r:embed="rId2"/>
          <a:stretch/>
        </p:blipFill>
        <p:spPr>
          <a:xfrm>
            <a:off x="7696080" y="53341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Чупров Леонид\Мои документы\А. наглядность\А. люди анимация\hiker_roasting01.gif"/>
          <p:cNvPicPr/>
          <p:nvPr/>
        </p:nvPicPr>
        <p:blipFill>
          <a:blip r:embed="rId3"/>
          <a:stretch/>
        </p:blipFill>
        <p:spPr>
          <a:xfrm>
            <a:off x="1828800" y="3352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Чупров Леонид\Мои документы\А. наглядность\А. люди анимация\album_0308172145_9443.gif"/>
          <p:cNvPicPr/>
          <p:nvPr/>
        </p:nvPicPr>
        <p:blipFill>
          <a:blip r:embed="rId4"/>
          <a:stretch/>
        </p:blipFill>
        <p:spPr>
          <a:xfrm>
            <a:off x="6858000" y="1136520"/>
            <a:ext cx="1600200" cy="13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380880" y="380880"/>
            <a:ext cx="838224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вое регулирование труда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1"/>
          <a:stretch/>
        </p:blipFill>
        <p:spPr>
          <a:xfrm>
            <a:off x="1523880" y="4876920"/>
            <a:ext cx="1143000" cy="1533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Documents and Settings\Таня.F52B12A72E7B40C\Рабочий стол\труд\trud1.jpg"/>
          <p:cNvPicPr/>
          <p:nvPr/>
        </p:nvPicPr>
        <p:blipFill>
          <a:blip r:embed="rId2"/>
          <a:stretch/>
        </p:blipFill>
        <p:spPr>
          <a:xfrm>
            <a:off x="304920" y="2209680"/>
            <a:ext cx="34480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1447920" y="1771200"/>
            <a:ext cx="6705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D:\Мои рисунки\Оля\Рисунок2.jpg"/>
          <p:cNvPicPr/>
          <p:nvPr/>
        </p:nvPicPr>
        <p:blipFill>
          <a:blip r:embed="rId1"/>
          <a:stretch/>
        </p:blipFill>
        <p:spPr>
          <a:xfrm>
            <a:off x="304920" y="21337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Таня.F52B12A72E7B40C\Рабочий стол\труд\7-1.jpg"/>
          <p:cNvPicPr/>
          <p:nvPr/>
        </p:nvPicPr>
        <p:blipFill>
          <a:blip r:embed="rId2"/>
          <a:stretch/>
        </p:blipFill>
        <p:spPr>
          <a:xfrm>
            <a:off x="228600" y="4343400"/>
            <a:ext cx="1228680" cy="178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Таня.F52B12A72E7B40C\Рабочий стол\труд\detskiy-trud.jpg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3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800600" y="609120"/>
            <a:ext cx="4114800" cy="5791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Documents and Settings\Таня.F52B12A72E7B40C\Рабочий стол\труд\final_shmel060807-6.jpg"/>
          <p:cNvPicPr/>
          <p:nvPr/>
        </p:nvPicPr>
        <p:blipFill>
          <a:blip r:embed="rId1"/>
          <a:stretch/>
        </p:blipFill>
        <p:spPr>
          <a:xfrm>
            <a:off x="5181480" y="1371600"/>
            <a:ext cx="3429000" cy="4275000"/>
          </a:xfrm>
          <a:prstGeom prst="rect">
            <a:avLst/>
          </a:prstGeom>
          <a:ln w="0">
            <a:noFill/>
          </a:ln>
        </p:spPr>
      </p:pic>
      <p:sp>
        <p:nvSpPr>
          <p:cNvPr id="110" name="Текст 11"/>
          <p:cNvSpPr/>
          <p:nvPr/>
        </p:nvSpPr>
        <p:spPr>
          <a:xfrm>
            <a:off x="304920" y="609480"/>
            <a:ext cx="4190760" cy="58676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не есть добродетель, но необходимое  условие добродетельной жизни.»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(Л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2"/>
          <a:stretch/>
        </p:blipFill>
        <p:spPr>
          <a:xfrm>
            <a:off x="3657600" y="4876920"/>
            <a:ext cx="1143000" cy="153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Труд с точки зрения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Текст 11"/>
          <p:cNvSpPr/>
          <p:nvPr/>
        </p:nvSpPr>
        <p:spPr>
          <a:xfrm>
            <a:off x="4648320" y="1828800"/>
            <a:ext cx="4114800" cy="487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:\Documents and Settings\Таня.F52B12A72E7B40C\Рабочий стол\труд\1235993383_nb_pinacoteca_nesterov_portrait_of_count_leo_tolst.jpg"/>
          <p:cNvPicPr/>
          <p:nvPr/>
        </p:nvPicPr>
        <p:blipFill>
          <a:blip r:embed="rId1"/>
          <a:stretch/>
        </p:blipFill>
        <p:spPr>
          <a:xfrm>
            <a:off x="4800600" y="1981080"/>
            <a:ext cx="3765600" cy="4551480"/>
          </a:xfrm>
          <a:prstGeom prst="rect">
            <a:avLst/>
          </a:prstGeom>
          <a:ln w="0">
            <a:noFill/>
          </a:ln>
        </p:spPr>
      </p:pic>
      <p:sp>
        <p:nvSpPr>
          <p:cNvPr id="47" name="Текст 11"/>
          <p:cNvSpPr/>
          <p:nvPr/>
        </p:nvSpPr>
        <p:spPr>
          <a:xfrm>
            <a:off x="304920" y="3886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Таня.F52B12A72E7B40C\Рабочий стол\труд\215550.jpg"/>
          <p:cNvPicPr/>
          <p:nvPr/>
        </p:nvPicPr>
        <p:blipFill>
          <a:blip r:embed="rId2"/>
          <a:stretch/>
        </p:blipFill>
        <p:spPr>
          <a:xfrm>
            <a:off x="609480" y="4191120"/>
            <a:ext cx="3276720" cy="2206440"/>
          </a:xfrm>
          <a:prstGeom prst="rect">
            <a:avLst/>
          </a:prstGeom>
          <a:ln w="0">
            <a:noFill/>
          </a:ln>
        </p:spPr>
      </p:pic>
      <p:sp>
        <p:nvSpPr>
          <p:cNvPr id="49" name="Текст 11"/>
          <p:cNvSpPr/>
          <p:nvPr/>
        </p:nvSpPr>
        <p:spPr>
          <a:xfrm>
            <a:off x="228600" y="1828800"/>
            <a:ext cx="4038480" cy="1676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руд не есть добродетель, но необходимое условие добродетельной жизн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Л.Толстой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8959680" y="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Таня.F52B12A72E7B40C\Рабочий стол\труд\pic.jpeg"/>
          <p:cNvPicPr/>
          <p:nvPr/>
        </p:nvPicPr>
        <p:blipFill>
          <a:blip r:embed="rId1"/>
          <a:stretch/>
        </p:blipFill>
        <p:spPr>
          <a:xfrm>
            <a:off x="457200" y="2209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Чупров Леонид\Мои документы\А. наглядность\Анимации исторические\peo-engineer.gif"/>
          <p:cNvPicPr/>
          <p:nvPr/>
        </p:nvPicPr>
        <p:blipFill>
          <a:blip r:embed="rId2"/>
          <a:stretch/>
        </p:blipFill>
        <p:spPr>
          <a:xfrm>
            <a:off x="7772400" y="2057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57200" y="609480"/>
            <a:ext cx="8153280" cy="426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Лентяй да шалопай – два родных брат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Хочешь есть калачи – не лежи на п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человека кормит, а лень порт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0"/>
            <a:ext cx="363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Текст 11"/>
          <p:cNvSpPr/>
          <p:nvPr/>
        </p:nvSpPr>
        <p:spPr>
          <a:xfrm>
            <a:off x="2895480" y="3733920"/>
            <a:ext cx="3810240" cy="2971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498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3"/>
          <p:cNvSpPr/>
          <p:nvPr/>
        </p:nvSpPr>
        <p:spPr>
          <a:xfrm>
            <a:off x="685800" y="533520"/>
            <a:ext cx="8153280" cy="2057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C:\Documents and Settings\Таня.F52B12A72E7B40C\Рабочий стол\труд\trud1.jpg"/>
          <p:cNvPicPr/>
          <p:nvPr/>
        </p:nvPicPr>
        <p:blipFill>
          <a:blip r:embed="rId1"/>
          <a:stretch/>
        </p:blipFill>
        <p:spPr>
          <a:xfrm>
            <a:off x="2895480" y="2286000"/>
            <a:ext cx="5486400" cy="412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Documents and Settings\Чупров Леонид\Мои документы\А. наглядность\А. люди анимация\peopls79.gif"/>
          <p:cNvPicPr/>
          <p:nvPr/>
        </p:nvPicPr>
        <p:blipFill>
          <a:blip r:embed="rId2"/>
          <a:stretch/>
        </p:blipFill>
        <p:spPr>
          <a:xfrm>
            <a:off x="380880" y="4038480"/>
            <a:ext cx="1863720" cy="16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Нужно ли подросткам трудиться и зарабатывать деньг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3048120"/>
          <a:ext cx="8077320" cy="261756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и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остковом возрасте дети не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Чупров Леонид\Мои документы\А. наглядность\Анимации исторические\peo-relaxin_dude.gif"/>
          <p:cNvPicPr/>
          <p:nvPr/>
        </p:nvPicPr>
        <p:blipFill>
          <a:blip r:embed="rId1"/>
          <a:stretch/>
        </p:blipFill>
        <p:spPr>
          <a:xfrm>
            <a:off x="1219320" y="3429000"/>
            <a:ext cx="2479680" cy="11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Documents and Settings\Чупров Леонид\Мои документы\А. наглядность\А. люди анимация\peopls91.gif"/>
          <p:cNvPicPr/>
          <p:nvPr/>
        </p:nvPicPr>
        <p:blipFill>
          <a:blip r:embed="rId2"/>
          <a:stretch/>
        </p:blipFill>
        <p:spPr>
          <a:xfrm>
            <a:off x="7238880" y="3124080"/>
            <a:ext cx="952560" cy="851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Documents and Settings\Чупров Леонид\Мои документы\А. наглядность\Анимации исторические\man26.gif"/>
          <p:cNvPicPr/>
          <p:nvPr/>
        </p:nvPicPr>
        <p:blipFill>
          <a:blip r:embed="rId3"/>
          <a:stretch/>
        </p:blipFill>
        <p:spPr>
          <a:xfrm>
            <a:off x="6095880" y="5486400"/>
            <a:ext cx="1811520" cy="101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Чупров Леонид\Мои документы\А. наглядность\А. люди анимация\hw06.gif"/>
          <p:cNvPicPr/>
          <p:nvPr/>
        </p:nvPicPr>
        <p:blipFill>
          <a:blip r:embed="rId4"/>
          <a:stretch/>
        </p:blipFill>
        <p:spPr>
          <a:xfrm>
            <a:off x="4114800" y="4800600"/>
            <a:ext cx="92880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57200" y="2057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3962520"/>
            <a:ext cx="2139840" cy="289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Мои рисунки\Оля\Рисунок2.jpg"/>
          <p:cNvPicPr/>
          <p:nvPr/>
        </p:nvPicPr>
        <p:blipFill>
          <a:blip r:embed="rId2"/>
          <a:stretch/>
        </p:blipFill>
        <p:spPr>
          <a:xfrm>
            <a:off x="2438280" y="3124080"/>
            <a:ext cx="3353040" cy="3733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Таня.F52B12A72E7B40C\Рабочий стол\труд\7-1.jpg"/>
          <p:cNvPicPr/>
          <p:nvPr/>
        </p:nvPicPr>
        <p:blipFill>
          <a:blip r:embed="rId3"/>
          <a:stretch/>
        </p:blipFill>
        <p:spPr>
          <a:xfrm>
            <a:off x="6019920" y="2666880"/>
            <a:ext cx="288108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457200" y="380880"/>
            <a:ext cx="8229600" cy="2133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кодекс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Текст 11"/>
          <p:cNvSpPr/>
          <p:nvPr/>
        </p:nvSpPr>
        <p:spPr>
          <a:xfrm>
            <a:off x="457200" y="1981080"/>
            <a:ext cx="38862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914400" y="2286000"/>
            <a:ext cx="2917800" cy="413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8T20:26:47Z</dcterms:modified>
  <cp:revision>1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