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549-83BE-4391-8169-FE158EBB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118-94F0-4371-B71D-7BB4943C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4FA-3E08-4CF0-8B19-0ADA61D1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5F0-1F2B-4AB3-AAB6-F1E17A15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858-EB3B-4167-BA5F-75891DFD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0EA-4F35-4B09-ADF1-A632CA9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5BD1-CF02-47E3-968D-63398FE1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371-22BD-4D7E-8630-CE4B2927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F8D7-8D5D-4EEA-823A-85263CA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5F05-9923-4D08-95A1-8C79B607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D1B3-E25B-4CC9-AE81-D4863B4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3CD-11D7-40B0-A329-48E809AB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3097-EE70-4792-A123-5F2400B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C1C-90E1-4835-B137-C3D84F2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36A1-ABCF-462E-BDDA-9B6CA24E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950A-EFE5-4122-B516-E2988945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B396-B707-49E2-AB7F-5E41D7FD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900-58C4-4E24-BA88-C2484E2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2CD-8601-4073-A2AC-0908C5A4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03E-C5FC-473D-B270-5B2276AA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EE1-762A-43BA-8675-C63E854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B98-9A48-4A04-9797-3019C36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820-63D5-4CC2-A66C-AFDBABE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14F-90EF-43E7-B887-C7E4C9E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D39B-940D-4D33-A4C5-DACDD3B576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3CD-51C7-429B-A054-42B6BFA3C333}" type="slidenum">
              <a:rPr b="0" lang="ru-RU" sz="1400" spc="-1" strike="noStrike">
                <a:solidFill>
                  <a:srgbClr val="00009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оздание кластера при изучении повести А.С.Пушкина «Пиковая дама»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191120" y="44197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 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рентьева Л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Клюквинская СОШ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хнекет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33520" y="45720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литератур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ри злодейства"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762120"/>
            <a:ext cx="7688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ульминац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Атанд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 вы смели мне сказать атан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аше превосходительство, я сказал атанде-с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варь В.И.Даля: «Атанде-в роковых (азартных) играх означает:стой, постой, не мечи далее,я ставл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чем предупреждает эпиграф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игра похожа на поедино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она закончилас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чины безумия Германна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ьей жертвой стал сам Германн, он погубил в себе все человеческое. Идея обогащения убивает в его душе все человеческие чувст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Oval 4"/>
          <p:cNvSpPr/>
          <p:nvPr/>
        </p:nvSpPr>
        <p:spPr>
          <a:xfrm flipH="1">
            <a:off x="1523880" y="3352680"/>
            <a:ext cx="1828800" cy="4572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м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581280" y="3352680"/>
            <a:ext cx="2057400" cy="4572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л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943600" y="3276720"/>
            <a:ext cx="2895480" cy="76176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рызения сов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3962520" y="4343400"/>
            <a:ext cx="2819160" cy="7621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р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400800" y="31240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540972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5562360" y="3048120"/>
            <a:ext cx="53316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3200400" y="3124080"/>
            <a:ext cx="2819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3657240" y="3124080"/>
            <a:ext cx="289548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24"/>
          <p:cNvSpPr/>
          <p:nvPr/>
        </p:nvSpPr>
        <p:spPr>
          <a:xfrm>
            <a:off x="1371600" y="4343400"/>
            <a:ext cx="2362320" cy="9144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ая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5867280" y="3124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тория создания пове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весть «Пиковая дама» написана осенью 1833 года в Болдино, в это же время написана поэма «Медный всадник» и стихотворение «Не дай мне Бог сойти с ума…».Безумцы, порывавшиеся к счастью или независимости, волновали воображение поэ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весть пользовалась большим успехом у читателей, свидетельством тому служит запись Пушкина в дневнике от 7 апреля 1834 года: «Моя «Пиковая дама» в большой моде. Игроки понтируют на тройку, семерку и туза.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.Н.Толстой назвал «Пиковую даму» шедевр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219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8" descr="C:\Documents and Settings\Увсе\Мои документы\Мои рисунки\КАрта.jpg"/>
          <p:cNvPicPr/>
          <p:nvPr/>
        </p:nvPicPr>
        <p:blipFill>
          <a:blip r:embed="rId1"/>
          <a:srcRect l="10288" t="13506" r="14779" b="0"/>
          <a:stretch/>
        </p:blipFill>
        <p:spPr>
          <a:xfrm>
            <a:off x="1523880" y="1905120"/>
            <a:ext cx="2438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пиграф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2480" y="10663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ьмы низких истин мне дорож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 возвышающий обман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вь герою сердце! Что ж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будет без него? Тиран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С.Пушкин. «Гер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295280" y="2438280"/>
            <a:ext cx="2438640" cy="6858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м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400800" y="3048120"/>
            <a:ext cx="2514600" cy="761760"/>
          </a:xfrm>
          <a:prstGeom prst="ellipse">
            <a:avLst/>
          </a:prstGeom>
          <a:solidFill>
            <a:srgbClr val="00c2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фи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6095880" y="4114800"/>
            <a:ext cx="2667240" cy="990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кали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1752480" y="4267080"/>
            <a:ext cx="2438640" cy="7621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3809880" y="5029200"/>
            <a:ext cx="2971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6553080" y="2209680"/>
            <a:ext cx="2362320" cy="6858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895120" y="1523880"/>
            <a:ext cx="12193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3123720" y="1523880"/>
            <a:ext cx="175284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3840" y="537120"/>
            <a:ext cx="5510520" cy="75456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пове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 flipH="1">
            <a:off x="5028840" y="1447920"/>
            <a:ext cx="152280" cy="358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5791320" y="1447920"/>
            <a:ext cx="38088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172200" y="1447920"/>
            <a:ext cx="3049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705720" y="1371600"/>
            <a:ext cx="5331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3255840" y="642960"/>
            <a:ext cx="193680" cy="46656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то же главный герой повести? Какую характеристику дают ему другие герои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276720" y="1828800"/>
            <a:ext cx="213336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685800" y="2971800"/>
            <a:ext cx="1676520" cy="53352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914400" y="4572000"/>
            <a:ext cx="2514600" cy="9144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3352680" y="5105520"/>
            <a:ext cx="2743200" cy="838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дови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5715000" y="4114800"/>
            <a:ext cx="2514600" cy="99072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ша Мефистофи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334120" y="2514600"/>
            <a:ext cx="2971800" cy="11430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хож на Наполе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2057040" y="2438280"/>
            <a:ext cx="15238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437920" y="2514600"/>
            <a:ext cx="160020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4267080" y="2514600"/>
            <a:ext cx="152640" cy="259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5334120" y="2286000"/>
            <a:ext cx="914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4800600" y="251460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23096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ую характеристику герою дает автор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526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429000" y="3429000"/>
            <a:ext cx="2057400" cy="8380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990720" y="2895480"/>
            <a:ext cx="2361960" cy="5335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столюб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172200" y="4724280"/>
            <a:ext cx="2286000" cy="9907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ст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400800" y="3429000"/>
            <a:ext cx="2209680" cy="11430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обра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5029200" y="2514600"/>
            <a:ext cx="2133720" cy="6858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ж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2895480" y="3352680"/>
            <a:ext cx="609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3"/>
          <p:cNvSpPr/>
          <p:nvPr/>
        </p:nvSpPr>
        <p:spPr>
          <a:xfrm flipV="1">
            <a:off x="5257800" y="320040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3733920" y="4952880"/>
            <a:ext cx="2286000" cy="76212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ыт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410080" y="39625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5334120" y="4038480"/>
            <a:ext cx="121896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800600" y="4191120"/>
            <a:ext cx="1522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2727360" y="529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1143000" y="3657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39"/>
          <p:cNvSpPr/>
          <p:nvPr/>
        </p:nvSpPr>
        <p:spPr>
          <a:xfrm>
            <a:off x="1143000" y="4419720"/>
            <a:ext cx="2209680" cy="9144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41"/>
          <p:cNvSpPr/>
          <p:nvPr/>
        </p:nvSpPr>
        <p:spPr>
          <a:xfrm flipH="1">
            <a:off x="3047760" y="41148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2504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авторской характеристике героя есть одно слово, на которое надо обратить внимание, - «честолюбив». Обратимся к словарю В.И.Даля: «Честолюбие-искательство внешней чести, уважения, почета, почестей…побужденье внешнее и низкое; честолюбивый человек- страстный к чинам, отличиям, к славе,похвалам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и потому действующий не по нравственным убеждениям…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040" y="44193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манн- натура честолюбивая, страстная, мечтающая о власти и богат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ля чего Пушкин ввел образ Лиз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тимся к «Словарю русских личных имен» и узнаем, что значит имя Елиза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завета (др.-евр.)- «Бог-моя клятва», «Богом клянусь», «Бог мой-клятв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6122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ав ли Томский, говоря о Германне: «У него профиль Наполеона, а душа Мефистофиля.Я думаю, что у него на совести по крайней мере три злодейства»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276720" y="2133720"/>
            <a:ext cx="3124080" cy="91440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и злоде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1447920" y="3886200"/>
            <a:ext cx="2590560" cy="106668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ф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6324480" y="3657600"/>
            <a:ext cx="2514600" cy="609480"/>
          </a:xfrm>
          <a:prstGeom prst="ellipse">
            <a:avLst/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ман Л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3276720" y="2895480"/>
            <a:ext cx="45720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486400" y="304812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4800600" y="3048120"/>
            <a:ext cx="5335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C:\Documents and Settings\Увсе\Мои документы\Мои рисунки\Германн.jpg"/>
          <p:cNvPicPr/>
          <p:nvPr/>
        </p:nvPicPr>
        <p:blipFill>
          <a:blip r:embed="rId1"/>
          <a:srcRect l="11736" t="5246" r="19153" b="13541"/>
          <a:stretch/>
        </p:blipFill>
        <p:spPr>
          <a:xfrm>
            <a:off x="4267080" y="4572000"/>
            <a:ext cx="327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7:38:12Z</dcterms:created>
  <dc:creator>Увсе</dc:creator>
  <dc:description/>
  <dc:language>en-US</dc:language>
  <cp:lastModifiedBy>1</cp:lastModifiedBy>
  <dcterms:modified xsi:type="dcterms:W3CDTF">2013-02-25T09:58:17Z</dcterms:modified>
  <cp:revision>11</cp:revision>
  <dc:subject/>
  <dc:title>Урок литературы « Три злодейства»</dc:title>
</cp:coreProperties>
</file>