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476-505E-4901-817D-76B0DA8F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B36-C492-4878-BBB3-C8A3220F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F2A-B627-4699-87C0-13FC4BBF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072-EAC7-4705-8476-B1800D87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C741-A718-4A35-A576-E3B01D67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5ED9-E96A-4D13-B019-FD5F40C2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DCBC-154A-4427-89E5-0C47DC85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7E3E-1087-4A50-8C5B-042EDCBA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E701-BE25-44F5-86DA-918136B4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E88A-5403-4819-B2C6-DCEACEF5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7FFC-0E94-4820-97CF-1FC1E25D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A71B-F541-472F-984A-530F2A63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9A28-FCE3-4C65-8F08-4294A30F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006E-9884-45E6-815A-2926B2AB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80AC-2265-4726-9274-55DEC1C0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7DA7-C2DD-4BAE-AF24-2782D83D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C94B-9A70-414D-8202-1A50FBF6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79C-2B5A-4CFA-8AA8-23E9F016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EA7-01A9-4498-966B-5E21ADAD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8F2C-036E-4813-BFC4-63594324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D09-F9AD-443E-A561-6B631325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294-F58D-4F14-B705-28EBDAD1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6A6-AB04-4E8F-8100-615170B1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0BE3-198E-4552-9F97-0F4D8B22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9900ff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33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9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947A-DCC2-4DA4-A292-FCC96D14D8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ff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94"/>
                </a:gs>
                <a:gs pos="100000">
                  <a:srgbClr val="00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9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1729-B130-49C4-A236-5702DD4C1E09}" type="slidenum">
              <a:rPr b="0" lang="ru-RU" sz="1400" spc="-1" strike="noStrike">
                <a:solidFill>
                  <a:srgbClr val="00009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24379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оздание кластера при изучении повести А.С.Пушкина «Пиковая дама»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191120" y="441972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у выполнила учитель русского языка и литерату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рентьева Л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У «Клюквинская СОШ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рхнекетский рай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533520" y="457200"/>
            <a:ext cx="7924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ок литературы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Три злодейства"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920" y="762120"/>
            <a:ext cx="7688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ульминац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Атанд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Как вы смели мне сказать атанд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Ваше превосходительство, я сказал атанде-с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оварь В.И.Даля: «Атанде-в роковых (азартных) играх означает:стой, постой, не мечи далее,я ставлю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чем предупреждает эпиграф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ему игра похожа на поедино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она закончилас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ичины безумия Германна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ьей жертвой стал сам Германн, он погубил в себе все человеческое. Идея обогащения убивает в его душе все человеческие чувств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Oval 4"/>
          <p:cNvSpPr/>
          <p:nvPr/>
        </p:nvSpPr>
        <p:spPr>
          <a:xfrm flipH="1">
            <a:off x="1523880" y="3352680"/>
            <a:ext cx="1828800" cy="45720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мн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3581280" y="3352680"/>
            <a:ext cx="2057400" cy="45720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ал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943600" y="3276720"/>
            <a:ext cx="2895480" cy="76176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грызения сов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3962520" y="4343400"/>
            <a:ext cx="2819160" cy="76212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рад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6400800" y="312408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20"/>
          <p:cNvSpPr/>
          <p:nvPr/>
        </p:nvSpPr>
        <p:spPr>
          <a:xfrm flipH="1">
            <a:off x="5409720" y="30481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5562360" y="3048120"/>
            <a:ext cx="53316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22"/>
          <p:cNvSpPr/>
          <p:nvPr/>
        </p:nvSpPr>
        <p:spPr>
          <a:xfrm flipH="1">
            <a:off x="3200400" y="3124080"/>
            <a:ext cx="2819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23"/>
          <p:cNvSpPr/>
          <p:nvPr/>
        </p:nvSpPr>
        <p:spPr>
          <a:xfrm flipH="1">
            <a:off x="3657240" y="3124080"/>
            <a:ext cx="289548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Oval 24"/>
          <p:cNvSpPr/>
          <p:nvPr/>
        </p:nvSpPr>
        <p:spPr>
          <a:xfrm>
            <a:off x="1371600" y="4343400"/>
            <a:ext cx="2362320" cy="91440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ая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26"/>
          <p:cNvSpPr/>
          <p:nvPr/>
        </p:nvSpPr>
        <p:spPr>
          <a:xfrm>
            <a:off x="5867280" y="3124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стория создания повест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весть «Пиковая дама» написана осенью 1833 года в Болдино, в это же время написана поэма «Медный всадник» и стихотворение «Не дай мне Бог сойти с ума…».Безумцы, порывавшиеся к счастью или независимости, волновали воображение поэ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весть пользовалась большим успехом у читателей, свидетельством тому служит запись Пушкина в дневнике от 7 апреля 1834 года: «Моя «Пиковая дама» в большой моде. Игроки понтируют на тройку, семерку и туза.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.Н.Толстой назвал «Пиковую даму» шедевр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219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8" descr="C:\Documents and Settings\Увсе\Мои документы\Мои рисунки\КАрта.jpg"/>
          <p:cNvPicPr/>
          <p:nvPr/>
        </p:nvPicPr>
        <p:blipFill>
          <a:blip r:embed="rId1"/>
          <a:srcRect l="10288" t="13506" r="14779" b="0"/>
          <a:stretch/>
        </p:blipFill>
        <p:spPr>
          <a:xfrm>
            <a:off x="1523880" y="1905120"/>
            <a:ext cx="2438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Эпиграф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52480" y="1066320"/>
            <a:ext cx="6934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ьмы низких истин мне дорож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 возвышающий обман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авь герою сердце! Что ж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 будет без него? Тиран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С.Пушкин. «Геро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1295280" y="2438280"/>
            <a:ext cx="2438640" cy="685800"/>
          </a:xfrm>
          <a:prstGeom prst="ellipse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м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6400800" y="3048120"/>
            <a:ext cx="2514600" cy="761760"/>
          </a:xfrm>
          <a:prstGeom prst="ellipse">
            <a:avLst/>
          </a:prstGeom>
          <a:solidFill>
            <a:srgbClr val="00c2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фи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6095880" y="4114800"/>
            <a:ext cx="2667240" cy="9907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калин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1752480" y="4267080"/>
            <a:ext cx="2438640" cy="7621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3809880" y="5029200"/>
            <a:ext cx="297180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рман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13"/>
          <p:cNvSpPr/>
          <p:nvPr/>
        </p:nvSpPr>
        <p:spPr>
          <a:xfrm>
            <a:off x="6553080" y="2209680"/>
            <a:ext cx="2362320" cy="68580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4"/>
          <p:cNvSpPr/>
          <p:nvPr/>
        </p:nvSpPr>
        <p:spPr>
          <a:xfrm flipH="1">
            <a:off x="2895120" y="1523880"/>
            <a:ext cx="1219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15"/>
          <p:cNvSpPr/>
          <p:nvPr/>
        </p:nvSpPr>
        <p:spPr>
          <a:xfrm flipH="1">
            <a:off x="3123720" y="1523880"/>
            <a:ext cx="175284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3840" y="537120"/>
            <a:ext cx="5510520" cy="75456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рои пове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Line 20"/>
          <p:cNvSpPr/>
          <p:nvPr/>
        </p:nvSpPr>
        <p:spPr>
          <a:xfrm flipH="1">
            <a:off x="5028840" y="1447920"/>
            <a:ext cx="152280" cy="358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5791320" y="1447920"/>
            <a:ext cx="380880" cy="297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22"/>
          <p:cNvSpPr/>
          <p:nvPr/>
        </p:nvSpPr>
        <p:spPr>
          <a:xfrm>
            <a:off x="6172200" y="1447920"/>
            <a:ext cx="30492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6705720" y="1371600"/>
            <a:ext cx="53316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31"/>
          <p:cNvSpPr/>
          <p:nvPr/>
        </p:nvSpPr>
        <p:spPr>
          <a:xfrm>
            <a:off x="3255840" y="642960"/>
            <a:ext cx="193680" cy="46656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то же главный герой повести? Какую характеристику дают ему другие герои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3276720" y="1828800"/>
            <a:ext cx="213336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рман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685800" y="2971800"/>
            <a:ext cx="1676520" cy="533520"/>
          </a:xfrm>
          <a:prstGeom prst="ellipse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е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914400" y="4572000"/>
            <a:ext cx="2514600" cy="914400"/>
          </a:xfrm>
          <a:prstGeom prst="ellipse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чет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3352680" y="5105520"/>
            <a:ext cx="2743200" cy="8380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удовищ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5715000" y="4114800"/>
            <a:ext cx="2514600" cy="990720"/>
          </a:xfrm>
          <a:prstGeom prst="ellipse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уша Мефистофи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5334120" y="2514600"/>
            <a:ext cx="2971800" cy="1143000"/>
          </a:xfrm>
          <a:prstGeom prst="ellipse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хож на Наполе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11"/>
          <p:cNvSpPr/>
          <p:nvPr/>
        </p:nvSpPr>
        <p:spPr>
          <a:xfrm flipH="1">
            <a:off x="2057040" y="2438280"/>
            <a:ext cx="15238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12"/>
          <p:cNvSpPr/>
          <p:nvPr/>
        </p:nvSpPr>
        <p:spPr>
          <a:xfrm flipH="1">
            <a:off x="2437920" y="2514600"/>
            <a:ext cx="160020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3"/>
          <p:cNvSpPr/>
          <p:nvPr/>
        </p:nvSpPr>
        <p:spPr>
          <a:xfrm flipH="1">
            <a:off x="4267080" y="2514600"/>
            <a:ext cx="152640" cy="259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5334120" y="2286000"/>
            <a:ext cx="914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4800600" y="251460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230960" cy="44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акую характеристику герою дает автор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15264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429000" y="3429000"/>
            <a:ext cx="2057400" cy="8380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рман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990720" y="2895480"/>
            <a:ext cx="2361960" cy="53352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столюб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172200" y="4724280"/>
            <a:ext cx="2286000" cy="99072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аст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400800" y="3429000"/>
            <a:ext cx="2209680" cy="114300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ображ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Oval 10"/>
          <p:cNvSpPr/>
          <p:nvPr/>
        </p:nvSpPr>
        <p:spPr>
          <a:xfrm>
            <a:off x="5029200" y="2514600"/>
            <a:ext cx="2133720" cy="68580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еж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11"/>
          <p:cNvSpPr/>
          <p:nvPr/>
        </p:nvSpPr>
        <p:spPr>
          <a:xfrm flipH="1" flipV="1">
            <a:off x="2895480" y="3352680"/>
            <a:ext cx="6098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13"/>
          <p:cNvSpPr/>
          <p:nvPr/>
        </p:nvSpPr>
        <p:spPr>
          <a:xfrm flipV="1">
            <a:off x="5257800" y="3200400"/>
            <a:ext cx="7621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3733920" y="4952880"/>
            <a:ext cx="2286000" cy="76212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рыт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5410080" y="39625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5334120" y="4038480"/>
            <a:ext cx="121896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4800600" y="4191120"/>
            <a:ext cx="15228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2727360" y="529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29"/>
          <p:cNvSpPr/>
          <p:nvPr/>
        </p:nvSpPr>
        <p:spPr>
          <a:xfrm>
            <a:off x="1143000" y="3657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Oval 39"/>
          <p:cNvSpPr/>
          <p:nvPr/>
        </p:nvSpPr>
        <p:spPr>
          <a:xfrm>
            <a:off x="1143000" y="4419720"/>
            <a:ext cx="2209680" cy="91440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ер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41"/>
          <p:cNvSpPr/>
          <p:nvPr/>
        </p:nvSpPr>
        <p:spPr>
          <a:xfrm flipH="1">
            <a:off x="3047760" y="411480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25040" cy="32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В авторской характеристике героя есть одно слово, на которое надо обратить внимание, - «честолюбив». Обратимся к словарю В.И.Даля: «Честолюбие-искательство внешней чести, уважения, почета, почестей…побужденье внешнее и низкое; честолюбивый человек- страстный к чинам, отличиям, к славе,похвалам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и потому действующий не по нравственным убеждениям…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914040" y="4419360"/>
            <a:ext cx="7162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рманн- натура честолюбивая, страстная, мечтающая о власти и богатст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Для чего Пушкин ввел образ Лизы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тимся к «Словарю русских личных имен» и узнаем, что значит имя Елиза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лизавета (др.-евр.)- «Бог-моя клятва», «Богом клянусь», «Бог мой-клятв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6122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ав ли Томский, говоря о Германне: «У него профиль Наполеона, а душа Мефистофиля.Я думаю, что у него на совести по крайней мере три злодейства»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32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3276720" y="2133720"/>
            <a:ext cx="3124080" cy="91440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и злодей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1447920" y="3886200"/>
            <a:ext cx="2590560" cy="106668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мер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фи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6324480" y="3657600"/>
            <a:ext cx="2514600" cy="60948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ман Лиз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13"/>
          <p:cNvSpPr/>
          <p:nvPr/>
        </p:nvSpPr>
        <p:spPr>
          <a:xfrm flipH="1">
            <a:off x="3276720" y="2895480"/>
            <a:ext cx="4572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5486400" y="3048120"/>
            <a:ext cx="15238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15"/>
          <p:cNvSpPr/>
          <p:nvPr/>
        </p:nvSpPr>
        <p:spPr>
          <a:xfrm>
            <a:off x="4800600" y="3048120"/>
            <a:ext cx="5335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C:\Documents and Settings\Увсе\Мои документы\Мои рисунки\Германн.jpg"/>
          <p:cNvPicPr/>
          <p:nvPr/>
        </p:nvPicPr>
        <p:blipFill>
          <a:blip r:embed="rId1"/>
          <a:srcRect l="11736" t="5246" r="19153" b="13541"/>
          <a:stretch/>
        </p:blipFill>
        <p:spPr>
          <a:xfrm>
            <a:off x="4267080" y="4572000"/>
            <a:ext cx="32767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7:38:12Z</dcterms:created>
  <dc:creator>Увсе</dc:creator>
  <dc:description/>
  <dc:language>en-US</dc:language>
  <cp:lastModifiedBy>1</cp:lastModifiedBy>
  <dcterms:modified xsi:type="dcterms:W3CDTF">2013-02-25T09:58:17Z</dcterms:modified>
  <cp:revision>11</cp:revision>
  <dc:subject/>
  <dc:title>Урок литературы « Три злодейства»</dc:title>
</cp:coreProperties>
</file>