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4B4-338B-4B86-ADCE-80DC99F6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EB6-30AE-4D2B-97E7-CE780698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828-A625-4992-9421-73EBB88B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B38-EAFA-41DA-900E-FDACEAB2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720-F3C6-40E0-BABE-16473491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A52-5C16-40C6-A3C3-F73D982C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094-A37D-45CB-8993-DA89A5BA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B77-92B5-42D4-BC06-4404E780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27F-72B0-49A2-A127-7DADDED7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265-3C45-4CF0-9D62-0714559C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9F7-ED42-40EA-9922-045C133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765-5B34-43EE-AA7F-81F882A6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7DDA-6B93-4271-8920-24433861130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Педагогическое портфолио 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рофимова Юлия Станиславовн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учитель русского языка и литературы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БОУ СОШ №4 г. Николаевска-на-Амур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Хабаровского кра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585800" cy="1049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16570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-171720"/>
            <a:ext cx="6946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3.2 Результаты внеурочной деятельности обучающихс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7709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нформация о призовых местах, занятых обучающимися  в олимпиадах,  смотрах, конкурсах, выставках и др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2031840"/>
          <a:ext cx="8642160" cy="4826160"/>
        </p:xfrm>
        <a:graphic>
          <a:graphicData uri="http://schemas.openxmlformats.org/drawingml/2006/table">
            <a:tbl>
              <a:tblPr/>
              <a:tblGrid>
                <a:gridCol w="911160"/>
                <a:gridCol w="3228840"/>
                <a:gridCol w="1435320"/>
                <a:gridCol w="3066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чебный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лимпиады, конкурс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чащиеся, класс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ости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ая олимпиада по русскому языку при поддержке РУД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человек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клас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рамоты, сертификат участ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униципальный этап олимпиады по русскому язык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класс (1 человек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бедитель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 конкурс чтецов, посвящённый Дню Побед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класс  1 челове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бедитель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мест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заочный конкурс «Познание и творчество». Номинация «Лингвистическая археология»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человека (6 и 8 классы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ауреа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бедитель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раевая литературно-Краеведческая викторина «Сердце Дальнего Востока…»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(7 класс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 3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 конкурс чтецов, посвящённый Дню Победы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(10 класс)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место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 конкурс «Письмо Ветерану»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человек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клас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зёр и ГрамотаПубликация  в газетеПубликация в краевом сборнике сочине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7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нформация о призовых местах, занятых обучающимися  в олимпиадах,   , смотрах, конкурсах, выставках и др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продолжение таблицы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052640"/>
          <a:ext cx="8684640" cy="5817960"/>
        </p:xfrm>
        <a:graphic>
          <a:graphicData uri="http://schemas.openxmlformats.org/drawingml/2006/table">
            <a:tbl>
              <a:tblPr/>
              <a:tblGrid>
                <a:gridCol w="906840"/>
                <a:gridCol w="3671640"/>
                <a:gridCol w="1936080"/>
                <a:gridCol w="21700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 молодёжный  филологический чемпионат  (г. Пермь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еловек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разная возрастна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категор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регионального победителя (2 чел.)Призёры (2 чел.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1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йонный конкурс сочинений «Письм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ветерану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 11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ь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убликац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сероссийский дистанционный конкурс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чинений «Беречь природу – долг  каждого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8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иплом 2 степен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сероссийский дистанционный конкурс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россвордов «Мой Пушкин»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человека 5 и 8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иплом 2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ертификат участ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униципальный этап олимпиады по русскому языку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человека10 класс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рамота (победитель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конкурс «Грамотейк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 человек разная возрастная категор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ертификат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ы победите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конкурс сочинений от ЦРМИ «Солдатами не рождаются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человека (10 и 8 классы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 2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ертификат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конкурс сочинений от ЦРМИ «Уж небо осенью дышало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 6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 2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конкурс сочинений от ЦРМИ «Три желания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6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 3 степен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61800" cy="69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Критерий 4. «Результаты деятельности педагогического работника в профессиональном сообществе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4.1.Инновационная деятельность педагогического работни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«Концепции модернизации российского образования»  к современной школе предъявлены требования, среди которых – использование инновационных технологий, определяющих современное качество образования. Работая по технологии РКПКМ, стараюсь создавать на уроках условия для активной деятельности обучающихся, использую современные информационные технологии, учитываю индивидуально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ифференцированный подход в обучении, создаю творческую атмосферу на уроке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акое сочетание различных технологий повышает интерес к предмету, активизирует познавательную деятельность учеников, развивает их творческий потенциал, позволяет формировать ключевые компетентности  учащихся. Опыт работы обобщала на школьном методическом объединении учителей русского языка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4.2. Распространение педагогического опы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844640"/>
          <a:ext cx="8642160" cy="4753080"/>
        </p:xfrm>
        <a:graphic>
          <a:graphicData uri="http://schemas.openxmlformats.org/drawingml/2006/table">
            <a:tbl>
              <a:tblPr/>
              <a:tblGrid>
                <a:gridCol w="1278000"/>
                <a:gridCol w="1761840"/>
                <a:gridCol w="560232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ровен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Форма отчёт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7-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Школьный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Здоровьесберегающие технологии на уроках русского языка и литературы». (открытый урок в 6 классе)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-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чёт по теме самообразования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Литературная гостиная. 10 класс.»(открытое мероприятие)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-20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крытый классный час «Воспитание успехом»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-20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ыступление на педсеминаре «Содействие социализации школьников посредством организации внеклассных занятий по русскому языку»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убликация на портале ПроШколу. 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628640"/>
          <a:ext cx="8642160" cy="5053320"/>
        </p:xfrm>
        <a:graphic>
          <a:graphicData uri="http://schemas.openxmlformats.org/drawingml/2006/table">
            <a:tbl>
              <a:tblPr/>
              <a:tblGrid>
                <a:gridCol w="604800"/>
                <a:gridCol w="8037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№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папки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готовка  к ЕГЭ по русскому языку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готовка к сочинению часть С ЕГЭ русский язы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готовка к ГИА по русскому языку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ценарии мероприятий и школьных театральных постаново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актическая работа на уроках русского языка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ворческие и зачётные задания на уроках русского языка и литератур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зработки уроков по русскому языку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бочие программы с учётом ФГОС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469800">
            <a:off x="6370200" y="1413000"/>
            <a:ext cx="258768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Narrow"/>
              </a:rPr>
              <a:t>Критерий 5 «Профессиональные и личные достижения педагога в межаттестационный период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5.1. Повышение квалификации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4119840" cy="208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4913280"/>
            <a:ext cx="417672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356000" y="4365720"/>
            <a:ext cx="396108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5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5.2. Сертифицированные достижения педагогического работни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415960" cy="388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2808360" cy="424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484360" y="1916280"/>
            <a:ext cx="2411640" cy="396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723000" y="2708280"/>
            <a:ext cx="2421000" cy="386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735280" cy="4967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71640" y="1413000"/>
            <a:ext cx="3105360" cy="426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48360" y="2205000"/>
            <a:ext cx="3816360" cy="4294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4"/>
          <a:stretch/>
        </p:blipFill>
        <p:spPr>
          <a:xfrm>
            <a:off x="-181080" y="0"/>
            <a:ext cx="158616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1285000">
            <a:off x="250920" y="259920"/>
            <a:ext cx="3009960" cy="47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373800">
            <a:off x="5867280" y="1699920"/>
            <a:ext cx="3029040" cy="484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987640" y="907920"/>
            <a:ext cx="3048120" cy="475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395280" y="5445000"/>
            <a:ext cx="1585800" cy="10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 rot="1470600">
            <a:off x="610920" y="404280"/>
            <a:ext cx="2468520" cy="34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20263200">
            <a:off x="6084720" y="549360"/>
            <a:ext cx="2430720" cy="340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 rot="1210800">
            <a:off x="6084360" y="3213000"/>
            <a:ext cx="2757600" cy="3861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 rot="20769000">
            <a:off x="179280" y="3141720"/>
            <a:ext cx="2898720" cy="3716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389400" y="-171360"/>
            <a:ext cx="2501640" cy="3168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276720" y="3645000"/>
            <a:ext cx="2535120" cy="321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348000" y="2133720"/>
            <a:ext cx="2519280" cy="244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8"/>
          <a:stretch/>
        </p:blipFill>
        <p:spPr>
          <a:xfrm>
            <a:off x="-252360" y="0"/>
            <a:ext cx="1547640" cy="10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Раздел 1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«Общие сведения о педагогическом работнике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9440" y="198864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85800" cy="104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250920" y="1628640"/>
          <a:ext cx="8569080" cy="5051520"/>
        </p:xfrm>
        <a:graphic>
          <a:graphicData uri="http://schemas.openxmlformats.org/drawingml/2006/table">
            <a:tbl>
              <a:tblPr/>
              <a:tblGrid>
                <a:gridCol w="4249800"/>
                <a:gridCol w="431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Год рождени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06.1978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ое образование: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бразовательного учреждения,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окончания,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специальность по диплому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сомольский-на-Амуре  государственный педагогический университет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год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лог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русского языка и литературы, преподаватель культурологии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таж педагогической работы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лет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таж работы в данном учреждении 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,5 лет.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олжность, по которой аттестуется педагогический работник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читель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таж работы в данной должности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5 лет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вая квалификационная категор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1008400">
            <a:off x="611280" y="1413000"/>
            <a:ext cx="3516120" cy="5640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3095640" cy="547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457800">
            <a:off x="5508720" y="1386000"/>
            <a:ext cx="3241440" cy="547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4"/>
          <a:stretch/>
        </p:blipFill>
        <p:spPr>
          <a:xfrm>
            <a:off x="0" y="18900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3384720" cy="604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84720" y="1025640"/>
            <a:ext cx="35272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3529080" cy="525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84720" y="738360"/>
            <a:ext cx="333684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3048120" cy="426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3800" y="456840"/>
            <a:ext cx="824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5.3. Участие в профессиональных конкурсах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2008 году принимала участие в районном конкурсе педагогического мастерства «Самый классный классный», победила в номинации «Мастер классного дела» и заняла 1 место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3741840" cy="4390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3240000" cy="3916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0" y="47628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Раздел 2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«Информационно-аналитический отчет педагогического работника о профессиональной деятельност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 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 межаттестационный период»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Narrow"/>
              </a:rPr>
              <a:t>Критерий </a:t>
            </a:r>
            <a:r>
              <a:rPr b="0" lang="ru-RU" sz="2400" spc="-1" strike="noStrike">
                <a:solidFill>
                  <a:srgbClr val="ff3300"/>
                </a:solidFill>
                <a:latin typeface="Arial Narrow"/>
              </a:rPr>
              <a:t>1 </a:t>
            </a:r>
            <a:r>
              <a:rPr b="1" lang="ru-RU" sz="2400" spc="-1" strike="noStrike">
                <a:solidFill>
                  <a:srgbClr val="ff3300"/>
                </a:solidFill>
                <a:latin typeface="Arial Narrow"/>
              </a:rPr>
              <a:t>«Знание информационной основы деятельности»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1.1. Знание педагогического работника в области государственной политики, педагогики, психологии, методики преподавания и содержания предмет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сегодняшний день  в современном образовании в целом и в преподавании русского языка происходит поиск ориентиров среди образовательных ценностей и приоритетов. Одним из  направлений новых образовательных стандартов становится реализация развивающего потенциала общего среднего образования. На мой взгляд, учитель играет ведущую роль в формировании УУД.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акой учебный предмет как «Русский язык обеспечивает формирование познавательных,  коммуникативных и регулятивных действий. Важной составляющей урока русского языка,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мой взгляд, является постоянная работа с текстами, которая  открывает возможности для формирования логических действий анализа, сравнения, установления причинно-следственных связей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читаю, что качество знаний преподаваемого предмета напрямую зависит от профессиональной компетентности самого учителя, знания содержания преподаваемого предмета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1628280"/>
            <a:ext cx="8062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Narrow"/>
              </a:rPr>
              <a:t>1.2.   Повышение квалификации в  области ИКТ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1989000"/>
          <a:ext cx="8424720" cy="4015080"/>
        </p:xfrm>
        <a:graphic>
          <a:graphicData uri="http://schemas.openxmlformats.org/drawingml/2006/table">
            <a:tbl>
              <a:tblPr/>
              <a:tblGrid>
                <a:gridCol w="484200"/>
                <a:gridCol w="2825640"/>
                <a:gridCol w="1654200"/>
                <a:gridCol w="1655640"/>
                <a:gridCol w="1805040"/>
              </a:tblGrid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№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звание курсов повышения квалификаци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личество часов аудиторных заняти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ок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ид полученного докумен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льзователь П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 ч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 1 по 22 декабря 2003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достоверение о краткосрочном повышении, квалификации, № 2758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ользование интерактивной доски как средства повышения эффективности образовательного процесса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 ч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 3 по 11 ноября 2007г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правка о прохождении семинара от 11июня 2008г(ХКИРО)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3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Критерий 2 «Обеспечение повышения качества образования на основе эффективного использования  современных образовательных технологий, совершенствования методов обучения и воспитания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2.1 Использование педагогическим работником программы, учебно-методического обеспечения 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Задачи, стоящие перед учителем-словесником при применении той или иной программы, во многом отличаются от целей и задач других учителей-предметников, так как на уроках постоянно присутствует работа с текстом, с художественным словом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бучение в основной школе я веду по следующим программам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907920"/>
            <a:ext cx="1585800" cy="104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395280" y="3213000"/>
          <a:ext cx="8424720" cy="354492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лассы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ограмм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чебник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-9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мерная программа основного общего образования по русскому языку// Сборник нормативных документов. Русский язык в общеобразовательных учреждениях с русским языком обучения. М.: Дрофа,2007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Русский язык»(5,6,7,8,9 классы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 редакцией  Разумовской М. М., Леканта П. А. – М.:Дрофа,2008 -  2011 г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11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мерная программа основного полного образования по русскому языку// Сборник нормативных документов. Русский язык в общеобразовательных учреждениях с русским языком обучения. М.: Дрофа,2007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Русский язык 10-11 классы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 редакцией Гольцовой И.В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Шамшина Н. Г. – М.:Русское слово, 2008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м известно, что русский язык – это предмет, который выносится на экзамены на протяжении всего школьного курса. Как же сделать так, чтобы итоговая аттестация была успешной? Конечно же, начинать готовить к ЕГЭ в 11 классе и даже в 9 классе уже поздно. Лучше всего вести эту работу с 5 класса. Легче всего работать с теми, кто быстро схватывает и долго помнит. В моем 5А классе таких большинство. Кроме того, следует учитывать умение учащихся работать самостоятельно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итогам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четверти  и 1 четверти нового учебного года  2012 года виден значительный рост качества знаний в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«А» классе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3789360"/>
          <a:ext cx="8642160" cy="2646360"/>
        </p:xfrm>
        <a:graphic>
          <a:graphicData uri="http://schemas.openxmlformats.org/drawingml/2006/table">
            <a:tbl>
              <a:tblPr/>
              <a:tblGrid>
                <a:gridCol w="1727280"/>
                <a:gridCol w="1730160"/>
                <a:gridCol w="1727280"/>
                <a:gridCol w="1730160"/>
                <a:gridCol w="1727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четверт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чество знани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тверть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чество знани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5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балл - 3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5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балл - 4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4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4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3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3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2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2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70912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2.2. Система работы с талантливыми обучающимис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Яркие детские таланты встречаются довольно редко.   Но бывают и счастливые исключения, когда в классах встречаются ученики с высокими по сравнению с большинством интеллектуальными возможностями, с активной познавательной потребностью, с восприимчивостью к учению. Поэтому одной из главных задач учителя является распознавание талантливых ребят и развитие  в дальнейшем их творческого потенциала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 своей работе я применяю   так называемые  этапы  образовательных «стратегий», которые направлены на развитие детей с повышенным уровнем способностей: стратегия «индивидуализации», стратегия «исследовательского обучения», «стратегия интенсивности»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нятно, что не все ребята максимально могут проявить себя, поэтому даю им шанс почувствовать свою значимость в чём-то в помощи 2 первым группам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ворческая группа является незаменимым помощником в проведении внутриклассных мероприятий. Некоторые ребята проявляют себя как начинающие поэты и писатели. Свои работы направляют в местную школьную газету «Школяр», а также размещают их в интернет-конкурсах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Большой акцент делаю на привлечение учащихся разных классов участвовать во всероссийских конкурсах, таких как «Познание и творчество», «Центр развития мышления и интеллекта. Всероссийские конкурсы и олимпиады», «Всероссийский молодёжный чемпионат по русскому языку», «Русский  Медвежонок», Мир конкурсов «Уникум» и т. д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Критерий 3 «Высокие результаты освоения обучающимися, воспитанниками образовательных программ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3.1 Динамика учебных достижений обучающихся за период с предыдущей аттестации  за последние  три года  (в разрезе одного</a:t>
            </a: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 класса)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4000" y="2637000"/>
          <a:ext cx="8496000" cy="3568680"/>
        </p:xfrm>
        <a:graphic>
          <a:graphicData uri="http://schemas.openxmlformats.org/drawingml/2006/table">
            <a:tbl>
              <a:tblPr/>
              <a:tblGrid>
                <a:gridCol w="1761840"/>
                <a:gridCol w="1765440"/>
                <a:gridCol w="1758960"/>
                <a:gridCol w="1765440"/>
                <a:gridCol w="1444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ласс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едмет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оцент кач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оцент успеваемост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-2009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усский язы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итерату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 - 2010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усский язы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итерату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 -2011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усский язы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итерату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Результаты ЕГЭ и ГИА по русскому язык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в разрезе одного класса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700280"/>
          <a:ext cx="8496000" cy="1733400"/>
        </p:xfrm>
        <a:graphic>
          <a:graphicData uri="http://schemas.openxmlformats.org/drawingml/2006/table">
            <a:tbl>
              <a:tblPr/>
              <a:tblGrid>
                <a:gridCol w="1846080"/>
                <a:gridCol w="1693800"/>
                <a:gridCol w="1692360"/>
                <a:gridCol w="1690560"/>
                <a:gridCol w="157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лас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личество обучаемы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чество зн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личество сдавших ГИА/ЕГ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-200 49,1 % 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,1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-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«А»(социально-гуманитарны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4000" y="3645000"/>
          <a:ext cx="8496000" cy="3062160"/>
        </p:xfrm>
        <a:graphic>
          <a:graphicData uri="http://schemas.openxmlformats.org/drawingml/2006/table">
            <a:tbl>
              <a:tblPr/>
              <a:tblGrid>
                <a:gridCol w="2352600"/>
                <a:gridCol w="2422440"/>
                <a:gridCol w="372096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од /кол вып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 классе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естовы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алл выполнения ЕГЭ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учшие результаты(вторичный балл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/2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 Жигунова Ольга – 72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 Пакина Маргарита – 70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 Свинкина Дарья – 70 б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/26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 Ручка Виктория –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90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 Кириченко Валентина – 84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 Снигуренко Андрей – 79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 Полканова Ольга – 73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 Голубев Алексей – 71 б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1:38:20Z</dcterms:created>
  <dc:creator>Елена Рыльцева</dc:creator>
  <dc:description/>
  <dc:language>en-US</dc:language>
  <cp:lastModifiedBy>User</cp:lastModifiedBy>
  <dcterms:modified xsi:type="dcterms:W3CDTF">2013-02-28T10:13:54Z</dcterms:modified>
  <cp:revision>37</cp:revision>
  <dc:subject/>
  <dc:title>Методический портфолио педагога</dc:title>
</cp:coreProperties>
</file>