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385-9E49-4823-9C8F-7C61B8AE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852-4AA9-4DF0-B2AF-499538D7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04C-5CD4-4F28-B902-8BEB6994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D5F-1EBA-46CB-8448-025E1132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807-B73B-4431-9B1B-40A469D5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7EF-E836-4735-A46D-D23F1E16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F6E-DC47-4F06-A1D3-3D733896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C73-64AE-4F80-A951-845A5E11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179-44F7-4B96-86E7-9D54804D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BA4-DA30-468F-9931-D0AE0096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2D2-1EBF-4E65-B740-30D97BC2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FC6-E7EF-4488-97BA-C69ED6F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EE75-E24D-4DBC-AC50-0C6DD1FA3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052640"/>
            <a:ext cx="835164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рядок сл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английских утвердительных предложени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Научиться правильно составлять предложения в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resent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овторить лексику по теме: «Распорядок д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Развивать навыки диалогическо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e questions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get up early every mo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eat apples every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walk every eve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often watch TV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o you go to bed ear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765000"/>
            <a:ext cx="7705800" cy="1800360"/>
          </a:xfrm>
          <a:custGeom>
            <a:avLst/>
            <a:gdLst>
              <a:gd name="textAreaLeft" fmla="*/ 0 w 7705800"/>
              <a:gd name="textAreaRight" fmla="*/ 7706160 w 7705800"/>
              <a:gd name="textAreaTop" fmla="*/ 233280 h 1800360"/>
              <a:gd name="textAreaBottom" fmla="*/ 156708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Подлежащее + Сказуемое + Второстепенные ч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7871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торостепенные члены располагаются в следующем поряд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) дополнение, отвечающее на вопросы ЧТ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обстоятельство места, отвечающее на вопрос ГД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обстоятельство времени, отвечающее на вопрос КОГД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765000"/>
            <a:ext cx="8353440" cy="1943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Black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Arial Black"/>
              </a:rPr>
              <a:t>computer game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Arial Black"/>
              </a:rPr>
              <a:t>in my room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042920" y="2349360"/>
            <a:ext cx="1008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3493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2349360"/>
            <a:ext cx="716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2421000"/>
            <a:ext cx="73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720" y="242100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500280"/>
            <a:ext cx="136836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подлежащ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4581360"/>
            <a:ext cx="1800000" cy="1440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Допо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3500280"/>
            <a:ext cx="1331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тоя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3645000"/>
            <a:ext cx="1368360" cy="115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сказуе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573360"/>
            <a:ext cx="13687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Обстоя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М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Arial"/>
              </a:rPr>
              <a:t>ГДЕ</a:t>
            </a:r>
            <a:r>
              <a:rPr b="0" lang="en-US" sz="1400" spc="-1" strike="noStrike">
                <a:solidFill>
                  <a:srgbClr val="ff9933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620640"/>
            <a:ext cx="8064360" cy="223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er g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n my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149720"/>
            <a:ext cx="7777440" cy="230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er g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n my r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781360"/>
            <a:ext cx="9144000" cy="1368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0 h 1368360"/>
              <a:gd name="textAreaBottom" fmla="*/ 1197360 h 1368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стоятельство времени, состоящее из двух и более сл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жет занимать как последнее, так и нулевое (перед подлежащим)ме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реч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lways, never, normally, often</a:t>
            </a:r>
            <a:br>
              <a:rPr sz="2800"/>
            </a:b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                  (всегда, никогда, обычно, час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авятся между подлежащим и сказу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пример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play tenn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ни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икогда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не играют в тенн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watch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ни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сегда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мотрят телевиз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Выберите предложения, которые имеют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Girls help m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ooks read Jim and J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V and videos watch the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oys play 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mputer games play Misha an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others write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3:26:15Z</dcterms:created>
  <dc:creator>USER</dc:creator>
  <dc:description/>
  <dc:language>en-US</dc:language>
  <cp:lastModifiedBy>USER</cp:lastModifiedBy>
  <dcterms:modified xsi:type="dcterms:W3CDTF">2008-02-19T08:51:06Z</dcterms:modified>
  <cp:revision>3</cp:revision>
  <dc:subject/>
  <dc:title>Слайд 1</dc:title>
</cp:coreProperties>
</file>