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0AAE-A1EB-4A1D-AAC9-30F46E57A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9FFB-A1B1-4262-81E8-9FF5D230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71A8-7440-44FB-AE67-1DA3195A7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78A1-7D14-497B-ABE5-8B9EA3671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C346-7DA1-42CF-BA23-E2E8B287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09B4-6683-492F-A678-282E5296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E2D9-20BB-4E87-9C98-02DCFA9D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E9AB-ED01-4D1C-A475-26039526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47CF-BFC7-4842-9097-79F04E50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19D2-DC08-4434-B853-2DEF2E2E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90E8-C0DC-4A57-B9C9-80548A1C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C215-E175-4CFE-8A58-C55E9D69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B3A1-27B4-471D-9B98-98CE8C468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4000" y="1052640"/>
            <a:ext cx="8351640" cy="43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83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рядок слов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 английских утвердительных предложения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Научиться правильно составлять предложения в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resent Si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Повторить лексику по теме: «Распорядок дн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Развивать навыки диалогической 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The questions</a:t>
            </a: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cc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Do you get up early every mo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cc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Do you eat apples every 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cc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Do you walk every eve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cc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Do you often watch TV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cc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Do you go to bed earl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11280" y="765000"/>
            <a:ext cx="7705800" cy="1800360"/>
          </a:xfrm>
          <a:custGeom>
            <a:avLst/>
            <a:gdLst>
              <a:gd name="textAreaLeft" fmla="*/ 0 w 7705800"/>
              <a:gd name="textAreaRight" fmla="*/ 7706160 w 7705800"/>
              <a:gd name="textAreaTop" fmla="*/ 233280 h 1800360"/>
              <a:gd name="textAreaBottom" fmla="*/ 156708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Подлежащее + Сказуемое + Второстепенные чл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26920" y="2781000"/>
            <a:ext cx="7871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Второстепенные члены располагаются в следующем поряд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) дополнение, отвечающее на вопросы ЧТО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ГО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) обстоятельство места, отвечающее на вопрос ГДЕ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) обстоятельство времени, отвечающее на вопрос КОГДА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9640" y="765000"/>
            <a:ext cx="8353440" cy="19432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Arial Black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 Black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660066"/>
                </a:solidFill>
                <a:latin typeface="Arial Black"/>
              </a:rPr>
              <a:t>computer games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9933"/>
                </a:solidFill>
                <a:latin typeface="Arial Black"/>
              </a:rPr>
              <a:t>in my room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every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1042920" y="2349360"/>
            <a:ext cx="100800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16360" y="234936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16360" y="2349360"/>
            <a:ext cx="7164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43640" y="2421000"/>
            <a:ext cx="730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740720" y="2421000"/>
            <a:ext cx="71892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3500280"/>
            <a:ext cx="136836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подлежащ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24360" y="4581360"/>
            <a:ext cx="1800000" cy="1440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Дополн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ЧТО</a:t>
            </a:r>
            <a:r>
              <a:rPr b="0" lang="en-US" sz="1600" spc="-1" strike="noStrike">
                <a:solidFill>
                  <a:srgbClr val="660066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96360" y="3500280"/>
            <a:ext cx="1331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стоятель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реме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ГД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0000" y="3645000"/>
            <a:ext cx="1368360" cy="115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сказуем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3573360"/>
            <a:ext cx="13687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33"/>
                </a:solidFill>
                <a:latin typeface="Arial"/>
              </a:rPr>
              <a:t>Обстоятель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33"/>
                </a:solidFill>
                <a:latin typeface="Arial"/>
              </a:rPr>
              <a:t>Ме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33"/>
                </a:solidFill>
                <a:latin typeface="Arial"/>
              </a:rPr>
              <a:t>ГДЕ</a:t>
            </a:r>
            <a:r>
              <a:rPr b="0" lang="en-US" sz="1400" spc="-1" strike="noStrike">
                <a:solidFill>
                  <a:srgbClr val="ff9933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4360" y="620640"/>
            <a:ext cx="8064360" cy="2232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very d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mputer ga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in my 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4149720"/>
            <a:ext cx="7777440" cy="2303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mputer ga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in my ro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very d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781360"/>
            <a:ext cx="9144000" cy="136836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0 h 1368360"/>
              <a:gd name="textAreaBottom" fmla="*/ 1197360 h 1368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стоятельство времени, состоящее из двух и более слов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жет занимать как последнее, так и нулевое (перед подлежащим)мест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Наречия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always, never, normally, often</a:t>
            </a:r>
            <a:br>
              <a:rPr sz="2800"/>
            </a:b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                   (всегда, никогда, обычно, част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тавятся между подлежащим и сказуем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апример: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never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play tenn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Они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никогда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не играют в тенни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always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watch T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Они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всегда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смотрят телевиз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Выберите предложения, которые имеют смыс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Girls help m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Books read Jim and J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TV and videos watch the fami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Boys play footb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omputer games play Misha and Rob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Mothers write let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03:26:15Z</dcterms:created>
  <dc:creator>USER</dc:creator>
  <dc:description/>
  <dc:language>en-US</dc:language>
  <cp:lastModifiedBy>USER</cp:lastModifiedBy>
  <dcterms:modified xsi:type="dcterms:W3CDTF">2008-02-19T08:51:06Z</dcterms:modified>
  <cp:revision>3</cp:revision>
  <dc:subject/>
  <dc:title>Слайд 1</dc:title>
</cp:coreProperties>
</file>