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97F-3620-4E23-9919-7C854778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E91-5694-41F8-A00A-240CF7D5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1A8-99C4-4D02-B90A-B5D22C96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C9A-5B8B-4BC4-90E1-31BB0445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9050-FE00-4585-BBF8-2DE248E1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7231-4DA8-40FE-876E-5DAEB00B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C8C8-1C22-4061-B9B8-B8B2C18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044D-CB2A-4D60-8C35-95F493C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D9BB-B8DF-472E-838A-77DB559A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0B02-E807-4C5F-B8C5-6E73405C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FCE1-EF24-4BBE-8218-48844CD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427-0E05-4DDC-BA70-E31D4E16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4E62-F342-43B8-981D-DB31C576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3AEC-FC49-4418-A4F4-8134161C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B64D-0752-4B7E-808E-C4B20CB7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39A0-CBE8-4FFB-9C21-CA531443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1BE9-B936-46F4-900A-E3A6BD7E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354-829E-4733-A3B3-8BE598FA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2A1-1FDF-4A32-8604-C9CEEE7C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081-8A12-4FED-BBB3-9E7A2EBC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296-176A-492A-8669-24E61042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FC2-4F0E-4315-B5E0-F73731B8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BA9-9C55-4C39-A6FF-BB11A27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A97-4042-4D73-92E4-FBD2A99E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FD39-E980-4D96-A97D-CA853234F93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3C3A-172E-4658-967D-6A60C7EA810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5"/>
          <p:cNvSpPr/>
          <p:nvPr/>
        </p:nvSpPr>
        <p:spPr>
          <a:xfrm>
            <a:off x="-57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395280" y="404640"/>
            <a:ext cx="820908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Презентация – «Сокосодержащие напитки: как выбрать напиток полезный для здоровь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ГБОУ РХ НПО «ПУ №8» г. Черногорска, учащаяся 3 курса Лапицкая К.А., 3-й курс, профессия «продавец, контролер- кассир»,  19 слайдов, 2013 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исциплина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«Товароведение продовольственных товар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а основе опроса потребителей   и будущих продавцов  учащаяся проводит товароведный обзор по данной теме и отвечает на интересующие их вопросы, также затронуты вопросы развития рынка фруктовых и овощных со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Работа представляет интерес  как для учащихся профессиональных училищ, будущих продавцов,  так и рядовых потребител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468360" y="3284640"/>
          <a:ext cx="8280360" cy="3025800"/>
        </p:xfrm>
        <a:graphic>
          <a:graphicData uri="http://schemas.openxmlformats.org/drawingml/2006/table">
            <a:tbl>
              <a:tblPr/>
              <a:tblGrid>
                <a:gridCol w="1766880"/>
                <a:gridCol w="1473120"/>
                <a:gridCol w="1455840"/>
                <a:gridCol w="1639800"/>
                <a:gridCol w="19447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бе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ж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углев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лорийность, кк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брикос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пельси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ш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ома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бло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217"/>
          <p:cNvSpPr/>
          <p:nvPr/>
        </p:nvSpPr>
        <p:spPr>
          <a:xfrm>
            <a:off x="-368280" y="4320"/>
            <a:ext cx="9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лорийность и содержание белков, жир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и углеводов в 100 граммах продукта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6444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324000" y="189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Сокосодержащие напитки: как выбрать напиток полезный для здоровь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00360" y="1628640"/>
            <a:ext cx="59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Работу выполнила  обучающаяся гр 33-ПРК Лапицкая Кс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Преподаватель Жиляева Т.В</a:t>
            </a: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399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http://cs9718.vkontakte.ru/u16800830/-14/x_2decc3cc.jpg"/>
          <p:cNvPicPr/>
          <p:nvPr/>
        </p:nvPicPr>
        <p:blipFill>
          <a:blip r:embed="rId1"/>
          <a:stretch/>
        </p:blipFill>
        <p:spPr>
          <a:xfrm>
            <a:off x="1979640" y="2997360"/>
            <a:ext cx="54673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6"/>
          <p:cNvGrpSpPr/>
          <p:nvPr/>
        </p:nvGrpSpPr>
        <p:grpSpPr>
          <a:xfrm>
            <a:off x="539640" y="620640"/>
            <a:ext cx="2808360" cy="3456000"/>
            <a:chOff x="539640" y="620640"/>
            <a:chExt cx="2808360" cy="3456000"/>
          </a:xfrm>
        </p:grpSpPr>
        <p:sp>
          <p:nvSpPr>
            <p:cNvPr id="101" name="AutoShape 7"/>
            <p:cNvSpPr/>
            <p:nvPr/>
          </p:nvSpPr>
          <p:spPr>
            <a:xfrm>
              <a:off x="826920" y="620640"/>
              <a:ext cx="2233800" cy="860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e9f7ff"/>
                </a:gs>
                <a:gs pos="100000">
                  <a:srgbClr val="ccecff"/>
                </a:gs>
              </a:gsLst>
              <a:lin ang="27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Цель работ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>
              <a:off x="539640" y="1795320"/>
              <a:ext cx="2808360" cy="228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e9f7ff"/>
                </a:gs>
                <a:gs pos="100000">
                  <a:srgbClr val="ccecff"/>
                </a:gs>
              </a:gsLst>
              <a:lin ang="27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зуче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овароведно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характеристик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окосодержащих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апитков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AutoShape 13"/>
            <p:cNvSpPr/>
            <p:nvPr/>
          </p:nvSpPr>
          <p:spPr>
            <a:xfrm>
              <a:off x="1692000" y="1484280"/>
              <a:ext cx="457200" cy="304560"/>
            </a:xfrm>
            <a:prstGeom prst="downArrow">
              <a:avLst>
                <a:gd name="adj1" fmla="val 38889"/>
                <a:gd name="adj2" fmla="val 50519"/>
              </a:avLst>
            </a:pr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5400000"/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37"/>
          <p:cNvGrpSpPr/>
          <p:nvPr/>
        </p:nvGrpSpPr>
        <p:grpSpPr>
          <a:xfrm>
            <a:off x="3492360" y="644400"/>
            <a:ext cx="5329440" cy="4433760"/>
            <a:chOff x="3492360" y="644400"/>
            <a:chExt cx="5329440" cy="4433760"/>
          </a:xfrm>
        </p:grpSpPr>
        <p:sp>
          <p:nvSpPr>
            <p:cNvPr id="105" name="AutoShape 40"/>
            <p:cNvSpPr/>
            <p:nvPr/>
          </p:nvSpPr>
          <p:spPr>
            <a:xfrm>
              <a:off x="4267080" y="644400"/>
              <a:ext cx="4115160" cy="98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ff"/>
                </a:gs>
                <a:gs pos="50000">
                  <a:srgbClr val="ecffff"/>
                </a:gs>
                <a:gs pos="100000">
                  <a:srgbClr val="ccffff"/>
                </a:gs>
              </a:gsLst>
              <a:lin ang="2700000"/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Verdana"/>
                </a:rPr>
                <a:t>Задач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44"/>
            <p:cNvSpPr/>
            <p:nvPr/>
          </p:nvSpPr>
          <p:spPr>
            <a:xfrm>
              <a:off x="3492360" y="1875240"/>
              <a:ext cx="5329440" cy="32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ff"/>
                </a:gs>
                <a:gs pos="50000">
                  <a:srgbClr val="ecffff"/>
                </a:gs>
                <a:gs pos="100000">
                  <a:srgbClr val="ccffff"/>
                </a:gs>
              </a:gsLst>
              <a:lin ang="2700000"/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46"/>
            <p:cNvSpPr/>
            <p:nvPr/>
          </p:nvSpPr>
          <p:spPr>
            <a:xfrm>
              <a:off x="5967720" y="1629360"/>
              <a:ext cx="451800" cy="347040"/>
            </a:xfrm>
            <a:prstGeom prst="downArrow">
              <a:avLst>
                <a:gd name="adj1" fmla="val 38889"/>
                <a:gd name="adj2" fmla="val 50519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Прямоугольник 37"/>
          <p:cNvSpPr/>
          <p:nvPr/>
        </p:nvSpPr>
        <p:spPr>
          <a:xfrm>
            <a:off x="3487680" y="2205000"/>
            <a:ext cx="525636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Провести опрос потреб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изучить вопросы, которые интересую их о сокосодержащих напит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вести товароведный обзор по теоретическим вопросам темы                исслед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399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 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232080" y="5254560"/>
            <a:ext cx="27352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ribalych.ru/wp-content/uploads/2011/03/Foto_obrabotka_00366.jpg"/>
          <p:cNvPicPr/>
          <p:nvPr/>
        </p:nvPicPr>
        <p:blipFill>
          <a:blip r:embed="rId1"/>
          <a:stretch/>
        </p:blipFill>
        <p:spPr>
          <a:xfrm>
            <a:off x="5364000" y="1197000"/>
            <a:ext cx="3645000" cy="474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79280" y="690480"/>
            <a:ext cx="2016360" cy="2536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05492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Garamond"/>
              </a:rPr>
              <a:t>Так продавали сок в СССР</a:t>
            </a:r>
            <a:endParaRPr b="0" lang="en-US" sz="29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4" name="Рисунок 4" descr="Описание: Оборудование для продажи в розлив лимонада и сока Торговое и складское оборудование - Оборудование для уличной торговли"/>
          <p:cNvPicPr/>
          <p:nvPr/>
        </p:nvPicPr>
        <p:blipFill>
          <a:blip r:embed="rId3"/>
          <a:stretch/>
        </p:blipFill>
        <p:spPr>
          <a:xfrm>
            <a:off x="179280" y="3357720"/>
            <a:ext cx="4224600" cy="31669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1800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Рисунок 6" descr="http://fotointeres.ru/wp-content/uploads/2011/06/1298636252_11.jpg"/>
          <p:cNvPicPr/>
          <p:nvPr/>
        </p:nvPicPr>
        <p:blipFill>
          <a:blip r:embed="rId4"/>
          <a:stretch/>
        </p:blipFill>
        <p:spPr>
          <a:xfrm>
            <a:off x="2916360" y="765000"/>
            <a:ext cx="17269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требление соков и нектаров в России</a:t>
            </a: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8" name="Picture 1" descr="n6m"/>
          <p:cNvPicPr/>
          <p:nvPr/>
        </p:nvPicPr>
        <p:blipFill>
          <a:blip r:embed="rId1"/>
          <a:stretch/>
        </p:blipFill>
        <p:spPr>
          <a:xfrm>
            <a:off x="1835280" y="836640"/>
            <a:ext cx="5715000" cy="4095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КАК ЧАСТО ПЬЮТ НАТУРАЛЬНЫЕ СОКИ"/>
          <p:cNvPicPr/>
          <p:nvPr/>
        </p:nvPicPr>
        <p:blipFill>
          <a:blip r:embed="rId2"/>
          <a:stretch/>
        </p:blipFill>
        <p:spPr>
          <a:xfrm>
            <a:off x="324000" y="76500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ГДЕ ПОКУПАЮТ СОКИ, НЕКТАРЫ И МОРСЫ"/>
          <p:cNvPicPr/>
          <p:nvPr/>
        </p:nvPicPr>
        <p:blipFill>
          <a:blip r:embed="rId3"/>
          <a:stretch/>
        </p:blipFill>
        <p:spPr>
          <a:xfrm>
            <a:off x="4211640" y="3716280"/>
            <a:ext cx="4762440" cy="27241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419040" y="5521320"/>
            <a:ext cx="357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aramond"/>
              </a:rPr>
              <a:t>Спрос на сок растет осенью, зимой и весной (в периоды нехватки фруктов и витамино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Прямоугольник 28"/>
          <p:cNvSpPr/>
          <p:nvPr/>
        </p:nvSpPr>
        <p:spPr>
          <a:xfrm>
            <a:off x="18000" y="652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http://foodmarkets.ru/upload/gallery/917/axWN9YPL.jpg"/>
          <p:cNvPicPr/>
          <p:nvPr/>
        </p:nvPicPr>
        <p:blipFill>
          <a:blip r:embed="rId4"/>
          <a:stretch/>
        </p:blipFill>
        <p:spPr>
          <a:xfrm>
            <a:off x="1771560" y="841320"/>
            <a:ext cx="5686560" cy="3667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лассификация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grpSp>
        <p:nvGrpSpPr>
          <p:cNvPr id="125" name="Group 14"/>
          <p:cNvGrpSpPr/>
          <p:nvPr/>
        </p:nvGrpSpPr>
        <p:grpSpPr>
          <a:xfrm>
            <a:off x="2700360" y="836640"/>
            <a:ext cx="6265080" cy="2086920"/>
            <a:chOff x="2700360" y="836640"/>
            <a:chExt cx="6265080" cy="2086920"/>
          </a:xfrm>
        </p:grpSpPr>
        <p:grpSp>
          <p:nvGrpSpPr>
            <p:cNvPr id="126" name="Group 15"/>
            <p:cNvGrpSpPr/>
            <p:nvPr/>
          </p:nvGrpSpPr>
          <p:grpSpPr>
            <a:xfrm>
              <a:off x="2700360" y="836640"/>
              <a:ext cx="6265080" cy="2086920"/>
              <a:chOff x="2700360" y="836640"/>
              <a:chExt cx="6265080" cy="2086920"/>
            </a:xfrm>
          </p:grpSpPr>
          <p:sp>
            <p:nvSpPr>
              <p:cNvPr id="127" name="AutoShape 16"/>
              <p:cNvSpPr/>
              <p:nvPr/>
            </p:nvSpPr>
            <p:spPr>
              <a:xfrm>
                <a:off x="2700360" y="836640"/>
                <a:ext cx="6265080" cy="20869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bebd1"/>
                  </a:gs>
                  <a:gs pos="50000">
                    <a:srgbClr val="ffffff"/>
                  </a:gs>
                  <a:gs pos="100000">
                    <a:srgbClr val="fbebd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ffcc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Freeform 17"/>
              <p:cNvSpPr/>
              <p:nvPr/>
            </p:nvSpPr>
            <p:spPr>
              <a:xfrm>
                <a:off x="2792520" y="951840"/>
                <a:ext cx="826920" cy="1041120"/>
              </a:xfrm>
              <a:custGeom>
                <a:avLst/>
                <a:gdLst>
                  <a:gd name="textAreaLeft" fmla="*/ 0 w 826920"/>
                  <a:gd name="textAreaRight" fmla="*/ 827280 w 826920"/>
                  <a:gd name="textAreaTop" fmla="*/ 0 h 1041120"/>
                  <a:gd name="textAreaBottom" fmla="*/ 1041480 h 10411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" name="Text Box 18"/>
            <p:cNvSpPr/>
            <p:nvPr/>
          </p:nvSpPr>
          <p:spPr>
            <a:xfrm>
              <a:off x="3069000" y="1019520"/>
              <a:ext cx="56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843280" y="3141720"/>
            <a:ext cx="6076080" cy="1581840"/>
            <a:chOff x="2843280" y="3141720"/>
            <a:chExt cx="6076080" cy="1581840"/>
          </a:xfrm>
        </p:grpSpPr>
        <p:grpSp>
          <p:nvGrpSpPr>
            <p:cNvPr id="131" name="Group 20"/>
            <p:cNvGrpSpPr/>
            <p:nvPr/>
          </p:nvGrpSpPr>
          <p:grpSpPr>
            <a:xfrm>
              <a:off x="2843280" y="3141720"/>
              <a:ext cx="6076080" cy="1581840"/>
              <a:chOff x="2843280" y="3141720"/>
              <a:chExt cx="6076080" cy="1581840"/>
            </a:xfrm>
          </p:grpSpPr>
          <p:sp>
            <p:nvSpPr>
              <p:cNvPr id="132" name="AutoShape 21"/>
              <p:cNvSpPr/>
              <p:nvPr/>
            </p:nvSpPr>
            <p:spPr>
              <a:xfrm>
                <a:off x="2843280" y="3141720"/>
                <a:ext cx="6076080" cy="15818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ccecff"/>
                  </a:gs>
                  <a:gs pos="5000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ffcc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22"/>
              <p:cNvSpPr/>
              <p:nvPr/>
            </p:nvSpPr>
            <p:spPr>
              <a:xfrm>
                <a:off x="2932560" y="3228840"/>
                <a:ext cx="802080" cy="78912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89120"/>
                  <a:gd name="textAreaBottom" fmla="*/ 789480 h 7891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" name="Text Box 23"/>
            <p:cNvSpPr/>
            <p:nvPr/>
          </p:nvSpPr>
          <p:spPr>
            <a:xfrm>
              <a:off x="3200760" y="3280320"/>
              <a:ext cx="5450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" name="Group 24"/>
          <p:cNvGrpSpPr/>
          <p:nvPr/>
        </p:nvGrpSpPr>
        <p:grpSpPr>
          <a:xfrm>
            <a:off x="2843280" y="4941720"/>
            <a:ext cx="6004800" cy="1374480"/>
            <a:chOff x="2843280" y="4941720"/>
            <a:chExt cx="6004800" cy="1374480"/>
          </a:xfrm>
        </p:grpSpPr>
        <p:grpSp>
          <p:nvGrpSpPr>
            <p:cNvPr id="136" name="Group 25"/>
            <p:cNvGrpSpPr/>
            <p:nvPr/>
          </p:nvGrpSpPr>
          <p:grpSpPr>
            <a:xfrm>
              <a:off x="2843280" y="4941720"/>
              <a:ext cx="6004800" cy="1374480"/>
              <a:chOff x="2843280" y="4941720"/>
              <a:chExt cx="6004800" cy="1374480"/>
            </a:xfrm>
          </p:grpSpPr>
          <p:sp>
            <p:nvSpPr>
              <p:cNvPr id="137" name="AutoShape 26"/>
              <p:cNvSpPr/>
              <p:nvPr/>
            </p:nvSpPr>
            <p:spPr>
              <a:xfrm>
                <a:off x="2843280" y="4941720"/>
                <a:ext cx="6004800" cy="13744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bf5cd"/>
                  </a:gs>
                  <a:gs pos="50000">
                    <a:srgbClr val="ffffff"/>
                  </a:gs>
                  <a:gs pos="100000">
                    <a:srgbClr val="dbf5c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ffcc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Freeform 27"/>
              <p:cNvSpPr/>
              <p:nvPr/>
            </p:nvSpPr>
            <p:spPr>
              <a:xfrm>
                <a:off x="2931480" y="5017680"/>
                <a:ext cx="792720" cy="685800"/>
              </a:xfrm>
              <a:custGeom>
                <a:avLst/>
                <a:gdLst>
                  <a:gd name="textAreaLeft" fmla="*/ 0 w 792720"/>
                  <a:gd name="textAreaRight" fmla="*/ 793080 w 79272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Text Box 28"/>
            <p:cNvSpPr/>
            <p:nvPr/>
          </p:nvSpPr>
          <p:spPr>
            <a:xfrm>
              <a:off x="3196440" y="5062320"/>
              <a:ext cx="5387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Rectangle 29"/>
          <p:cNvSpPr/>
          <p:nvPr/>
        </p:nvSpPr>
        <p:spPr>
          <a:xfrm>
            <a:off x="2914560" y="1089360"/>
            <a:ext cx="622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жидкий продукт, полученный из фруктов или овощей путем механического воздействия и консервированный физическими способами. Сок может быть сконцентрирован и затем восстановлен водой. Не допускается добавление в сок консервантов (кроме естественных), искусственных ароматизаторов, в том числе идентичных натуральным, и красител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30"/>
          <p:cNvSpPr/>
          <p:nvPr/>
        </p:nvSpPr>
        <p:spPr>
          <a:xfrm>
            <a:off x="324000" y="1341360"/>
            <a:ext cx="2232000" cy="790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ок 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31"/>
          <p:cNvSpPr/>
          <p:nvPr/>
        </p:nvSpPr>
        <p:spPr>
          <a:xfrm>
            <a:off x="324000" y="3573360"/>
            <a:ext cx="2305080" cy="792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Нектар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32"/>
          <p:cNvSpPr/>
          <p:nvPr/>
        </p:nvSpPr>
        <p:spPr>
          <a:xfrm>
            <a:off x="250920" y="530064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ffffc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окосодержащ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апито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2556000" y="1773360"/>
            <a:ext cx="214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40"/>
          <p:cNvSpPr/>
          <p:nvPr/>
        </p:nvSpPr>
        <p:spPr>
          <a:xfrm>
            <a:off x="2627280" y="4005360"/>
            <a:ext cx="214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41"/>
          <p:cNvSpPr/>
          <p:nvPr/>
        </p:nvSpPr>
        <p:spPr>
          <a:xfrm>
            <a:off x="2700360" y="5661000"/>
            <a:ext cx="214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2"/>
          <p:cNvSpPr/>
          <p:nvPr/>
        </p:nvSpPr>
        <p:spPr>
          <a:xfrm>
            <a:off x="2916360" y="3218760"/>
            <a:ext cx="622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учают, смешивая фруктовый сок, один или несколько видов концентрированных соков или пюреобразные съедобные части спелых и свежих фруктов с водой, сахаром или медом. Доля массы фруктового сока должна составлять не менее 25–50%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3"/>
          <p:cNvSpPr/>
          <p:nvPr/>
        </p:nvSpPr>
        <p:spPr>
          <a:xfrm>
            <a:off x="2916360" y="5019120"/>
            <a:ext cx="59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окосодержащих фруктовых напитках сока должно быть не менее 10%, а в овощных — 40%. В сокосодержащие напитки разрешено добавлять натуральные и искусственные ароматизаторы, а также красители и химические консерван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~PP1166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8"/>
          <p:cNvSpPr/>
          <p:nvPr/>
        </p:nvSpPr>
        <p:spPr>
          <a:xfrm>
            <a:off x="-57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7588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Что такое восстановленные соки?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5632560" cy="38671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684360" y="4941720"/>
            <a:ext cx="7920720" cy="1628280"/>
            <a:chOff x="684360" y="4941720"/>
            <a:chExt cx="7920720" cy="1628280"/>
          </a:xfrm>
        </p:grpSpPr>
        <p:grpSp>
          <p:nvGrpSpPr>
            <p:cNvPr id="154" name="Group 6"/>
            <p:cNvGrpSpPr/>
            <p:nvPr/>
          </p:nvGrpSpPr>
          <p:grpSpPr>
            <a:xfrm>
              <a:off x="684360" y="4941720"/>
              <a:ext cx="7920720" cy="1628280"/>
              <a:chOff x="684360" y="4941720"/>
              <a:chExt cx="7920720" cy="1628280"/>
            </a:xfrm>
          </p:grpSpPr>
          <p:sp>
            <p:nvSpPr>
              <p:cNvPr id="155" name="AutoShape 7"/>
              <p:cNvSpPr/>
              <p:nvPr/>
            </p:nvSpPr>
            <p:spPr>
              <a:xfrm>
                <a:off x="684360" y="4941720"/>
                <a:ext cx="7920720" cy="1628280"/>
              </a:xfrm>
              <a:prstGeom prst="roundRect">
                <a:avLst>
                  <a:gd name="adj" fmla="val 10889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8"/>
              <p:cNvSpPr/>
              <p:nvPr/>
            </p:nvSpPr>
            <p:spPr>
              <a:xfrm>
                <a:off x="801000" y="5031720"/>
                <a:ext cx="1045440" cy="8125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812520"/>
                  <a:gd name="textAreaBottom" fmla="*/ 812880 h 8125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50000">
                    <a:srgbClr val="c0c0c0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Text Box 9"/>
            <p:cNvSpPr/>
            <p:nvPr/>
          </p:nvSpPr>
          <p:spPr>
            <a:xfrm>
              <a:off x="1150200" y="5084640"/>
              <a:ext cx="71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Rectangle 10"/>
          <p:cNvSpPr/>
          <p:nvPr/>
        </p:nvSpPr>
        <p:spPr>
          <a:xfrm>
            <a:off x="755640" y="5013360"/>
            <a:ext cx="792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к прямого отжим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продукт, состоящий только из сока, произведенного из свежих плодов, в который не   допускается каких бы то ни было добаво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к восстановленны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продукт, произведенный из концентрированного сока восстановленного путем добавлением воды до уровня нормативного содержания жидкости в плод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2"/>
          <a:stretch/>
        </p:blipFill>
        <p:spPr>
          <a:xfrm>
            <a:off x="1522440" y="684360"/>
            <a:ext cx="5599080" cy="3924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3"/>
          <a:stretch/>
        </p:blipFill>
        <p:spPr>
          <a:xfrm>
            <a:off x="1297080" y="684360"/>
            <a:ext cx="6048360" cy="4052880"/>
          </a:xfrm>
          <a:prstGeom prst="rect">
            <a:avLst/>
          </a:prstGeom>
          <a:ln w="0">
            <a:noFill/>
          </a:ln>
        </p:spPr>
      </p:pic>
      <p:pic>
        <p:nvPicPr>
          <p:cNvPr id="161" name="~PP31683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3"/>
          <p:cNvSpPr/>
          <p:nvPr/>
        </p:nvSpPr>
        <p:spPr>
          <a:xfrm>
            <a:off x="273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Где обычно выращивают фрукты для приготовления соков?</a:t>
            </a: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487760" cy="336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2124000" y="1590840"/>
            <a:ext cx="5184720" cy="340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3"/>
          <a:stretch/>
        </p:blipFill>
        <p:spPr>
          <a:xfrm>
            <a:off x="2052720" y="1590840"/>
            <a:ext cx="5256000" cy="34844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722" descr="http://test.org.ua/uploads/2010/vinograd1.jpg"/>
          <p:cNvPicPr/>
          <p:nvPr/>
        </p:nvPicPr>
        <p:blipFill>
          <a:blip r:embed="rId4"/>
          <a:stretch/>
        </p:blipFill>
        <p:spPr>
          <a:xfrm>
            <a:off x="3564000" y="5229360"/>
            <a:ext cx="1224000" cy="1245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720" descr="http://test.org.ua/uploads/2010/persik.jpg"/>
          <p:cNvPicPr/>
          <p:nvPr/>
        </p:nvPicPr>
        <p:blipFill>
          <a:blip r:embed="rId5"/>
          <a:stretch/>
        </p:blipFill>
        <p:spPr>
          <a:xfrm>
            <a:off x="2268360" y="5300640"/>
            <a:ext cx="1152720" cy="10224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741" descr="http://test.org.ua/uploads/2010/sliva%2520c9.jpg"/>
          <p:cNvPicPr/>
          <p:nvPr/>
        </p:nvPicPr>
        <p:blipFill>
          <a:blip r:embed="rId6"/>
          <a:stretch/>
        </p:blipFill>
        <p:spPr>
          <a:xfrm>
            <a:off x="6300720" y="53737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170" name="~PP31698.WAV" descr=""/>
          <p:cNvPicPr/>
          <p:nvPr/>
        </p:nvPicPr>
        <p:blipFill>
          <a:blip r:embed="rId7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9"/>
          <p:cNvSpPr/>
          <p:nvPr/>
        </p:nvSpPr>
        <p:spPr>
          <a:xfrm>
            <a:off x="18000" y="649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акие соки наиболее популярны в России?</a:t>
            </a:r>
            <a:br>
              <a:rPr sz="3600"/>
            </a:b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187280" y="184464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 место 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мультифруктовый сок (37% рынк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185840" y="2403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 место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яблочный сок (16% рынк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198440" y="34304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 место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томатный сок(8% рынка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187280" y="288432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 место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апельсиновый сок (14% рынк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4572000" y="4005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7380360" y="4005360"/>
            <a:ext cx="1295280" cy="2232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9" descr=""/>
          <p:cNvPicPr/>
          <p:nvPr/>
        </p:nvPicPr>
        <p:blipFill>
          <a:blip r:embed="rId3"/>
          <a:stretch/>
        </p:blipFill>
        <p:spPr>
          <a:xfrm>
            <a:off x="2124000" y="4724280"/>
            <a:ext cx="2303640" cy="1451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Картинка 3 из 1196"/>
          <p:cNvPicPr/>
          <p:nvPr/>
        </p:nvPicPr>
        <p:blipFill>
          <a:blip r:embed="rId4"/>
          <a:stretch/>
        </p:blipFill>
        <p:spPr>
          <a:xfrm>
            <a:off x="539640" y="4076640"/>
            <a:ext cx="1440000" cy="2524320"/>
          </a:xfrm>
          <a:prstGeom prst="rect">
            <a:avLst/>
          </a:prstGeom>
          <a:ln w="0">
            <a:noFill/>
          </a:ln>
        </p:spPr>
      </p:pic>
      <p:pic>
        <p:nvPicPr>
          <p:cNvPr id="181" name="~PP91714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1"/>
          <p:cNvSpPr/>
          <p:nvPr/>
        </p:nvSpPr>
        <p:spPr>
          <a:xfrm>
            <a:off x="18000" y="649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0:09:43Z</dcterms:created>
  <dc:creator>Admin</dc:creator>
  <dc:description/>
  <dc:language>en-US</dc:language>
  <cp:lastModifiedBy>777</cp:lastModifiedBy>
  <dcterms:modified xsi:type="dcterms:W3CDTF">2013-02-28T02:05:24Z</dcterms:modified>
  <cp:revision>214</cp:revision>
  <dc:subject/>
  <dc:title>Слайд 1</dc:title>
</cp:coreProperties>
</file>