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0B0-20B8-4804-99F3-3D071FD0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8AE-0A7B-4516-A237-BBCB8E25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81F-FB92-4235-83CD-44B2AE10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A7F-58B1-483E-B500-454D2610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9570-0E43-45EC-B84D-6D1DE8D7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E366-FA84-436F-932B-3102F736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BE8B-E3C9-49BE-B511-D1047024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3935-F6DD-4327-A109-A738801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BECB-4EF8-4A93-B4D0-807391B7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56A9-36DF-4C89-BC9D-2BE70066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59F8-5BF8-44F3-ADEA-2D3A7D0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226-4BCD-4F7B-8594-B3FA703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7B33-CB51-48F2-8E3A-B8FD58F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3AE6-3DD8-4FF8-8DF3-8F5281B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13CD-95E7-455C-B5AD-69EAAC85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FC2C-4D89-4693-83F4-1464B2CB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12CD-4A3A-47F9-8F06-C20D43F0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83E-3B81-482B-A16F-7D758BEB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A0D-15D2-480F-9F56-55A9B53B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B9B-3EEE-4EA8-B004-E645F0F5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CE1-B0DF-40AD-8717-149EA71A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B0E-A8D3-479D-A947-74A6B8B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1A8-7EC1-4CC1-B38D-3B0A1479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A39-9BD9-4A6D-AFC9-B9447C7A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C22F-19BC-46D3-9187-A90DE5794DD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5EC0-D442-41BB-B51C-635BA4A2423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votrube.ru/uploads/posts/2008-08/1218128339_1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udolkin.ru/2012/01/24/kakoj-sok-vybrat/" TargetMode="External"/><Relationship Id="rId2" Type="http://schemas.openxmlformats.org/officeDocument/2006/relationships/hyperlink" Target="http://juice.chile.ru/juices/market.shtml" TargetMode="External"/><Relationship Id="rId3" Type="http://schemas.openxmlformats.org/officeDocument/2006/relationships/hyperlink" Target="http://watermarket.ru/articles/1135" TargetMode="External"/><Relationship Id="rId4" Type="http://schemas.openxmlformats.org/officeDocument/2006/relationships/hyperlink" Target="http://www.upakovano.ru/articles/1766" TargetMode="External"/><Relationship Id="rId5" Type="http://schemas.openxmlformats.org/officeDocument/2006/relationships/hyperlink" Target="http://pomidorus.ru/article/263/" TargetMode="External"/><Relationship Id="rId6" Type="http://schemas.openxmlformats.org/officeDocument/2006/relationships/hyperlink" Target="http://www.vodosale.ru/juice/soki_i_nektary/vim_bill_dan.html" TargetMode="External"/><Relationship Id="rId7" Type="http://schemas.openxmlformats.org/officeDocument/2006/relationships/hyperlink" Target="http://www.imperiavkusa.ru/iv/iv.php?inc=archive/028_2002_03/art_5" TargetMode="External"/><Relationship Id="rId8" Type="http://schemas.openxmlformats.org/officeDocument/2006/relationships/hyperlink" Target="http://watermarket.ru/lib/187" TargetMode="External"/><Relationship Id="rId9" Type="http://schemas.openxmlformats.org/officeDocument/2006/relationships/hyperlink" Target="http://www.imperiavkusa.ru/iv/iv.php?inc=archive/028_2002_03/art_5" TargetMode="External"/><Relationship Id="rId10" Type="http://schemas.openxmlformats.org/officeDocument/2006/relationships/hyperlink" Target="http://www.volna.gerros.ru/o_sokah.php" TargetMode="External"/><Relationship Id="rId11" Type="http://schemas.openxmlformats.org/officeDocument/2006/relationships/hyperlink" Target="http://www.sostav.ru/news/2012/03/02/soki_multon_lebedynsky/" TargetMode="External"/><Relationship Id="rId12" Type="http://schemas.openxmlformats.org/officeDocument/2006/relationships/hyperlink" Target="http://www.msb.kg/ru/reviews/2516/87.html" TargetMode="External"/><Relationship Id="rId13" Type="http://schemas.openxmlformats.org/officeDocument/2006/relationships/hyperlink" Target="http://www.kapital-rus.ru/articles/article/1035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detskiypark.tomsk.ru/content/files/catalog1/source/1_1297400092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hyperlink" Target="http://www.fruitnews.ru/upload/iblock/1e8/ceb75a8efc61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равда ли, что вредно  пить много сока?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622620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6875640" y="1484280"/>
            <a:ext cx="1814400" cy="24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Избыточный вес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286160"/>
            <a:ext cx="2305080" cy="2386080"/>
          </a:xfrm>
          <a:prstGeom prst="rect">
            <a:avLst/>
          </a:prstGeom>
          <a:ln w="0">
            <a:noFill/>
          </a:ln>
        </p:spPr>
      </p:pic>
      <p:pic>
        <p:nvPicPr>
          <p:cNvPr id="98" name="~PP22368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34200" y="6465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539640" y="333360"/>
            <a:ext cx="8604360" cy="90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://dudolkin.ru/2012/01/24/kakoj-sok-vybra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http://juice.chile.ru/juices/market.s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3"/>
              </a:rPr>
              <a:t>http://watermarket.ru/articles/113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4"/>
              </a:rPr>
              <a:t>http://www.upakovano.ru/articles/176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5"/>
              </a:rPr>
              <a:t>http://pomidorus.ru/article/263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6"/>
              </a:rPr>
              <a:t>http://www.vodosale.ru/juice/soki_i_nektary/vim_bill_dan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7"/>
              </a:rPr>
              <a:t>http://www.imperiavkusa.ru/iv/iv.php?inc=archive/028_2002_03/art_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8"/>
              </a:rPr>
              <a:t>http://watermarket.ru/lib/1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9"/>
              </a:rPr>
              <a:t>http://www.imperiavkusa.ru/iv/iv.php?inc=archive/028_2002_03/art_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0"/>
              </a:rPr>
              <a:t>http://www.volna.gerros.ru/o_sokah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1"/>
              </a:rPr>
              <a:t>http://www.sostav.ru/news/2012/03/02/soki_multon_lebedynsky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2"/>
              </a:rPr>
              <a:t>http://www.msb.kg/ru/reviews/2516/87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3"/>
              </a:rPr>
              <a:t>http://www.kapital-rus.ru/articles/article/103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agulife.ru/community/communication/26014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bigplans.ru/content/view/153/30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ngzt.ru/glavred/65333/com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vusped.ru/analitika/obzor-rossijskogo-rynka-sokov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rg.ru/2011/04/19/soki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foodmarkets.ru/articles/topic/134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236000" y="1125360"/>
            <a:ext cx="1523880" cy="20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68360" y="3284640"/>
          <a:ext cx="8280360" cy="3025800"/>
        </p:xfrm>
        <a:graphic>
          <a:graphicData uri="http://schemas.openxmlformats.org/drawingml/2006/table">
            <a:tbl>
              <a:tblPr/>
              <a:tblGrid>
                <a:gridCol w="1766880"/>
                <a:gridCol w="1473120"/>
                <a:gridCol w="1455840"/>
                <a:gridCol w="1639800"/>
                <a:gridCol w="19447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бе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ж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углев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лорийность, кк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брикос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пельси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ш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ома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бло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217"/>
          <p:cNvSpPr/>
          <p:nvPr/>
        </p:nvSpPr>
        <p:spPr>
          <a:xfrm>
            <a:off x="-368280" y="4320"/>
            <a:ext cx="9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лорийность и содержание белков, жир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и углеводов в 100 граммах продукта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444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 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5" name="Picture 2" descr="http://wday.ru/images/docs/i/171880.jpg"/>
          <p:cNvPicPr/>
          <p:nvPr/>
        </p:nvPicPr>
        <p:blipFill>
          <a:blip r:embed="rId1"/>
          <a:stretch/>
        </p:blipFill>
        <p:spPr>
          <a:xfrm>
            <a:off x="395280" y="765000"/>
            <a:ext cx="3333600" cy="221940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395280" y="189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к выбрать сок для самых маленьких?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3708360" y="69228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Garamond"/>
              </a:rPr>
              <a:t>Лучше всего россияне знают «ФрутоНяню» и «Агушу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Картинка 7 из 19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1413000"/>
            <a:ext cx="1873080" cy="24080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3419640" y="3716280"/>
            <a:ext cx="5724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Укрепление иммуните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Соки </a:t>
            </a: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Агуша</a:t>
            </a: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 с высокой степенью измельчения, это облегчает и ускоряет процессы пищеварения у детей раннего возрас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Приготовлены из натурального сырья, без сахар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Вкусы разработаны с учетом потребностей детского организм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Не содержат искусственных красителей и ароматизаторов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Гипоаллергенный продукт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Есть, специально обогащённые йодом -  мультифруктовый и овощной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Небольшой объем позволяет не оставлять на длительное хранение открытую упаковк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http://www.mersi.ru/upload/iblock/1c6/e28df37b-cf93-11df-8153-001bfc09bc5b.logo.jpeg"/>
          <p:cNvPicPr/>
          <p:nvPr/>
        </p:nvPicPr>
        <p:blipFill>
          <a:blip r:embed="rId4"/>
          <a:stretch/>
        </p:blipFill>
        <p:spPr>
          <a:xfrm>
            <a:off x="1187280" y="3429000"/>
            <a:ext cx="1800360" cy="2430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8"/>
          <p:cNvSpPr/>
          <p:nvPr/>
        </p:nvSpPr>
        <p:spPr>
          <a:xfrm>
            <a:off x="3420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чему перестали продавать березовый сок?</a:t>
            </a: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1998720" cy="2663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700360" y="1628640"/>
            <a:ext cx="619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остав сока входят ферменты, органические кислоты, дубильные вещества, соли кальция, калия, железа, растительные гормоны, глюкоза и вещества, обладающие высокой антимикробной активностью (фитонцид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100 г сока березового с сахаром содержится: углеводов – 5,8 г., энергетическая ценность – 23 кк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611280" y="4194000"/>
            <a:ext cx="199080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~PP22478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Картинка 12 из 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4005360"/>
            <a:ext cx="338472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7"/>
          <p:cNvSpPr/>
          <p:nvPr/>
        </p:nvSpPr>
        <p:spPr>
          <a:xfrm>
            <a:off x="2952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равда ли что соки в стеклянных банках более полезны, чем в пакетах?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197000"/>
          <a:ext cx="8229600" cy="4846680"/>
        </p:xfrm>
        <a:graphic>
          <a:graphicData uri="http://schemas.openxmlformats.org/drawingml/2006/table">
            <a:tbl>
              <a:tblPr/>
              <a:tblGrid>
                <a:gridCol w="392040"/>
                <a:gridCol w="1839960"/>
                <a:gridCol w="2808360"/>
                <a:gridCol w="31892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упаков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и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янная буты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в бутылках продают соки и нектары высокого качества (но бывают исключения, поэтому не забывайте читать этикетку!). Стекло идеально подходит для жидких продуктов, и через него хорошо просматриваются их 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ко хранить бутылки надо в темноте (на свету ухудшаются качества сок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нная короб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но сохраняют качество сока и могут храниться даже на све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бки непрозрачны, а значит, покупателя могут поджидать неприятные сюрпризы. В открытой упаковке напиток быстро теряет полезные кач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евая ба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естянки обычно наливают дешевые сокосодержащие напитки. Сама по себе эта тара инертна и абсолютно не влияет на состав напит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а не позволяет рассмотреть цвет жидкости и наличие в ней примес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ковая буты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ая тара используется для продажи свежеотжатых соков и сокосодержащих напит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мотря на то что применение пластика разрешено, в последнее время все чаще обсуждают его опасность из-за попадания вредных молекул из материала в продукт (речь идет о товарах с длинным сроком хранения). Кроме того, держать такие бутылки надо только в темнот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143" descr=""/>
          <p:cNvPicPr/>
          <p:nvPr/>
        </p:nvPicPr>
        <p:blipFill>
          <a:blip r:embed="rId1"/>
          <a:stretch/>
        </p:blipFill>
        <p:spPr>
          <a:xfrm>
            <a:off x="1403280" y="5013360"/>
            <a:ext cx="370080" cy="100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1297080" cy="54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6" descr=""/>
          <p:cNvPicPr/>
          <p:nvPr/>
        </p:nvPicPr>
        <p:blipFill>
          <a:blip r:embed="rId3"/>
          <a:stretch/>
        </p:blipFill>
        <p:spPr>
          <a:xfrm>
            <a:off x="1476360" y="3284640"/>
            <a:ext cx="304920" cy="503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7" descr=""/>
          <p:cNvPicPr/>
          <p:nvPr/>
        </p:nvPicPr>
        <p:blipFill>
          <a:blip r:embed="rId4"/>
          <a:stretch/>
        </p:blipFill>
        <p:spPr>
          <a:xfrm>
            <a:off x="1403280" y="2060640"/>
            <a:ext cx="5446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~PP22540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56520" y="6465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кие соки лучше: с мякотью или осветленные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9" name="Рисунок 5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5343480" cy="3714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Абрикосовый нектар (с мякотью 1 л)"/>
          <p:cNvPicPr/>
          <p:nvPr/>
        </p:nvPicPr>
        <p:blipFill>
          <a:blip r:embed="rId2"/>
          <a:stretch/>
        </p:blipFill>
        <p:spPr>
          <a:xfrm>
            <a:off x="6659640" y="2060640"/>
            <a:ext cx="2160360" cy="3638520"/>
          </a:xfrm>
          <a:prstGeom prst="rect">
            <a:avLst/>
          </a:prstGeom>
          <a:ln w="0">
            <a:noFill/>
          </a:ln>
        </p:spPr>
      </p:pic>
      <p:pic>
        <p:nvPicPr>
          <p:cNvPr id="131" name="~PP9255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29520" y="6499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ttp://fontana.ur.ru/catalog_stoyka/04_big.jpg"/>
          <p:cNvPicPr/>
          <p:nvPr/>
        </p:nvPicPr>
        <p:blipFill>
          <a:blip r:embed="rId1"/>
          <a:stretch/>
        </p:blipFill>
        <p:spPr>
          <a:xfrm>
            <a:off x="2556000" y="1417680"/>
            <a:ext cx="3381120" cy="4440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кие есть особенности выкладки сока на полках магази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1936800" y="1886040"/>
            <a:ext cx="4619520" cy="30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1389240" y="14176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8"/>
          <p:cNvSpPr/>
          <p:nvPr/>
        </p:nvSpPr>
        <p:spPr>
          <a:xfrm>
            <a:off x="5652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upakovano.ru/pictures/article_imgs/Other_magazines/ktr/juice/ris2_big.jpg"/>
          <p:cNvPicPr/>
          <p:nvPr/>
        </p:nvPicPr>
        <p:blipFill>
          <a:blip r:embed="rId1"/>
          <a:stretch/>
        </p:blipFill>
        <p:spPr>
          <a:xfrm>
            <a:off x="384120" y="1197000"/>
            <a:ext cx="288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ОАО «Лебедянский»"/>
          <p:cNvPicPr/>
          <p:nvPr/>
        </p:nvPicPr>
        <p:blipFill>
          <a:blip r:embed="rId2"/>
          <a:stretch/>
        </p:blipFill>
        <p:spPr>
          <a:xfrm>
            <a:off x="3379680" y="1197000"/>
            <a:ext cx="5505480" cy="266688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029200" y="14241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ОАО «Лебедянский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39640" y="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НАЗОВИТЕ ОСНОВНЫХ ПРОИЗВОДИТЕЛЕЙ СОКОВ И НЕКТАР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Вимм Билль Данн"/>
          <p:cNvPicPr/>
          <p:nvPr/>
        </p:nvPicPr>
        <p:blipFill>
          <a:blip r:embed="rId3"/>
          <a:stretch/>
        </p:blipFill>
        <p:spPr>
          <a:xfrm>
            <a:off x="1824120" y="4076640"/>
            <a:ext cx="5505480" cy="26672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2"/>
          <p:cNvSpPr/>
          <p:nvPr/>
        </p:nvSpPr>
        <p:spPr>
          <a:xfrm>
            <a:off x="3541680" y="422100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имм Билль Дан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Прямоугольник 28"/>
          <p:cNvSpPr/>
          <p:nvPr/>
        </p:nvSpPr>
        <p:spPr>
          <a:xfrm>
            <a:off x="3420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к выбрать сок?</a:t>
            </a:r>
            <a:r>
              <a:rPr b="0" lang="ru-RU" sz="32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46" name="lightbox-image" descr="http://www.novostioede.ru/upload/resize_cache/iblock/67d/800_600_1/1286360767_0087.600x914.jpeg"/>
          <p:cNvPicPr/>
          <p:nvPr/>
        </p:nvPicPr>
        <p:blipFill>
          <a:blip r:embed="rId1"/>
          <a:stretch/>
        </p:blipFill>
        <p:spPr>
          <a:xfrm>
            <a:off x="1233360" y="971640"/>
            <a:ext cx="3743280" cy="5715000"/>
          </a:xfrm>
          <a:prstGeom prst="rect">
            <a:avLst/>
          </a:prstGeom>
          <a:ln w="0">
            <a:noFill/>
          </a:ln>
        </p:spPr>
      </p:pic>
      <p:cxnSp>
        <p:nvCxnSpPr>
          <p:cNvPr id="147" name="Прямая со стрелкой 5"/>
          <p:cNvCxnSpPr/>
          <p:nvPr/>
        </p:nvCxnSpPr>
        <p:spPr>
          <a:xfrm flipH="1">
            <a:off x="4210920" y="1267920"/>
            <a:ext cx="1585080" cy="2520"/>
          </a:xfrm>
          <a:prstGeom prst="straightConnector1">
            <a:avLst/>
          </a:prstGeom>
          <a:ln w="57240">
            <a:solidFill>
              <a:srgbClr val="ff0000"/>
            </a:solidFill>
            <a:bevel/>
            <a:tailEnd len="med" type="arrow" w="med"/>
          </a:ln>
        </p:spPr>
      </p:cxnSp>
      <p:cxnSp>
        <p:nvCxnSpPr>
          <p:cNvPr id="148" name="Прямая со стрелкой 4"/>
          <p:cNvCxnSpPr/>
          <p:nvPr/>
        </p:nvCxnSpPr>
        <p:spPr>
          <a:xfrm flipH="1">
            <a:off x="4976280" y="2204640"/>
            <a:ext cx="1053360" cy="470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7"/>
          <p:cNvCxnSpPr/>
          <p:nvPr/>
        </p:nvCxnSpPr>
        <p:spPr>
          <a:xfrm flipH="1">
            <a:off x="4893840" y="4255560"/>
            <a:ext cx="1532880" cy="505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" name="Прямая со стрелкой 8"/>
          <p:cNvCxnSpPr/>
          <p:nvPr/>
        </p:nvCxnSpPr>
        <p:spPr>
          <a:xfrm flipH="1">
            <a:off x="4444200" y="6021360"/>
            <a:ext cx="1369080" cy="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Прямая со стрелкой 9"/>
          <p:cNvCxnSpPr/>
          <p:nvPr/>
        </p:nvCxnSpPr>
        <p:spPr>
          <a:xfrm flipH="1">
            <a:off x="4642920" y="1226880"/>
            <a:ext cx="1169280" cy="611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2" name="~PP3257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1"/>
          <p:cNvSpPr/>
          <p:nvPr/>
        </p:nvSpPr>
        <p:spPr>
          <a:xfrm>
            <a:off x="3420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6029280" y="1027080"/>
            <a:ext cx="18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Вид с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5990400" y="2001960"/>
            <a:ext cx="33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Состав, рекоменда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употребле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15"/>
          <p:cNvSpPr/>
          <p:nvPr/>
        </p:nvSpPr>
        <p:spPr>
          <a:xfrm>
            <a:off x="6634080" y="391788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Добровольная сертифик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оугольник 20"/>
          <p:cNvSpPr/>
          <p:nvPr/>
        </p:nvSpPr>
        <p:spPr>
          <a:xfrm>
            <a:off x="5770440" y="5857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Особые отлич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0:09:43Z</dcterms:created>
  <dc:creator>Admin</dc:creator>
  <dc:description/>
  <dc:language>en-US</dc:language>
  <cp:lastModifiedBy>777</cp:lastModifiedBy>
  <dcterms:modified xsi:type="dcterms:W3CDTF">2013-02-28T02:07:23Z</dcterms:modified>
  <cp:revision>213</cp:revision>
  <dc:subject/>
  <dc:title>Слайд 1</dc:title>
</cp:coreProperties>
</file>