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217-1434-4B32-92B7-0E25FCC9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D82-83E5-4CC9-B2B8-2640B43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A8F-7C5E-4716-8571-F91229C3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CD4-FECB-4CC4-8440-14CC15F8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87F1-8532-42A9-90EA-2AE525E3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AFC0-9FF5-4248-90BE-96343881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501F-849F-496E-AAC3-C8E2B538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40E2-3C73-4A97-8B0F-6D65985C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98D5-44E6-4141-934F-DB62191E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BDE5-65C2-403E-86A3-CAE5489F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FC73-168E-4E07-B6D9-EACFC9D6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46C-2F15-4B58-847A-9CBB9353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49B2-BA2E-4FFF-89FE-1C2ACF7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2B40-5D7B-4E5E-9195-F24D682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6455-9A54-46BA-9F9A-B68DB4E1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D519-EFBA-4313-A14E-45BFF8DD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8ACE-EF79-4CF7-B1C5-56BBF8E4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896F-C0B9-49E8-BFF7-D4D3EEAF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3C53A-4F6D-4F3F-9688-F31CCD59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BBD0-1008-4DC3-8D0B-8FF01A71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1575-2889-4973-A144-EFC51B2F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DD4F-8ECC-42AE-80B6-3BC4696C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2FE-D749-4A8D-A6D9-9359560B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075D-7609-43C3-8A3F-CF66D6D9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A629-4D14-42E0-8E6A-837C059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3115-1995-47FB-9A35-A77F771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7BA3-397A-41AC-AE65-A843F417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6E95-F23D-4014-AB02-B9A10217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9A27-921C-48D2-BF99-DA94CC2F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781C-E944-48DF-8782-BA912A15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9AD9C-B4F6-48B3-B6B6-05FCEC83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485A-4C1D-4CF7-B155-146171BC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C5545-8FBF-42B6-87F6-7C8A75C7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359-FC42-49C5-8EF9-5601C3A3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679C-6F0D-40B4-849E-A7B5768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6BA26-6D99-4176-A7E7-A54105C9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3E9CA-D70A-42CA-8D1F-4232BEA4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0EC0C-C95B-4155-B255-6AE93F04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B16E-D8E9-4971-89B5-3F2347DC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EC94-435E-4BEF-AC36-49AA59A8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C070F-967C-4F82-8C76-FF63479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A573-468A-4186-B5F2-9051954A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E1B1-015B-49C4-823F-163142A1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63465-89F8-423B-83C2-FA3CB2EC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DDB-868D-4C76-AA61-17101990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7F667-B258-4B5E-AA09-86F5DDB3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2969-418A-42D6-AA0D-6F414B3C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37CE0-5987-4643-9572-D4860183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51201-9ADD-4F4C-A9CC-8E131F7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90CF-6E3E-4400-A6A6-23060E59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1F5E1-1974-4EC4-918F-F5E0F38A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F523F-83EC-4FF7-9244-8D16DCD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3DBC-5B52-412B-9C12-194B9374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69C59-C064-4D09-BF9A-CCE92046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19AA3-4CBC-4331-9EFF-B3B9D639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749-2C68-463F-8791-6E6DE019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A5495-2256-4314-B9CE-9C6FA70F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C5B-1467-49B3-842C-440C4016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69E-45A3-40F2-960C-5E8EBB3E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97D-7E1A-481E-A735-EB3DFAF1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143B-7D24-4C95-8A0E-09D63A9AA1B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5938-C9E4-491C-B941-9D8111DA5C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C1E-651D-43E9-B878-A0478691CCE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BA97-B83D-4162-9EF0-EB5D29E1764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09A6-6F70-4878-903A-FDB33D573CC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«Средства формирования здорового образа жизни у детей дошкольного возраста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23640" y="4797360"/>
            <a:ext cx="6048360" cy="1703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трубенск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Фёдор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/с  № 252 г. о. Сама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Ольга\Desktop\683aeee3c276b488edef565097e_prev.jpg"/>
          <p:cNvPicPr/>
          <p:nvPr/>
        </p:nvPicPr>
        <p:blipFill>
          <a:blip r:embed="rId1"/>
          <a:stretch/>
        </p:blipFill>
        <p:spPr>
          <a:xfrm>
            <a:off x="6516720" y="4149720"/>
            <a:ext cx="20206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324000" y="404640"/>
            <a:ext cx="8640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Как часто ребёнок употребляет следующие продукты питания (нужное отметить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ервы (исключая консервы для детского пита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иб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псы, сухар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зированные напит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портные сладости (сникерсы, сладкие плитки, сосательные конфеты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метить для каждого из пун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часто (ежедневно или несколько раз в неделю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огда (1 раз в неделю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дко (1-2 раза в недел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316080" y="3640680"/>
            <a:ext cx="87076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Стараетесь ли Вы в выходные дни соблюдать режим питания, к которому ребёнок привык в детском са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все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о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Ваша оценка состояния здоровья ребён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е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овлетворительное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охое  (указать причину);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324000" y="54936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Какие профилактические мероприятия Вы проводите с ребёнком дома в связи с эпидемией ОРЗ, гриппа 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261360" y="990000"/>
            <a:ext cx="8655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Какими средствами народной медицины Вы пользуетесь во время болезни ребёнка? ___________________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Какие, на Ваш взгляд, оздоровительные мероприятия наиболее эффективны в детском саду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а заполнения анкеты : 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агодарим  Вас за участие в опросе и искренние ответы . 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100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"/>
          <p:cNvSpPr/>
          <p:nvPr/>
        </p:nvSpPr>
        <p:spPr>
          <a:xfrm>
            <a:off x="1187280" y="476280"/>
            <a:ext cx="6291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4427640" y="260280"/>
            <a:ext cx="82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к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324000" y="768960"/>
            <a:ext cx="6761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Болел ли ваш ребёнок последние полгода ?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 болел , перечислите заболевания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318600" y="1653480"/>
            <a:ext cx="6700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колько дней болел ваш ребёнок ?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371160" y="1885680"/>
            <a:ext cx="621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было причиной его болезни ? 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475560" y="2241720"/>
            <a:ext cx="6464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Есть ли у ребёнка дома постоянный режим дня ?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316080" y="2094840"/>
            <a:ext cx="851076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.Ежедневно ли ваш ребёнок делает утреннюю гимнастику ?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Ежедневно ли он чистит зубы ?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.Сколько времени ежедневно проводит ребёнок на свежем воздухе ? 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8.Употребляет ли ваш ребёнок фрукты и овощи? Сколько раз в ден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.Регулярно ли проводите с ребёнком закаливание ?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Всегда ли одеваете ребёнка по погоде ?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546640" y="624240"/>
            <a:ext cx="40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ёт ли ваш ребёнок здоровый образ жизни?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330840" y="692640"/>
            <a:ext cx="680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.Занимается ли ребёнок в спортивной секции ?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327960" y="1341000"/>
            <a:ext cx="673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2.Есть ли у него книги о здоровье и здоровом образе жизни ?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3328560" y="2063880"/>
            <a:ext cx="24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сибо  за сотрудничеств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C:\Users\Ольга\Desktop\zdorove.jpg"/>
          <p:cNvPicPr/>
          <p:nvPr/>
        </p:nvPicPr>
        <p:blipFill>
          <a:blip r:embed="rId1"/>
          <a:stretch/>
        </p:blipFill>
        <p:spPr>
          <a:xfrm>
            <a:off x="2411280" y="2781360"/>
            <a:ext cx="41641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32280" y="549360"/>
            <a:ext cx="8536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совместной  деятельности с детьми педагог , сотрудничая с семьёй, обеспечивает восхождени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а к культуре здоровья . Роль родителей  в  сбережении здоровья ребёнка состоит в  гото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помощь и поддержку от специалистов  ДОУ в вопросах сохранения и укрепления здоров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, активном  участии в сохранении культурных традиций детского сада . Ведь в дошкольном возра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благоприятное  время для  выработки правильных привычек , которые в сочетании с обу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ов методам совершенствования и сохранения здоровья приведут к положительным  результа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324000" y="2843640"/>
            <a:ext cx="6662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ем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ёнок в детском сад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 5 -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ёнок в детском сад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 6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тонов  Ю. Е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ый дошкольни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М:  Аркти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ина  Т. Л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храна здоровья детей в ДУ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: Мозаи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интез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нова  Т. Н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направления работы  ДОУ по повышению  психолого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й культуры родителей». – Дошкольное воспитание № 1. -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407880" y="4545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Users\Ольга\Desktop\d18dd0bcd0b1d0bbd0b5d0bcd0b0.png"/>
          <p:cNvPicPr/>
          <p:nvPr/>
        </p:nvPicPr>
        <p:blipFill>
          <a:blip r:embed="rId1"/>
          <a:stretch/>
        </p:blipFill>
        <p:spPr>
          <a:xfrm>
            <a:off x="6516720" y="4149720"/>
            <a:ext cx="2293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асибо за внимание!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елаю успех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2974680" y="620640"/>
            <a:ext cx="55238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ый образ жизни – это система поведения  </a:t>
            </a:r>
            <a:r>
              <a:rPr b="0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умного челове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необходима для физического и социального благополучия 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ктивного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долголет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C:\Users\Ольга\Desktop\2vnqvf4.jpg"/>
          <p:cNvPicPr/>
          <p:nvPr/>
        </p:nvPicPr>
        <p:blipFill>
          <a:blip r:embed="rId1"/>
          <a:stretch/>
        </p:blipFill>
        <p:spPr>
          <a:xfrm>
            <a:off x="395280" y="2565360"/>
            <a:ext cx="8379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250920" y="438120"/>
            <a:ext cx="86421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ческая жизнь и здоровье являются высшей ценностью и должны быть бесспорным приоритетом в решении любых про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оследнее десятилетие произошло значительное снижение уровня здоровья взрослого и , особенно, детского контингента населения нашей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этой ситуации одним из ключевых вопросов является необходимость изменение подхода к формированию здоровья дошколь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сказал академик Казначеев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намическое состояние (процесс) сохранения и развития биологических, физиологических и психологических функц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здоровья дошкольников обусловлено целым комплексом проблем и противореч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начительные информационные перегрузки детей, обусловленные содержанием образовательных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резмерная интенсификация образователь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ннее начало дошкольного систематического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сутствие целостной системы формирования здорового образа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ьно воспитывать здорового ребёнка можно лишь тогда, когда соблюдено единство детского сада и семьи в вопросах воспитания, оздоровления, распорядка дня, двигательной активности, гигиенических процедур, развития двигательных навыков. Поэтому очень важно оказывать необходимую помощь родителям, привлекать их к участию в совместных физкультурных мероприят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258480" y="476280"/>
            <a:ext cx="864792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 на здоровье  и здоровый образ жизни формируется лишь в результате  определённого воздейств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значение приобретает педагогический компонент,  сущность которого состоит в  обучении здоров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ого раннего возра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этом возрасте формируются жизненно важные мотивы, в том числе и  мотивы здоровья. Поэтому 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детском саду  и в семье следу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ребёнка привычку к чистоте, аккуратности  и поря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овладению основами культурно – гигиенических  навы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понимать, как влияют физические упражнения на организм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правильно вести себя в ситуациях, угрожающих жизни и здоровью , а иногда и предотвращать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Ольга\Desktop\dsc02688.jpg"/>
          <p:cNvPicPr/>
          <p:nvPr/>
        </p:nvPicPr>
        <p:blipFill>
          <a:blip r:embed="rId1"/>
          <a:stretch/>
        </p:blipFill>
        <p:spPr>
          <a:xfrm>
            <a:off x="611280" y="3573360"/>
            <a:ext cx="1890720" cy="251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Ольга\Desktop\P1010312.jpg"/>
          <p:cNvPicPr/>
          <p:nvPr/>
        </p:nvPicPr>
        <p:blipFill>
          <a:blip r:embed="rId2"/>
          <a:stretch/>
        </p:blipFill>
        <p:spPr>
          <a:xfrm>
            <a:off x="5435640" y="3645000"/>
            <a:ext cx="3176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266920" y="765000"/>
          <a:ext cx="4502160" cy="5715000"/>
        </p:xfrm>
        <a:graphic>
          <a:graphicData uri="http://schemas.openxmlformats.org/drawingml/2006/table">
            <a:tbl>
              <a:tblPr/>
              <a:tblGrid>
                <a:gridCol w="249120"/>
                <a:gridCol w="1344600"/>
                <a:gridCol w="2908440"/>
              </a:tblGrid>
              <a:tr h="6858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11430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ите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знакомите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интересовать и побудить родителей  включиться в учебно – воспитательный процесс по формированию здорового образа жизни, узнать как можно больше о ДО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ветитель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ткрытие клуба «Здоровая семь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дбор методических рекомендаций по созданию здоровье сберегающе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распространение лучшего семейного воспит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дбор литературы по здоровому образу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с семьё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формирование взаимопомощи с семьёй в воспитании и НОД с 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создание семейного клу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одчёркивание роли отца в воспитании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роведение семейных праздников, акций, дней открытых дверей, обеспечение совместного участия родителей и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богащение совместной деятельности родителей и детей в формировании совместных участков для двигательной актив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1"/>
          <p:cNvSpPr/>
          <p:nvPr/>
        </p:nvSpPr>
        <p:spPr>
          <a:xfrm>
            <a:off x="324000" y="364680"/>
            <a:ext cx="8609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 взаимодействия с родителями воспитанников в формировании здорового образа  жиз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Ольга\Desktop\474_0038.jpg"/>
          <p:cNvPicPr/>
          <p:nvPr/>
        </p:nvPicPr>
        <p:blipFill>
          <a:blip r:embed="rId1"/>
          <a:stretch/>
        </p:blipFill>
        <p:spPr>
          <a:xfrm>
            <a:off x="539640" y="549360"/>
            <a:ext cx="1806840" cy="25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Ольга\Desktop\1823.jpg"/>
          <p:cNvPicPr/>
          <p:nvPr/>
        </p:nvPicPr>
        <p:blipFill>
          <a:blip r:embed="rId2"/>
          <a:stretch/>
        </p:blipFill>
        <p:spPr>
          <a:xfrm>
            <a:off x="6156360" y="549360"/>
            <a:ext cx="2448000" cy="251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Ольга\Desktop\erschova2.jpg"/>
          <p:cNvPicPr/>
          <p:nvPr/>
        </p:nvPicPr>
        <p:blipFill>
          <a:blip r:embed="rId3"/>
          <a:stretch/>
        </p:blipFill>
        <p:spPr>
          <a:xfrm>
            <a:off x="2916360" y="3716280"/>
            <a:ext cx="2787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763640" y="1052640"/>
          <a:ext cx="5580000" cy="5276880"/>
        </p:xfrm>
        <a:graphic>
          <a:graphicData uri="http://schemas.openxmlformats.org/drawingml/2006/table">
            <a:tbl>
              <a:tblPr/>
              <a:tblGrid>
                <a:gridCol w="495360"/>
                <a:gridCol w="1704960"/>
                <a:gridCol w="3379680"/>
              </a:tblGrid>
              <a:tr h="711720"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взаимодействия с родител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 с родител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1513440"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актив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кет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искуссия на родительских собраниях и семинар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круглый стол «Профилактика инфекционных заболеваний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и специалистов (медицинского персонала ДОУ, врача,  физинструктора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дицио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родительские собрания «Мы за здоровый образ жизни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ни открытых дверей с показом физобородования и физкультурного зал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семейные спортивные соревнования к Дню защитника Отечества, летние спартакиа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кция «Здоровый образ жизни» - опыт роди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чера развлечений «У доктора Айболит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светитель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рганизация клуба «Здоровая семья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ыпуск информационных бюллете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стенд «Здоровье с детств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ые родительские уголки в групп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1"/>
          <p:cNvSpPr/>
          <p:nvPr/>
        </p:nvSpPr>
        <p:spPr>
          <a:xfrm>
            <a:off x="216000" y="334440"/>
            <a:ext cx="89280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существления поэтапного взаимодействия с родителями целесообразно использовать следующие фор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иды взаимодейст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411280" y="297000"/>
            <a:ext cx="51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к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астём здоровы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388080" y="692280"/>
            <a:ext cx="187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ажаемые родите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94480" y="406800"/>
            <a:ext cx="8703000" cy="172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ше активное участие в анкетировании позволит нам оптимизировать учебно-воспитательный процесс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одить работу по оздоровлению вашего ребёнка, учитывая его индивидуальные особен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жалуйста, в каждом вопросе выберите и подчеркните нужный вариант от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Фамилия, имя ребёнка, дата рождения 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Дорога до детского са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шком (сколько времени)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транспорте (сколько времени)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 Гуляет ли Ваш ребёнок в выходные д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1 раз в день, 2 раза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 Режим с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ёнок вечером ложится спать в рабочие дни в _____ ч , поднимается в  _____ 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выходные дни ложится спать в _____ ч , поднимается в ______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 Спит ли ребёнок днём в выходные д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(указать продолжительность сн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395280" y="1844640"/>
            <a:ext cx="457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 Сколько времени в день ребёно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отрит телевизор в рабочие дни _____ 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выходные дни _____ 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одит у компьютера в рабочие дни _____ 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выходные дни _____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 Где ребёнок был лет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мор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95280" y="3839400"/>
            <a:ext cx="8497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е 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.  Знаете ли вы меню детского сад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все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о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интересую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0.Какие продукты питания не ест Ваш ребёнок? _________________________________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466560" y="260280"/>
            <a:ext cx="4572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 Делает ли ребёнок дома утреннюю гимнастик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ог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в выходные д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всег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8:13:38Z</dcterms:created>
  <dc:creator>Ольга</dc:creator>
  <dc:description/>
  <dc:language>en-US</dc:language>
  <cp:lastModifiedBy>Ольга</cp:lastModifiedBy>
  <dcterms:modified xsi:type="dcterms:W3CDTF">2012-04-05T18:43:50Z</dcterms:modified>
  <cp:revision>88</cp:revision>
  <dc:subject/>
  <dc:title>Взаимодействие педагога с родителями в образовательной области «Здоровье»</dc:title>
</cp:coreProperties>
</file>