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DFE-1339-4F7E-9818-22D1048C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729-C649-44C0-A220-13FB9F0C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79D-87A1-4830-A107-12CAE856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7F6-4A0D-4AFF-B2B0-10BB69E8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6094-C695-4AC6-AE65-2243A10B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15A-4614-4C5A-8BA5-FDCE65E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856-0B0D-4839-B69D-F028388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3B9-261C-49D2-B682-D7E7A57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40E-4698-4DB4-B306-2AA8D4D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68BD-A8BA-47EB-A2E2-D90348C8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B4DC-C421-4750-B0C2-B1203D8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A96-F41F-4308-9EB6-E018C88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4E51-662F-48D9-A534-F4186BB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92BD-1309-4946-A76C-2E13141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F86-956F-4273-A38C-891C1009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1ED5-B085-43E7-9CB4-AF0D1499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9EF-1640-420C-9554-BA907FE6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B73B-AF7C-41B8-831E-C388774B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B516-01DB-4949-8444-700F4302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2894-44B7-418D-82D3-98586235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CBB5-69AB-461D-8A85-0B3F6122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9C57-0A0A-4BDC-803B-AFF7AF4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E75-74CC-4EF1-B38A-C601365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12E2-60BE-4A1C-BC1A-88B5951D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E02D-DD40-4EAA-9475-AB6828D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7907-AB79-41A9-B651-EB85B80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DD45-6CEF-41A0-B5D8-7CFD5BC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DECF-1A35-4CA8-B141-579401BB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ED02-E1DA-4490-A04C-0884A9E5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8FDD-804A-4889-86BC-9B09C977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5DB2-F03E-4BEB-A99A-14272455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F890-8FCA-40C1-99C8-F54E8B30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EF6D-2492-4379-85F8-E9CD0375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B49-66CE-4A2B-B750-6C0A65DD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3B69-0571-4907-9E1C-C057789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CCEA-ED70-441A-AD84-9360A96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3692-F815-496E-97D9-F7881D96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2C50-500C-4881-9CA5-DB5A45D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1A75-17A3-468C-9721-8697E4A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308E-F46C-460B-B03D-3EBAC54C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C3B7-9666-475E-807E-E1FC6111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93D3-1181-4DDB-BE49-19CBF6D2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B8CC-D58A-4179-AFC2-1FB2208F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0B4C-4FCE-401C-956E-00496A2E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3BB-A642-4E06-9D80-705C37CE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808A-2E55-4398-9692-4964E33A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D567-C275-49A2-8134-639507B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919C-CEEA-47B2-A378-9566D60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C471-634E-47DE-BA87-7F9DF71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E42A-0953-417C-965B-FB96C45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287E-EACF-4609-BF6F-A9C4B97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BBBD-F23E-47BB-A43B-D392B15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4E78-08D5-41E2-B087-B8DB9BDF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A8DE-7F03-4E61-9ABD-D5BEB565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5953-1960-49CC-BA79-F78C105A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ACB-61B5-4195-8EFC-B1940FA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37F9-F9D0-403B-B276-C4D0C8D0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D4C-7BBE-4103-A522-72CA164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36D-5DCC-4D5C-BD68-88FD3E1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F93-6B68-49E1-B699-ED00B25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F224-8E0B-48FD-95C9-939EA1C6397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435-7D3C-4B10-BFD2-16678959B9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1B6-91FE-4A2A-8518-5AECEDD4F1D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1A5-22AC-4D5C-A032-82D7D2012A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0AE-7D30-4853-901D-715BD5C560A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Средства формирования здорового образа жизни у детей дошкольного возраст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23640" y="4797360"/>
            <a:ext cx="6048360" cy="1703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трубен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Фёдо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/с  № 252 г. о. Сам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Ольга\Desktop\683aeee3c276b488edef565097e_prev.jpg"/>
          <p:cNvPicPr/>
          <p:nvPr/>
        </p:nvPicPr>
        <p:blipFill>
          <a:blip r:embed="rId1"/>
          <a:stretch/>
        </p:blipFill>
        <p:spPr>
          <a:xfrm>
            <a:off x="6516720" y="4149720"/>
            <a:ext cx="20206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324000" y="404640"/>
            <a:ext cx="8640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Как часто ребёнок употребляет следующие продукты питания (нужное отметить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ервы (исключая консервы для детского пита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иб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псы, сухар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зированные напит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портные сладости (сникерсы, сладкие плитки, сосательные конфеты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метить для каждого из пун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часто (ежедневно или несколько раз в неделю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огда (1 раз в неделю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дко (1-2 раза в недел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316080" y="3640680"/>
            <a:ext cx="87076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Стараетесь ли Вы в выходные дни соблюдать режим питания, к которому ребёнок привык в детском са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все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о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Ваша оценка состояния здоровья ребё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е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ительное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охое  (указать причину);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324000" y="5493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Какие профилактические мероприятия Вы проводите с ребёнком дома в связи с эпидемией ОРЗ, гриппа 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261360" y="990000"/>
            <a:ext cx="8655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Какими средствами народной медицины Вы пользуетесь во время болезни ребёнка? ___________________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Какие, на Ваш взгляд, оздоровительные мероприятия наиболее эффективны в детском саду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 заполнения анкеты : 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агодарим  Вас за участие в опросе и искренние ответы . 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10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1187280" y="476280"/>
            <a:ext cx="6291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4427640" y="260280"/>
            <a:ext cx="82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к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324000" y="768960"/>
            <a:ext cx="676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Болел ли ваш ребёнок последние полгода ?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 болел , перечислите заболевания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318600" y="1653480"/>
            <a:ext cx="6700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колько дней болел ваш ребёнок ?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371160" y="1885680"/>
            <a:ext cx="621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было причиной его болезни ? 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475560" y="2241720"/>
            <a:ext cx="6464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Есть ли у ребёнка дома постоянный режим дня ?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16080" y="2094840"/>
            <a:ext cx="851076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.Ежедневно ли ваш ребёнок делает утреннюю гимнастику ?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Ежедневно ли он чистит зубы ?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.Сколько времени ежедневно проводит ребёнок на свежем воздухе ? 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8.Употребляет ли ваш ребёнок фрукты и овощи? Сколько раз в ден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.Регулярно ли проводите с ребёнком закаливание ?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Всегда ли одеваете ребёнка по погоде ?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546640" y="624240"/>
            <a:ext cx="40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ёт ли ваш ребёнок здоровый образ жизни?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330840" y="692640"/>
            <a:ext cx="680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Занимается ли ребёнок в спортивной секции ?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327960" y="1341000"/>
            <a:ext cx="67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Есть ли у него книги о здоровье и здоровом образе жизни ?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328560" y="2063880"/>
            <a:ext cx="24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 за сотрудничеств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Users\Ольга\Desktop\zdorove.jpg"/>
          <p:cNvPicPr/>
          <p:nvPr/>
        </p:nvPicPr>
        <p:blipFill>
          <a:blip r:embed="rId1"/>
          <a:stretch/>
        </p:blipFill>
        <p:spPr>
          <a:xfrm>
            <a:off x="2411280" y="2781360"/>
            <a:ext cx="416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32280" y="549360"/>
            <a:ext cx="8536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овместной  деятельности с детьми педагог , сотрудничая с семьёй, обеспечивает восхожден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а к культуре здоровья . Роль родителей  в  сбережении здоровья ребёнка состоит в  гото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помощь и поддержку от специалистов  ДОУ в вопросах сохранения и укрепления здоров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, активном  участии в сохранении культурных традиций детского сада . Ведь в дошкольном возра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благоприятное  время для  выработки правильных привычек , которые в сочетании с обу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ов методам совершенствования и сохранения здоровья приведут к положительным  результа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324000" y="2843640"/>
            <a:ext cx="6662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ем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ёнок в детском са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 5 -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ёнок в детском са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 6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онов  Ю. Е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ый дошкольни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М:  Аркти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ина  Т. Л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храна здоровья детей в Д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: Мозаи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интез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нова  Т. Н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направления работы  ДОУ по повышению  психолого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й культуры родителей». – Дошкольное воспитание № 1. -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407880" y="4545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Users\Ольга\Desktop\d18dd0bcd0b1d0bbd0b5d0bcd0b0.png"/>
          <p:cNvPicPr/>
          <p:nvPr/>
        </p:nvPicPr>
        <p:blipFill>
          <a:blip r:embed="rId1"/>
          <a:stretch/>
        </p:blipFill>
        <p:spPr>
          <a:xfrm>
            <a:off x="6516720" y="4149720"/>
            <a:ext cx="2293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елаю успех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2974680" y="620640"/>
            <a:ext cx="55238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ый образ жизни – это система поведения  </a:t>
            </a:r>
            <a:r>
              <a:rPr b="0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умного челове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необходима для физического и социального благополучия 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тивного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долголет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Users\Ольга\Desktop\2vnqvf4.jpg"/>
          <p:cNvPicPr/>
          <p:nvPr/>
        </p:nvPicPr>
        <p:blipFill>
          <a:blip r:embed="rId1"/>
          <a:stretch/>
        </p:blipFill>
        <p:spPr>
          <a:xfrm>
            <a:off x="395280" y="2565360"/>
            <a:ext cx="8379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250920" y="438120"/>
            <a:ext cx="86421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ческая жизнь и здоровье являются высшей ценностью и должны быть бесспорным приоритетом в решении любых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ее десятилетие произошло значительное снижение уровня здоровья взрослого и , особенно, детского контингента населения нашей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той ситуации одним из ключевых вопросов является необходимость изменение подхода к формированию здоровья дошколь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казал академик Казначеев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намическое состояние (процесс) сохранения и развития биологических, физиологических и психологических функц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здоровья дошкольников обусловлено целым комплексом проблем и противореч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начительные информационные перегрузки детей, обусловленные содержанием образовательных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резмерная интенсификация образователь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ннее начало дошкольного систематического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сутствие целостной системы формирования здоров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о воспитывать здорового ребёнка можно лишь тогда, когда соблюдено единство детского сада и семьи в вопросах воспитания, оздоровления, распорядка дня, двигательной активности, гигиенических процедур, развития двигательных навыков. Поэтому очень важно оказывать необходимую помощь родителям, привлекать их к участию в совместных физкультурных мероприят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258480" y="476280"/>
            <a:ext cx="864792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на здоровье  и здоровый образ жизни формируется лишь в результате  определённого воздейств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значение приобретает педагогический компонент,  сущность которого состоит в  обучении здоров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ого раннего возра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этом возрасте формируются жизненно важные мотивы, в том числе и  мотивы здоровья. Поэтому 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етском саду  и в семье следу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ребёнка привычку к чистоте, аккуратности  и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овладению основами культурно – гигиенических 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онимать, как влияют физические упражнения на организм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равильно вести себя в ситуациях, угрожающих жизни и здоровью , а иногда и предотвращ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Ольга\Desktop\dsc02688.jpg"/>
          <p:cNvPicPr/>
          <p:nvPr/>
        </p:nvPicPr>
        <p:blipFill>
          <a:blip r:embed="rId1"/>
          <a:stretch/>
        </p:blipFill>
        <p:spPr>
          <a:xfrm>
            <a:off x="611280" y="3573360"/>
            <a:ext cx="1890720" cy="251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Ольга\Desktop\P1010312.jpg"/>
          <p:cNvPicPr/>
          <p:nvPr/>
        </p:nvPicPr>
        <p:blipFill>
          <a:blip r:embed="rId2"/>
          <a:stretch/>
        </p:blipFill>
        <p:spPr>
          <a:xfrm>
            <a:off x="5435640" y="3645000"/>
            <a:ext cx="3176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266920" y="765000"/>
          <a:ext cx="4502160" cy="5715000"/>
        </p:xfrm>
        <a:graphic>
          <a:graphicData uri="http://schemas.openxmlformats.org/drawingml/2006/table">
            <a:tbl>
              <a:tblPr/>
              <a:tblGrid>
                <a:gridCol w="249120"/>
                <a:gridCol w="1344600"/>
                <a:gridCol w="2908440"/>
              </a:tblGrid>
              <a:tr h="6858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11430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е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знакомите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интересовать и побудить родителей  включиться в учебно – воспитательный процесс по формированию здорового образа жизни, узнать как можно больше о ДО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ветите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ткрытие клуба «Здоровая семь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дбор методических рекомендаций по созданию здоровье сберегающе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распространение лучшего семейного воспит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дбор литературы по здоровому образу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с семьё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формирование взаимопомощи с семьёй в воспитании и НОД с 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оздание семейного клу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дчёркивание роли отца в воспитании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роведение семейных праздников, акций, дней открытых дверей, обеспечение совместного участия родителей и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богащение совместной деятельности родителей и детей в формировании совместных участков для двигательной актив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324000" y="364680"/>
            <a:ext cx="8609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 взаимодействия с родителями воспитанников в формировании здорового образа  жиз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Ольга\Desktop\474_0038.jpg"/>
          <p:cNvPicPr/>
          <p:nvPr/>
        </p:nvPicPr>
        <p:blipFill>
          <a:blip r:embed="rId1"/>
          <a:stretch/>
        </p:blipFill>
        <p:spPr>
          <a:xfrm>
            <a:off x="539640" y="549360"/>
            <a:ext cx="1806840" cy="25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Ольга\Desktop\1823.jpg"/>
          <p:cNvPicPr/>
          <p:nvPr/>
        </p:nvPicPr>
        <p:blipFill>
          <a:blip r:embed="rId2"/>
          <a:stretch/>
        </p:blipFill>
        <p:spPr>
          <a:xfrm>
            <a:off x="6156360" y="549360"/>
            <a:ext cx="2448000" cy="251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Ольга\Desktop\erschova2.jpg"/>
          <p:cNvPicPr/>
          <p:nvPr/>
        </p:nvPicPr>
        <p:blipFill>
          <a:blip r:embed="rId3"/>
          <a:stretch/>
        </p:blipFill>
        <p:spPr>
          <a:xfrm>
            <a:off x="2916360" y="3716280"/>
            <a:ext cx="2787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763640" y="1052640"/>
          <a:ext cx="5580000" cy="5276880"/>
        </p:xfrm>
        <a:graphic>
          <a:graphicData uri="http://schemas.openxmlformats.org/drawingml/2006/table">
            <a:tbl>
              <a:tblPr/>
              <a:tblGrid>
                <a:gridCol w="495360"/>
                <a:gridCol w="1704960"/>
                <a:gridCol w="3379680"/>
              </a:tblGrid>
              <a:tr h="71172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взаимодействия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151344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актив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кет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скуссия на родительских собраниях и семинар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круглый стол «Профилактика инфекционных заболеваний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специалистов (медицинского персонала ДОУ, врача,  физинструктора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родительские собрания «Мы за здоровый образ жизн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ни открытых дверей с показом физобородования и физкультурного зал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емейные спортивные соревнования к Дню защитника Отечества, летние спартакиа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кция «Здоровый образ жизни» - опыт р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чера развлечений «У доктора Айболи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ветитель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рганизация клуба «Здоровая семь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ыпуск информационных бюллете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тенд «Здоровье с детств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ые родительские уголки в групп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1"/>
          <p:cNvSpPr/>
          <p:nvPr/>
        </p:nvSpPr>
        <p:spPr>
          <a:xfrm>
            <a:off x="216000" y="334440"/>
            <a:ext cx="8928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существления поэтапного взаимодействия с родителями целесообразно использовать следующие фор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иды взаимодей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411280" y="297000"/>
            <a:ext cx="51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к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стём здоровы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88080" y="692280"/>
            <a:ext cx="187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94480" y="406800"/>
            <a:ext cx="8703000" cy="172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ше активное участие в анкетировании позволит нам оптимизировать учебно-воспитательный процесс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дить работу по оздоровлению вашего ребёнка, учитывая его индивидуальные особе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жалуйста, в каждом вопросе выберите и подчеркните нужный вариант от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Фамилия, имя ребёнка, дата рождения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Дорога до детского са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шком (сколько времени)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транспорте (сколько времени)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Гуляет ли Ваш ребёнок в выходные д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1 раз в день, 2 раза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 Режим с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ёнок вечером ложится спать в рабочие дни в _____ ч , поднимается в 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выходные дни ложится спать в _____ ч , поднимается в ______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 Спит ли ребёнок днём в выходные д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(указать продолжительность сн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95280" y="184464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 Сколько времени в день ребёно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отрит телевизор в рабочие дни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выходные дни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дит у компьютера в рабочие дни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выходные дни _____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 Где ребёнок был лет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мор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95280" y="3839400"/>
            <a:ext cx="8497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е 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 Знаете ли вы меню детского са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все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о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интересу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Какие продукты питания не ест Ваш ребёнок? _________________________________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466560" y="260280"/>
            <a:ext cx="45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 Делает ли ребёнок дома утреннюю гимнасти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о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в выходные д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всег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8:13:38Z</dcterms:created>
  <dc:creator>Ольга</dc:creator>
  <dc:description/>
  <dc:language>en-US</dc:language>
  <cp:lastModifiedBy>Ольга</cp:lastModifiedBy>
  <dcterms:modified xsi:type="dcterms:W3CDTF">2012-04-05T18:43:50Z</dcterms:modified>
  <cp:revision>88</cp:revision>
  <dc:subject/>
  <dc:title>Взаимодействие педагога с родителями в образовательной области «Здоровье»</dc:title>
</cp:coreProperties>
</file>