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breeze.wav" ContentType="audio/x-wav"/>
  <Override PartName="/ppt/media/type.wav" ContentType="audio/x-wav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80F-66B5-4F03-AF5B-4D24E9B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3AD-7B76-4331-ADDF-FA3CEC32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CFA-0F90-427B-802A-0F45050D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3DA-2FBF-4FEB-B8A0-E426D8B7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AF7F-8FC0-4F70-85A9-B96F5E59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6A8-CF36-413D-A860-1D25FB73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AFA2-1745-4967-89B4-9FFF742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B2F-DB01-4208-8FDE-D33EA017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1D9-0140-48D4-BE65-0CAA601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CB94-4E8B-43A3-80F3-4360996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CE3-DF88-45CC-9FC8-B319AC6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19F-1FD0-48CC-BA43-C9F3379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BDC-1CAD-4CAB-BC79-9E0050C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1DCE-C700-457A-9504-49D87A1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DFE8-37D3-4E72-A3E8-19CAEC9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AF1-7F1B-48D4-A1B8-D31C6D49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40F6-3CC8-4EB3-85D0-DB39D11E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1E75-729E-4FAD-9520-19CDCBAF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4973-6000-4768-89FC-5C6824C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E65A-F31D-4FA9-BF7F-54913219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F3B9-F64D-4F53-AD5B-7F44BAC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395D-6FFF-442B-A5F5-8115E06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F21-578C-42EB-B841-E522546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A571-9146-4F47-9C1E-111F228D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1190-6003-4D8C-B58B-EEE57D2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B27E-B57F-4FAE-AA19-A7A9A79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C361-4D59-4CDB-94B8-4E3A12C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923D-7FF7-482B-93A4-A5E77F6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E176-CE43-40AE-A381-B461FD76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3790-1219-4313-9203-68A25F05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BF0D-3CE8-444B-8199-30C5DBFB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E0C4-90CE-4DB1-9B38-60C0768F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DC26-882F-4BF1-959A-A0D56CB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842-ACF7-454B-AD6E-D3C928C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45E6-5DDB-456A-B129-BB06A2A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5E4B-1109-49DA-9B1B-AECFBB7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CBEB-4863-415C-82AD-7C0C2DDF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CE94-09EB-473B-ABBC-BC5B6C4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85B1-7392-40AE-A4BA-830F6A4C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26A4-3A37-467C-A2B4-FCFC88E0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7F37-2CF3-4E13-AD75-EC7275F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FB37-7294-4709-AC65-FE872D7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6BB9-CB91-476B-B2F7-33889FBC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E10-2927-48C5-A713-B71E5B5E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A2-F9E3-4895-830B-524B8956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33B-9F51-40BD-931B-5D06B9C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DAF-1F38-4C1D-9381-CF9AE7D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9EF-CE65-45C0-B5E9-FEF7CA1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D45-3D83-4ECD-9F31-2B5DD3AC8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7C6-D32E-4868-A4BF-E0DDB78C6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21A-96B1-4F3C-B8CF-258ECD876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117-46F3-49F0-85AB-0008052A22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90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МАТЕМАТ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692360" y="1196640"/>
            <a:ext cx="712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Л. В. Зан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ик  «Математика. 4 класс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 И. Арги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И. Иванов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Н. Корми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5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75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25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дготовка к новому материа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рмянская пословица «Как ни высока г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е отступай: пойдешь — перейдешь».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19280" y="2349360"/>
            <a:ext cx="792000" cy="86364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508720" y="2492280"/>
            <a:ext cx="1224000" cy="8636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79280" y="2421000"/>
            <a:ext cx="1079640" cy="718920"/>
          </a:xfrm>
          <a:prstGeom prst="parallelogram">
            <a:avLst>
              <a:gd name="adj" fmla="val 37544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948360" y="2349360"/>
            <a:ext cx="1800360" cy="1008360"/>
          </a:xfrm>
          <a:prstGeom prst="pi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2556000" y="2349360"/>
            <a:ext cx="1368360" cy="936720"/>
          </a:xfrm>
          <a:prstGeom prst="diamond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4067280" y="2492280"/>
            <a:ext cx="1152360" cy="935280"/>
          </a:xfrm>
          <a:prstGeom prst="hexagon">
            <a:avLst>
              <a:gd name="adj" fmla="val 30803"/>
              <a:gd name="vf" fmla="val 11547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95280" y="134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лишнюю фиг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0" y="303984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Разделите остальные фигуры на две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1680" y="39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324000" y="4437000"/>
            <a:ext cx="1079280" cy="719280"/>
          </a:xfrm>
          <a:prstGeom prst="parallelogram">
            <a:avLst>
              <a:gd name="adj" fmla="val 37513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7885080" y="4869000"/>
            <a:ext cx="792360" cy="86364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2195640" y="4437000"/>
            <a:ext cx="1368360" cy="936720"/>
          </a:xfrm>
          <a:prstGeom prst="diamond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5796000" y="4869000"/>
            <a:ext cx="1224000" cy="8636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684360" y="5300640"/>
            <a:ext cx="1800000" cy="1008000"/>
          </a:xfrm>
          <a:prstGeom prst="pi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-360"/>
            <a:ext cx="903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ите всё, что вы знаете об этих фигу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95280" y="1125360"/>
            <a:ext cx="4464000" cy="273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508720" y="1125360"/>
            <a:ext cx="2735280" cy="2737080"/>
          </a:xfrm>
          <a:prstGeom prst="rect">
            <a:avLst/>
          </a:prstGeom>
          <a:solidFill>
            <a:srgbClr val="99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149720"/>
            <a:ext cx="896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ейчас вам предстоит работа с листами исслед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Индийская пословица «Только опыт создает настоящего мастер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64"/>
          <p:cNvGraphicFramePr/>
          <p:nvPr/>
        </p:nvGraphicFramePr>
        <p:xfrm>
          <a:off x="1763640" y="0"/>
          <a:ext cx="518472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0"/>
                    <a:ext cx="518472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 Физкультурная пауз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868760" cy="367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2124000" y="115920"/>
            <a:ext cx="1435320" cy="3673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1628640"/>
            <a:ext cx="2017440" cy="388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6877080" y="1628640"/>
            <a:ext cx="1862280" cy="388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5"/>
          <a:srcRect l="2951" t="10311" r="0" b="18051"/>
          <a:stretch/>
        </p:blipFill>
        <p:spPr>
          <a:xfrm>
            <a:off x="108000" y="4005360"/>
            <a:ext cx="4608360" cy="2714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3751200" y="62064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Делу – время, 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ешение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 flipH="1">
            <a:off x="2268360" y="1484280"/>
            <a:ext cx="208944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356000" y="1484280"/>
            <a:ext cx="1728720" cy="72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87640" y="2205000"/>
            <a:ext cx="30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по учеб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 flipH="1" rot="21469200">
            <a:off x="5287680" y="3733560"/>
            <a:ext cx="2879640" cy="2935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-324000" y="6922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84360" y="5493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джикская 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а деле и разум явит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058720" y="2152800"/>
            <a:ext cx="36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ждение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ого зм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Сколько надо 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а на его изготовл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5292720" y="3716280"/>
            <a:ext cx="2879640" cy="7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5219640" y="3716280"/>
            <a:ext cx="73080" cy="266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725800" y="3357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50072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I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утылке, стакане, кувшине и банке налиты молоко, лимонад, квас и вода. Известно, что вода и молоко не в бутылке, в банке – не лимонад и не вода, а сосуд с лимонадом стоит между кувшином и сосудом с квасом. Стакан стоит около банки и сосуда с молоком. Определите, где какая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7928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 «Муравей не вел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 горы коп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70200" y="5229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**  При решении используйте индивидуаль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точки с таб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4"/>
          <p:cNvSpPr/>
          <p:nvPr/>
        </p:nvSpPr>
        <p:spPr>
          <a:xfrm>
            <a:off x="5940360" y="5157720"/>
            <a:ext cx="208764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3203640" y="5157720"/>
            <a:ext cx="2089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24000" y="5157720"/>
            <a:ext cx="194436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372360" y="3573360"/>
            <a:ext cx="24476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2916360" y="3573360"/>
            <a:ext cx="302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50920" y="3573360"/>
            <a:ext cx="24494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924360" y="2637000"/>
            <a:ext cx="4680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ывод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е светофор на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нятость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кучал                     Весь урок был занят д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одуктивность от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его нового    Получил новые           Сам до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знал       знания от учителя      новые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строение от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волен           Недоволен          Отлич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ом                    собой             настро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79280" y="47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онгольская послов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астойчивый дорогу осилит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6979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хождение площади прямоугольн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едение формулы площади прямоугольного треугольника. Применение полученных знаний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исследовательского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Постановка учебной задачи и формирование понятия о способе нахождения площади прямоугольн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Совершенствование знаний о многоугольниках, нахождении их периметра и площ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Развитие логического мышления, речи, памяти, творчества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Воспитание активной самостоятельной лич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90"/>
          <p:cNvSpPr/>
          <p:nvPr/>
        </p:nvSpPr>
        <p:spPr>
          <a:xfrm>
            <a:off x="6877080" y="115920"/>
            <a:ext cx="2158920" cy="28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5" descr=""/>
          <p:cNvPicPr/>
          <p:nvPr/>
        </p:nvPicPr>
        <p:blipFill>
          <a:blip r:embed="rId1">
            <a:lum bright="-6000"/>
          </a:blip>
          <a:stretch/>
        </p:blipFill>
        <p:spPr>
          <a:xfrm rot="2793600">
            <a:off x="6567840" y="3017160"/>
            <a:ext cx="480960" cy="873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16000" y="189000"/>
            <a:ext cx="89280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 с презент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для практической работы «Исследовательские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жницы, карандаш, линей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– макеты геометрических фигу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карточки с таблицей к логической за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форы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1224000" cy="874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4"/>
          <a:stretch/>
        </p:blipFill>
        <p:spPr>
          <a:xfrm>
            <a:off x="3708360" y="1773360"/>
            <a:ext cx="561960" cy="576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10"/>
          <p:cNvGraphicFramePr/>
          <p:nvPr/>
        </p:nvGraphicFramePr>
        <p:xfrm>
          <a:off x="6948360" y="115920"/>
          <a:ext cx="1959120" cy="2840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115920"/>
                    <a:ext cx="1959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12" descr=""/>
          <p:cNvPicPr/>
          <p:nvPr/>
        </p:nvPicPr>
        <p:blipFill>
          <a:blip r:embed="rId7"/>
          <a:stretch/>
        </p:blipFill>
        <p:spPr>
          <a:xfrm>
            <a:off x="4932360" y="335772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8"/>
          <a:stretch/>
        </p:blipFill>
        <p:spPr>
          <a:xfrm>
            <a:off x="5435640" y="3284640"/>
            <a:ext cx="792000" cy="608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"/>
          <p:cNvPicPr/>
          <p:nvPr/>
        </p:nvPicPr>
        <p:blipFill>
          <a:blip r:embed="rId9"/>
          <a:stretch/>
        </p:blipFill>
        <p:spPr>
          <a:xfrm>
            <a:off x="6300720" y="3933720"/>
            <a:ext cx="121464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724360" y="5157720"/>
          <a:ext cx="2087640" cy="1371600"/>
        </p:xfrm>
        <a:graphic>
          <a:graphicData uri="http://schemas.openxmlformats.org/drawingml/2006/table">
            <a:tbl>
              <a:tblPr/>
              <a:tblGrid>
                <a:gridCol w="642960"/>
                <a:gridCol w="357480"/>
                <a:gridCol w="357120"/>
                <a:gridCol w="357120"/>
                <a:gridCol w="37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а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191" descr=""/>
          <p:cNvPicPr/>
          <p:nvPr/>
        </p:nvPicPr>
        <p:blipFill>
          <a:blip r:embed="rId10"/>
          <a:stretch/>
        </p:blipFill>
        <p:spPr>
          <a:xfrm>
            <a:off x="4572000" y="1484280"/>
            <a:ext cx="957240" cy="1206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12"/>
          <p:cNvSpPr/>
          <p:nvPr/>
        </p:nvSpPr>
        <p:spPr>
          <a:xfrm rot="18591000">
            <a:off x="6264000" y="5337360"/>
            <a:ext cx="5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тыл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3"/>
          <p:cNvSpPr/>
          <p:nvPr/>
        </p:nvSpPr>
        <p:spPr>
          <a:xfrm rot="19242600">
            <a:off x="6660720" y="530028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4"/>
          <p:cNvSpPr/>
          <p:nvPr/>
        </p:nvSpPr>
        <p:spPr>
          <a:xfrm rot="17976600">
            <a:off x="7008480" y="53139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увш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5"/>
          <p:cNvSpPr/>
          <p:nvPr/>
        </p:nvSpPr>
        <p:spPr>
          <a:xfrm rot="18834000">
            <a:off x="7453800" y="530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ан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2" descr=""/>
          <p:cNvPicPr/>
          <p:nvPr/>
        </p:nvPicPr>
        <p:blipFill>
          <a:blip r:embed="rId11"/>
          <a:stretch/>
        </p:blipFill>
        <p:spPr>
          <a:xfrm>
            <a:off x="3924360" y="5084640"/>
            <a:ext cx="865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ХОД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рг.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Русская пословица «Принялся за де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                                 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к вперёд и смел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 примеры на умножение и деление в два или три действия на предложенные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55640" y="378828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,     12,     36,     24,     24,     3,    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,      72,      6,       9,      63,    3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,      5,       15,     81,      7,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5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9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стный счё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Таджикская пословица «Сильному человеку стыдно бояться рабо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аких значениях букв будут верными равен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2147 = 140    7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b = 78    3596 – р = 50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: 1933 = 0         1596 : е = 3    785 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785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3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= 0        у – 8743 = 1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5558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такое число, при котором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3 : х =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меет значение? 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ц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вали Сергей Львович. Дочь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али Мария Александровна. Как зва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го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Ответ: Александр Сергеевич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924360" y="3122640"/>
            <a:ext cx="47512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ите следующие числа в две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55, 4244, 7431, 3625, 1330, 22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акому признаку разделили? Как определили, чётное это число или нет? Сидящим за партой парам надо запомнить все чи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ошибку у мен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55         44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31         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25         2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79280" y="126828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55   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4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31         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625         2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4083480"/>
            <a:ext cx="84247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уммы эт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зности эт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произведение чисел 5555 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31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25 и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5111640" cy="40464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b7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III</a:t>
            </a: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. МИНУТКА  ОТДЫХ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68360" y="47592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ерсидская 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т труда без отдых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мей делать — умей и позабавиться»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42:58Z</dcterms:created>
  <dc:creator>Customer</dc:creator>
  <dc:description/>
  <dc:language>en-US</dc:language>
  <cp:lastModifiedBy>Лариса Владимировна</cp:lastModifiedBy>
  <dcterms:modified xsi:type="dcterms:W3CDTF">2013-02-28T05:38:05Z</dcterms:modified>
  <cp:revision>8</cp:revision>
  <dc:subject/>
  <dc:title> МАТЕМАТИКА </dc:title>
</cp:coreProperties>
</file>