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3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breeze.wav" ContentType="audio/x-wav"/>
  <Override PartName="/ppt/media/type.wav" ContentType="audio/x-wav"/>
  <Override PartName="/ppt/media/image1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BCE-D132-420F-9322-0A1BD414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8883-9045-481C-8D64-B7BD18B7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817A-E042-40C2-A0A3-245AB8A7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6E04-90CE-4E77-9660-175CA944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FBD3-C578-4B95-8E75-305BA516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4A03-E390-4025-A06E-315FFBA0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38E0-0DDC-47B5-96A7-2930966D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8FD5-F052-4727-8E29-988B27AA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E6D9-344F-4049-9CBE-30AED767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E732-BD65-4DB5-AABB-863EC398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5D94-0813-41CA-A53D-692D1172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6D32-E65E-4776-BBBE-5F6C636A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07E7-3E45-4252-9F1F-84E017A5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7061-50D9-4F10-B68E-6DF992F4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784B-24FE-473F-8776-98F4A5F9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B19C-8C94-46B4-B9D4-D5E7EF5A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ACD2-5CBD-46D8-8B42-852244DA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32EFE-47FC-4A55-8826-2D5DED96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0768D-02DB-49C0-B4B3-A578CACF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29426-9C0B-4098-8219-3C99FA59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681D1-24EF-433A-8E55-707739DA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6DCD2-25F4-4FF0-A7BB-503ADC6A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AA6-68B8-40CA-93F2-DE571186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DE7E4-5281-4922-9570-7D769A35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2CCFA-A7A3-4503-B140-5681A694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7349F-B726-4BF6-A040-5ACC87EC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99A50-A64D-40CF-900E-13D92EFC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B637B-CB15-4309-A5E4-ED7E87E0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FE9A5-0187-46A4-AFAF-965FCA12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85082-5B24-4545-A5FD-C401F64B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181B1-E1A3-4C97-87AA-EF2C18F7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52548-AC55-42E2-A177-EFCDC072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2BB27-363E-4E16-991A-303DB645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ED18-897C-4D6E-8636-F88527C3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7391C-ED68-44D6-BABB-AA4BB063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32930-CC11-44BC-B944-091815FC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27710-72AE-42CA-BD11-576EBE7C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567CE-EFC5-494C-A938-0644414C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CD301-3A9B-40AC-9F1C-D51DDF59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5E246-8F7C-4248-9776-6DD1E2EB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140D3-2882-4628-BDF9-9875B5A6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10394-FF60-46EB-ABC4-6E3743A3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DFF96-E6E5-42E2-B253-BB515275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D920-2501-4466-8E2B-6706E750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E699-A46F-47D5-B07B-BB02D2D2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5E32-16CC-4737-803A-E4DCC86F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F4C5-49FE-460B-8BDB-81750CA2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A35-4881-4C3E-8F01-7E86664C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BC5F-993D-4C29-AA06-DCDDBB7AD0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28C3-56F3-41D4-9451-0753DA0F7D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AE2C-586A-4D9A-942E-EE7AA59C4A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3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6A13-5A7E-4897-9AFD-3D59D7B646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907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МАТЕМАТИ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692360" y="1196640"/>
            <a:ext cx="712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а Л. В. Занк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ик  «Математика. 4 класс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. И. Аргин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. И. Ивановск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Н. Кормиш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75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75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375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725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4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одготовка к новому материал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Армянская пословица «Как ни высока го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не отступай: пойдешь — перейдешь».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1619280" y="2349360"/>
            <a:ext cx="792000" cy="863640"/>
          </a:xfrm>
          <a:prstGeom prst="rect">
            <a:avLst/>
          </a:prstGeom>
          <a:solidFill>
            <a:srgbClr val="99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5508720" y="2492280"/>
            <a:ext cx="1224000" cy="86364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179280" y="2421000"/>
            <a:ext cx="1079640" cy="718920"/>
          </a:xfrm>
          <a:prstGeom prst="parallelogram">
            <a:avLst>
              <a:gd name="adj" fmla="val 37544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6948360" y="2349360"/>
            <a:ext cx="1800360" cy="1008360"/>
          </a:xfrm>
          <a:prstGeom prst="pi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2556000" y="2349360"/>
            <a:ext cx="1368360" cy="936720"/>
          </a:xfrm>
          <a:prstGeom prst="diamond">
            <a:avLst/>
          </a:pr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4067280" y="2492280"/>
            <a:ext cx="1152360" cy="935280"/>
          </a:xfrm>
          <a:prstGeom prst="hexagon">
            <a:avLst>
              <a:gd name="adj" fmla="val 30803"/>
              <a:gd name="vf" fmla="val 115470"/>
            </a:avLst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395280" y="1340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. Найдите лишнюю фигу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0" y="3039840"/>
            <a:ext cx="89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. Разделите остальные фигуры на две груп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31680" y="39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2"/>
          <p:cNvSpPr/>
          <p:nvPr/>
        </p:nvSpPr>
        <p:spPr>
          <a:xfrm>
            <a:off x="324000" y="4437000"/>
            <a:ext cx="1079280" cy="719280"/>
          </a:xfrm>
          <a:prstGeom prst="parallelogram">
            <a:avLst>
              <a:gd name="adj" fmla="val 37513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7885080" y="4869000"/>
            <a:ext cx="792360" cy="863640"/>
          </a:xfrm>
          <a:prstGeom prst="rect">
            <a:avLst/>
          </a:prstGeom>
          <a:solidFill>
            <a:srgbClr val="99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4"/>
          <p:cNvSpPr/>
          <p:nvPr/>
        </p:nvSpPr>
        <p:spPr>
          <a:xfrm>
            <a:off x="2195640" y="4437000"/>
            <a:ext cx="1368360" cy="936720"/>
          </a:xfrm>
          <a:prstGeom prst="diamond">
            <a:avLst/>
          </a:pr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5796000" y="4869000"/>
            <a:ext cx="1224000" cy="86364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6"/>
          <p:cNvSpPr/>
          <p:nvPr/>
        </p:nvSpPr>
        <p:spPr>
          <a:xfrm>
            <a:off x="684360" y="5300640"/>
            <a:ext cx="1800000" cy="1008000"/>
          </a:xfrm>
          <a:prstGeom prst="pi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reez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18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-360"/>
            <a:ext cx="9036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жите всё, что вы знаете об этих фигу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95280" y="1125360"/>
            <a:ext cx="4464000" cy="273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5508720" y="1125360"/>
            <a:ext cx="2735280" cy="2737080"/>
          </a:xfrm>
          <a:prstGeom prst="rect">
            <a:avLst/>
          </a:prstGeom>
          <a:solidFill>
            <a:srgbClr val="99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0" y="4149720"/>
            <a:ext cx="8964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Сейчас вам предстоит работа с листами исследов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Индийская пословица «Только опыт создает настоящего мастера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Object 64"/>
          <p:cNvGraphicFramePr/>
          <p:nvPr/>
        </p:nvGraphicFramePr>
        <p:xfrm>
          <a:off x="1763640" y="0"/>
          <a:ext cx="5184720" cy="66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Object 6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0"/>
                    <a:ext cx="5184720" cy="66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4720" y="-360"/>
            <a:ext cx="48592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VI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. Физкультурная пауза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868760" cy="3672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2"/>
          <a:stretch/>
        </p:blipFill>
        <p:spPr>
          <a:xfrm>
            <a:off x="2124000" y="115920"/>
            <a:ext cx="1435320" cy="3673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788000" y="1628640"/>
            <a:ext cx="2017440" cy="388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"/>
          <p:cNvPicPr/>
          <p:nvPr/>
        </p:nvPicPr>
        <p:blipFill>
          <a:blip r:embed="rId4"/>
          <a:stretch/>
        </p:blipFill>
        <p:spPr>
          <a:xfrm>
            <a:off x="6877080" y="1628640"/>
            <a:ext cx="1862280" cy="3888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"/>
          <p:cNvPicPr/>
          <p:nvPr/>
        </p:nvPicPr>
        <p:blipFill>
          <a:blip r:embed="rId5"/>
          <a:srcRect l="2951" t="10311" r="0" b="18051"/>
          <a:stretch/>
        </p:blipFill>
        <p:spPr>
          <a:xfrm>
            <a:off x="108000" y="4005360"/>
            <a:ext cx="4608360" cy="27144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1"/>
          <p:cNvSpPr/>
          <p:nvPr/>
        </p:nvSpPr>
        <p:spPr>
          <a:xfrm>
            <a:off x="3751200" y="620640"/>
            <a:ext cx="538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Русская послов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«Делу – время, потехе – 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Решение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 flipH="1">
            <a:off x="2268360" y="1484280"/>
            <a:ext cx="2089440" cy="719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356000" y="1484280"/>
            <a:ext cx="1728720" cy="7207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187640" y="2205000"/>
            <a:ext cx="308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ка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я по учебн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1"/>
          <a:stretch/>
        </p:blipFill>
        <p:spPr>
          <a:xfrm flipH="1" rot="21469200">
            <a:off x="5287680" y="3733560"/>
            <a:ext cx="2879640" cy="2935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-324000" y="69228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684360" y="549360"/>
            <a:ext cx="73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Таджикская послов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                     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«На деле и разум явится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5058720" y="2152800"/>
            <a:ext cx="368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ждение площ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шного зм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Сколько надо куп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а на его изготовл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5292720" y="3716280"/>
            <a:ext cx="2879640" cy="73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5219640" y="3716280"/>
            <a:ext cx="73080" cy="2664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5725800" y="33577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д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4500720" y="450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д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II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еская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утылке, стакане, кувшине и банке налиты молоко, лимонад, квас и вода. Известно, что вода и молоко не в бутылке, в банке – не лимонад и не вода, а сосуд с лимонадом стоит между кувшином и сосудом с квасом. Стакан стоит около банки и сосуда с молоком. Определите, где какая жид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179280" y="765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Русская пословица «Муравей не вели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                                                     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а горы копае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970200" y="5229360"/>
            <a:ext cx="77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***  При решении используйте индивидуальны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рточки с таблиц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4"/>
          <p:cNvSpPr/>
          <p:nvPr/>
        </p:nvSpPr>
        <p:spPr>
          <a:xfrm>
            <a:off x="5940360" y="5157720"/>
            <a:ext cx="208764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3203640" y="5157720"/>
            <a:ext cx="2089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324000" y="5157720"/>
            <a:ext cx="194436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6372360" y="3573360"/>
            <a:ext cx="24476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2916360" y="3573360"/>
            <a:ext cx="3024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250920" y="3573360"/>
            <a:ext cx="244944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924360" y="2637000"/>
            <a:ext cx="468000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468360" y="2565360"/>
            <a:ext cx="1511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Вывод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е светофор настро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Занятость на у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скучал                     Весь урок был занят де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одуктивность от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чего нового    Получил новые           Сам добы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узнал       знания от учителя      новые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астроение от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волен           Недоволен          Отлич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ом                    собой             настрое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179280" y="47592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Монгольская послов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                     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«Настойчивый дорогу осилит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1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500"/>
                            </p:stCondLst>
                            <p:childTnLst>
                              <p:par>
                                <p:cTn id="57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1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10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10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78920" y="115560"/>
            <a:ext cx="869796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хождение площади прямоугольного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ведение формулы площади прямоугольного треугольника. Применение полученных знаний на прак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ктическая работа исследовательского ти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Постановка учебной задачи и формирование понятия о способе нахождения площади прямоугольного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 Совершенствование знаний о многоугольниках, нахождении их периметра и площа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 Развитие логического мышления, речи, памяти, творчества уча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. Воспитание активной самостоятельной личност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500"/>
                            </p:stCondLst>
                            <p:childTnLst>
                              <p:par>
                                <p:cTn id="70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6000"/>
                            </p:stCondLst>
                            <p:childTnLst>
                              <p:par>
                                <p:cTn id="95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90"/>
          <p:cNvSpPr/>
          <p:nvPr/>
        </p:nvSpPr>
        <p:spPr>
          <a:xfrm>
            <a:off x="6877080" y="115920"/>
            <a:ext cx="2158920" cy="288144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5" descr=""/>
          <p:cNvPicPr/>
          <p:nvPr/>
        </p:nvPicPr>
        <p:blipFill>
          <a:blip r:embed="rId1">
            <a:lum bright="-6000"/>
          </a:blip>
          <a:stretch/>
        </p:blipFill>
        <p:spPr>
          <a:xfrm rot="2793600">
            <a:off x="6567840" y="3017160"/>
            <a:ext cx="480960" cy="873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216000" y="189000"/>
            <a:ext cx="892800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 с презентац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и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ы для практической работы «Исследовательские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жницы, карандаш, линей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ы – макеты геометрических фигу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ые карточки с таблицей к логической зада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офоры настро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2"/>
          <a:stretch/>
        </p:blipFill>
        <p:spPr>
          <a:xfrm>
            <a:off x="2700360" y="189000"/>
            <a:ext cx="1440000" cy="1150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3"/>
          <a:stretch/>
        </p:blipFill>
        <p:spPr>
          <a:xfrm>
            <a:off x="4427640" y="404640"/>
            <a:ext cx="1224000" cy="874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4"/>
          <a:stretch/>
        </p:blipFill>
        <p:spPr>
          <a:xfrm>
            <a:off x="3708360" y="1773360"/>
            <a:ext cx="561960" cy="576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10"/>
          <p:cNvGraphicFramePr/>
          <p:nvPr/>
        </p:nvGraphicFramePr>
        <p:xfrm>
          <a:off x="6948360" y="115920"/>
          <a:ext cx="1959120" cy="2840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9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48360" y="115920"/>
                    <a:ext cx="195912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Picture 12" descr=""/>
          <p:cNvPicPr/>
          <p:nvPr/>
        </p:nvPicPr>
        <p:blipFill>
          <a:blip r:embed="rId7"/>
          <a:stretch/>
        </p:blipFill>
        <p:spPr>
          <a:xfrm>
            <a:off x="4932360" y="3357720"/>
            <a:ext cx="433440" cy="433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"/>
          <p:cNvPicPr/>
          <p:nvPr/>
        </p:nvPicPr>
        <p:blipFill>
          <a:blip r:embed="rId8"/>
          <a:stretch/>
        </p:blipFill>
        <p:spPr>
          <a:xfrm>
            <a:off x="5435640" y="3284640"/>
            <a:ext cx="792000" cy="608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6" descr=""/>
          <p:cNvPicPr/>
          <p:nvPr/>
        </p:nvPicPr>
        <p:blipFill>
          <a:blip r:embed="rId9"/>
          <a:stretch/>
        </p:blipFill>
        <p:spPr>
          <a:xfrm>
            <a:off x="6300720" y="3933720"/>
            <a:ext cx="1214640" cy="4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5724360" y="5157720"/>
          <a:ext cx="2087640" cy="1371600"/>
        </p:xfrm>
        <a:graphic>
          <a:graphicData uri="http://schemas.openxmlformats.org/drawingml/2006/table">
            <a:tbl>
              <a:tblPr/>
              <a:tblGrid>
                <a:gridCol w="642960"/>
                <a:gridCol w="357480"/>
                <a:gridCol w="357120"/>
                <a:gridCol w="357120"/>
                <a:gridCol w="372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к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она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191" descr=""/>
          <p:cNvPicPr/>
          <p:nvPr/>
        </p:nvPicPr>
        <p:blipFill>
          <a:blip r:embed="rId10"/>
          <a:stretch/>
        </p:blipFill>
        <p:spPr>
          <a:xfrm>
            <a:off x="4572000" y="1484280"/>
            <a:ext cx="957240" cy="1206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12"/>
          <p:cNvSpPr/>
          <p:nvPr/>
        </p:nvSpPr>
        <p:spPr>
          <a:xfrm rot="18591000">
            <a:off x="6264000" y="5337360"/>
            <a:ext cx="57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утыл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13"/>
          <p:cNvSpPr/>
          <p:nvPr/>
        </p:nvSpPr>
        <p:spPr>
          <a:xfrm rot="19242600">
            <a:off x="6660720" y="5300280"/>
            <a:ext cx="49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ака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4"/>
          <p:cNvSpPr/>
          <p:nvPr/>
        </p:nvSpPr>
        <p:spPr>
          <a:xfrm rot="17976600">
            <a:off x="7008480" y="5313960"/>
            <a:ext cx="52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увши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15"/>
          <p:cNvSpPr/>
          <p:nvPr/>
        </p:nvSpPr>
        <p:spPr>
          <a:xfrm rot="18834000">
            <a:off x="7453800" y="53010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ан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32" descr=""/>
          <p:cNvPicPr/>
          <p:nvPr/>
        </p:nvPicPr>
        <p:blipFill>
          <a:blip r:embed="rId11"/>
          <a:stretch/>
        </p:blipFill>
        <p:spPr>
          <a:xfrm>
            <a:off x="3924360" y="5084640"/>
            <a:ext cx="865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250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25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1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1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ХОД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Орг. мо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Русская пословица «Принялся за дел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                                   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так вперёд и смел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думай примеры на умножение и деление в два или три действия на предложенные 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755640" y="3788280"/>
            <a:ext cx="755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,     12,     36,     24,     24,     3,     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,      72,      6,       9,      63,    3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,      5,       15,     81,      7,      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1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5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9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Устный счё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Таджикская пословица «Сильному человеку стыдно бояться работ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каких значениях букв будут верными равен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2147 = 140    7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b = 78    3596 – р = 506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: 1933 = 0         1596 : е = 3    785 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785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23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= 0        у – 8743 = 1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5558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и такое число, при котором вы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3 : х = 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имеет значение? 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ц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го челове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вали Сергей Львович. Дочь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го челове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али Мария Александровна. Как звал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го челове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Ответ: Александр Сергеевич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3924360" y="3122640"/>
            <a:ext cx="475128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еделите следующие числа в две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555, 4244, 7431, 3625, 1330, 221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какому признаку разделили? Как определили, чётное это число или нет? Сидящим за партой парам надо запомнить все чис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856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ошибку у меня на дос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555         44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431         13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625         22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179280" y="1268280"/>
            <a:ext cx="482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555        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42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431         13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625         22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95280" y="4083480"/>
            <a:ext cx="842472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суммы этих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разности этих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произведение чисел 5555 и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431 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625 и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0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3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6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95280" y="115920"/>
            <a:ext cx="5111640" cy="40464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ffffb7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III</a:t>
            </a:r>
            <a:r>
              <a:rPr b="1" lang="ru-RU" sz="2800" spc="-1" strike="noStrike">
                <a:solidFill>
                  <a:srgbClr val="990000"/>
                </a:solidFill>
                <a:latin typeface="Arial Black"/>
              </a:rPr>
              <a:t>. МИНУТКА  ОТДЫХ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468360" y="47592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Персидская пословица о тру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«Нет труда без отдых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умей делать — умей и позабавиться».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0" y="495360"/>
            <a:ext cx="914400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1:42:58Z</dcterms:created>
  <dc:creator>Customer</dc:creator>
  <dc:description/>
  <dc:language>en-US</dc:language>
  <cp:lastModifiedBy>Лариса Владимировна</cp:lastModifiedBy>
  <dcterms:modified xsi:type="dcterms:W3CDTF">2013-02-28T05:38:05Z</dcterms:modified>
  <cp:revision>8</cp:revision>
  <dc:subject/>
  <dc:title> МАТЕМАТИКА </dc:title>
</cp:coreProperties>
</file>