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7.gif" ContentType="image/gif"/>
  <Override PartName="/ppt/media/image21.gif" ContentType="image/gif"/>
  <Override PartName="/ppt/media/image20.jpeg" ContentType="image/jpeg"/>
  <Override PartName="/ppt/media/image8.gif" ContentType="image/gif"/>
  <Override PartName="/ppt/media/image33.gif" ContentType="image/gif"/>
  <Override PartName="/ppt/media/image27.jpeg" ContentType="image/jpeg"/>
  <Override PartName="/ppt/media/image6.jpeg" ContentType="image/jpeg"/>
  <Override PartName="/ppt/media/image26.jpeg" ContentType="image/jpeg"/>
  <Override PartName="/ppt/media/image19.jpeg" ContentType="image/jpeg"/>
  <Override PartName="/ppt/media/image32.gif" ContentType="image/gif"/>
  <Override PartName="/ppt/media/image9.jpeg" ContentType="image/jpeg"/>
  <Override PartName="/ppt/media/image11.jpeg" ContentType="image/jpeg"/>
  <Override PartName="/ppt/media/image31.gif" ContentType="image/gif"/>
  <Override PartName="/ppt/media/image12.jpeg" ContentType="image/jpeg"/>
  <Override PartName="/ppt/media/image10.gif" ContentType="image/gif"/>
  <Override PartName="/ppt/media/image13.jpeg" ContentType="image/jpeg"/>
  <Override PartName="/ppt/media/image30.gif" ContentType="image/gif"/>
  <Override PartName="/ppt/media/image14.jpeg" ContentType="image/jpeg"/>
  <Override PartName="/ppt/media/image34.gif" ContentType="image/gif"/>
  <Override PartName="/ppt/media/image4.jpeg" ContentType="image/jpeg"/>
  <Override PartName="/ppt/media/image18.jpeg" ContentType="image/jpeg"/>
  <Override PartName="/ppt/media/image22.gif" ContentType="image/gif"/>
  <Override PartName="/ppt/media/image25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1.jpeg" ContentType="image/jpeg"/>
  <Override PartName="/ppt/media/image5.jpeg" ContentType="image/jpeg"/>
  <Override PartName="/ppt/media/image15.gif" ContentType="image/gif"/>
  <Override PartName="/ppt/media/image28.jpeg" ContentType="image/jpeg"/>
  <Override PartName="/ppt/media/image16.jpeg" ContentType="image/jpeg"/>
  <Override PartName="/ppt/media/image17.jpeg" ContentType="image/jpeg"/>
  <Override PartName="/ppt/media/image2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B8CB-F111-45F9-AF92-EB4A374BC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5316-41CD-48AE-B7AF-1AF8D5E6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6D3E-6C1B-4A3F-A923-815AABD0F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66C7-10F1-4E12-A224-618EEBBA2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45F2-7269-4EC8-AEC0-0703E72B1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C685-DBD6-4FE8-A18C-D28E97B6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61B86-B7B3-43BD-8280-777143A8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CD6D-D6EE-4853-9A3F-DC7387AA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F80E-1A7D-44F3-8849-4B416E2B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A500-9127-4AE5-8B7A-EC1951D6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0415-068D-4C04-8CAD-181CB179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866E-2770-4A4F-AEEF-04FF644A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B17D-6BD3-493F-ACF9-639D8577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605E-726C-429A-9355-B0CF1BAA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09C0-A4F9-493E-8695-69512BA7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A8196-B8DA-46FB-90D2-355763C27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EA498-E38E-43C3-BF45-750F809E1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96D7-98CC-417C-A0CC-62D9E01D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0BFD-F4F4-4D61-AF76-74950F529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2B64-54C9-4554-B779-BE607021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312A-D23A-4E89-B0D3-BF5F4C9A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D11D-BBE0-47BD-93DB-FC884E92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3601-4C8E-4360-8AD8-FE812AC8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442C-CF5F-47BB-AE2B-8476C49B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4B7E-4864-4451-AB2B-34E3860D7E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0182-5CF9-4E8D-A4D1-083B1CF589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gif"/><Relationship Id="rId3" Type="http://schemas.openxmlformats.org/officeDocument/2006/relationships/image" Target="../media/image7.gif"/><Relationship Id="rId4" Type="http://schemas.openxmlformats.org/officeDocument/2006/relationships/image" Target="../media/image32.gif"/><Relationship Id="rId5" Type="http://schemas.openxmlformats.org/officeDocument/2006/relationships/image" Target="../media/image33.gif"/><Relationship Id="rId6" Type="http://schemas.openxmlformats.org/officeDocument/2006/relationships/image" Target="../media/image23.gif"/><Relationship Id="rId7" Type="http://schemas.openxmlformats.org/officeDocument/2006/relationships/image" Target="../media/image21.gif"/><Relationship Id="rId8" Type="http://schemas.openxmlformats.org/officeDocument/2006/relationships/image" Target="../media/image34.gif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15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1149a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76720" y="836640"/>
            <a:ext cx="208728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иты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1847880" cy="14288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443640" y="4365720"/>
            <a:ext cx="2102040" cy="18604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826920" y="4869000"/>
            <a:ext cx="2162520" cy="14284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6300720" y="2222640"/>
            <a:ext cx="2263680" cy="16984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3419640" y="3429000"/>
            <a:ext cx="2511360" cy="18669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095480" y="359244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елух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067280" y="50133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ерый к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58920" y="6165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иний к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948360" y="3645000"/>
            <a:ext cx="1511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сат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77080" y="602136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шал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7308720" y="5084640"/>
            <a:ext cx="860400" cy="7923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4211640" y="4221000"/>
            <a:ext cx="1224000" cy="15130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179280" y="3213000"/>
            <a:ext cx="714600" cy="11908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7020000" y="692280"/>
            <a:ext cx="1428840" cy="9619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8028000" y="2421000"/>
            <a:ext cx="863640" cy="11779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6"/>
          <a:stretch/>
        </p:blipFill>
        <p:spPr>
          <a:xfrm>
            <a:off x="4572000" y="907920"/>
            <a:ext cx="571680" cy="7430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7"/>
          <a:stretch/>
        </p:blipFill>
        <p:spPr>
          <a:xfrm>
            <a:off x="1042920" y="1268280"/>
            <a:ext cx="930240" cy="5763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8"/>
          <a:stretch/>
        </p:blipFill>
        <p:spPr>
          <a:xfrm>
            <a:off x="755640" y="5013360"/>
            <a:ext cx="1434960" cy="12621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2268360" y="3141720"/>
            <a:ext cx="5328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71640" y="270828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ЛЮБИТЕ И БЕРЕГИТЕ КИТОВ!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иний ки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715000" cy="38005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877080" y="4581360"/>
            <a:ext cx="1079640" cy="16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ес синего кита – до 150 тон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два раза превышает вес самого крупного динозавра и в тридцать раз тяжелее американского сло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300720" y="4653000"/>
            <a:ext cx="2087640" cy="17272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39640" y="3429000"/>
            <a:ext cx="4896000" cy="28083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6012000" y="3068640"/>
            <a:ext cx="17287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Китовый ус задерживает крошечных рачков, небольших рыбок и кальмаров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иллион калорий в день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24000" y="5445000"/>
            <a:ext cx="1584000" cy="10702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651640" y="2276640"/>
            <a:ext cx="2855880" cy="19317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3851280" y="4797360"/>
            <a:ext cx="2133720" cy="1428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826920" y="2421000"/>
            <a:ext cx="31687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Китовый фонта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195640" y="4508640"/>
            <a:ext cx="936360" cy="8636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4716360" y="3068640"/>
            <a:ext cx="4067280" cy="264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755640" y="1773360"/>
            <a:ext cx="3311640" cy="19335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611280" y="3429000"/>
            <a:ext cx="914400" cy="609480"/>
          </a:xfrm>
          <a:prstGeom prst="cloudCallout">
            <a:avLst>
              <a:gd name="adj1" fmla="val 153125"/>
              <a:gd name="adj2" fmla="val 15286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Ныряет на глубину до километра и может находиться там 40 минут. 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5238720" cy="32385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6156360" y="2492280"/>
            <a:ext cx="2152440" cy="14288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6659640" y="4724280"/>
            <a:ext cx="1617480" cy="11415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2124000" y="5589720"/>
            <a:ext cx="107964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Звуки кита сильнее чем рёв реактивного самолёт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6443640" y="2689200"/>
            <a:ext cx="1441440" cy="12254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1692360" y="2751120"/>
            <a:ext cx="1224000" cy="11095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3059280" y="3213000"/>
            <a:ext cx="3025440" cy="557280"/>
          </a:xfrm>
          <a:prstGeom prst="leftRightArrow">
            <a:avLst>
              <a:gd name="adj1" fmla="val 50000"/>
              <a:gd name="adj2" fmla="val 10807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19640" y="2492280"/>
            <a:ext cx="23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1,5 тыс. к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4284720" y="4581360"/>
            <a:ext cx="85896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Вес китёнка - более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2 000 кг, длина – 7 м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4788000" y="1844640"/>
            <a:ext cx="3311280" cy="29224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1187280" y="1844640"/>
            <a:ext cx="2160720" cy="16207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1187280" y="4797360"/>
            <a:ext cx="895680" cy="14288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2484360" y="5229360"/>
            <a:ext cx="60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день выпивает 350 литров материнского моло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Охота на кит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юди уничтожают синих китов из-за китового жира, мяса и ус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219640" y="4941720"/>
            <a:ext cx="2017800" cy="16448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1619280" y="3068640"/>
            <a:ext cx="2881440" cy="23572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6156360" y="2708280"/>
            <a:ext cx="152856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2T12:14:10Z</dcterms:created>
  <dc:creator>Alena</dc:creator>
  <dc:description/>
  <dc:language>en-US</dc:language>
  <cp:lastModifiedBy>Alena</cp:lastModifiedBy>
  <dcterms:modified xsi:type="dcterms:W3CDTF">2012-11-22T14:53:16Z</dcterms:modified>
  <cp:revision>7</cp:revision>
  <dc:subject/>
  <dc:title>Слайд 1</dc:title>
</cp:coreProperties>
</file>