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1.gif" ContentType="image/gif"/>
  <Override PartName="/ppt/media/image20.jpeg" ContentType="image/jpeg"/>
  <Override PartName="/ppt/media/image8.gif" ContentType="image/gif"/>
  <Override PartName="/ppt/media/image33.gif" ContentType="image/gif"/>
  <Override PartName="/ppt/media/image27.jpeg" ContentType="image/jpeg"/>
  <Override PartName="/ppt/media/image6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9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10.gif" ContentType="image/gif"/>
  <Override PartName="/ppt/media/image13.jpeg" ContentType="image/jpeg"/>
  <Override PartName="/ppt/media/image30.gif" ContentType="image/gif"/>
  <Override PartName="/ppt/media/image14.jpeg" ContentType="image/jpeg"/>
  <Override PartName="/ppt/media/image34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8D3-B1BA-4EAA-B723-E1071A48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DEC-2AE6-4CAF-94D5-8B43D8C1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C2D-4ED8-4D55-8F9C-34BED496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60F-13CE-494B-B0A2-132A45A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DE44-87C7-4A08-87E4-588CA164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015-80AA-4819-B918-EDEBE8AD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0F9-C396-4B80-B64C-C1223893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595-C801-479B-9872-FC5A978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6700-7EF9-48A1-8540-02C86D4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F92-2714-4BA8-B530-08FD499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7A3-E35D-4401-BE6C-D414B25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5C6-2E7D-4B5C-8908-036778E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8ED4-4C3F-4770-B02E-99A39BEB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928A-5AD2-423E-A8F1-2418723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CF6-8B36-4FCB-8AFD-FFF89FDD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0863-BDE4-4EFC-9E0D-57748B08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AE1E-7245-4AE8-ACCE-8776C247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58E-107A-471B-BAA9-3686B12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419-01D5-4A26-B55B-FC9F043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E61-6A4D-44D8-9EFA-C7FF5BA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8DC-625E-4EB6-9A74-BFCD1D4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977-E40E-41F3-A53E-8BA50B0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E74-94D0-4659-9D6A-6679CE1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593-E6FA-4177-80C0-AB99A45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3B8-001C-4F09-B0E5-49DB47011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CDD-C213-4B6C-B2C9-006C2A50D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7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5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14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76720" y="836640"/>
            <a:ext cx="208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т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2102040" cy="186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2162520" cy="1428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300720" y="2222640"/>
            <a:ext cx="2263680" cy="1698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419640" y="3429000"/>
            <a:ext cx="251136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95480" y="35924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501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ый 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ий 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48360" y="364500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са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6021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ша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308720" y="5084640"/>
            <a:ext cx="860400" cy="792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1224000" cy="1513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714600" cy="1190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020000" y="69228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8028000" y="2421000"/>
            <a:ext cx="863640" cy="117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572000" y="907920"/>
            <a:ext cx="571680" cy="7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1042920" y="1268280"/>
            <a:ext cx="930240" cy="576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55640" y="5013360"/>
            <a:ext cx="1434960" cy="12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68360" y="3141720"/>
            <a:ext cx="53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2708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ЮБИТЕ И БЕРЕГИТЕ КИТОВ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07964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с синего кита – до 150 тон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два раза превышает вес самого крупного динозавра и в тридцать раз тяжелее американского сл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89600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итовый ус задерживает крошечных рачков, небольших рыбок и кальмар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ллион калорий в де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5445000"/>
            <a:ext cx="1584000" cy="1070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855880" cy="1931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479736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3168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итовый фон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936360" cy="86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67280" cy="264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3311640" cy="1933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914400" cy="609480"/>
          </a:xfrm>
          <a:prstGeom prst="cloudCallout">
            <a:avLst>
              <a:gd name="adj1" fmla="val 153125"/>
              <a:gd name="adj2" fmla="val 15286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ыряет на глубину до километра и может находиться там 40 минут.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238720" cy="323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659640" y="4724280"/>
            <a:ext cx="1617480" cy="1141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24000" y="5589720"/>
            <a:ext cx="10796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вуки кита сильнее чем рёв реактивного самолё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443640" y="268920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692360" y="2751120"/>
            <a:ext cx="122400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59280" y="3213000"/>
            <a:ext cx="3025440" cy="557280"/>
          </a:xfrm>
          <a:prstGeom prst="leftRightArrow">
            <a:avLst>
              <a:gd name="adj1" fmla="val 50000"/>
              <a:gd name="adj2" fmla="val 10807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24922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,5 тыс.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8589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ес китёнка - боле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 000 кг, длина – 7 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311280" cy="2922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187280" y="4797360"/>
            <a:ext cx="8956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484360" y="5229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день выпивает 350 литров материнского мо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хота на ки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и уничтожают синих китов из-за китового жира, мяса и 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219640" y="4941720"/>
            <a:ext cx="2017800" cy="1644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2881440" cy="2357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285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2:14:10Z</dcterms:created>
  <dc:creator>Alena</dc:creator>
  <dc:description/>
  <dc:language>en-US</dc:language>
  <cp:lastModifiedBy>Alena</cp:lastModifiedBy>
  <dcterms:modified xsi:type="dcterms:W3CDTF">2012-11-22T14:53:16Z</dcterms:modified>
  <cp:revision>7</cp:revision>
  <dc:subject/>
  <dc:title>Слайд 1</dc:title>
</cp:coreProperties>
</file>