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2.jpeg" ContentType="image/jpeg"/>
  <Override PartName="/ppt/media/image1.jpeg" ContentType="image/jpeg"/>
  <Override PartName="/ppt/media/image4.gif" ContentType="image/gif"/>
  <Override PartName="/ppt/media/image29.png" ContentType="image/png"/>
  <Override PartName="/ppt/media/image27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5.jpeg" ContentType="image/jpeg"/>
  <Override PartName="/ppt/media/image10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12.jpeg" ContentType="image/jpeg"/>
  <Override PartName="/ppt/media/image9.jpeg" ContentType="image/jpeg"/>
  <Override PartName="/ppt/media/image11.png" ContentType="image/png"/>
  <Override PartName="/ppt/media/image2.gif" ContentType="image/gif"/>
  <Override PartName="/ppt/media/image19.jpeg" ContentType="image/jpeg"/>
  <Override PartName="/ppt/media/image28.png" ContentType="image/png"/>
  <Override PartName="/ppt/media/image7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3.gif" ContentType="image/gif"/>
  <Override PartName="/ppt/media/image26.png" ContentType="image/png"/>
  <Override PartName="/ppt/media/image18.jpeg" ContentType="image/jpeg"/>
  <Override PartName="/ppt/media/image20.jpeg" ContentType="image/jpeg"/>
  <Override PartName="/ppt/media/image21.png" ContentType="image/png"/>
  <Override PartName="/ppt/media/image2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C463-3752-403D-AB66-AD3BF0334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DF9C-ABD0-4EB7-AE6A-A87C0785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9457-8754-46AB-8030-3CFDF2AC6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6C5E-7512-4DA1-B3A5-F982F7752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3AD7-8E84-465F-B79A-80FEEBCA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BF42-884C-482B-A13B-CBB97AB1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2E3C-01C2-468F-87A3-069D8812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FAFC-5799-4FCC-9DFC-C12DC97B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8057-C047-4DD9-93EF-3BAE101D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139A-43AA-4BB8-B5E5-0748A71C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151B-86EE-4494-9F98-5E42B6F1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0EFE-8B4B-46FB-AB88-F5785D9E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191D-DC93-4EC6-8510-605352B7F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4.gif"/><Relationship Id="rId3" Type="http://schemas.openxmlformats.org/officeDocument/2006/relationships/image" Target="../media/image3.gi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8.png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gif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3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4.jpeg"/><Relationship Id="rId14" Type="http://schemas.openxmlformats.org/officeDocument/2006/relationships/image" Target="../media/image14.jpeg"/><Relationship Id="rId15" Type="http://schemas.openxmlformats.org/officeDocument/2006/relationships/image" Target="../media/image14.jpeg"/><Relationship Id="rId16" Type="http://schemas.openxmlformats.org/officeDocument/2006/relationships/image" Target="../media/image14.jpeg"/><Relationship Id="rId17" Type="http://schemas.openxmlformats.org/officeDocument/2006/relationships/image" Target="../media/image14.jpeg"/><Relationship Id="rId18" Type="http://schemas.openxmlformats.org/officeDocument/2006/relationships/image" Target="../media/image14.jpeg"/><Relationship Id="rId19" Type="http://schemas.openxmlformats.org/officeDocument/2006/relationships/image" Target="../media/image14.jpeg"/><Relationship Id="rId20" Type="http://schemas.openxmlformats.org/officeDocument/2006/relationships/image" Target="../media/image14.jpeg"/><Relationship Id="rId21" Type="http://schemas.openxmlformats.org/officeDocument/2006/relationships/image" Target="../media/image14.jpeg"/><Relationship Id="rId22" Type="http://schemas.openxmlformats.org/officeDocument/2006/relationships/image" Target="../media/image14.jpeg"/><Relationship Id="rId23" Type="http://schemas.openxmlformats.org/officeDocument/2006/relationships/image" Target="../media/image14.jpeg"/><Relationship Id="rId24" Type="http://schemas.openxmlformats.org/officeDocument/2006/relationships/image" Target="../media/image14.jpeg"/><Relationship Id="rId25" Type="http://schemas.openxmlformats.org/officeDocument/2006/relationships/image" Target="../media/image14.jpeg"/><Relationship Id="rId26" Type="http://schemas.openxmlformats.org/officeDocument/2006/relationships/image" Target="../media/image14.jpeg"/><Relationship Id="rId27" Type="http://schemas.openxmlformats.org/officeDocument/2006/relationships/image" Target="../media/image10.jpeg"/><Relationship Id="rId28" Type="http://schemas.openxmlformats.org/officeDocument/2006/relationships/image" Target="../media/image12.jpeg"/><Relationship Id="rId29" Type="http://schemas.openxmlformats.org/officeDocument/2006/relationships/image" Target="../media/image10.jpeg"/><Relationship Id="rId30" Type="http://schemas.openxmlformats.org/officeDocument/2006/relationships/image" Target="../media/image10.jpeg"/><Relationship Id="rId31" Type="http://schemas.openxmlformats.org/officeDocument/2006/relationships/image" Target="../media/image12.jpeg"/><Relationship Id="rId32" Type="http://schemas.openxmlformats.org/officeDocument/2006/relationships/image" Target="../media/image12.jpeg"/><Relationship Id="rId33" Type="http://schemas.openxmlformats.org/officeDocument/2006/relationships/image" Target="../media/image12.jpeg"/><Relationship Id="rId34" Type="http://schemas.openxmlformats.org/officeDocument/2006/relationships/image" Target="../media/image12.jpeg"/><Relationship Id="rId35" Type="http://schemas.openxmlformats.org/officeDocument/2006/relationships/image" Target="../media/image15.jpeg"/><Relationship Id="rId3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1152720" cy="1152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 rot="12720000">
            <a:off x="1331640" y="2491920"/>
            <a:ext cx="7389720" cy="696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7451640" y="4005360"/>
            <a:ext cx="1297080" cy="1296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5280" y="1700280"/>
            <a:ext cx="856944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Космическое путешествие     в галактику                       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«ГЛАГОЛ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941720"/>
            <a:ext cx="91440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«Морфологический разбор глагол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8360" y="476280"/>
            <a:ext cx="1224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ГЛАГОЛ</a:t>
            </a:r>
            <a:endParaRPr b="1" lang="en-US" sz="3200" spc="1" strike="noStrike">
              <a:ln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9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11280" y="260280"/>
            <a:ext cx="7775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Морфологический разбор глаг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55640" y="6093000"/>
            <a:ext cx="1297080" cy="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50920" y="836280"/>
            <a:ext cx="8569080" cy="5831280"/>
            <a:chOff x="250920" y="836280"/>
            <a:chExt cx="8569080" cy="5831280"/>
          </a:xfrm>
        </p:grpSpPr>
        <p:grpSp>
          <p:nvGrpSpPr>
            <p:cNvPr id="305" name=""/>
            <p:cNvGrpSpPr/>
            <p:nvPr/>
          </p:nvGrpSpPr>
          <p:grpSpPr>
            <a:xfrm>
              <a:off x="250920" y="836280"/>
              <a:ext cx="8569080" cy="5831280"/>
              <a:chOff x="250920" y="836280"/>
              <a:chExt cx="8569080" cy="5831280"/>
            </a:xfrm>
          </p:grpSpPr>
          <p:pic>
            <p:nvPicPr>
              <p:cNvPr id="30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643280" y="836640"/>
                <a:ext cx="4176720" cy="583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7" name="" descr=""/>
              <p:cNvPicPr/>
              <p:nvPr/>
            </p:nvPicPr>
            <p:blipFill>
              <a:blip r:embed="rId3"/>
              <a:stretch/>
            </p:blipFill>
            <p:spPr>
              <a:xfrm rot="10800000">
                <a:off x="250920" y="836280"/>
                <a:ext cx="4176720" cy="5830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08" name=""/>
            <p:cNvSpPr/>
            <p:nvPr/>
          </p:nvSpPr>
          <p:spPr>
            <a:xfrm>
              <a:off x="684360" y="1125360"/>
              <a:ext cx="3671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buClr>
                  <a:srgbClr val="0066ff"/>
                </a:buClr>
                <a:buFont typeface="Blackadder ITC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66ff"/>
                  </a:solidFill>
                  <a:latin typeface="Blackadder ITC"/>
                </a:rPr>
                <a:t>Оторвался – глагол </a:t>
              </a:r>
              <a:r>
                <a:rPr b="1" i="1" lang="en-US" sz="2000" spc="-1" strike="noStrike">
                  <a:solidFill>
                    <a:srgbClr val="0066ff"/>
                  </a:solidFill>
                  <a:latin typeface="Blackadder ITC"/>
                </a:rPr>
                <a:t> </a:t>
              </a:r>
              <a:r>
                <a:rPr b="1" i="1" lang="ru-RU" sz="2000" spc="-1" strike="noStrike">
                  <a:solidFill>
                    <a:srgbClr val="0066ff"/>
                  </a:solidFill>
                  <a:latin typeface="Blackadder ITC"/>
                </a:rPr>
                <a:t>(чт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43280" y="1125360"/>
              <a:ext cx="381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i="1" lang="en-US" sz="2000" spc="-1" strike="noStrike">
                  <a:solidFill>
                    <a:srgbClr val="0066ff"/>
                  </a:solidFill>
                  <a:latin typeface="Arial"/>
                </a:rPr>
                <a:t>I</a:t>
              </a:r>
              <a:r>
                <a:rPr b="1" i="1" lang="ru-RU" sz="2000" spc="-1" strike="noStrike">
                  <a:solidFill>
                    <a:srgbClr val="0066ff"/>
                  </a:solidFill>
                  <a:latin typeface="Blackadder ITC"/>
                </a:rPr>
                <a:t>. Начнется – глагол ( чт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88000" y="6453360"/>
              <a:ext cx="1150920" cy="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55640" y="6165720"/>
              <a:ext cx="1152360" cy="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84360" y="1413000"/>
              <a:ext cx="3671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66ff"/>
                  </a:solidFill>
                  <a:latin typeface="Blackadder ITC"/>
                </a:rPr>
                <a:t>                </a:t>
              </a:r>
              <a:r>
                <a:rPr b="1" i="1" lang="ru-RU" sz="2000" spc="-1" strike="noStrike">
                  <a:solidFill>
                    <a:srgbClr val="0066ff"/>
                  </a:solidFill>
                  <a:latin typeface="Blackadder ITC"/>
                </a:rPr>
                <a:t>сделал?).                    </a:t>
              </a:r>
              <a:r>
                <a:rPr b="1" i="1" lang="en-US" sz="2000" spc="-1" strike="noStrike">
                  <a:solidFill>
                    <a:srgbClr val="0066ff"/>
                  </a:solidFill>
                  <a:latin typeface="Blackadder ITC"/>
                </a:rPr>
                <a:t>                        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4360" y="1916280"/>
              <a:ext cx="36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ff"/>
                  </a:solidFill>
                  <a:latin typeface="Arial"/>
                </a:rPr>
                <a:t>II</a:t>
              </a:r>
              <a:r>
                <a:rPr b="1" i="1" lang="ru-RU" sz="2000" spc="-1" strike="noStrike">
                  <a:solidFill>
                    <a:srgbClr val="0066ff"/>
                  </a:solidFill>
                  <a:latin typeface="Arial"/>
                </a:rPr>
                <a:t>.</a:t>
              </a:r>
              <a:r>
                <a:rPr b="1" i="1" lang="ru-RU" sz="2000" spc="-1" strike="noStrike">
                  <a:solidFill>
                    <a:srgbClr val="0066ff"/>
                  </a:solidFill>
                  <a:latin typeface="Blackadder ITC"/>
                </a:rPr>
                <a:t> Н.ф. – оторваться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4360" y="2421000"/>
              <a:ext cx="36716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ff"/>
                  </a:solidFill>
                  <a:latin typeface="Blackadder ITC"/>
                </a:rPr>
                <a:t>Постоянные признаки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84360" y="2781360"/>
              <a:ext cx="3671640" cy="87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ff"/>
                  </a:solidFill>
                  <a:latin typeface="Blackadder ITC"/>
                </a:rPr>
                <a:t>сов. вид;                                    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4360" y="3213000"/>
              <a:ext cx="3671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66ff"/>
                  </a:solidFill>
                  <a:latin typeface="Blackadder ITC"/>
                </a:rPr>
                <a:t>возвр.;                           </a:t>
              </a:r>
              <a:r>
                <a:rPr b="1" i="1" lang="en-US" sz="2000" spc="-1" strike="noStrike">
                  <a:solidFill>
                    <a:srgbClr val="0066ff"/>
                  </a:solidFill>
                  <a:latin typeface="Blackadder ITC"/>
                </a:rPr>
                <a:t>                       </a:t>
              </a:r>
              <a:r>
                <a:rPr b="1" i="1" lang="ru-RU" sz="2000" spc="-1" strike="noStrike">
                  <a:solidFill>
                    <a:srgbClr val="0066ff"/>
                  </a:solidFill>
                  <a:latin typeface="Blackadder ITC"/>
                </a:rPr>
                <a:t>    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84360" y="3500280"/>
              <a:ext cx="36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ff"/>
                  </a:solidFill>
                  <a:latin typeface="Arial"/>
                </a:rPr>
                <a:t>I</a:t>
              </a:r>
              <a:r>
                <a:rPr b="1" i="1" lang="ru-RU" sz="2000" spc="-1" strike="noStrike">
                  <a:solidFill>
                    <a:srgbClr val="0066ff"/>
                  </a:solidFill>
                  <a:latin typeface="Blackadder ITC"/>
                </a:rPr>
                <a:t> спр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4360" y="4005360"/>
              <a:ext cx="36716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ff"/>
                  </a:solidFill>
                  <a:latin typeface="Blackadder ITC"/>
                </a:rPr>
                <a:t>Непостоянные признаки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84360" y="4292640"/>
              <a:ext cx="3671640" cy="87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ff"/>
                  </a:solidFill>
                  <a:latin typeface="Blackadder ITC"/>
                </a:rPr>
                <a:t>в изъяв. накл.;                                 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84360" y="4724280"/>
              <a:ext cx="367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66ff"/>
                  </a:solidFill>
                  <a:latin typeface="Blackadder ITC"/>
                </a:rPr>
                <a:t>в прош. вр.;</a:t>
              </a:r>
              <a:r>
                <a:rPr b="1" i="1" lang="ru-RU" sz="2400" spc="-1" strike="noStrike">
                  <a:solidFill>
                    <a:srgbClr val="0066ff"/>
                  </a:solidFill>
                  <a:latin typeface="Blackadder ITC"/>
                </a:rPr>
                <a:t>    </a:t>
              </a:r>
              <a:r>
                <a:rPr b="1" i="1" lang="en-US" sz="2400" spc="-1" strike="noStrike">
                  <a:solidFill>
                    <a:srgbClr val="0066ff"/>
                  </a:solidFill>
                  <a:latin typeface="Blackadder ITC"/>
                </a:rPr>
                <a:t>          </a:t>
              </a:r>
              <a:r>
                <a:rPr b="1" i="1" lang="ru-RU" sz="2400" spc="-1" strike="noStrike">
                  <a:solidFill>
                    <a:srgbClr val="0066ff"/>
                  </a:solidFill>
                  <a:latin typeface="Blackadder ITC"/>
                </a:rPr>
                <a:t>                  </a:t>
              </a:r>
              <a:r>
                <a:rPr b="1" i="1" lang="en-US" sz="2400" spc="-1" strike="noStrike">
                  <a:solidFill>
                    <a:srgbClr val="0066ff"/>
                  </a:solidFill>
                  <a:latin typeface="Blackadder ITC"/>
                </a:rPr>
                <a:t> </a:t>
              </a:r>
              <a:r>
                <a:rPr b="1" i="1" lang="ru-RU" sz="2400" spc="-1" strike="noStrike">
                  <a:solidFill>
                    <a:srgbClr val="0066ff"/>
                  </a:solidFill>
                  <a:latin typeface="Blackadder ITC"/>
                </a:rPr>
                <a:t>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84360" y="4941720"/>
              <a:ext cx="3671640" cy="8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ff"/>
                  </a:solidFill>
                  <a:latin typeface="Blackadder ITC"/>
                </a:rPr>
                <a:t>в</a:t>
              </a:r>
              <a:r>
                <a:rPr b="1" i="1" lang="en-US" sz="2400" spc="-1" strike="noStrike">
                  <a:solidFill>
                    <a:srgbClr val="0066ff"/>
                  </a:solidFill>
                  <a:latin typeface="Blackadder ITC"/>
                </a:rPr>
                <a:t> </a:t>
              </a:r>
              <a:r>
                <a:rPr b="1" i="1" lang="en-US" sz="2000" spc="-1" strike="noStrike">
                  <a:solidFill>
                    <a:srgbClr val="0066ff"/>
                  </a:solidFill>
                  <a:latin typeface="Blackadder ITC"/>
                </a:rPr>
                <a:t>м.р.,    в  ед.ч.              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84360" y="5229360"/>
              <a:ext cx="367164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ff"/>
                  </a:solidFill>
                  <a:latin typeface="Arial"/>
                </a:rPr>
                <a:t>III</a:t>
              </a:r>
              <a:r>
                <a:rPr b="1" i="1" lang="ru-RU" sz="2000" spc="-1" strike="noStrike">
                  <a:solidFill>
                    <a:srgbClr val="0066ff"/>
                  </a:solidFill>
                  <a:latin typeface="Arial"/>
                </a:rPr>
                <a:t>.</a:t>
              </a:r>
              <a:r>
                <a:rPr b="1" i="1" lang="ru-RU" sz="2000" spc="-1" strike="noStrike">
                  <a:solidFill>
                    <a:srgbClr val="0066ff"/>
                  </a:solidFill>
                  <a:latin typeface="Blackadder ITC"/>
                </a:rPr>
                <a:t> Корабль (что сделал?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84360" y="5734080"/>
              <a:ext cx="36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 u="sng">
                  <a:solidFill>
                    <a:srgbClr val="0066ff"/>
                  </a:solidFill>
                  <a:uFillTx/>
                  <a:latin typeface="Blackadder ITC"/>
                </a:rPr>
                <a:t>оторвался</a:t>
              </a:r>
              <a:r>
                <a:rPr b="1" i="1" lang="en-US" sz="2000" spc="-1" strike="noStrike">
                  <a:solidFill>
                    <a:srgbClr val="0066ff"/>
                  </a:solidFill>
                  <a:latin typeface="Blackadder ITC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16360" y="1413000"/>
              <a:ext cx="3816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66ff"/>
                  </a:solidFill>
                  <a:latin typeface="Blackadder ITC"/>
                </a:rPr>
                <a:t>сделает?).                                                    </a:t>
              </a:r>
              <a:r>
                <a:rPr b="1" i="1" lang="en-US" sz="2000" spc="-1" strike="noStrike">
                  <a:solidFill>
                    <a:srgbClr val="0066ff"/>
                  </a:solidFill>
                  <a:latin typeface="Blackadder ITC"/>
                </a:rPr>
                <a:t>    </a:t>
              </a:r>
              <a:r>
                <a:rPr b="1" i="1" lang="ru-RU" sz="2000" spc="-1" strike="noStrike">
                  <a:solidFill>
                    <a:srgbClr val="0066ff"/>
                  </a:solidFill>
                  <a:latin typeface="Blackadder ITC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716360" y="1916280"/>
              <a:ext cx="381636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ff"/>
                  </a:solidFill>
                  <a:latin typeface="Arial"/>
                </a:rPr>
                <a:t>II</a:t>
              </a:r>
              <a:r>
                <a:rPr b="1" i="1" lang="ru-RU" sz="2000" spc="-1" strike="noStrike">
                  <a:solidFill>
                    <a:srgbClr val="0066ff"/>
                  </a:solidFill>
                  <a:latin typeface="Arial"/>
                </a:rPr>
                <a:t>.</a:t>
              </a:r>
              <a:r>
                <a:rPr b="1" i="1" lang="ru-RU" sz="2000" spc="-1" strike="noStrike">
                  <a:solidFill>
                    <a:srgbClr val="0066ff"/>
                  </a:solidFill>
                  <a:latin typeface="Blackadder ITC"/>
                </a:rPr>
                <a:t> Н.ф. – начаться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716360" y="2276640"/>
              <a:ext cx="3816360" cy="10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ff"/>
                  </a:solidFill>
                  <a:latin typeface="Blackadder ITC"/>
                </a:rPr>
                <a:t>Постоянные признаки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716360" y="2781360"/>
              <a:ext cx="3816360" cy="87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ff"/>
                  </a:solidFill>
                  <a:latin typeface="Blackadder ITC"/>
                </a:rPr>
                <a:t>сов. вид;                                      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716360" y="3213000"/>
              <a:ext cx="3816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66ff"/>
                  </a:solidFill>
                  <a:latin typeface="Blackadder ITC"/>
                </a:rPr>
                <a:t>возвр.;                                             </a:t>
              </a:r>
              <a:r>
                <a:rPr b="1" i="1" lang="en-US" sz="2000" spc="-1" strike="noStrike">
                  <a:solidFill>
                    <a:srgbClr val="0066ff"/>
                  </a:solidFill>
                  <a:latin typeface="Blackadder ITC"/>
                </a:rPr>
                <a:t>        </a:t>
              </a:r>
              <a:r>
                <a:rPr b="1" i="1" lang="ru-RU" sz="2000" spc="-1" strike="noStrike">
                  <a:solidFill>
                    <a:srgbClr val="0066ff"/>
                  </a:solidFill>
                  <a:latin typeface="Blackadder ITC"/>
                </a:rPr>
                <a:t>     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716360" y="3500280"/>
              <a:ext cx="381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ff"/>
                  </a:solidFill>
                  <a:latin typeface="Arial"/>
                </a:rPr>
                <a:t>I</a:t>
              </a:r>
              <a:r>
                <a:rPr b="1" i="1" lang="ru-RU" sz="2000" spc="-1" strike="noStrike">
                  <a:solidFill>
                    <a:srgbClr val="0066ff"/>
                  </a:solidFill>
                  <a:latin typeface="Blackadder ITC"/>
                </a:rPr>
                <a:t> спр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716360" y="4005360"/>
              <a:ext cx="381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ff"/>
                  </a:solidFill>
                  <a:latin typeface="Blackadder ITC"/>
                </a:rPr>
                <a:t>Непостоянные признаки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16360" y="4508640"/>
              <a:ext cx="3816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ff"/>
                  </a:solidFill>
                  <a:latin typeface="Blackadder ITC"/>
                </a:rPr>
                <a:t>в  изъяв.  накл.;                                    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716360" y="4724280"/>
              <a:ext cx="381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66ff"/>
                  </a:solidFill>
                  <a:latin typeface="Blackadder ITC"/>
                </a:rPr>
                <a:t>в буд. вр.;</a:t>
              </a:r>
              <a:r>
                <a:rPr b="1" i="1" lang="ru-RU" sz="2400" spc="-1" strike="noStrike">
                  <a:solidFill>
                    <a:srgbClr val="0066ff"/>
                  </a:solidFill>
                  <a:latin typeface="Blackadder ITC"/>
                </a:rPr>
                <a:t>                                 </a:t>
              </a:r>
              <a:r>
                <a:rPr b="1" i="1" lang="ru-RU" sz="2000" spc="-1" strike="noStrike">
                  <a:solidFill>
                    <a:srgbClr val="0066ff"/>
                  </a:solidFill>
                  <a:latin typeface="Blackadder ITC"/>
                </a:rPr>
                <a:t>                      </a:t>
              </a:r>
              <a:r>
                <a:rPr b="1" i="1" lang="en-US" sz="2000" spc="-1" strike="noStrike">
                  <a:solidFill>
                    <a:srgbClr val="0066ff"/>
                  </a:solidFill>
                  <a:latin typeface="Blackadder ITC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716360" y="5013360"/>
              <a:ext cx="3816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66ff"/>
                  </a:solidFill>
                  <a:latin typeface="Blackadder ITC"/>
                </a:rPr>
                <a:t>в  ед. ч.                                                                      </a:t>
              </a:r>
              <a:r>
                <a:rPr b="1" i="1" lang="en-US" sz="2000" spc="-1" strike="noStrike">
                  <a:solidFill>
                    <a:srgbClr val="0066ff"/>
                  </a:solidFill>
                  <a:latin typeface="Blackadder ITC"/>
                </a:rPr>
                <a:t>   </a:t>
              </a:r>
              <a:r>
                <a:rPr b="1" i="1" lang="ru-RU" sz="2000" spc="-1" strike="noStrike">
                  <a:solidFill>
                    <a:srgbClr val="0066ff"/>
                  </a:solidFill>
                  <a:latin typeface="Blackadder ITC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716360" y="5300640"/>
              <a:ext cx="381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ff"/>
                  </a:solidFill>
                  <a:latin typeface="Blackadder ITC"/>
                </a:rPr>
                <a:t>в </a:t>
              </a:r>
              <a:r>
                <a:rPr b="1" i="1" lang="en-US" sz="2000" spc="-1" strike="noStrike">
                  <a:solidFill>
                    <a:srgbClr val="0066ff"/>
                  </a:solidFill>
                  <a:latin typeface="Arial"/>
                </a:rPr>
                <a:t>3</a:t>
              </a:r>
              <a:r>
                <a:rPr b="0" i="1" lang="en-US" sz="20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i="1" lang="en-US" sz="2000" spc="-1" strike="noStrike">
                  <a:solidFill>
                    <a:srgbClr val="0066ff"/>
                  </a:solidFill>
                  <a:latin typeface="Blackadder ITC"/>
                </a:rPr>
                <a:t>л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16360" y="5805360"/>
              <a:ext cx="381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ff"/>
                  </a:solidFill>
                  <a:latin typeface="Arial"/>
                </a:rPr>
                <a:t>III</a:t>
              </a:r>
              <a:r>
                <a:rPr b="1" i="1" lang="ru-RU" sz="2000" spc="-1" strike="noStrike">
                  <a:solidFill>
                    <a:srgbClr val="0066ff"/>
                  </a:solidFill>
                  <a:latin typeface="Blackadder ITC"/>
                </a:rPr>
                <a:t>. Полет (что сделает?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716360" y="6021360"/>
              <a:ext cx="381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 u="sng">
                  <a:solidFill>
                    <a:srgbClr val="0066ff"/>
                  </a:solidFill>
                  <a:uFillTx/>
                  <a:latin typeface="Blackadder ITC"/>
                </a:rPr>
                <a:t>начнется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0"/>
            <a:ext cx="118728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028000" y="0"/>
            <a:ext cx="1116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116000" y="0"/>
            <a:ext cx="6912000" cy="549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187280" y="5661000"/>
            <a:ext cx="6840720" cy="1197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79280" y="620640"/>
            <a:ext cx="934920" cy="792000"/>
            <a:chOff x="179280" y="620640"/>
            <a:chExt cx="934920" cy="792000"/>
          </a:xfrm>
        </p:grpSpPr>
        <p:sp>
          <p:nvSpPr>
            <p:cNvPr id="342" name=""/>
            <p:cNvSpPr/>
            <p:nvPr/>
          </p:nvSpPr>
          <p:spPr>
            <a:xfrm>
              <a:off x="322200" y="620640"/>
              <a:ext cx="792000" cy="79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179280" y="693720"/>
              <a:ext cx="720720" cy="647640"/>
              <a:chOff x="179280" y="693720"/>
              <a:chExt cx="720720" cy="647640"/>
            </a:xfrm>
          </p:grpSpPr>
          <p:sp>
            <p:nvSpPr>
              <p:cNvPr id="344" name=""/>
              <p:cNvSpPr/>
              <p:nvPr/>
            </p:nvSpPr>
            <p:spPr>
              <a:xfrm>
                <a:off x="179280" y="693720"/>
                <a:ext cx="720720" cy="647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24000" y="7650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6" name=""/>
          <p:cNvGrpSpPr/>
          <p:nvPr/>
        </p:nvGrpSpPr>
        <p:grpSpPr>
          <a:xfrm>
            <a:off x="108000" y="3068640"/>
            <a:ext cx="934920" cy="792000"/>
            <a:chOff x="108000" y="3068640"/>
            <a:chExt cx="934920" cy="792000"/>
          </a:xfrm>
        </p:grpSpPr>
        <p:sp>
          <p:nvSpPr>
            <p:cNvPr id="347" name=""/>
            <p:cNvSpPr/>
            <p:nvPr/>
          </p:nvSpPr>
          <p:spPr>
            <a:xfrm>
              <a:off x="250920" y="3068640"/>
              <a:ext cx="792000" cy="79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108000" y="3141720"/>
              <a:ext cx="720720" cy="647640"/>
              <a:chOff x="108000" y="3141720"/>
              <a:chExt cx="720720" cy="647640"/>
            </a:xfrm>
          </p:grpSpPr>
          <p:sp>
            <p:nvSpPr>
              <p:cNvPr id="349" name=""/>
              <p:cNvSpPr/>
              <p:nvPr/>
            </p:nvSpPr>
            <p:spPr>
              <a:xfrm>
                <a:off x="108000" y="3141720"/>
                <a:ext cx="720720" cy="647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52720" y="32130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С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1" name=""/>
          <p:cNvGrpSpPr/>
          <p:nvPr/>
        </p:nvGrpSpPr>
        <p:grpSpPr>
          <a:xfrm>
            <a:off x="108000" y="1844640"/>
            <a:ext cx="934920" cy="792000"/>
            <a:chOff x="108000" y="1844640"/>
            <a:chExt cx="934920" cy="792000"/>
          </a:xfrm>
        </p:grpSpPr>
        <p:sp>
          <p:nvSpPr>
            <p:cNvPr id="352" name=""/>
            <p:cNvSpPr/>
            <p:nvPr/>
          </p:nvSpPr>
          <p:spPr>
            <a:xfrm>
              <a:off x="250920" y="1844640"/>
              <a:ext cx="792000" cy="79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108000" y="1917720"/>
              <a:ext cx="720720" cy="647640"/>
              <a:chOff x="108000" y="1917720"/>
              <a:chExt cx="720720" cy="647640"/>
            </a:xfrm>
          </p:grpSpPr>
          <p:sp>
            <p:nvSpPr>
              <p:cNvPr id="354" name=""/>
              <p:cNvSpPr/>
              <p:nvPr/>
            </p:nvSpPr>
            <p:spPr>
              <a:xfrm>
                <a:off x="108000" y="1917720"/>
                <a:ext cx="720720" cy="647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52720" y="19890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Б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8101080" y="836640"/>
            <a:ext cx="934920" cy="576360"/>
            <a:chOff x="8101080" y="836640"/>
            <a:chExt cx="934920" cy="576360"/>
          </a:xfrm>
        </p:grpSpPr>
        <p:sp>
          <p:nvSpPr>
            <p:cNvPr id="357" name=""/>
            <p:cNvSpPr/>
            <p:nvPr/>
          </p:nvSpPr>
          <p:spPr>
            <a:xfrm>
              <a:off x="8101080" y="836640"/>
              <a:ext cx="934920" cy="576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172360" y="907920"/>
              <a:ext cx="792360" cy="3603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8244000" y="981000"/>
            <a:ext cx="6490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К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244000" y="1844640"/>
            <a:ext cx="647640" cy="647640"/>
          </a:xfrm>
          <a:prstGeom prst="sun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388360" y="2781360"/>
            <a:ext cx="431640" cy="4316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187280" y="549360"/>
            <a:ext cx="0" cy="511164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87280" y="5661000"/>
            <a:ext cx="68407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549360"/>
            <a:ext cx="0" cy="511164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187280" y="549360"/>
            <a:ext cx="68407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>
            <a:hlinkClick r:id="" action="ppaction://hlinkshowjump?jump=nextslide"/>
          </p:cNvPr>
          <p:cNvSpPr/>
          <p:nvPr/>
        </p:nvSpPr>
        <p:spPr>
          <a:xfrm>
            <a:off x="324000" y="4149720"/>
            <a:ext cx="502920" cy="50328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3801"/>
                </a:moveTo>
                <a:lnTo>
                  <a:pt x="17806" y="10808"/>
                </a:lnTo>
                <a:lnTo>
                  <a:pt x="3794" y="17814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lastslide"/>
          </p:cNvPr>
          <p:cNvSpPr/>
          <p:nvPr/>
        </p:nvSpPr>
        <p:spPr>
          <a:xfrm>
            <a:off x="324000" y="4797360"/>
            <a:ext cx="502920" cy="50328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14299" y="10808"/>
                </a:moveTo>
                <a:lnTo>
                  <a:pt x="3794" y="17814"/>
                </a:lnTo>
                <a:lnTo>
                  <a:pt x="3794" y="3801"/>
                </a:lnTo>
                <a:close/>
              </a:path>
              <a:path fill="darken" w="21600" h="21615">
                <a:moveTo>
                  <a:pt x="16144" y="3801"/>
                </a:moveTo>
                <a:lnTo>
                  <a:pt x="16144" y="17814"/>
                </a:lnTo>
                <a:lnTo>
                  <a:pt x="17806" y="17814"/>
                </a:lnTo>
                <a:lnTo>
                  <a:pt x="17806" y="3801"/>
                </a:lnTo>
                <a:close/>
              </a:path>
            </a:pathLst>
          </a:custGeom>
          <a:solidFill>
            <a:srgbClr val="0066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rId5"/>
          </p:cNvPr>
          <p:cNvSpPr/>
          <p:nvPr/>
        </p:nvSpPr>
        <p:spPr>
          <a:xfrm>
            <a:off x="8317080" y="3429000"/>
            <a:ext cx="576000" cy="64944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649440"/>
              <a:gd name="textAreaBottom" fmla="*/ 612360 h 649440"/>
            </a:gdLst>
            <a:ahLst/>
            <a:rect l="textAreaLeft" t="textAreaTop" r="textAreaRight" b="textAreaBottom"/>
            <a:pathLst>
              <a:path w="21600" h="24352">
                <a:moveTo>
                  <a:pt x="0" y="0"/>
                </a:moveTo>
                <a:lnTo>
                  <a:pt x="21600" y="0"/>
                </a:lnTo>
                <a:lnTo>
                  <a:pt x="21600" y="24352"/>
                </a:lnTo>
                <a:lnTo>
                  <a:pt x="0" y="24352"/>
                </a:lnTo>
                <a:close/>
              </a:path>
              <a:path fill="lightenLess" w="21600" h="243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52">
                <a:moveTo>
                  <a:pt x="21600" y="0"/>
                </a:moveTo>
                <a:lnTo>
                  <a:pt x="21600" y="24352"/>
                </a:lnTo>
                <a:lnTo>
                  <a:pt x="20200" y="22952"/>
                </a:lnTo>
                <a:lnTo>
                  <a:pt x="20200" y="1400"/>
                </a:lnTo>
                <a:close/>
              </a:path>
              <a:path fill="darkenLess" w="21600" h="24352">
                <a:moveTo>
                  <a:pt x="21600" y="24352"/>
                </a:moveTo>
                <a:lnTo>
                  <a:pt x="0" y="24352"/>
                </a:lnTo>
                <a:lnTo>
                  <a:pt x="1400" y="22952"/>
                </a:lnTo>
                <a:lnTo>
                  <a:pt x="20200" y="22952"/>
                </a:lnTo>
                <a:close/>
              </a:path>
              <a:path fill="lighten" w="21600" h="24352">
                <a:moveTo>
                  <a:pt x="0" y="243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52"/>
                </a:lnTo>
                <a:close/>
              </a:path>
              <a:path fill="darken" w="21600" h="24352">
                <a:moveTo>
                  <a:pt x="3794" y="9783"/>
                </a:moveTo>
                <a:lnTo>
                  <a:pt x="8224" y="9783"/>
                </a:lnTo>
                <a:lnTo>
                  <a:pt x="12645" y="5170"/>
                </a:lnTo>
                <a:lnTo>
                  <a:pt x="12645" y="19183"/>
                </a:lnTo>
                <a:lnTo>
                  <a:pt x="8224" y="14570"/>
                </a:lnTo>
                <a:lnTo>
                  <a:pt x="3794" y="14570"/>
                </a:lnTo>
                <a:close/>
              </a:path>
              <a:path fill="darken" w="21600" h="24352">
                <a:moveTo>
                  <a:pt x="14299" y="12176"/>
                </a:moveTo>
                <a:lnTo>
                  <a:pt x="17806" y="12176"/>
                </a:lnTo>
              </a:path>
              <a:path fill="darken" w="21600" h="24352">
                <a:moveTo>
                  <a:pt x="14299" y="9783"/>
                </a:moveTo>
                <a:lnTo>
                  <a:pt x="17806" y="7015"/>
                </a:lnTo>
              </a:path>
              <a:path fill="darken" w="21600" h="24352">
                <a:moveTo>
                  <a:pt x="14299" y="14570"/>
                </a:moveTo>
                <a:lnTo>
                  <a:pt x="17806" y="17337"/>
                </a:lnTo>
              </a:path>
            </a:pathLst>
          </a:cu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8317080" y="422100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7308"/>
                </a:moveTo>
                <a:lnTo>
                  <a:pt x="4707" y="7308"/>
                </a:lnTo>
                <a:lnTo>
                  <a:pt x="5090" y="7673"/>
                </a:lnTo>
                <a:lnTo>
                  <a:pt x="14299" y="7673"/>
                </a:lnTo>
                <a:lnTo>
                  <a:pt x="14856" y="8230"/>
                </a:lnTo>
                <a:lnTo>
                  <a:pt x="14856" y="8779"/>
                </a:lnTo>
                <a:lnTo>
                  <a:pt x="16701" y="8779"/>
                </a:lnTo>
                <a:lnTo>
                  <a:pt x="17067" y="8230"/>
                </a:lnTo>
                <a:lnTo>
                  <a:pt x="17806" y="8230"/>
                </a:lnTo>
                <a:lnTo>
                  <a:pt x="17806" y="13383"/>
                </a:lnTo>
                <a:lnTo>
                  <a:pt x="17067" y="13383"/>
                </a:lnTo>
                <a:lnTo>
                  <a:pt x="16701" y="12835"/>
                </a:lnTo>
                <a:lnTo>
                  <a:pt x="14856" y="12835"/>
                </a:lnTo>
                <a:lnTo>
                  <a:pt x="14856" y="14114"/>
                </a:lnTo>
                <a:lnTo>
                  <a:pt x="5273" y="14114"/>
                </a:lnTo>
                <a:lnTo>
                  <a:pt x="5273" y="9884"/>
                </a:lnTo>
                <a:lnTo>
                  <a:pt x="5090" y="9884"/>
                </a:lnTo>
                <a:lnTo>
                  <a:pt x="4707" y="10250"/>
                </a:lnTo>
                <a:lnTo>
                  <a:pt x="3794" y="102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50920" y="5661000"/>
            <a:ext cx="8713800" cy="1197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1258920" y="620640"/>
            <a:ext cx="6769080" cy="4969080"/>
            <a:chOff x="1258920" y="620640"/>
            <a:chExt cx="6769080" cy="4969080"/>
          </a:xfrm>
        </p:grpSpPr>
        <p:pic>
          <p:nvPicPr>
            <p:cNvPr id="372" name="" descr=""/>
            <p:cNvPicPr/>
            <p:nvPr/>
          </p:nvPicPr>
          <p:blipFill>
            <a:blip r:embed="rId6"/>
            <a:stretch/>
          </p:blipFill>
          <p:spPr>
            <a:xfrm>
              <a:off x="1258920" y="620640"/>
              <a:ext cx="6769080" cy="496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" descr=""/>
            <p:cNvPicPr/>
            <p:nvPr/>
          </p:nvPicPr>
          <p:blipFill>
            <a:blip r:embed="rId7"/>
            <a:stretch/>
          </p:blipFill>
          <p:spPr>
            <a:xfrm>
              <a:off x="6770880" y="4264560"/>
              <a:ext cx="1116720" cy="106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50920" y="5667480"/>
            <a:ext cx="8569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8000"/>
                </a:solidFill>
                <a:latin typeface="Arial"/>
              </a:rPr>
              <a:t>Перечислите постоянные и непостоянные признаки глаго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24000" y="5661000"/>
            <a:ext cx="8569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8000"/>
                </a:solidFill>
                <a:latin typeface="Arial"/>
              </a:rPr>
              <a:t>Как определить вид глагол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50920" y="5667480"/>
            <a:ext cx="8569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8000"/>
                </a:solidFill>
                <a:latin typeface="Arial"/>
              </a:rPr>
              <a:t>У глаголов в каком наклонении можно определить врем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50920" y="5661000"/>
            <a:ext cx="8569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8000"/>
                </a:solidFill>
                <a:latin typeface="Arial"/>
              </a:rPr>
              <a:t>У каких глаголов есть лиц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50920" y="5667480"/>
            <a:ext cx="8569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8000"/>
                </a:solidFill>
                <a:latin typeface="Arial"/>
              </a:rPr>
              <a:t>Каким членом предложения бывает глаго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24000" y="5734080"/>
            <a:ext cx="8569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92b17"/>
                </a:solidFill>
                <a:latin typeface="Arial"/>
              </a:rPr>
              <a:t>Счастливого пут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684360" y="189000"/>
            <a:ext cx="7775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68360" y="836640"/>
            <a:ext cx="8209080" cy="5788440"/>
            <a:chOff x="468360" y="836640"/>
            <a:chExt cx="8209080" cy="5788440"/>
          </a:xfrm>
        </p:grpSpPr>
        <p:grpSp>
          <p:nvGrpSpPr>
            <p:cNvPr id="383" name=""/>
            <p:cNvGrpSpPr/>
            <p:nvPr/>
          </p:nvGrpSpPr>
          <p:grpSpPr>
            <a:xfrm>
              <a:off x="468360" y="836640"/>
              <a:ext cx="8209080" cy="5786280"/>
              <a:chOff x="468360" y="836640"/>
              <a:chExt cx="8209080" cy="5786280"/>
            </a:xfrm>
          </p:grpSpPr>
          <p:pic>
            <p:nvPicPr>
              <p:cNvPr id="38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500720" y="836640"/>
                <a:ext cx="4176720" cy="578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360" y="836640"/>
                <a:ext cx="4176720" cy="578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"/>
              <p:cNvSpPr/>
              <p:nvPr/>
            </p:nvSpPr>
            <p:spPr>
              <a:xfrm>
                <a:off x="971640" y="981000"/>
                <a:ext cx="7200720" cy="421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99"/>
                    </a:solidFill>
                    <a:latin typeface="Arial"/>
                  </a:rPr>
                  <a:t>      </a:t>
                </a:r>
                <a:r>
                  <a:rPr b="1" i="1" lang="en-US" sz="2400" spc="-1" strike="noStrike">
                    <a:solidFill>
                      <a:srgbClr val="333399"/>
                    </a:solidFill>
                    <a:latin typeface="Blackadder ITC"/>
                  </a:rPr>
                  <a:t>СОСТАВИТЬ     СВЯЗНЫЙ     ТЕКСТ     ИЛИ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333399"/>
                    </a:solidFill>
                    <a:latin typeface="Blackadder ITC"/>
                  </a:rPr>
                  <a:t> 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spcBef>
                    <a:spcPts val="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spcBef>
                    <a:spcPts val="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900000" y="1844640"/>
              <a:ext cx="74170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Blackadder ITC"/>
                </a:rPr>
                <a:t>ОТДЕЛЬНЫЕ    ПРЕДЛОЖЕНИЯ   С   ДАННЫМ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71640" y="2349360"/>
              <a:ext cx="453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Blackadder ITC"/>
                </a:rPr>
                <a:t>ГЛАГОЛАМ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900000" y="3428640"/>
              <a:ext cx="2952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Blackadder ITC"/>
                </a:rPr>
                <a:t>ГЛАГОЛОВ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00000" y="2852640"/>
              <a:ext cx="74170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Blackadder ITC"/>
                </a:rPr>
                <a:t>СДЕЛАТЬ МОРФОЛОГИЧЕСКИЙ РАЗБОР  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2 -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00000" y="5013000"/>
              <a:ext cx="75614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971640" y="4581360"/>
              <a:ext cx="74898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66ff"/>
                  </a:solidFill>
                  <a:latin typeface="Arial"/>
                </a:rPr>
                <a:t>Живешь, смотришь, дышишь, береги, охраняй, украсят, сохранят, любовались бы, помнили бы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-252360" y="404640"/>
            <a:ext cx="8686800" cy="675828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5219640" y="692280"/>
            <a:ext cx="3097440" cy="27684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 rot="19620000">
            <a:off x="-436320" y="4801680"/>
            <a:ext cx="605952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0" y="100080"/>
            <a:ext cx="8686800" cy="675792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 rot="19620000">
            <a:off x="-96480" y="4260600"/>
            <a:ext cx="6570720" cy="5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" descr="Берегите Землю"/>
          <p:cNvPicPr/>
          <p:nvPr/>
        </p:nvPicPr>
        <p:blipFill>
          <a:blip r:embed="rId1"/>
          <a:srcRect l="0" t="0" r="0" b="494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4646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4140360" y="98100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 rot="18972000">
            <a:off x="0" y="2565000"/>
            <a:ext cx="4392720" cy="696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5" name=""/>
          <p:cNvGraphicFramePr/>
          <p:nvPr/>
        </p:nvGraphicFramePr>
        <p:xfrm>
          <a:off x="0" y="0"/>
          <a:ext cx="2238480" cy="7461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2238480" cy="746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7" name="" descr=""/>
          <p:cNvPicPr/>
          <p:nvPr/>
        </p:nvPicPr>
        <p:blipFill>
          <a:blip r:embed="rId6"/>
          <a:stretch/>
        </p:blipFill>
        <p:spPr>
          <a:xfrm>
            <a:off x="1692360" y="2781360"/>
            <a:ext cx="57600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4932360" y="3500280"/>
            <a:ext cx="1763640" cy="176400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39640" y="260280"/>
            <a:ext cx="8280360" cy="826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Презентац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урока-путешествия по русскому язы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НА ТЕМ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Monotype Corsiva"/>
              </a:rPr>
              <a:t>«</a:t>
            </a:r>
            <a:r>
              <a:rPr b="1" i="1" lang="en-US" sz="4400" spc="-1" strike="noStrike">
                <a:solidFill>
                  <a:srgbClr val="ffffff"/>
                </a:solidFill>
                <a:latin typeface="Arial Black"/>
              </a:rPr>
              <a:t>Морфологический              разбор</a:t>
            </a:r>
            <a:r>
              <a:rPr b="1" i="1" lang="en-US" sz="6600" spc="-1" strike="noStrike">
                <a:solidFill>
                  <a:srgbClr val="ffffff"/>
                </a:solidFill>
                <a:latin typeface="Monotype Corsiva"/>
              </a:rPr>
              <a:t>                     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859280" y="4076640"/>
            <a:ext cx="168588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ГЛАГОЛА</a:t>
            </a:r>
            <a:endParaRPr b="1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onotype Corsiva"/>
              </a:rPr>
              <a:t>Автор-составитель</a:t>
            </a: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Monotype Corsiva"/>
              </a:rPr>
              <a:t>Лискина Е. 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 rot="18660000">
            <a:off x="3060360" y="4006440"/>
            <a:ext cx="5591160" cy="64476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3"/>
          <a:stretch/>
        </p:blipFill>
        <p:spPr>
          <a:xfrm>
            <a:off x="755640" y="1628640"/>
            <a:ext cx="27925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55640" y="189000"/>
            <a:ext cx="7775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Имя  существите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24000" y="765000"/>
            <a:ext cx="8569080" cy="5849280"/>
            <a:chOff x="324000" y="765000"/>
            <a:chExt cx="8569080" cy="5849280"/>
          </a:xfrm>
        </p:grpSpPr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324000" y="765000"/>
              <a:ext cx="4170240" cy="568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4716360" y="765000"/>
              <a:ext cx="4176720" cy="568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84360" y="981000"/>
              <a:ext cx="3671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66ff"/>
                  </a:solidFill>
                  <a:latin typeface="Arial"/>
                </a:rPr>
                <a:t>Постоянные признаки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859280" y="996840"/>
              <a:ext cx="3672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66ff"/>
                  </a:solidFill>
                  <a:latin typeface="Arial"/>
                </a:rPr>
                <a:t>Непостоянные признаки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4360" y="3429000"/>
              <a:ext cx="367164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ff"/>
                  </a:solidFill>
                  <a:latin typeface="Arial"/>
                </a:rPr>
                <a:t>2.Одушевленн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84360" y="4437000"/>
              <a:ext cx="367164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ff"/>
                  </a:solidFill>
                  <a:latin typeface="Arial"/>
                </a:rPr>
                <a:t>  </a:t>
              </a:r>
              <a:r>
                <a:rPr b="1" i="1" lang="en-US" sz="2800" spc="-1" strike="noStrike">
                  <a:solidFill>
                    <a:srgbClr val="0066ff"/>
                  </a:solidFill>
                  <a:latin typeface="Arial"/>
                </a:rPr>
                <a:t>неодушевленное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55640" y="4941720"/>
              <a:ext cx="36720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ff"/>
                  </a:solidFill>
                  <a:latin typeface="Arial"/>
                </a:rPr>
                <a:t>3. Род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71640" y="3933720"/>
              <a:ext cx="36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ff"/>
                  </a:solidFill>
                  <a:latin typeface="Arial"/>
                </a:rPr>
                <a:t>ил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4360" y="5445000"/>
              <a:ext cx="367164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ff"/>
                  </a:solidFill>
                  <a:latin typeface="Arial"/>
                </a:rPr>
                <a:t>4. Склоне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88000" y="1989000"/>
              <a:ext cx="36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749"/>
                </a:spcBef>
                <a:buClr>
                  <a:srgbClr val="0066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ff"/>
                  </a:solidFill>
                  <a:latin typeface="Arial"/>
                </a:rPr>
                <a:t>Число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788000" y="2492280"/>
              <a:ext cx="36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ff"/>
                  </a:solidFill>
                  <a:latin typeface="Arial"/>
                </a:rPr>
                <a:t>2. Падеж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55640" y="1989000"/>
              <a:ext cx="367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749"/>
                </a:spcBef>
                <a:buClr>
                  <a:srgbClr val="0066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ff"/>
                  </a:solidFill>
                  <a:latin typeface="Arial"/>
                </a:rPr>
                <a:t>Собственн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042920" y="2421000"/>
              <a:ext cx="367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ff"/>
                  </a:solidFill>
                  <a:latin typeface="Arial"/>
                </a:rPr>
                <a:t>ил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26920" y="2924280"/>
              <a:ext cx="367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ff"/>
                  </a:solidFill>
                  <a:latin typeface="Arial"/>
                </a:rPr>
                <a:t>  </a:t>
              </a:r>
              <a:r>
                <a:rPr b="1" i="1" lang="en-US" sz="2800" spc="-1" strike="noStrike">
                  <a:solidFill>
                    <a:srgbClr val="0066ff"/>
                  </a:solidFill>
                  <a:latin typeface="Arial"/>
                </a:rPr>
                <a:t>нарицательное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00080"/>
            <a:ext cx="8686800" cy="6757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 rot="19620000">
            <a:off x="-96480" y="4260600"/>
            <a:ext cx="6570720" cy="5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042920" y="620640"/>
            <a:ext cx="1368360" cy="1295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7432560" y="0"/>
          <a:ext cx="1711440" cy="71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32560" y="0"/>
                    <a:ext cx="171144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1116000" y="1052640"/>
            <a:ext cx="1224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В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659640" y="3645000"/>
            <a:ext cx="1297080" cy="12240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87280" y="5157720"/>
            <a:ext cx="1368720" cy="129564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16000" y="2997360"/>
            <a:ext cx="1368360" cy="129528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8"/>
          <a:srcRect l="4490" t="4490" r="204" b="9297"/>
          <a:stretch/>
        </p:blipFill>
        <p:spPr>
          <a:xfrm>
            <a:off x="2556000" y="0"/>
            <a:ext cx="1512720" cy="1368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940360" y="2205000"/>
            <a:ext cx="1297080" cy="12240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76720" y="3933720"/>
            <a:ext cx="1297080" cy="122400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87640" y="2060640"/>
            <a:ext cx="1297080" cy="122400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11280" y="836640"/>
            <a:ext cx="360360" cy="2160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340000" y="328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68360" y="321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124000" y="1125360"/>
            <a:ext cx="863640" cy="194328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2340000" y="1268280"/>
            <a:ext cx="863640" cy="410544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3429000"/>
            <a:ext cx="1584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Спр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332000" y="5300640"/>
            <a:ext cx="1079280" cy="11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Возвратность</a:t>
            </a:r>
            <a:endParaRPr b="1" lang="en-US" sz="1800" spc="1" strike="noStrike">
              <a:ln w="0">
                <a:noFill/>
              </a:ln>
              <a:solidFill>
                <a:srgbClr val="cc33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140360" y="333360"/>
            <a:ext cx="1295280" cy="1297080"/>
            <a:chOff x="4140360" y="333360"/>
            <a:chExt cx="1295280" cy="1297080"/>
          </a:xfrm>
        </p:grpSpPr>
        <p:sp>
          <p:nvSpPr>
            <p:cNvPr id="86" name=""/>
            <p:cNvSpPr/>
            <p:nvPr/>
          </p:nvSpPr>
          <p:spPr>
            <a:xfrm>
              <a:off x="4140360" y="333360"/>
              <a:ext cx="1295280" cy="1224000"/>
            </a:xfrm>
            <a:prstGeom prst="ellipse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4284360" y="477720"/>
              <a:ext cx="1008000" cy="1152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"/>
                </a:rPr>
                <a:t>Наклонение</a:t>
              </a:r>
              <a:endPara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0" y="189000"/>
            <a:ext cx="1835280" cy="2232000"/>
            <a:chOff x="0" y="189000"/>
            <a:chExt cx="1835280" cy="2232000"/>
          </a:xfrm>
        </p:grpSpPr>
        <p:grpSp>
          <p:nvGrpSpPr>
            <p:cNvPr id="89" name=""/>
            <p:cNvGrpSpPr/>
            <p:nvPr/>
          </p:nvGrpSpPr>
          <p:grpSpPr>
            <a:xfrm>
              <a:off x="0" y="189000"/>
              <a:ext cx="1835280" cy="792000"/>
              <a:chOff x="0" y="189000"/>
              <a:chExt cx="1835280" cy="792000"/>
            </a:xfrm>
          </p:grpSpPr>
          <p:sp>
            <p:nvSpPr>
              <p:cNvPr id="90" name=""/>
              <p:cNvSpPr/>
              <p:nvPr/>
            </p:nvSpPr>
            <p:spPr>
              <a:xfrm>
                <a:off x="250920" y="189000"/>
                <a:ext cx="792000" cy="792000"/>
              </a:xfrm>
              <a:prstGeom prst="ellipse">
                <a:avLst/>
              </a:prstGeom>
              <a:gradFill rotWithShape="0">
                <a:gsLst>
                  <a:gs pos="0">
                    <a:srgbClr val="66ccff">
                      <a:alpha val="80392"/>
                    </a:srgbClr>
                  </a:gs>
                  <a:gs pos="50000">
                    <a:srgbClr val="bbe0e3">
                      <a:alpha val="52156"/>
                    </a:srgbClr>
                  </a:gs>
                  <a:gs pos="100000">
                    <a:srgbClr val="66ccff">
                      <a:alpha val="80392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971640" y="765000"/>
                <a:ext cx="215640" cy="142920"/>
              </a:xfrm>
              <a:prstGeom prst="line">
                <a:avLst/>
              </a:prstGeom>
              <a:ln w="38160">
                <a:solidFill>
                  <a:srgbClr val="bbe0e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476280"/>
                <a:ext cx="183528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00"/>
                    </a:solidFill>
                    <a:latin typeface="Arial"/>
                  </a:rPr>
                  <a:t>Совершенны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0" y="1628640"/>
              <a:ext cx="1835280" cy="792360"/>
              <a:chOff x="0" y="1628640"/>
              <a:chExt cx="1835280" cy="792360"/>
            </a:xfrm>
          </p:grpSpPr>
          <p:sp>
            <p:nvSpPr>
              <p:cNvPr id="94" name=""/>
              <p:cNvSpPr/>
              <p:nvPr/>
            </p:nvSpPr>
            <p:spPr>
              <a:xfrm>
                <a:off x="250920" y="1628640"/>
                <a:ext cx="792000" cy="792360"/>
              </a:xfrm>
              <a:prstGeom prst="ellipse">
                <a:avLst/>
              </a:prstGeom>
              <a:gradFill rotWithShape="0">
                <a:gsLst>
                  <a:gs pos="0">
                    <a:srgbClr val="66ccff">
                      <a:alpha val="80392"/>
                    </a:srgbClr>
                  </a:gs>
                  <a:gs pos="50000">
                    <a:srgbClr val="bbe0e3">
                      <a:alpha val="52156"/>
                    </a:srgbClr>
                  </a:gs>
                  <a:gs pos="100000">
                    <a:srgbClr val="66ccff">
                      <a:alpha val="80392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971640" y="1628640"/>
                <a:ext cx="215640" cy="216000"/>
              </a:xfrm>
              <a:prstGeom prst="line">
                <a:avLst/>
              </a:prstGeom>
              <a:ln w="38160">
                <a:solidFill>
                  <a:srgbClr val="bbe0e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1773360"/>
                <a:ext cx="183528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00"/>
                    </a:solidFill>
                    <a:latin typeface="Arial"/>
                  </a:rPr>
                  <a:t>Несовершенны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" name=""/>
          <p:cNvGrpSpPr/>
          <p:nvPr/>
        </p:nvGrpSpPr>
        <p:grpSpPr>
          <a:xfrm>
            <a:off x="0" y="4869000"/>
            <a:ext cx="1944720" cy="1989000"/>
            <a:chOff x="0" y="4869000"/>
            <a:chExt cx="1944720" cy="1989000"/>
          </a:xfrm>
        </p:grpSpPr>
        <p:grpSp>
          <p:nvGrpSpPr>
            <p:cNvPr id="98" name=""/>
            <p:cNvGrpSpPr/>
            <p:nvPr/>
          </p:nvGrpSpPr>
          <p:grpSpPr>
            <a:xfrm>
              <a:off x="0" y="4869000"/>
              <a:ext cx="1944720" cy="792000"/>
              <a:chOff x="0" y="4869000"/>
              <a:chExt cx="1944720" cy="792000"/>
            </a:xfrm>
          </p:grpSpPr>
          <p:sp>
            <p:nvSpPr>
              <p:cNvPr id="99" name=""/>
              <p:cNvSpPr/>
              <p:nvPr/>
            </p:nvSpPr>
            <p:spPr>
              <a:xfrm>
                <a:off x="250920" y="4869000"/>
                <a:ext cx="792000" cy="792000"/>
              </a:xfrm>
              <a:prstGeom prst="ellipse">
                <a:avLst/>
              </a:prstGeom>
              <a:gradFill rotWithShape="0">
                <a:gsLst>
                  <a:gs pos="0">
                    <a:srgbClr val="66ccff">
                      <a:alpha val="80392"/>
                    </a:srgbClr>
                  </a:gs>
                  <a:gs pos="50000">
                    <a:srgbClr val="bbe0e3">
                      <a:alpha val="52156"/>
                    </a:srgbClr>
                  </a:gs>
                  <a:gs pos="100000">
                    <a:srgbClr val="66ccff">
                      <a:alpha val="80392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971640" y="5445000"/>
                <a:ext cx="287280" cy="144720"/>
              </a:xfrm>
              <a:prstGeom prst="line">
                <a:avLst/>
              </a:prstGeom>
              <a:ln w="38160">
                <a:solidFill>
                  <a:srgbClr val="bbe0e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0" y="5084640"/>
                <a:ext cx="19447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00"/>
                    </a:solidFill>
                    <a:latin typeface="Arial"/>
                  </a:rPr>
                  <a:t>Возвратны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0" y="6066000"/>
              <a:ext cx="1944720" cy="792000"/>
              <a:chOff x="0" y="6066000"/>
              <a:chExt cx="1944720" cy="792000"/>
            </a:xfrm>
          </p:grpSpPr>
          <p:sp>
            <p:nvSpPr>
              <p:cNvPr id="103" name=""/>
              <p:cNvSpPr/>
              <p:nvPr/>
            </p:nvSpPr>
            <p:spPr>
              <a:xfrm>
                <a:off x="324000" y="6066000"/>
                <a:ext cx="792000" cy="792000"/>
              </a:xfrm>
              <a:prstGeom prst="ellipse">
                <a:avLst/>
              </a:prstGeom>
              <a:gradFill rotWithShape="0">
                <a:gsLst>
                  <a:gs pos="0">
                    <a:srgbClr val="66ccff">
                      <a:alpha val="80392"/>
                    </a:srgbClr>
                  </a:gs>
                  <a:gs pos="50000">
                    <a:srgbClr val="bbe0e3">
                      <a:alpha val="52156"/>
                    </a:srgbClr>
                  </a:gs>
                  <a:gs pos="100000">
                    <a:srgbClr val="66ccff">
                      <a:alpha val="80392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1116000" y="6165360"/>
                <a:ext cx="142920" cy="142920"/>
              </a:xfrm>
              <a:prstGeom prst="line">
                <a:avLst/>
              </a:prstGeom>
              <a:ln w="38160">
                <a:solidFill>
                  <a:srgbClr val="bbe0e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6308640"/>
                <a:ext cx="19447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00"/>
                    </a:solidFill>
                    <a:latin typeface="Arial"/>
                  </a:rPr>
                  <a:t>Невозвратны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"/>
          <p:cNvSpPr txBox="1"/>
          <p:nvPr/>
        </p:nvSpPr>
        <p:spPr>
          <a:xfrm>
            <a:off x="2700360" y="333360"/>
            <a:ext cx="1224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ГЛАГО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107" name=""/>
          <p:cNvSpPr/>
          <p:nvPr/>
        </p:nvSpPr>
        <p:spPr>
          <a:xfrm>
            <a:off x="5940360" y="2565360"/>
            <a:ext cx="1224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59640" y="4076640"/>
            <a:ext cx="1224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87640" y="2421000"/>
            <a:ext cx="1224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Лиц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76720" y="4365720"/>
            <a:ext cx="1224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51280" y="1125360"/>
            <a:ext cx="2233440" cy="14400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3635280" y="1125000"/>
            <a:ext cx="3097440" cy="280836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3563640" y="1196640"/>
            <a:ext cx="1871640" cy="280836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95640" y="692280"/>
            <a:ext cx="144720" cy="7272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148360" y="189000"/>
            <a:ext cx="2809800" cy="1900080"/>
            <a:chOff x="5148360" y="189000"/>
            <a:chExt cx="2809800" cy="1900080"/>
          </a:xfrm>
        </p:grpSpPr>
        <p:grpSp>
          <p:nvGrpSpPr>
            <p:cNvPr id="116" name=""/>
            <p:cNvGrpSpPr/>
            <p:nvPr/>
          </p:nvGrpSpPr>
          <p:grpSpPr>
            <a:xfrm>
              <a:off x="5148360" y="189000"/>
              <a:ext cx="1657080" cy="747720"/>
              <a:chOff x="5148360" y="189000"/>
              <a:chExt cx="1657080" cy="747720"/>
            </a:xfrm>
          </p:grpSpPr>
          <p:sp>
            <p:nvSpPr>
              <p:cNvPr id="117" name=""/>
              <p:cNvSpPr/>
              <p:nvPr/>
            </p:nvSpPr>
            <p:spPr>
              <a:xfrm>
                <a:off x="5508720" y="189000"/>
                <a:ext cx="793800" cy="74772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5435640" y="692280"/>
                <a:ext cx="144360" cy="72720"/>
              </a:xfrm>
              <a:prstGeom prst="line">
                <a:avLst/>
              </a:prstGeom>
              <a:ln w="38160">
                <a:solidFill>
                  <a:srgbClr val="00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148360" y="260280"/>
                <a:ext cx="165708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ffc32"/>
                    </a:solidFill>
                    <a:latin typeface="Arial"/>
                  </a:rPr>
                  <a:t>Условно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5435280" y="549360"/>
              <a:ext cx="2522880" cy="747720"/>
              <a:chOff x="5435280" y="549360"/>
              <a:chExt cx="2522880" cy="747720"/>
            </a:xfrm>
          </p:grpSpPr>
          <p:sp>
            <p:nvSpPr>
              <p:cNvPr id="121" name=""/>
              <p:cNvSpPr/>
              <p:nvPr/>
            </p:nvSpPr>
            <p:spPr>
              <a:xfrm>
                <a:off x="6516720" y="549360"/>
                <a:ext cx="793800" cy="74772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5435280" y="981000"/>
                <a:ext cx="1081080" cy="0"/>
              </a:xfrm>
              <a:prstGeom prst="line">
                <a:avLst/>
              </a:prstGeom>
              <a:ln w="38160">
                <a:solidFill>
                  <a:srgbClr val="00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300720" y="692280"/>
                <a:ext cx="165744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ffc32"/>
                    </a:solidFill>
                    <a:latin typeface="Arial"/>
                  </a:rPr>
                  <a:t>Повелительно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5364000" y="1196640"/>
              <a:ext cx="2233800" cy="892440"/>
              <a:chOff x="5364000" y="1196640"/>
              <a:chExt cx="2233800" cy="892440"/>
            </a:xfrm>
          </p:grpSpPr>
          <p:sp>
            <p:nvSpPr>
              <p:cNvPr id="125" name=""/>
              <p:cNvSpPr/>
              <p:nvPr/>
            </p:nvSpPr>
            <p:spPr>
              <a:xfrm>
                <a:off x="6084720" y="1341360"/>
                <a:ext cx="793800" cy="74772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flipV="1">
                <a:off x="5364000" y="1196640"/>
                <a:ext cx="720720" cy="431640"/>
              </a:xfrm>
              <a:prstGeom prst="line">
                <a:avLst/>
              </a:prstGeom>
              <a:ln w="38160">
                <a:solidFill>
                  <a:srgbClr val="00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940360" y="1557360"/>
                <a:ext cx="165744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ffc32"/>
                    </a:solidFill>
                    <a:latin typeface="Arial"/>
                  </a:rPr>
                  <a:t>Изъявительно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8" name=""/>
          <p:cNvGrpSpPr/>
          <p:nvPr/>
        </p:nvGrpSpPr>
        <p:grpSpPr>
          <a:xfrm>
            <a:off x="7451640" y="4005360"/>
            <a:ext cx="1873440" cy="1827000"/>
            <a:chOff x="7451640" y="4005360"/>
            <a:chExt cx="1873440" cy="1827000"/>
          </a:xfrm>
        </p:grpSpPr>
        <p:sp>
          <p:nvSpPr>
            <p:cNvPr id="129" name=""/>
            <p:cNvSpPr/>
            <p:nvPr/>
          </p:nvSpPr>
          <p:spPr>
            <a:xfrm>
              <a:off x="7956720" y="4292640"/>
              <a:ext cx="215640" cy="0"/>
            </a:xfrm>
            <a:prstGeom prst="line">
              <a:avLst/>
            </a:prstGeom>
            <a:ln w="381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137440" y="4005360"/>
              <a:ext cx="793800" cy="747720"/>
            </a:xfrm>
            <a:prstGeom prst="ellipse">
              <a:avLst/>
            </a:pr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67640" y="4437000"/>
              <a:ext cx="165744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ffc32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4ffc32"/>
                  </a:solidFill>
                  <a:latin typeface="Arial"/>
                </a:rPr>
                <a:t>Единственно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7451640" y="4723920"/>
              <a:ext cx="1657440" cy="1108440"/>
              <a:chOff x="7451640" y="4723920"/>
              <a:chExt cx="1657440" cy="1108440"/>
            </a:xfrm>
          </p:grpSpPr>
          <p:sp>
            <p:nvSpPr>
              <p:cNvPr id="133" name=""/>
              <p:cNvSpPr/>
              <p:nvPr/>
            </p:nvSpPr>
            <p:spPr>
              <a:xfrm>
                <a:off x="7921800" y="5084640"/>
                <a:ext cx="793440" cy="74772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flipV="1">
                <a:off x="7632720" y="4723920"/>
                <a:ext cx="433440" cy="505080"/>
              </a:xfrm>
              <a:prstGeom prst="line">
                <a:avLst/>
              </a:prstGeom>
              <a:ln w="38160">
                <a:solidFill>
                  <a:srgbClr val="00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51640" y="5300640"/>
                <a:ext cx="165744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ffc32"/>
                    </a:solidFill>
                    <a:latin typeface="Arial"/>
                  </a:rPr>
                  <a:t>Множественно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6" name=""/>
          <p:cNvGrpSpPr/>
          <p:nvPr/>
        </p:nvGrpSpPr>
        <p:grpSpPr>
          <a:xfrm>
            <a:off x="4211640" y="4653000"/>
            <a:ext cx="3313080" cy="1324080"/>
            <a:chOff x="4211640" y="4653000"/>
            <a:chExt cx="3313080" cy="1324080"/>
          </a:xfrm>
        </p:grpSpPr>
        <p:grpSp>
          <p:nvGrpSpPr>
            <p:cNvPr id="137" name=""/>
            <p:cNvGrpSpPr/>
            <p:nvPr/>
          </p:nvGrpSpPr>
          <p:grpSpPr>
            <a:xfrm>
              <a:off x="5867280" y="4869000"/>
              <a:ext cx="1657440" cy="747720"/>
              <a:chOff x="5867280" y="4869000"/>
              <a:chExt cx="1657440" cy="747720"/>
            </a:xfrm>
          </p:grpSpPr>
          <p:sp>
            <p:nvSpPr>
              <p:cNvPr id="138" name=""/>
              <p:cNvSpPr/>
              <p:nvPr/>
            </p:nvSpPr>
            <p:spPr>
              <a:xfrm>
                <a:off x="6300720" y="4869000"/>
                <a:ext cx="793800" cy="74772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227640" y="4941720"/>
                <a:ext cx="144720" cy="142920"/>
              </a:xfrm>
              <a:prstGeom prst="line">
                <a:avLst/>
              </a:prstGeom>
              <a:ln w="38160">
                <a:solidFill>
                  <a:srgbClr val="00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867280" y="5084640"/>
                <a:ext cx="165744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ffc32"/>
                    </a:solidFill>
                    <a:latin typeface="Arial"/>
                  </a:rPr>
                  <a:t>Женски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4932360" y="5084640"/>
              <a:ext cx="1657440" cy="892440"/>
              <a:chOff x="4932360" y="5084640"/>
              <a:chExt cx="1657440" cy="892440"/>
            </a:xfrm>
          </p:grpSpPr>
          <p:sp>
            <p:nvSpPr>
              <p:cNvPr id="142" name=""/>
              <p:cNvSpPr/>
              <p:nvPr/>
            </p:nvSpPr>
            <p:spPr>
              <a:xfrm>
                <a:off x="5364000" y="5229360"/>
                <a:ext cx="793800" cy="74772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5724360" y="5084640"/>
                <a:ext cx="0" cy="144720"/>
              </a:xfrm>
              <a:prstGeom prst="line">
                <a:avLst/>
              </a:prstGeom>
              <a:ln w="38160">
                <a:solidFill>
                  <a:srgbClr val="00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932360" y="5445000"/>
                <a:ext cx="165744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ffc32"/>
                    </a:solidFill>
                    <a:latin typeface="Arial"/>
                  </a:rPr>
                  <a:t>Средни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4211640" y="4653000"/>
              <a:ext cx="1008000" cy="747720"/>
              <a:chOff x="4211640" y="4653000"/>
              <a:chExt cx="1008000" cy="747720"/>
            </a:xfrm>
          </p:grpSpPr>
          <p:sp>
            <p:nvSpPr>
              <p:cNvPr id="146" name=""/>
              <p:cNvSpPr/>
              <p:nvPr/>
            </p:nvSpPr>
            <p:spPr>
              <a:xfrm>
                <a:off x="4284720" y="4653000"/>
                <a:ext cx="793800" cy="74772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V="1">
                <a:off x="5003640" y="4797000"/>
                <a:ext cx="144720" cy="71640"/>
              </a:xfrm>
              <a:prstGeom prst="line">
                <a:avLst/>
              </a:prstGeom>
              <a:ln w="38160">
                <a:solidFill>
                  <a:srgbClr val="00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211640" y="4869000"/>
                <a:ext cx="10080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ffc32"/>
                    </a:solidFill>
                    <a:latin typeface="Arial"/>
                  </a:rPr>
                  <a:t>Мужско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9" name=""/>
          <p:cNvGrpSpPr/>
          <p:nvPr/>
        </p:nvGrpSpPr>
        <p:grpSpPr>
          <a:xfrm>
            <a:off x="2268360" y="3141360"/>
            <a:ext cx="2953080" cy="1682640"/>
            <a:chOff x="2268360" y="3141360"/>
            <a:chExt cx="2953080" cy="1682640"/>
          </a:xfrm>
        </p:grpSpPr>
        <p:grpSp>
          <p:nvGrpSpPr>
            <p:cNvPr id="150" name=""/>
            <p:cNvGrpSpPr/>
            <p:nvPr/>
          </p:nvGrpSpPr>
          <p:grpSpPr>
            <a:xfrm>
              <a:off x="3564000" y="3141360"/>
              <a:ext cx="1657440" cy="892440"/>
              <a:chOff x="3564000" y="3141360"/>
              <a:chExt cx="1657440" cy="892440"/>
            </a:xfrm>
          </p:grpSpPr>
          <p:sp>
            <p:nvSpPr>
              <p:cNvPr id="151" name=""/>
              <p:cNvSpPr/>
              <p:nvPr/>
            </p:nvSpPr>
            <p:spPr>
              <a:xfrm>
                <a:off x="3995640" y="3286080"/>
                <a:ext cx="793800" cy="74772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 flipV="1">
                <a:off x="4066920" y="3141360"/>
                <a:ext cx="144360" cy="215640"/>
              </a:xfrm>
              <a:prstGeom prst="line">
                <a:avLst/>
              </a:prstGeom>
              <a:ln w="38160">
                <a:solidFill>
                  <a:srgbClr val="00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564000" y="3502080"/>
                <a:ext cx="165744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4ffc32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2843280" y="3284640"/>
              <a:ext cx="1657440" cy="1539360"/>
              <a:chOff x="2843280" y="3284640"/>
              <a:chExt cx="1657440" cy="1539360"/>
            </a:xfrm>
          </p:grpSpPr>
          <p:sp>
            <p:nvSpPr>
              <p:cNvPr id="155" name=""/>
              <p:cNvSpPr/>
              <p:nvPr/>
            </p:nvSpPr>
            <p:spPr>
              <a:xfrm>
                <a:off x="3276720" y="4076640"/>
                <a:ext cx="793800" cy="7473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3708360" y="3284640"/>
                <a:ext cx="0" cy="792000"/>
              </a:xfrm>
              <a:prstGeom prst="line">
                <a:avLst/>
              </a:prstGeom>
              <a:ln w="38160">
                <a:solidFill>
                  <a:srgbClr val="00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843280" y="4292280"/>
                <a:ext cx="165744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4ffc32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2268360" y="3213000"/>
              <a:ext cx="1657080" cy="963720"/>
              <a:chOff x="2268360" y="3213000"/>
              <a:chExt cx="1657080" cy="963720"/>
            </a:xfrm>
          </p:grpSpPr>
          <p:sp>
            <p:nvSpPr>
              <p:cNvPr id="159" name=""/>
              <p:cNvSpPr/>
              <p:nvPr/>
            </p:nvSpPr>
            <p:spPr>
              <a:xfrm>
                <a:off x="2773080" y="3429000"/>
                <a:ext cx="793800" cy="74772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3276360" y="3213000"/>
                <a:ext cx="144360" cy="216000"/>
              </a:xfrm>
              <a:prstGeom prst="line">
                <a:avLst/>
              </a:prstGeom>
              <a:ln w="38160">
                <a:solidFill>
                  <a:srgbClr val="00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268360" y="3645000"/>
                <a:ext cx="165708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4ffc32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 flipH="1" flipV="1">
            <a:off x="3492000" y="1267920"/>
            <a:ext cx="71640" cy="79236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164000" y="1628640"/>
            <a:ext cx="1980000" cy="2043360"/>
            <a:chOff x="7164000" y="1628640"/>
            <a:chExt cx="1980000" cy="2043360"/>
          </a:xfrm>
        </p:grpSpPr>
        <p:grpSp>
          <p:nvGrpSpPr>
            <p:cNvPr id="164" name=""/>
            <p:cNvGrpSpPr/>
            <p:nvPr/>
          </p:nvGrpSpPr>
          <p:grpSpPr>
            <a:xfrm>
              <a:off x="7235640" y="2349360"/>
              <a:ext cx="1908360" cy="747720"/>
              <a:chOff x="7235640" y="2349360"/>
              <a:chExt cx="1908360" cy="747720"/>
            </a:xfrm>
          </p:grpSpPr>
          <p:sp>
            <p:nvSpPr>
              <p:cNvPr id="165" name=""/>
              <p:cNvSpPr/>
              <p:nvPr/>
            </p:nvSpPr>
            <p:spPr>
              <a:xfrm>
                <a:off x="8350200" y="2349360"/>
                <a:ext cx="793800" cy="74772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7235640" y="2781360"/>
                <a:ext cx="1081080" cy="0"/>
              </a:xfrm>
              <a:prstGeom prst="line">
                <a:avLst/>
              </a:prstGeom>
              <a:ln w="38160">
                <a:solidFill>
                  <a:srgbClr val="00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954920" y="2492280"/>
                <a:ext cx="118908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ffc32"/>
                    </a:solidFill>
                    <a:latin typeface="Arial"/>
                  </a:rPr>
                  <a:t>Настояще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7164000" y="2924280"/>
              <a:ext cx="1980000" cy="747720"/>
              <a:chOff x="7164000" y="2924280"/>
              <a:chExt cx="1980000" cy="747720"/>
            </a:xfrm>
          </p:grpSpPr>
          <p:sp>
            <p:nvSpPr>
              <p:cNvPr id="169" name=""/>
              <p:cNvSpPr/>
              <p:nvPr/>
            </p:nvSpPr>
            <p:spPr>
              <a:xfrm>
                <a:off x="7524720" y="2924280"/>
                <a:ext cx="793800" cy="74772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 flipV="1">
                <a:off x="7164000" y="2997000"/>
                <a:ext cx="360360" cy="215640"/>
              </a:xfrm>
              <a:prstGeom prst="line">
                <a:avLst/>
              </a:prstGeom>
              <a:ln w="38160">
                <a:solidFill>
                  <a:srgbClr val="00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86560" y="3141720"/>
                <a:ext cx="165744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ffc32"/>
                    </a:solidFill>
                    <a:latin typeface="Arial"/>
                  </a:rPr>
                  <a:t>Прошедше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7164360" y="1628640"/>
              <a:ext cx="1801800" cy="1008360"/>
              <a:chOff x="7164360" y="1628640"/>
              <a:chExt cx="1801800" cy="1008360"/>
            </a:xfrm>
          </p:grpSpPr>
          <p:sp>
            <p:nvSpPr>
              <p:cNvPr id="173" name=""/>
              <p:cNvSpPr/>
              <p:nvPr/>
            </p:nvSpPr>
            <p:spPr>
              <a:xfrm>
                <a:off x="7740720" y="1628640"/>
                <a:ext cx="793800" cy="7477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308720" y="1844640"/>
                <a:ext cx="165744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ffc32"/>
                    </a:solidFill>
                    <a:latin typeface="Arial"/>
                  </a:rPr>
                  <a:t>Будуще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7164360" y="2133720"/>
                <a:ext cx="647640" cy="503280"/>
              </a:xfrm>
              <a:prstGeom prst="line">
                <a:avLst/>
              </a:prstGeom>
              <a:ln w="38160">
                <a:solidFill>
                  <a:srgbClr val="00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"/>
          <p:cNvSpPr/>
          <p:nvPr/>
        </p:nvSpPr>
        <p:spPr>
          <a:xfrm flipV="1">
            <a:off x="5940360" y="3428640"/>
            <a:ext cx="158436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4211640" y="1916280"/>
            <a:ext cx="3600360" cy="57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11640" y="2492280"/>
            <a:ext cx="4248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516720" y="1844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42920" y="620640"/>
            <a:ext cx="1368360" cy="1295640"/>
          </a:xfrm>
          <a:prstGeom prst="ellipse">
            <a:avLst/>
          </a:prstGeom>
          <a:blipFill rotWithShape="0">
            <a:blip r:embed="rId2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16000" y="1052640"/>
            <a:ext cx="1224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В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59640" y="3645000"/>
            <a:ext cx="1297080" cy="1224000"/>
          </a:xfrm>
          <a:prstGeom prst="ellipse">
            <a:avLst/>
          </a:prstGeom>
          <a:blipFill rotWithShape="0">
            <a:blip r:embed="rId2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87280" y="5157720"/>
            <a:ext cx="1368720" cy="1295640"/>
          </a:xfrm>
          <a:prstGeom prst="ellipse">
            <a:avLst/>
          </a:prstGeom>
          <a:blipFill rotWithShape="0">
            <a:blip r:embed="rId2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16000" y="2997360"/>
            <a:ext cx="1368360" cy="1295280"/>
          </a:xfrm>
          <a:prstGeom prst="ellipse">
            <a:avLst/>
          </a:prstGeom>
          <a:blipFill rotWithShape="0">
            <a:blip r:embed="rId3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40360" y="2205000"/>
            <a:ext cx="1297080" cy="1224000"/>
          </a:xfrm>
          <a:prstGeom prst="ellipse">
            <a:avLst/>
          </a:prstGeom>
          <a:blipFill rotWithShape="0">
            <a:blip r:embed="rId3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076720" y="3933720"/>
            <a:ext cx="1297080" cy="1224000"/>
          </a:xfrm>
          <a:prstGeom prst="ellipse">
            <a:avLst/>
          </a:prstGeom>
          <a:blipFill rotWithShape="0">
            <a:blip r:embed="rId3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87640" y="2060640"/>
            <a:ext cx="1297080" cy="1224000"/>
          </a:xfrm>
          <a:prstGeom prst="ellipse">
            <a:avLst/>
          </a:prstGeom>
          <a:blipFill rotWithShape="0">
            <a:blip r:embed="rId3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411280" y="836640"/>
            <a:ext cx="360360" cy="2160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340000" y="328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68360" y="321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124000" y="1125360"/>
            <a:ext cx="863640" cy="194328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340000" y="1268280"/>
            <a:ext cx="863640" cy="410544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042920" y="3429000"/>
            <a:ext cx="1584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Спр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332000" y="5300640"/>
            <a:ext cx="1079280" cy="11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Возвратность</a:t>
            </a:r>
            <a:endParaRPr b="1" lang="en-US" sz="1800" spc="1" strike="noStrike">
              <a:ln w="0">
                <a:noFill/>
              </a:ln>
              <a:solidFill>
                <a:srgbClr val="cc33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4140360" y="333360"/>
            <a:ext cx="1295280" cy="1297080"/>
            <a:chOff x="4140360" y="333360"/>
            <a:chExt cx="1295280" cy="1297080"/>
          </a:xfrm>
        </p:grpSpPr>
        <p:sp>
          <p:nvSpPr>
            <p:cNvPr id="196" name=""/>
            <p:cNvSpPr/>
            <p:nvPr/>
          </p:nvSpPr>
          <p:spPr>
            <a:xfrm>
              <a:off x="4140360" y="333360"/>
              <a:ext cx="1295280" cy="1224000"/>
            </a:xfrm>
            <a:prstGeom prst="ellipse">
              <a:avLst/>
            </a:prstGeom>
            <a:blipFill rotWithShape="0">
              <a:blip r:embed="rId3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4284360" y="477720"/>
              <a:ext cx="1008000" cy="1152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"/>
                </a:rPr>
                <a:t>Наклонение</a:t>
              </a:r>
              <a:endPara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179280" y="2708280"/>
            <a:ext cx="1079640" cy="2089080"/>
            <a:chOff x="179280" y="2708280"/>
            <a:chExt cx="1079640" cy="2089080"/>
          </a:xfrm>
        </p:grpSpPr>
        <p:sp>
          <p:nvSpPr>
            <p:cNvPr id="199" name=""/>
            <p:cNvSpPr/>
            <p:nvPr/>
          </p:nvSpPr>
          <p:spPr>
            <a:xfrm>
              <a:off x="250920" y="2708280"/>
              <a:ext cx="792000" cy="792000"/>
            </a:xfrm>
            <a:prstGeom prst="ellipse">
              <a:avLst/>
            </a:prstGeom>
            <a:gradFill rotWithShape="0">
              <a:gsLst>
                <a:gs pos="0">
                  <a:srgbClr val="66ccff">
                    <a:alpha val="80392"/>
                  </a:srgbClr>
                </a:gs>
                <a:gs pos="50000">
                  <a:srgbClr val="bbe0e3">
                    <a:alpha val="52156"/>
                  </a:srgbClr>
                </a:gs>
                <a:gs pos="100000">
                  <a:srgbClr val="66ccff">
                    <a:alpha val="8039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971640" y="3284280"/>
              <a:ext cx="215640" cy="144720"/>
            </a:xfrm>
            <a:prstGeom prst="line">
              <a:avLst/>
            </a:prstGeom>
            <a:ln w="38160">
              <a:solidFill>
                <a:srgbClr val="bbe0e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9280" y="2923920"/>
              <a:ext cx="865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50920" y="4005000"/>
              <a:ext cx="792000" cy="792360"/>
            </a:xfrm>
            <a:prstGeom prst="ellipse">
              <a:avLst/>
            </a:prstGeom>
            <a:gradFill rotWithShape="0">
              <a:gsLst>
                <a:gs pos="0">
                  <a:srgbClr val="66ccff">
                    <a:alpha val="80392"/>
                  </a:srgbClr>
                </a:gs>
                <a:gs pos="50000">
                  <a:srgbClr val="bbe0e3">
                    <a:alpha val="52156"/>
                  </a:srgbClr>
                </a:gs>
                <a:gs pos="100000">
                  <a:srgbClr val="66ccff">
                    <a:alpha val="8039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042920" y="4076280"/>
              <a:ext cx="216000" cy="215640"/>
            </a:xfrm>
            <a:prstGeom prst="line">
              <a:avLst/>
            </a:prstGeom>
            <a:ln w="38160">
              <a:solidFill>
                <a:srgbClr val="bbe0e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9280" y="4221000"/>
              <a:ext cx="865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I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 txBox="1"/>
          <p:nvPr/>
        </p:nvSpPr>
        <p:spPr>
          <a:xfrm>
            <a:off x="2700360" y="333360"/>
            <a:ext cx="1224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ГЛАГО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206" name=""/>
          <p:cNvSpPr/>
          <p:nvPr/>
        </p:nvSpPr>
        <p:spPr>
          <a:xfrm>
            <a:off x="5940360" y="2565360"/>
            <a:ext cx="1224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659640" y="4076640"/>
            <a:ext cx="1224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987640" y="2421000"/>
            <a:ext cx="1224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Лиц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76720" y="4365720"/>
            <a:ext cx="1224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51280" y="1125360"/>
            <a:ext cx="2233440" cy="14400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3635280" y="1125000"/>
            <a:ext cx="3097440" cy="280836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3563640" y="1196640"/>
            <a:ext cx="1871640" cy="280836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95640" y="692280"/>
            <a:ext cx="144720" cy="7272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492000" y="1267920"/>
            <a:ext cx="71640" cy="79236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8964720" y="6021360"/>
            <a:ext cx="5327640" cy="836640"/>
            <a:chOff x="8964720" y="6021360"/>
            <a:chExt cx="5327640" cy="836640"/>
          </a:xfrm>
        </p:grpSpPr>
        <p:pic>
          <p:nvPicPr>
            <p:cNvPr id="216" name="" descr=""/>
            <p:cNvPicPr/>
            <p:nvPr/>
          </p:nvPicPr>
          <p:blipFill>
            <a:blip r:embed="rId35"/>
            <a:srcRect l="8550" t="33428" r="0" b="17498"/>
            <a:stretch/>
          </p:blipFill>
          <p:spPr>
            <a:xfrm>
              <a:off x="8964720" y="6021360"/>
              <a:ext cx="532764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9325080" y="6237360"/>
              <a:ext cx="48956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9900"/>
                  </a:solidFill>
                  <a:latin typeface="Arial"/>
                </a:rPr>
                <a:t>Синтаксическая ро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372 0.00208 L -0.68108 0.00208 E">
                                      <p:cBhvr>
                                        <p:cTn id="107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539640" y="0"/>
            <a:ext cx="8064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Гла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24000" y="765000"/>
            <a:ext cx="8569080" cy="5688360"/>
            <a:chOff x="324000" y="765000"/>
            <a:chExt cx="8569080" cy="5688360"/>
          </a:xfrm>
        </p:grpSpPr>
        <p:pic>
          <p:nvPicPr>
            <p:cNvPr id="220" name="" descr=""/>
            <p:cNvPicPr/>
            <p:nvPr/>
          </p:nvPicPr>
          <p:blipFill>
            <a:blip r:embed="rId2"/>
            <a:stretch/>
          </p:blipFill>
          <p:spPr>
            <a:xfrm>
              <a:off x="324000" y="765000"/>
              <a:ext cx="4170240" cy="568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3"/>
            <a:stretch/>
          </p:blipFill>
          <p:spPr>
            <a:xfrm>
              <a:off x="4716360" y="765000"/>
              <a:ext cx="4176720" cy="568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684360" y="981000"/>
              <a:ext cx="3671640" cy="24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66ff"/>
                  </a:solidFill>
                  <a:latin typeface="Arial"/>
                </a:rPr>
                <a:t>Постоянные признаки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i="1" lang="en-US" sz="2800" spc="-1" strike="noStrike">
                  <a:solidFill>
                    <a:srgbClr val="0066ff"/>
                  </a:solidFill>
                  <a:latin typeface="Arial"/>
                </a:rPr>
                <a:t>1. Вид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59280" y="996840"/>
              <a:ext cx="3672000" cy="15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66ff"/>
                  </a:solidFill>
                  <a:latin typeface="Arial"/>
                </a:rPr>
                <a:t>Непостоянные признаки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5640" y="2708280"/>
              <a:ext cx="36720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ff"/>
                  </a:solidFill>
                  <a:latin typeface="Arial"/>
                </a:rPr>
                <a:t>2. Спряжение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11280" y="3141720"/>
              <a:ext cx="36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i="1" lang="en-US" sz="2800" spc="-1" strike="noStrike">
                  <a:solidFill>
                    <a:srgbClr val="0066ff"/>
                  </a:solidFill>
                  <a:latin typeface="Arial"/>
                </a:rPr>
                <a:t>3. Возвратность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859280" y="3213000"/>
              <a:ext cx="36720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i="1" lang="en-US" sz="2800" spc="-1" strike="noStrike">
                  <a:solidFill>
                    <a:srgbClr val="0066ff"/>
                  </a:solidFill>
                  <a:latin typeface="Arial"/>
                </a:rPr>
                <a:t>3. Лицо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716360" y="3716280"/>
              <a:ext cx="367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ff"/>
                  </a:solidFill>
                  <a:latin typeface="Arial"/>
                </a:rPr>
                <a:t>  </a:t>
              </a:r>
              <a:r>
                <a:rPr b="1" i="1" lang="en-US" sz="2800" spc="-1" strike="noStrike">
                  <a:solidFill>
                    <a:srgbClr val="0066ff"/>
                  </a:solidFill>
                  <a:latin typeface="Arial"/>
                </a:rPr>
                <a:t>4. Число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859280" y="2205000"/>
              <a:ext cx="367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i="1" lang="en-US" sz="2800" spc="-1" strike="noStrike">
                  <a:solidFill>
                    <a:srgbClr val="0066ff"/>
                  </a:solidFill>
                  <a:latin typeface="Arial"/>
                </a:rPr>
                <a:t>1. Наклонение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859280" y="4221000"/>
              <a:ext cx="36720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i="1" lang="en-US" sz="2800" spc="-1" strike="noStrike">
                  <a:solidFill>
                    <a:srgbClr val="0066ff"/>
                  </a:solidFill>
                  <a:latin typeface="Arial"/>
                </a:rPr>
                <a:t>5. Род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59280" y="2708280"/>
              <a:ext cx="367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i="1" lang="en-US" sz="2800" spc="-1" strike="noStrike">
                  <a:solidFill>
                    <a:srgbClr val="0066ff"/>
                  </a:solidFill>
                  <a:latin typeface="Arial"/>
                </a:rPr>
                <a:t>2. Время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100080"/>
            <a:ext cx="8686800" cy="67579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 rot="19620000">
            <a:off x="-96480" y="4260600"/>
            <a:ext cx="6570720" cy="5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-181080" y="-33480"/>
            <a:ext cx="9325080" cy="6891480"/>
          </a:xfrm>
          <a:prstGeom prst="rect">
            <a:avLst/>
          </a:prstGeom>
          <a:ln w="0">
            <a:noFill/>
          </a:ln>
        </p:spPr>
      </p:pic>
      <p:grpSp>
        <p:nvGrpSpPr>
          <p:cNvPr id="235" name=""/>
          <p:cNvGrpSpPr/>
          <p:nvPr/>
        </p:nvGrpSpPr>
        <p:grpSpPr>
          <a:xfrm>
            <a:off x="1619280" y="0"/>
            <a:ext cx="5162400" cy="6858000"/>
            <a:chOff x="1619280" y="0"/>
            <a:chExt cx="5162400" cy="6858000"/>
          </a:xfrm>
        </p:grpSpPr>
        <p:sp>
          <p:nvSpPr>
            <p:cNvPr id="236" name=""/>
            <p:cNvSpPr/>
            <p:nvPr/>
          </p:nvSpPr>
          <p:spPr>
            <a:xfrm>
              <a:off x="1619280" y="5751720"/>
              <a:ext cx="479880" cy="1103040"/>
            </a:xfrm>
            <a:custGeom>
              <a:avLst/>
              <a:gdLst>
                <a:gd name="textAreaLeft" fmla="*/ 23400 w 479880"/>
                <a:gd name="textAreaRight" fmla="*/ 456480 w 479880"/>
                <a:gd name="textAreaTop" fmla="*/ 23400 h 1103040"/>
                <a:gd name="textAreaBottom" fmla="*/ 1079640 h 1103040"/>
              </a:gdLst>
              <a:ahLst/>
              <a:rect l="textAreaLeft" t="textAreaTop" r="textAreaRight" b="textAreaBottom"/>
              <a:pathLst>
                <a:path w="21600" h="49628">
                  <a:moveTo>
                    <a:pt x="3600" y="0"/>
                  </a:moveTo>
                  <a:arcTo wR="3600" hR="3600" stAng="16200000" swAng="-5400000"/>
                  <a:lnTo>
                    <a:pt x="0" y="46028"/>
                  </a:lnTo>
                  <a:arcTo wR="3600" hR="3600" stAng="10800000" swAng="-5400000"/>
                  <a:lnTo>
                    <a:pt x="18000" y="496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c0c0c0">
                    <a:alpha val="32156"/>
                  </a:srgbClr>
                </a:gs>
                <a:gs pos="50000">
                  <a:srgbClr val="ccffff"/>
                </a:gs>
                <a:gs pos="100000">
                  <a:srgbClr val="c0c0c0">
                    <a:alpha val="32156"/>
                  </a:srgbClr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619280" y="5839560"/>
              <a:ext cx="423000" cy="169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536640" y="0"/>
              <a:ext cx="1323360" cy="204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962"/>
                  </a:moveTo>
                  <a:arcTo wR="10800" hR="10800" stAng="10748416" swAng="108515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962"/>
                  </a:moveTo>
                  <a:arcTo wR="10800" hR="10800" stAng="10748416" swAng="10851584"/>
                </a:path>
              </a:pathLst>
            </a:custGeom>
            <a:gradFill rotWithShape="0">
              <a:gsLst>
                <a:gs pos="0">
                  <a:srgbClr val="ff0000"/>
                </a:gs>
                <a:gs pos="50000">
                  <a:srgbClr val="c0c0c0"/>
                </a:gs>
                <a:gs pos="100000">
                  <a:srgbClr val="ff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0800000">
              <a:off x="2465640" y="5839560"/>
              <a:ext cx="3481920" cy="945360"/>
            </a:xfrm>
            <a:prstGeom prst="flowChartManualOperation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ccffff"/>
                </a:gs>
                <a:gs pos="100000">
                  <a:srgbClr val="c0c0c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19520" y="2126880"/>
              <a:ext cx="2761560" cy="3545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2099160" y="6303240"/>
              <a:ext cx="0" cy="47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6301800" y="6224040"/>
              <a:ext cx="0" cy="55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301800" y="5751720"/>
              <a:ext cx="479880" cy="1103040"/>
            </a:xfrm>
            <a:custGeom>
              <a:avLst/>
              <a:gdLst>
                <a:gd name="textAreaLeft" fmla="*/ 23400 w 479880"/>
                <a:gd name="textAreaRight" fmla="*/ 456480 w 479880"/>
                <a:gd name="textAreaTop" fmla="*/ 23400 h 1103040"/>
                <a:gd name="textAreaBottom" fmla="*/ 1079640 h 1103040"/>
              </a:gdLst>
              <a:ahLst/>
              <a:rect l="textAreaLeft" t="textAreaTop" r="textAreaRight" b="textAreaBottom"/>
              <a:pathLst>
                <a:path w="21600" h="49628">
                  <a:moveTo>
                    <a:pt x="3600" y="0"/>
                  </a:moveTo>
                  <a:arcTo wR="3600" hR="3600" stAng="16200000" swAng="-5400000"/>
                  <a:lnTo>
                    <a:pt x="0" y="46028"/>
                  </a:lnTo>
                  <a:arcTo wR="3600" hR="3600" stAng="10800000" swAng="-5400000"/>
                  <a:lnTo>
                    <a:pt x="18000" y="496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c0c0c0">
                    <a:alpha val="32156"/>
                  </a:srgbClr>
                </a:gs>
                <a:gs pos="50000">
                  <a:srgbClr val="ccffff"/>
                </a:gs>
                <a:gs pos="100000">
                  <a:srgbClr val="c0c0c0">
                    <a:alpha val="32156"/>
                  </a:srgbClr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939760" y="1890360"/>
              <a:ext cx="2521080" cy="2361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ccffff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0800000">
              <a:off x="2939400" y="1023120"/>
              <a:ext cx="2521080" cy="866520"/>
            </a:xfrm>
            <a:custGeom>
              <a:avLst/>
              <a:gdLst>
                <a:gd name="textAreaLeft" fmla="*/ 554400 w 2521080"/>
                <a:gd name="textAreaRight" fmla="*/ 1966680 w 2521080"/>
                <a:gd name="textAreaTop" fmla="*/ 190440 h 866520"/>
                <a:gd name="textAreaBottom" fmla="*/ 676080 h 86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ccffff"/>
                </a:gs>
                <a:gs pos="100000">
                  <a:srgbClr val="c0c0c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540240" y="1023840"/>
              <a:ext cx="13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540240" y="945000"/>
              <a:ext cx="13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939760" y="1969560"/>
              <a:ext cx="252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988800" y="1100160"/>
              <a:ext cx="426600" cy="3938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6200000">
              <a:off x="2143800" y="6179400"/>
              <a:ext cx="630360" cy="720000"/>
            </a:xfrm>
            <a:custGeom>
              <a:avLst/>
              <a:gdLst>
                <a:gd name="textAreaLeft" fmla="*/ 138600 w 630360"/>
                <a:gd name="textAreaRight" fmla="*/ 491760 w 630360"/>
                <a:gd name="textAreaTop" fmla="*/ 158400 h 720000"/>
                <a:gd name="textAreaBottom" fmla="*/ 561600 h 72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ccffff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5400000">
              <a:off x="5626080" y="6179760"/>
              <a:ext cx="630360" cy="720000"/>
            </a:xfrm>
            <a:custGeom>
              <a:avLst/>
              <a:gdLst>
                <a:gd name="textAreaLeft" fmla="*/ 138600 w 630360"/>
                <a:gd name="textAreaRight" fmla="*/ 491760 w 630360"/>
                <a:gd name="textAreaTop" fmla="*/ 158400 h 720000"/>
                <a:gd name="textAreaBottom" fmla="*/ 561600 h 72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ccffff"/>
                </a:gs>
                <a:gs pos="100000">
                  <a:srgbClr val="00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540240" y="945360"/>
              <a:ext cx="1320120" cy="78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80240" y="5673240"/>
              <a:ext cx="2040480" cy="1573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ccffff"/>
                </a:gs>
                <a:gs pos="100000">
                  <a:srgbClr val="3333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88800" y="5754960"/>
              <a:ext cx="479880" cy="1103040"/>
            </a:xfrm>
            <a:custGeom>
              <a:avLst/>
              <a:gdLst>
                <a:gd name="textAreaLeft" fmla="*/ 23400 w 479880"/>
                <a:gd name="textAreaRight" fmla="*/ 456480 w 479880"/>
                <a:gd name="textAreaTop" fmla="*/ 23400 h 1103040"/>
                <a:gd name="textAreaBottom" fmla="*/ 1079640 h 1103040"/>
              </a:gdLst>
              <a:ahLst/>
              <a:rect l="textAreaLeft" t="textAreaTop" r="textAreaRight" b="textAreaBottom"/>
              <a:pathLst>
                <a:path w="21600" h="49628">
                  <a:moveTo>
                    <a:pt x="3600" y="0"/>
                  </a:moveTo>
                  <a:arcTo wR="3600" hR="3600" stAng="16200000" swAng="-5400000"/>
                  <a:lnTo>
                    <a:pt x="0" y="46028"/>
                  </a:lnTo>
                  <a:arcTo wR="3600" hR="3600" stAng="10800000" swAng="-5400000"/>
                  <a:lnTo>
                    <a:pt x="18000" y="496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c0c0c0">
                    <a:alpha val="32156"/>
                  </a:srgbClr>
                </a:gs>
                <a:gs pos="50000">
                  <a:srgbClr val="ccffff"/>
                </a:gs>
                <a:gs pos="100000">
                  <a:srgbClr val="c0c0c0">
                    <a:alpha val="32156"/>
                  </a:srgbClr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60840" y="2127600"/>
              <a:ext cx="120240" cy="3545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819520" y="2127600"/>
              <a:ext cx="120240" cy="3545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42440" y="1607760"/>
              <a:ext cx="2115720" cy="33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Командир   корабл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__________________________________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73240" y="2115720"/>
              <a:ext cx="2454120" cy="33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________________________________________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973240" y="2454120"/>
              <a:ext cx="2454120" cy="338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Ви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973240" y="2792880"/>
              <a:ext cx="2454120" cy="338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Спряж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73240" y="3131280"/>
              <a:ext cx="2454120" cy="338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Возврат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973240" y="3470040"/>
              <a:ext cx="2454120" cy="338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Наклон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973240" y="3808440"/>
              <a:ext cx="2454120" cy="338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Врем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973240" y="4146840"/>
              <a:ext cx="2454120" cy="338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Числ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973240" y="4485600"/>
              <a:ext cx="2454120" cy="338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Ро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973240" y="4824000"/>
              <a:ext cx="2454120" cy="338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Лиц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973240" y="5162760"/>
              <a:ext cx="2454120" cy="507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6600"/>
                  </a:solidFill>
                  <a:latin typeface="Arial"/>
                </a:rPr>
                <a:t>Синтаксическая рол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73400" y="5839560"/>
              <a:ext cx="338400" cy="169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358680" y="5839560"/>
              <a:ext cx="423000" cy="169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3735000" y="423000"/>
              <a:ext cx="902520" cy="5076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53966" dir="2700000" blurRad="0" rotWithShape="0">
                      <a:srgbClr val="000000"/>
                    </a:outerShdw>
                  </a:effectLst>
                  <a:latin typeface="Arial"/>
                </a:rPr>
                <a:t>ГЛАГОЛ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p:transition>
    <p:push dir="r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611280" y="260280"/>
            <a:ext cx="7775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Морфологический разбор глаг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835280" y="836640"/>
            <a:ext cx="5111640" cy="5830920"/>
            <a:chOff x="1835280" y="836640"/>
            <a:chExt cx="5111640" cy="5830920"/>
          </a:xfrm>
        </p:grpSpPr>
        <p:pic>
          <p:nvPicPr>
            <p:cNvPr id="273" name="" descr=""/>
            <p:cNvPicPr/>
            <p:nvPr/>
          </p:nvPicPr>
          <p:blipFill>
            <a:blip r:embed="rId2"/>
            <a:stretch/>
          </p:blipFill>
          <p:spPr>
            <a:xfrm>
              <a:off x="1835280" y="836640"/>
              <a:ext cx="5111640" cy="583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995480" y="907920"/>
              <a:ext cx="271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ff"/>
                  </a:solidFill>
                  <a:latin typeface="Arial"/>
                </a:rPr>
                <a:t>I</a:t>
              </a:r>
              <a:r>
                <a:rPr b="1" lang="ru-RU" sz="2400" spc="-1" strike="noStrike">
                  <a:solidFill>
                    <a:srgbClr val="0066ff"/>
                  </a:solidFill>
                  <a:latin typeface="Arial"/>
                </a:rPr>
                <a:t>.</a:t>
              </a:r>
              <a:r>
                <a:rPr b="1" lang="en-US" sz="18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i="1" lang="ru-RU" sz="2400" spc="-1" strike="noStrike">
                  <a:solidFill>
                    <a:srgbClr val="0066ff"/>
                  </a:solidFill>
                  <a:latin typeface="Blackadder ITC"/>
                </a:rPr>
                <a:t>Видят -глаго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995480" y="1413000"/>
              <a:ext cx="151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ff"/>
                  </a:solidFill>
                  <a:latin typeface="Arial"/>
                </a:rPr>
                <a:t>II</a:t>
              </a:r>
              <a:r>
                <a:rPr b="1" lang="ru-RU" sz="2400" spc="-1" strike="noStrike">
                  <a:solidFill>
                    <a:srgbClr val="0066ff"/>
                  </a:solidFill>
                  <a:latin typeface="Blackadder ITC"/>
                </a:rPr>
                <a:t>. </a:t>
              </a:r>
              <a:r>
                <a:rPr b="1" i="1" lang="ru-RU" sz="2400" spc="-1" strike="noStrike">
                  <a:solidFill>
                    <a:srgbClr val="0066ff"/>
                  </a:solidFill>
                  <a:latin typeface="Blackadder ITC"/>
                </a:rPr>
                <a:t>Н.ф.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66ff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74680" y="1916280"/>
              <a:ext cx="431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66ff"/>
                  </a:solidFill>
                  <a:latin typeface="Blackadder ITC"/>
                </a:rPr>
                <a:t>Постоянные признаки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995480" y="3429000"/>
              <a:ext cx="431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66ff"/>
                  </a:solidFill>
                  <a:latin typeface="Blackadder ITC"/>
                </a:rPr>
                <a:t>Непостоянные признаки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906560" y="5229360"/>
              <a:ext cx="63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ff"/>
                  </a:solidFill>
                  <a:latin typeface="Arial"/>
                </a:rPr>
                <a:t>III</a:t>
              </a:r>
              <a:r>
                <a:rPr b="1" lang="ru-RU" sz="2400" spc="-1" strike="noStrike">
                  <a:solidFill>
                    <a:srgbClr val="0066ff"/>
                  </a:solidFill>
                  <a:latin typeface="Arial"/>
                </a:rPr>
                <a:t>.</a:t>
              </a:r>
              <a:r>
                <a:rPr b="1" lang="en-US" sz="18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4716360" y="90792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Blackadder ITC"/>
              </a:rPr>
              <a:t>(</a:t>
            </a:r>
            <a:r>
              <a:rPr b="1" i="1" lang="en-US" sz="2400" spc="-1" strike="noStrike">
                <a:solidFill>
                  <a:srgbClr val="0066ff"/>
                </a:solidFill>
                <a:latin typeface="Blackadder ITC"/>
              </a:rPr>
              <a:t>что делают</a:t>
            </a:r>
            <a:r>
              <a:rPr b="1" lang="en-US" sz="2400" spc="-1" strike="noStrike">
                <a:solidFill>
                  <a:srgbClr val="0066ff"/>
                </a:solidFill>
                <a:latin typeface="Blackadder ITC"/>
              </a:rPr>
              <a:t>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348000" y="1413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Blackadder ITC"/>
              </a:rPr>
              <a:t>виде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124000" y="234936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Blackadder ITC"/>
              </a:rPr>
              <a:t>несов. ви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124000" y="2637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Blackadder ITC"/>
              </a:rPr>
              <a:t>невозвр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050920" y="292428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II</a:t>
            </a:r>
            <a:r>
              <a:rPr b="1" i="1" lang="ru-RU" sz="2400" spc="-1" strike="noStrike">
                <a:solidFill>
                  <a:srgbClr val="0066ff"/>
                </a:solidFill>
                <a:latin typeface="Blackadder ITC"/>
              </a:rPr>
              <a:t> спр. ( искл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8606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Blackadder ITC"/>
              </a:rPr>
              <a:t> </a:t>
            </a:r>
            <a:r>
              <a:rPr b="1" i="1" lang="en-US" sz="2400" spc="-1" strike="noStrike">
                <a:solidFill>
                  <a:srgbClr val="0066ff"/>
                </a:solidFill>
                <a:latin typeface="Blackadder ITC"/>
              </a:rPr>
              <a:t>в изъяв. накл.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050920" y="4149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Blackadder ITC"/>
              </a:rPr>
              <a:t> </a:t>
            </a:r>
            <a:r>
              <a:rPr b="1" i="1" lang="ru-RU" sz="2400" spc="-1" strike="noStrike">
                <a:solidFill>
                  <a:srgbClr val="0066ff"/>
                </a:solidFill>
                <a:latin typeface="Blackadder ITC"/>
              </a:rPr>
              <a:t>в наст. вр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050920" y="4437000"/>
            <a:ext cx="42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Blackadder ITC"/>
              </a:rPr>
              <a:t> </a:t>
            </a:r>
            <a:r>
              <a:rPr b="1" i="1" lang="en-US" sz="2400" spc="-1" strike="noStrike">
                <a:solidFill>
                  <a:srgbClr val="0066ff"/>
                </a:solidFill>
                <a:latin typeface="Blackadder ITC"/>
              </a:rPr>
              <a:t>во мн. ч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124000" y="472428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ff"/>
                </a:solidFill>
                <a:latin typeface="Arial"/>
              </a:rPr>
              <a:t>в 3</a:t>
            </a: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66ff"/>
                </a:solidFill>
                <a:latin typeface="Blackadder ITC"/>
              </a:rPr>
              <a:t>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11280" y="522936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Blackadder ITC"/>
              </a:rPr>
              <a:t>Космонавты (что делают?)   </a:t>
            </a:r>
            <a:r>
              <a:rPr b="1" i="1" lang="en-US" sz="2400" spc="-1" strike="noStrike" u="sng">
                <a:solidFill>
                  <a:srgbClr val="0066ff"/>
                </a:solidFill>
                <a:uFillTx/>
                <a:latin typeface="Blackadder ITC"/>
              </a:rPr>
              <a:t>видя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700360" y="6021360"/>
            <a:ext cx="863640" cy="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356000" y="6093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00360" y="609300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788000" y="5589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859280" y="566100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БОРТОВОЙ  </a:t>
            </a:r>
            <a:br>
              <a:rPr sz="4000"/>
            </a:b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ЖУРНА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979640" y="476280"/>
            <a:ext cx="5545080" cy="6840360"/>
            <a:chOff x="1979640" y="476280"/>
            <a:chExt cx="5545080" cy="6840360"/>
          </a:xfrm>
        </p:grpSpPr>
        <p:grpSp>
          <p:nvGrpSpPr>
            <p:cNvPr id="296" name=""/>
            <p:cNvGrpSpPr/>
            <p:nvPr/>
          </p:nvGrpSpPr>
          <p:grpSpPr>
            <a:xfrm>
              <a:off x="1979640" y="795240"/>
              <a:ext cx="5414760" cy="6521400"/>
              <a:chOff x="1979640" y="795240"/>
              <a:chExt cx="5414760" cy="6521400"/>
            </a:xfrm>
          </p:grpSpPr>
          <p:pic>
            <p:nvPicPr>
              <p:cNvPr id="29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979640" y="2709000"/>
                <a:ext cx="5414760" cy="46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8" name=""/>
              <p:cNvSpPr/>
              <p:nvPr/>
            </p:nvSpPr>
            <p:spPr>
              <a:xfrm>
                <a:off x="2619360" y="795240"/>
                <a:ext cx="3732480" cy="191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Командир корабл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_________________________________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5392080" y="476280"/>
              <a:ext cx="213264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0" name="" descr=""/>
            <p:cNvPicPr/>
            <p:nvPr/>
          </p:nvPicPr>
          <p:blipFill>
            <a:blip r:embed="rId2"/>
            <a:stretch/>
          </p:blipFill>
          <p:spPr>
            <a:xfrm>
              <a:off x="6351840" y="874800"/>
              <a:ext cx="1074960" cy="80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 txBox="1"/>
            <p:nvPr/>
          </p:nvSpPr>
          <p:spPr>
            <a:xfrm>
              <a:off x="6351840" y="1193760"/>
              <a:ext cx="1057320" cy="33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ffff00"/>
                    </a:solidFill>
                    <a:miter/>
                  </a:ln>
                  <a:solidFill>
                    <a:srgbClr val="0000ff"/>
                  </a:solidFill>
                  <a:latin typeface="Impact"/>
                </a:rPr>
                <a:t>ГЛАГОЛ</a:t>
              </a:r>
              <a:endParaRPr b="1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4T13:28:28Z</dcterms:created>
  <dc:creator>Server</dc:creator>
  <dc:description/>
  <dc:language>en-US</dc:language>
  <cp:lastModifiedBy>Саша</cp:lastModifiedBy>
  <dcterms:modified xsi:type="dcterms:W3CDTF">2009-04-28T18:35:51Z</dcterms:modified>
  <cp:revision>119</cp:revision>
  <dc:subject/>
  <dc:title>Слайд 1</dc:title>
</cp:coreProperties>
</file>