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1.jpeg" ContentType="image/jpeg"/>
  <Override PartName="/ppt/media/image4.gif" ContentType="image/gif"/>
  <Override PartName="/ppt/media/image29.png" ContentType="image/pn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10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28.png" ContentType="image/png"/>
  <Override PartName="/ppt/media/image7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3.gif" ContentType="image/gif"/>
  <Override PartName="/ppt/media/image26.png" ContentType="image/png"/>
  <Override PartName="/ppt/media/image18.jpeg" ContentType="image/jpeg"/>
  <Override PartName="/ppt/media/image20.jpeg" ContentType="image/jpeg"/>
  <Override PartName="/ppt/media/image2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78D-5B80-4FE2-9901-500AB710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6E9-C3C5-4246-A561-B6F22114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D74-5038-4C10-838A-E72416A8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1F01-7950-4229-849F-359BEF25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DCE4-140A-4F96-AD1C-9DE6A4D3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308-BFDC-4853-83D9-BE97D93D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7E1-6AAE-4758-A2BF-91C77645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F99-77A6-46F7-B85C-64C0A172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351-C528-4291-A981-B7CC5D4C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7414-7741-48FB-9EB7-E18595A9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0425-ED1E-43D8-B2AE-0C7E2A66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A408-85A7-43E3-BCD9-E8B656D6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316F-7C09-4592-9448-0CC0058F8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gi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3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image" Target="../media/image14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4.jpeg"/><Relationship Id="rId22" Type="http://schemas.openxmlformats.org/officeDocument/2006/relationships/image" Target="../media/image14.jpeg"/><Relationship Id="rId23" Type="http://schemas.openxmlformats.org/officeDocument/2006/relationships/image" Target="../media/image14.jpeg"/><Relationship Id="rId24" Type="http://schemas.openxmlformats.org/officeDocument/2006/relationships/image" Target="../media/image14.jpeg"/><Relationship Id="rId25" Type="http://schemas.openxmlformats.org/officeDocument/2006/relationships/image" Target="../media/image14.jpeg"/><Relationship Id="rId26" Type="http://schemas.openxmlformats.org/officeDocument/2006/relationships/image" Target="../media/image14.jpeg"/><Relationship Id="rId27" Type="http://schemas.openxmlformats.org/officeDocument/2006/relationships/image" Target="../media/image10.jpeg"/><Relationship Id="rId28" Type="http://schemas.openxmlformats.org/officeDocument/2006/relationships/image" Target="../media/image12.jpeg"/><Relationship Id="rId29" Type="http://schemas.openxmlformats.org/officeDocument/2006/relationships/image" Target="../media/image10.jpeg"/><Relationship Id="rId30" Type="http://schemas.openxmlformats.org/officeDocument/2006/relationships/image" Target="../media/image10.jpeg"/><Relationship Id="rId31" Type="http://schemas.openxmlformats.org/officeDocument/2006/relationships/image" Target="../media/image12.jpeg"/><Relationship Id="rId32" Type="http://schemas.openxmlformats.org/officeDocument/2006/relationships/image" Target="../media/image12.jpeg"/><Relationship Id="rId33" Type="http://schemas.openxmlformats.org/officeDocument/2006/relationships/image" Target="../media/image12.jpeg"/><Relationship Id="rId34" Type="http://schemas.openxmlformats.org/officeDocument/2006/relationships/image" Target="../media/image12.jpeg"/><Relationship Id="rId35" Type="http://schemas.openxmlformats.org/officeDocument/2006/relationships/image" Target="../media/image15.jpeg"/><Relationship Id="rId3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12720000">
            <a:off x="1331640" y="2491920"/>
            <a:ext cx="7389720" cy="696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451640" y="4005360"/>
            <a:ext cx="1297080" cy="1296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1700280"/>
            <a:ext cx="856944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осмическое путешествие     в галактику                      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«ГЛАГОЛ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941720"/>
            <a:ext cx="914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«Морфологический разбор глагол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476280"/>
            <a:ext cx="12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ГЛАГОЛ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9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11280" y="260280"/>
            <a:ext cx="7775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Морфологический разбор глаг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5640" y="6093000"/>
            <a:ext cx="129708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50920" y="836280"/>
            <a:ext cx="8569080" cy="5831280"/>
            <a:chOff x="250920" y="836280"/>
            <a:chExt cx="8569080" cy="5831280"/>
          </a:xfrm>
        </p:grpSpPr>
        <p:grpSp>
          <p:nvGrpSpPr>
            <p:cNvPr id="305" name=""/>
            <p:cNvGrpSpPr/>
            <p:nvPr/>
          </p:nvGrpSpPr>
          <p:grpSpPr>
            <a:xfrm>
              <a:off x="250920" y="836280"/>
              <a:ext cx="8569080" cy="5831280"/>
              <a:chOff x="250920" y="836280"/>
              <a:chExt cx="8569080" cy="5831280"/>
            </a:xfrm>
          </p:grpSpPr>
          <p:pic>
            <p:nvPicPr>
              <p:cNvPr id="3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3280" y="836640"/>
                <a:ext cx="4176720" cy="583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" descr=""/>
              <p:cNvPicPr/>
              <p:nvPr/>
            </p:nvPicPr>
            <p:blipFill>
              <a:blip r:embed="rId3"/>
              <a:stretch/>
            </p:blipFill>
            <p:spPr>
              <a:xfrm rot="10800000">
                <a:off x="250920" y="836280"/>
                <a:ext cx="4176720" cy="5830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8" name=""/>
            <p:cNvSpPr/>
            <p:nvPr/>
          </p:nvSpPr>
          <p:spPr>
            <a:xfrm>
              <a:off x="684360" y="1125360"/>
              <a:ext cx="367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buClr>
                  <a:srgbClr val="0066ff"/>
                </a:buClr>
                <a:buFont typeface="Blackadder ITC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Оторвался – глагол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 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(чт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3280" y="1125360"/>
              <a:ext cx="38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Arial"/>
                </a:rPr>
                <a:t>I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. Начнется – глагол ( чт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88000" y="6453360"/>
              <a:ext cx="115092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5640" y="6165720"/>
              <a:ext cx="115236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4360" y="1413000"/>
              <a:ext cx="367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                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сделал?).                   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4360" y="1916280"/>
              <a:ext cx="36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Arial"/>
                </a:rPr>
                <a:t>II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Arial"/>
                </a:rPr>
                <a:t>.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 Н.ф. – оторваться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4360" y="2421000"/>
              <a:ext cx="36716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Постоянные признак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4360" y="2781360"/>
              <a:ext cx="3671640" cy="87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сов. вид; 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4360" y="3213000"/>
              <a:ext cx="367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возвр.;                          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                       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4360" y="3500280"/>
              <a:ext cx="36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Arial"/>
                </a:rPr>
                <a:t>I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 спр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4360" y="4005360"/>
              <a:ext cx="36716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Непостоянные признаки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4360" y="4292640"/>
              <a:ext cx="3671640" cy="87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в изъяв. накл.;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4360" y="4724280"/>
              <a:ext cx="36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в прош. вр.;</a:t>
              </a:r>
              <a:r>
                <a:rPr b="1" i="1" lang="ru-RU" sz="2400" spc="-1" strike="noStrike">
                  <a:solidFill>
                    <a:srgbClr val="0066ff"/>
                  </a:solidFill>
                  <a:latin typeface="Blackadder ITC"/>
                </a:rPr>
                <a:t>    </a:t>
              </a:r>
              <a:r>
                <a:rPr b="1" i="1" lang="en-US" sz="2400" spc="-1" strike="noStrike">
                  <a:solidFill>
                    <a:srgbClr val="0066ff"/>
                  </a:solidFill>
                  <a:latin typeface="Blackadder ITC"/>
                </a:rPr>
                <a:t>          </a:t>
              </a:r>
              <a:r>
                <a:rPr b="1" i="1" lang="ru-RU" sz="2400" spc="-1" strike="noStrike">
                  <a:solidFill>
                    <a:srgbClr val="0066ff"/>
                  </a:solidFill>
                  <a:latin typeface="Blackadder ITC"/>
                </a:rPr>
                <a:t>                  </a:t>
              </a:r>
              <a:r>
                <a:rPr b="1" i="1" lang="en-US" sz="2400" spc="-1" strike="noStrike">
                  <a:solidFill>
                    <a:srgbClr val="0066ff"/>
                  </a:solidFill>
                  <a:latin typeface="Blackadder ITC"/>
                </a:rPr>
                <a:t> </a:t>
              </a:r>
              <a:r>
                <a:rPr b="1" i="1" lang="ru-RU" sz="2400" spc="-1" strike="noStrike">
                  <a:solidFill>
                    <a:srgbClr val="0066ff"/>
                  </a:solidFill>
                  <a:latin typeface="Blackadder ITC"/>
                </a:rPr>
                <a:t>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4360" y="4941720"/>
              <a:ext cx="3671640" cy="8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в</a:t>
              </a:r>
              <a:r>
                <a:rPr b="1" i="1" lang="en-US" sz="2400" spc="-1" strike="noStrike">
                  <a:solidFill>
                    <a:srgbClr val="0066ff"/>
                  </a:solidFill>
                  <a:latin typeface="Blackadder ITC"/>
                </a:rPr>
                <a:t>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м.р.,    в  ед.ч.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4360" y="5229360"/>
              <a:ext cx="367164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Arial"/>
                </a:rPr>
                <a:t>III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Arial"/>
                </a:rPr>
                <a:t>.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 Корабль (что сделал?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4360" y="5734080"/>
              <a:ext cx="36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0066ff"/>
                  </a:solidFill>
                  <a:uFillTx/>
                  <a:latin typeface="Blackadder ITC"/>
                </a:rPr>
                <a:t>оторвался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16360" y="1413000"/>
              <a:ext cx="381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сделает?).                                                   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    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16360" y="1916280"/>
              <a:ext cx="3816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Arial"/>
                </a:rPr>
                <a:t>II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Arial"/>
                </a:rPr>
                <a:t>.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 Н.ф. – начатьс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16360" y="2276640"/>
              <a:ext cx="3816360" cy="10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Постоянные признак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16360" y="2781360"/>
              <a:ext cx="3816360" cy="87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сов. вид;   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16360" y="3213000"/>
              <a:ext cx="381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возвр.;                                            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        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16360" y="3500280"/>
              <a:ext cx="38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Arial"/>
                </a:rPr>
                <a:t>I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 спр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16360" y="4005360"/>
              <a:ext cx="38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Непостоянные признак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16360" y="4508640"/>
              <a:ext cx="381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в  изъяв.  накл.; 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16360" y="4724280"/>
              <a:ext cx="381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в буд. вр.;</a:t>
              </a:r>
              <a:r>
                <a:rPr b="1" i="1" lang="ru-RU" sz="2400" spc="-1" strike="noStrike">
                  <a:solidFill>
                    <a:srgbClr val="0066ff"/>
                  </a:solidFill>
                  <a:latin typeface="Blackadder ITC"/>
                </a:rPr>
                <a:t>                                 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                     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16360" y="5013360"/>
              <a:ext cx="381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в  ед. ч.                                                                     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   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16360" y="5300640"/>
              <a:ext cx="38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в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i="1" lang="en-US" sz="20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16360" y="5805360"/>
              <a:ext cx="38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Arial"/>
                </a:rPr>
                <a:t>III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. Полет (что сделает?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16360" y="6021360"/>
              <a:ext cx="38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0066ff"/>
                  </a:solidFill>
                  <a:uFillTx/>
                  <a:latin typeface="Blackadder ITC"/>
                </a:rPr>
                <a:t>начнетс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118728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28000" y="0"/>
            <a:ext cx="1116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16000" y="0"/>
            <a:ext cx="6912000" cy="549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87280" y="5661000"/>
            <a:ext cx="6840720" cy="1197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79280" y="620640"/>
            <a:ext cx="934920" cy="792000"/>
            <a:chOff x="179280" y="620640"/>
            <a:chExt cx="934920" cy="792000"/>
          </a:xfrm>
        </p:grpSpPr>
        <p:sp>
          <p:nvSpPr>
            <p:cNvPr id="342" name=""/>
            <p:cNvSpPr/>
            <p:nvPr/>
          </p:nvSpPr>
          <p:spPr>
            <a:xfrm>
              <a:off x="322200" y="620640"/>
              <a:ext cx="792000" cy="79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179280" y="693720"/>
              <a:ext cx="720720" cy="647640"/>
              <a:chOff x="179280" y="693720"/>
              <a:chExt cx="720720" cy="647640"/>
            </a:xfrm>
          </p:grpSpPr>
          <p:sp>
            <p:nvSpPr>
              <p:cNvPr id="344" name=""/>
              <p:cNvSpPr/>
              <p:nvPr/>
            </p:nvSpPr>
            <p:spPr>
              <a:xfrm>
                <a:off x="179280" y="693720"/>
                <a:ext cx="720720" cy="64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24000" y="765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108000" y="3068640"/>
            <a:ext cx="934920" cy="792000"/>
            <a:chOff x="108000" y="3068640"/>
            <a:chExt cx="934920" cy="792000"/>
          </a:xfrm>
        </p:grpSpPr>
        <p:sp>
          <p:nvSpPr>
            <p:cNvPr id="347" name=""/>
            <p:cNvSpPr/>
            <p:nvPr/>
          </p:nvSpPr>
          <p:spPr>
            <a:xfrm>
              <a:off x="250920" y="3068640"/>
              <a:ext cx="792000" cy="79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08000" y="3141720"/>
              <a:ext cx="720720" cy="647640"/>
              <a:chOff x="108000" y="3141720"/>
              <a:chExt cx="720720" cy="647640"/>
            </a:xfrm>
          </p:grpSpPr>
          <p:sp>
            <p:nvSpPr>
              <p:cNvPr id="349" name=""/>
              <p:cNvSpPr/>
              <p:nvPr/>
            </p:nvSpPr>
            <p:spPr>
              <a:xfrm>
                <a:off x="108000" y="3141720"/>
                <a:ext cx="720720" cy="64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52720" y="3213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1" name=""/>
          <p:cNvGrpSpPr/>
          <p:nvPr/>
        </p:nvGrpSpPr>
        <p:grpSpPr>
          <a:xfrm>
            <a:off x="108000" y="1844640"/>
            <a:ext cx="934920" cy="792000"/>
            <a:chOff x="108000" y="1844640"/>
            <a:chExt cx="934920" cy="792000"/>
          </a:xfrm>
        </p:grpSpPr>
        <p:sp>
          <p:nvSpPr>
            <p:cNvPr id="352" name=""/>
            <p:cNvSpPr/>
            <p:nvPr/>
          </p:nvSpPr>
          <p:spPr>
            <a:xfrm>
              <a:off x="250920" y="1844640"/>
              <a:ext cx="792000" cy="79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108000" y="1917720"/>
              <a:ext cx="720720" cy="647640"/>
              <a:chOff x="108000" y="1917720"/>
              <a:chExt cx="720720" cy="647640"/>
            </a:xfrm>
          </p:grpSpPr>
          <p:sp>
            <p:nvSpPr>
              <p:cNvPr id="354" name=""/>
              <p:cNvSpPr/>
              <p:nvPr/>
            </p:nvSpPr>
            <p:spPr>
              <a:xfrm>
                <a:off x="108000" y="1917720"/>
                <a:ext cx="720720" cy="64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52720" y="1989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8101080" y="836640"/>
            <a:ext cx="934920" cy="576360"/>
            <a:chOff x="8101080" y="836640"/>
            <a:chExt cx="934920" cy="576360"/>
          </a:xfrm>
        </p:grpSpPr>
        <p:sp>
          <p:nvSpPr>
            <p:cNvPr id="357" name=""/>
            <p:cNvSpPr/>
            <p:nvPr/>
          </p:nvSpPr>
          <p:spPr>
            <a:xfrm>
              <a:off x="8101080" y="836640"/>
              <a:ext cx="934920" cy="576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172360" y="907920"/>
              <a:ext cx="792360" cy="360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8244000" y="981000"/>
            <a:ext cx="6490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44000" y="1844640"/>
            <a:ext cx="647640" cy="64764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388360" y="2781360"/>
            <a:ext cx="431640" cy="4316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87280" y="549360"/>
            <a:ext cx="0" cy="51116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5661000"/>
            <a:ext cx="68407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549360"/>
            <a:ext cx="0" cy="51116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87280" y="549360"/>
            <a:ext cx="68407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" action="ppaction://hlinkshowjump?jump=nextslide"/>
          </p:cNvPr>
          <p:cNvSpPr/>
          <p:nvPr/>
        </p:nvSpPr>
        <p:spPr>
          <a:xfrm>
            <a:off x="324000" y="4149720"/>
            <a:ext cx="502920" cy="50328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8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lastslide"/>
          </p:cNvPr>
          <p:cNvSpPr/>
          <p:nvPr/>
        </p:nvSpPr>
        <p:spPr>
          <a:xfrm>
            <a:off x="324000" y="4797360"/>
            <a:ext cx="502920" cy="50328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4299" y="10808"/>
                </a:moveTo>
                <a:lnTo>
                  <a:pt x="3794" y="17814"/>
                </a:lnTo>
                <a:lnTo>
                  <a:pt x="3794" y="3801"/>
                </a:lnTo>
                <a:close/>
              </a:path>
              <a:path fill="darken" w="21600" h="21615">
                <a:moveTo>
                  <a:pt x="16144" y="3801"/>
                </a:moveTo>
                <a:lnTo>
                  <a:pt x="16144" y="17814"/>
                </a:lnTo>
                <a:lnTo>
                  <a:pt x="17806" y="17814"/>
                </a:lnTo>
                <a:lnTo>
                  <a:pt x="17806" y="3801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rId5"/>
          </p:cNvPr>
          <p:cNvSpPr/>
          <p:nvPr/>
        </p:nvSpPr>
        <p:spPr>
          <a:xfrm>
            <a:off x="8317080" y="3429000"/>
            <a:ext cx="576000" cy="6494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52">
                <a:moveTo>
                  <a:pt x="0" y="0"/>
                </a:moveTo>
                <a:lnTo>
                  <a:pt x="21600" y="0"/>
                </a:lnTo>
                <a:lnTo>
                  <a:pt x="21600" y="24352"/>
                </a:lnTo>
                <a:lnTo>
                  <a:pt x="0" y="24352"/>
                </a:lnTo>
                <a:close/>
              </a:path>
              <a:path fill="lightenLess" w="21600" h="243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52">
                <a:moveTo>
                  <a:pt x="21600" y="0"/>
                </a:moveTo>
                <a:lnTo>
                  <a:pt x="21600" y="24352"/>
                </a:lnTo>
                <a:lnTo>
                  <a:pt x="20200" y="22952"/>
                </a:lnTo>
                <a:lnTo>
                  <a:pt x="20200" y="1400"/>
                </a:lnTo>
                <a:close/>
              </a:path>
              <a:path fill="darkenLess" w="21600" h="24352">
                <a:moveTo>
                  <a:pt x="21600" y="24352"/>
                </a:moveTo>
                <a:lnTo>
                  <a:pt x="0" y="24352"/>
                </a:lnTo>
                <a:lnTo>
                  <a:pt x="1400" y="22952"/>
                </a:lnTo>
                <a:lnTo>
                  <a:pt x="20200" y="22952"/>
                </a:lnTo>
                <a:close/>
              </a:path>
              <a:path fill="lighten" w="21600" h="24352">
                <a:moveTo>
                  <a:pt x="0" y="243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52"/>
                </a:lnTo>
                <a:close/>
              </a:path>
              <a:path fill="darken" w="21600" h="24352">
                <a:moveTo>
                  <a:pt x="3794" y="9783"/>
                </a:moveTo>
                <a:lnTo>
                  <a:pt x="8224" y="9783"/>
                </a:lnTo>
                <a:lnTo>
                  <a:pt x="12645" y="5170"/>
                </a:lnTo>
                <a:lnTo>
                  <a:pt x="12645" y="19183"/>
                </a:lnTo>
                <a:lnTo>
                  <a:pt x="8224" y="14570"/>
                </a:lnTo>
                <a:lnTo>
                  <a:pt x="3794" y="14570"/>
                </a:lnTo>
                <a:close/>
              </a:path>
              <a:path fill="darken" w="21600" h="24352">
                <a:moveTo>
                  <a:pt x="14299" y="12176"/>
                </a:moveTo>
                <a:lnTo>
                  <a:pt x="17806" y="12176"/>
                </a:lnTo>
              </a:path>
              <a:path fill="darken" w="21600" h="24352">
                <a:moveTo>
                  <a:pt x="14299" y="9783"/>
                </a:moveTo>
                <a:lnTo>
                  <a:pt x="17806" y="7015"/>
                </a:lnTo>
              </a:path>
              <a:path fill="darken" w="21600" h="24352">
                <a:moveTo>
                  <a:pt x="14299" y="14570"/>
                </a:moveTo>
                <a:lnTo>
                  <a:pt x="17806" y="17337"/>
                </a:lnTo>
              </a:path>
            </a:pathLst>
          </a:cu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317080" y="422100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7308"/>
                </a:moveTo>
                <a:lnTo>
                  <a:pt x="4707" y="7308"/>
                </a:lnTo>
                <a:lnTo>
                  <a:pt x="5090" y="7673"/>
                </a:lnTo>
                <a:lnTo>
                  <a:pt x="14299" y="7673"/>
                </a:lnTo>
                <a:lnTo>
                  <a:pt x="14856" y="8230"/>
                </a:lnTo>
                <a:lnTo>
                  <a:pt x="14856" y="8779"/>
                </a:lnTo>
                <a:lnTo>
                  <a:pt x="16701" y="8779"/>
                </a:lnTo>
                <a:lnTo>
                  <a:pt x="17067" y="8230"/>
                </a:lnTo>
                <a:lnTo>
                  <a:pt x="17806" y="8230"/>
                </a:lnTo>
                <a:lnTo>
                  <a:pt x="17806" y="13383"/>
                </a:lnTo>
                <a:lnTo>
                  <a:pt x="17067" y="13383"/>
                </a:lnTo>
                <a:lnTo>
                  <a:pt x="16701" y="12835"/>
                </a:lnTo>
                <a:lnTo>
                  <a:pt x="14856" y="12835"/>
                </a:lnTo>
                <a:lnTo>
                  <a:pt x="14856" y="14114"/>
                </a:lnTo>
                <a:lnTo>
                  <a:pt x="5273" y="14114"/>
                </a:lnTo>
                <a:lnTo>
                  <a:pt x="5273" y="9884"/>
                </a:lnTo>
                <a:lnTo>
                  <a:pt x="5090" y="9884"/>
                </a:lnTo>
                <a:lnTo>
                  <a:pt x="4707" y="10250"/>
                </a:lnTo>
                <a:lnTo>
                  <a:pt x="3794" y="1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5661000"/>
            <a:ext cx="8713800" cy="1197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258920" y="620640"/>
            <a:ext cx="6769080" cy="4969080"/>
            <a:chOff x="1258920" y="620640"/>
            <a:chExt cx="6769080" cy="4969080"/>
          </a:xfrm>
        </p:grpSpPr>
        <p:pic>
          <p:nvPicPr>
            <p:cNvPr id="372" name="" descr=""/>
            <p:cNvPicPr/>
            <p:nvPr/>
          </p:nvPicPr>
          <p:blipFill>
            <a:blip r:embed="rId6"/>
            <a:stretch/>
          </p:blipFill>
          <p:spPr>
            <a:xfrm>
              <a:off x="1258920" y="620640"/>
              <a:ext cx="6769080" cy="49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7"/>
            <a:stretch/>
          </p:blipFill>
          <p:spPr>
            <a:xfrm>
              <a:off x="6770880" y="4264560"/>
              <a:ext cx="1116720" cy="106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50920" y="5667480"/>
            <a:ext cx="856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Arial"/>
              </a:rPr>
              <a:t>Перечислите постоянные и непостоянные признаки глаго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24000" y="5661000"/>
            <a:ext cx="856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Arial"/>
              </a:rPr>
              <a:t>Как определить вид глаго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50920" y="5667480"/>
            <a:ext cx="856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Arial"/>
              </a:rPr>
              <a:t>У глаголов в каком наклонении можно определить врем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0920" y="5661000"/>
            <a:ext cx="856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Arial"/>
              </a:rPr>
              <a:t>У каких глаголов есть лиц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0920" y="5667480"/>
            <a:ext cx="856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Arial"/>
              </a:rPr>
              <a:t>Каким членом предложения бывает глаго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4000" y="5734080"/>
            <a:ext cx="856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92b17"/>
                </a:solidFill>
                <a:latin typeface="Arial"/>
              </a:rPr>
              <a:t>Счастливого пу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84360" y="189000"/>
            <a:ext cx="7775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68360" y="836640"/>
            <a:ext cx="8209080" cy="5788440"/>
            <a:chOff x="468360" y="836640"/>
            <a:chExt cx="8209080" cy="5788440"/>
          </a:xfrm>
        </p:grpSpPr>
        <p:grpSp>
          <p:nvGrpSpPr>
            <p:cNvPr id="383" name=""/>
            <p:cNvGrpSpPr/>
            <p:nvPr/>
          </p:nvGrpSpPr>
          <p:grpSpPr>
            <a:xfrm>
              <a:off x="468360" y="836640"/>
              <a:ext cx="8209080" cy="5786280"/>
              <a:chOff x="468360" y="836640"/>
              <a:chExt cx="8209080" cy="5786280"/>
            </a:xfrm>
          </p:grpSpPr>
          <p:pic>
            <p:nvPicPr>
              <p:cNvPr id="3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500720" y="836640"/>
                <a:ext cx="4176720" cy="578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360" y="836640"/>
                <a:ext cx="4176720" cy="578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>
                <a:off x="971640" y="981000"/>
                <a:ext cx="7200720" cy="421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      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Blackadder ITC"/>
                  </a:rPr>
                  <a:t>СОСТАВИТЬ     СВЯЗНЫЙ     ТЕКСТ     ИЛИ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99"/>
                    </a:solidFill>
                    <a:latin typeface="Blackadder ITC"/>
                  </a:rPr>
                  <a:t>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900000" y="1844640"/>
              <a:ext cx="7417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Blackadder ITC"/>
                </a:rPr>
                <a:t>ОТДЕЛЬНЫЕ    ПРЕДЛОЖЕНИЯ   С   ДАННЫ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71640" y="2349360"/>
              <a:ext cx="45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Blackadder ITC"/>
                </a:rPr>
                <a:t>ГЛАГОЛАМ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00000" y="3428640"/>
              <a:ext cx="2952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Blackadder ITC"/>
                </a:rPr>
                <a:t>ГЛАГОЛОВ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0000" y="2852640"/>
              <a:ext cx="7417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Blackadder ITC"/>
                </a:rPr>
                <a:t>СДЕЛАТЬ МОРФОЛОГИЧЕСКИЙ РАЗБОР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2 -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0000" y="5013000"/>
              <a:ext cx="7561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71640" y="4581360"/>
              <a:ext cx="74898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66ff"/>
                  </a:solidFill>
                  <a:latin typeface="Arial"/>
                </a:rPr>
                <a:t>Живешь, смотришь, дышишь, береги, охраняй, украсят, сохранят, любовались бы, помнили бы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-252360" y="404640"/>
            <a:ext cx="8686800" cy="67582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219640" y="692280"/>
            <a:ext cx="3097440" cy="27684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 rot="19620000">
            <a:off x="-436320" y="4801680"/>
            <a:ext cx="605952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8686800" cy="67579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 rot="19620000">
            <a:off x="-96480" y="4260600"/>
            <a:ext cx="657072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Берегите Землю"/>
          <p:cNvPicPr/>
          <p:nvPr/>
        </p:nvPicPr>
        <p:blipFill>
          <a:blip r:embed="rId1"/>
          <a:srcRect l="0" t="0" r="0" b="49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46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 rot="18972000">
            <a:off x="0" y="2565000"/>
            <a:ext cx="4392720" cy="69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5" name=""/>
          <p:cNvGraphicFramePr/>
          <p:nvPr/>
        </p:nvGraphicFramePr>
        <p:xfrm>
          <a:off x="0" y="0"/>
          <a:ext cx="2238480" cy="746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2238480" cy="746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7" name="" descr=""/>
          <p:cNvPicPr/>
          <p:nvPr/>
        </p:nvPicPr>
        <p:blipFill>
          <a:blip r:embed="rId6"/>
          <a:stretch/>
        </p:blipFill>
        <p:spPr>
          <a:xfrm>
            <a:off x="1692360" y="278136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932360" y="3500280"/>
            <a:ext cx="1763640" cy="1764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39640" y="260280"/>
            <a:ext cx="8280360" cy="82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Презента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урока-путешествия по русскому язы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НА Т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i="1" lang="en-US" sz="4400" spc="-1" strike="noStrike">
                <a:solidFill>
                  <a:srgbClr val="ffffff"/>
                </a:solidFill>
                <a:latin typeface="Arial Black"/>
              </a:rPr>
              <a:t>Морфологический              разбор</a:t>
            </a:r>
            <a:r>
              <a:rPr b="1" i="1" lang="en-US" sz="6600" spc="-1" strike="noStrike">
                <a:solidFill>
                  <a:srgbClr val="ffffff"/>
                </a:solidFill>
                <a:latin typeface="Monotype Corsiva"/>
              </a:rPr>
              <a:t>                     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859280" y="4076640"/>
            <a:ext cx="16858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ГЛАГОЛА</a:t>
            </a:r>
            <a:endParaRPr b="1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Автор-составитель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Лискина Е. 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 rot="18660000">
            <a:off x="3060360" y="4006440"/>
            <a:ext cx="5591160" cy="6447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755640" y="1628640"/>
            <a:ext cx="27925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189000"/>
            <a:ext cx="7775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Имя  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24000" y="765000"/>
            <a:ext cx="8569080" cy="5849280"/>
            <a:chOff x="324000" y="765000"/>
            <a:chExt cx="8569080" cy="584928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324000" y="765000"/>
              <a:ext cx="4170240" cy="568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4716360" y="765000"/>
              <a:ext cx="4176720" cy="56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4360" y="981000"/>
              <a:ext cx="367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Постоянные признак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59280" y="996840"/>
              <a:ext cx="367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Непостоянные признак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4360" y="3429000"/>
              <a:ext cx="36716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2.Одушевлен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4360" y="4437000"/>
              <a:ext cx="36716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  </a:t>
              </a: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неодушевленно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5640" y="4941720"/>
              <a:ext cx="3672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3. Род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71640" y="3933720"/>
              <a:ext cx="36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и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4360" y="5445000"/>
              <a:ext cx="36716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4. Склон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88000" y="1989000"/>
              <a:ext cx="36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buClr>
                  <a:srgbClr val="0066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Число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88000" y="2492280"/>
              <a:ext cx="36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2. Падеж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5640" y="1989000"/>
              <a:ext cx="36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buClr>
                  <a:srgbClr val="0066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Собствен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42920" y="2421000"/>
              <a:ext cx="36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и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26920" y="2924280"/>
              <a:ext cx="36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  </a:t>
              </a: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нарицательно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8686800" cy="6757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19620000">
            <a:off x="-96480" y="4260600"/>
            <a:ext cx="657072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42920" y="620640"/>
            <a:ext cx="1368360" cy="1295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432560" y="0"/>
          <a:ext cx="1711440" cy="7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2560" y="0"/>
                    <a:ext cx="17114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116000" y="1052640"/>
            <a:ext cx="122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59640" y="3645000"/>
            <a:ext cx="1297080" cy="1224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5157720"/>
            <a:ext cx="1368720" cy="12956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2997360"/>
            <a:ext cx="1368360" cy="12952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8"/>
          <a:srcRect l="4490" t="4490" r="204" b="9297"/>
          <a:stretch/>
        </p:blipFill>
        <p:spPr>
          <a:xfrm>
            <a:off x="2556000" y="0"/>
            <a:ext cx="1512720" cy="1368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40360" y="2205000"/>
            <a:ext cx="1297080" cy="1224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3933720"/>
            <a:ext cx="1297080" cy="12240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87640" y="2060640"/>
            <a:ext cx="1297080" cy="12240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11280" y="836640"/>
            <a:ext cx="360360" cy="2160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4000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6836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124000" y="1125360"/>
            <a:ext cx="863640" cy="19432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340000" y="1268280"/>
            <a:ext cx="863640" cy="410544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3429000"/>
            <a:ext cx="158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332000" y="5300640"/>
            <a:ext cx="107928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Возвратность</a:t>
            </a:r>
            <a:endParaRPr b="1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140360" y="333360"/>
            <a:ext cx="1295280" cy="1297080"/>
            <a:chOff x="4140360" y="333360"/>
            <a:chExt cx="1295280" cy="1297080"/>
          </a:xfrm>
        </p:grpSpPr>
        <p:sp>
          <p:nvSpPr>
            <p:cNvPr id="86" name=""/>
            <p:cNvSpPr/>
            <p:nvPr/>
          </p:nvSpPr>
          <p:spPr>
            <a:xfrm>
              <a:off x="4140360" y="333360"/>
              <a:ext cx="1295280" cy="122400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4284360" y="477720"/>
              <a:ext cx="1008000" cy="1152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"/>
                </a:rPr>
                <a:t>Наклонение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0" y="189000"/>
            <a:ext cx="1835280" cy="2232000"/>
            <a:chOff x="0" y="189000"/>
            <a:chExt cx="1835280" cy="2232000"/>
          </a:xfrm>
        </p:grpSpPr>
        <p:grpSp>
          <p:nvGrpSpPr>
            <p:cNvPr id="89" name=""/>
            <p:cNvGrpSpPr/>
            <p:nvPr/>
          </p:nvGrpSpPr>
          <p:grpSpPr>
            <a:xfrm>
              <a:off x="0" y="189000"/>
              <a:ext cx="1835280" cy="792000"/>
              <a:chOff x="0" y="189000"/>
              <a:chExt cx="1835280" cy="792000"/>
            </a:xfrm>
          </p:grpSpPr>
          <p:sp>
            <p:nvSpPr>
              <p:cNvPr id="90" name=""/>
              <p:cNvSpPr/>
              <p:nvPr/>
            </p:nvSpPr>
            <p:spPr>
              <a:xfrm>
                <a:off x="250920" y="189000"/>
                <a:ext cx="792000" cy="792000"/>
              </a:xfrm>
              <a:prstGeom prst="ellipse">
                <a:avLst/>
              </a:prstGeom>
              <a:gradFill rotWithShape="0">
                <a:gsLst>
                  <a:gs pos="0">
                    <a:srgbClr val="66ccff">
                      <a:alpha val="80392"/>
                    </a:srgbClr>
                  </a:gs>
                  <a:gs pos="50000">
                    <a:srgbClr val="bbe0e3">
                      <a:alpha val="52156"/>
                    </a:srgbClr>
                  </a:gs>
                  <a:gs pos="100000">
                    <a:srgbClr val="66ccff">
                      <a:alpha val="80392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71640" y="765000"/>
                <a:ext cx="215640" cy="142920"/>
              </a:xfrm>
              <a:prstGeom prst="line">
                <a:avLst/>
              </a:prstGeom>
              <a:ln w="38160">
                <a:solidFill>
                  <a:srgbClr val="bbe0e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476280"/>
                <a:ext cx="18352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Arial"/>
                  </a:rPr>
                  <a:t>Совершенны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0" y="1628640"/>
              <a:ext cx="1835280" cy="792360"/>
              <a:chOff x="0" y="1628640"/>
              <a:chExt cx="1835280" cy="792360"/>
            </a:xfrm>
          </p:grpSpPr>
          <p:sp>
            <p:nvSpPr>
              <p:cNvPr id="94" name=""/>
              <p:cNvSpPr/>
              <p:nvPr/>
            </p:nvSpPr>
            <p:spPr>
              <a:xfrm>
                <a:off x="250920" y="1628640"/>
                <a:ext cx="792000" cy="792360"/>
              </a:xfrm>
              <a:prstGeom prst="ellipse">
                <a:avLst/>
              </a:prstGeom>
              <a:gradFill rotWithShape="0">
                <a:gsLst>
                  <a:gs pos="0">
                    <a:srgbClr val="66ccff">
                      <a:alpha val="80392"/>
                    </a:srgbClr>
                  </a:gs>
                  <a:gs pos="50000">
                    <a:srgbClr val="bbe0e3">
                      <a:alpha val="52156"/>
                    </a:srgbClr>
                  </a:gs>
                  <a:gs pos="100000">
                    <a:srgbClr val="66ccff">
                      <a:alpha val="80392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971640" y="1628640"/>
                <a:ext cx="215640" cy="216000"/>
              </a:xfrm>
              <a:prstGeom prst="line">
                <a:avLst/>
              </a:prstGeom>
              <a:ln w="38160">
                <a:solidFill>
                  <a:srgbClr val="bbe0e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1773360"/>
                <a:ext cx="18352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Arial"/>
                  </a:rPr>
                  <a:t>Несовершенны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0" y="4869000"/>
            <a:ext cx="1944720" cy="1989000"/>
            <a:chOff x="0" y="4869000"/>
            <a:chExt cx="1944720" cy="1989000"/>
          </a:xfrm>
        </p:grpSpPr>
        <p:grpSp>
          <p:nvGrpSpPr>
            <p:cNvPr id="98" name=""/>
            <p:cNvGrpSpPr/>
            <p:nvPr/>
          </p:nvGrpSpPr>
          <p:grpSpPr>
            <a:xfrm>
              <a:off x="0" y="4869000"/>
              <a:ext cx="1944720" cy="792000"/>
              <a:chOff x="0" y="4869000"/>
              <a:chExt cx="1944720" cy="792000"/>
            </a:xfrm>
          </p:grpSpPr>
          <p:sp>
            <p:nvSpPr>
              <p:cNvPr id="99" name=""/>
              <p:cNvSpPr/>
              <p:nvPr/>
            </p:nvSpPr>
            <p:spPr>
              <a:xfrm>
                <a:off x="250920" y="4869000"/>
                <a:ext cx="792000" cy="792000"/>
              </a:xfrm>
              <a:prstGeom prst="ellipse">
                <a:avLst/>
              </a:prstGeom>
              <a:gradFill rotWithShape="0">
                <a:gsLst>
                  <a:gs pos="0">
                    <a:srgbClr val="66ccff">
                      <a:alpha val="80392"/>
                    </a:srgbClr>
                  </a:gs>
                  <a:gs pos="50000">
                    <a:srgbClr val="bbe0e3">
                      <a:alpha val="52156"/>
                    </a:srgbClr>
                  </a:gs>
                  <a:gs pos="100000">
                    <a:srgbClr val="66ccff">
                      <a:alpha val="80392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971640" y="5445000"/>
                <a:ext cx="287280" cy="144720"/>
              </a:xfrm>
              <a:prstGeom prst="line">
                <a:avLst/>
              </a:prstGeom>
              <a:ln w="38160">
                <a:solidFill>
                  <a:srgbClr val="bbe0e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5084640"/>
                <a:ext cx="19447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Arial"/>
                  </a:rPr>
                  <a:t>Возвратны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0" y="6066000"/>
              <a:ext cx="1944720" cy="792000"/>
              <a:chOff x="0" y="6066000"/>
              <a:chExt cx="1944720" cy="792000"/>
            </a:xfrm>
          </p:grpSpPr>
          <p:sp>
            <p:nvSpPr>
              <p:cNvPr id="103" name=""/>
              <p:cNvSpPr/>
              <p:nvPr/>
            </p:nvSpPr>
            <p:spPr>
              <a:xfrm>
                <a:off x="324000" y="6066000"/>
                <a:ext cx="792000" cy="792000"/>
              </a:xfrm>
              <a:prstGeom prst="ellipse">
                <a:avLst/>
              </a:prstGeom>
              <a:gradFill rotWithShape="0">
                <a:gsLst>
                  <a:gs pos="0">
                    <a:srgbClr val="66ccff">
                      <a:alpha val="80392"/>
                    </a:srgbClr>
                  </a:gs>
                  <a:gs pos="50000">
                    <a:srgbClr val="bbe0e3">
                      <a:alpha val="52156"/>
                    </a:srgbClr>
                  </a:gs>
                  <a:gs pos="100000">
                    <a:srgbClr val="66ccff">
                      <a:alpha val="80392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1116000" y="6165360"/>
                <a:ext cx="142920" cy="142920"/>
              </a:xfrm>
              <a:prstGeom prst="line">
                <a:avLst/>
              </a:prstGeom>
              <a:ln w="38160">
                <a:solidFill>
                  <a:srgbClr val="bbe0e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6308640"/>
                <a:ext cx="19447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Arial"/>
                  </a:rPr>
                  <a:t>Невозвратны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 txBox="1"/>
          <p:nvPr/>
        </p:nvSpPr>
        <p:spPr>
          <a:xfrm>
            <a:off x="2700360" y="333360"/>
            <a:ext cx="1224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ГЛАГО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2565360"/>
            <a:ext cx="122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59640" y="4076640"/>
            <a:ext cx="122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87640" y="2421000"/>
            <a:ext cx="122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Ли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4365720"/>
            <a:ext cx="122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1280" y="1125360"/>
            <a:ext cx="2233440" cy="14400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635280" y="1125000"/>
            <a:ext cx="3097440" cy="280836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563640" y="1196640"/>
            <a:ext cx="1871640" cy="280836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95640" y="692280"/>
            <a:ext cx="144720" cy="7272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148360" y="189000"/>
            <a:ext cx="2809800" cy="1900080"/>
            <a:chOff x="5148360" y="189000"/>
            <a:chExt cx="2809800" cy="1900080"/>
          </a:xfrm>
        </p:grpSpPr>
        <p:grpSp>
          <p:nvGrpSpPr>
            <p:cNvPr id="116" name=""/>
            <p:cNvGrpSpPr/>
            <p:nvPr/>
          </p:nvGrpSpPr>
          <p:grpSpPr>
            <a:xfrm>
              <a:off x="5148360" y="189000"/>
              <a:ext cx="1657080" cy="747720"/>
              <a:chOff x="5148360" y="189000"/>
              <a:chExt cx="1657080" cy="747720"/>
            </a:xfrm>
          </p:grpSpPr>
          <p:sp>
            <p:nvSpPr>
              <p:cNvPr id="117" name=""/>
              <p:cNvSpPr/>
              <p:nvPr/>
            </p:nvSpPr>
            <p:spPr>
              <a:xfrm>
                <a:off x="5508720" y="189000"/>
                <a:ext cx="793800" cy="74772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5435640" y="692280"/>
                <a:ext cx="144360" cy="7272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148360" y="260280"/>
                <a:ext cx="16570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ffc32"/>
                    </a:solidFill>
                    <a:latin typeface="Arial"/>
                  </a:rPr>
                  <a:t>Услов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435280" y="549360"/>
              <a:ext cx="2522880" cy="747720"/>
              <a:chOff x="5435280" y="549360"/>
              <a:chExt cx="2522880" cy="747720"/>
            </a:xfrm>
          </p:grpSpPr>
          <p:sp>
            <p:nvSpPr>
              <p:cNvPr id="121" name=""/>
              <p:cNvSpPr/>
              <p:nvPr/>
            </p:nvSpPr>
            <p:spPr>
              <a:xfrm>
                <a:off x="6516720" y="549360"/>
                <a:ext cx="793800" cy="74772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5435280" y="981000"/>
                <a:ext cx="108108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300720" y="692280"/>
                <a:ext cx="165744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ffc32"/>
                    </a:solidFill>
                    <a:latin typeface="Arial"/>
                  </a:rPr>
                  <a:t>Повелитель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364000" y="1196640"/>
              <a:ext cx="2233800" cy="892440"/>
              <a:chOff x="5364000" y="1196640"/>
              <a:chExt cx="2233800" cy="892440"/>
            </a:xfrm>
          </p:grpSpPr>
          <p:sp>
            <p:nvSpPr>
              <p:cNvPr id="125" name=""/>
              <p:cNvSpPr/>
              <p:nvPr/>
            </p:nvSpPr>
            <p:spPr>
              <a:xfrm>
                <a:off x="6084720" y="1341360"/>
                <a:ext cx="793800" cy="74772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5364000" y="1196640"/>
                <a:ext cx="720720" cy="43164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940360" y="1557360"/>
                <a:ext cx="165744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ffc32"/>
                    </a:solidFill>
                    <a:latin typeface="Arial"/>
                  </a:rPr>
                  <a:t>Изъявитель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7451640" y="4005360"/>
            <a:ext cx="1873440" cy="1827000"/>
            <a:chOff x="7451640" y="4005360"/>
            <a:chExt cx="1873440" cy="1827000"/>
          </a:xfrm>
        </p:grpSpPr>
        <p:sp>
          <p:nvSpPr>
            <p:cNvPr id="129" name=""/>
            <p:cNvSpPr/>
            <p:nvPr/>
          </p:nvSpPr>
          <p:spPr>
            <a:xfrm>
              <a:off x="7956720" y="4292640"/>
              <a:ext cx="215640" cy="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37440" y="4005360"/>
              <a:ext cx="793800" cy="747720"/>
            </a:xfrm>
            <a:prstGeom prst="ellipse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7640" y="4437000"/>
              <a:ext cx="165744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ffc32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4ffc32"/>
                  </a:solidFill>
                  <a:latin typeface="Arial"/>
                </a:rPr>
                <a:t>Единственно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7451640" y="4723920"/>
              <a:ext cx="1657440" cy="1108440"/>
              <a:chOff x="7451640" y="4723920"/>
              <a:chExt cx="1657440" cy="1108440"/>
            </a:xfrm>
          </p:grpSpPr>
          <p:sp>
            <p:nvSpPr>
              <p:cNvPr id="133" name=""/>
              <p:cNvSpPr/>
              <p:nvPr/>
            </p:nvSpPr>
            <p:spPr>
              <a:xfrm>
                <a:off x="7921800" y="5084640"/>
                <a:ext cx="793440" cy="74772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7632720" y="4723920"/>
                <a:ext cx="433440" cy="50508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51640" y="5300640"/>
                <a:ext cx="165744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ffc32"/>
                    </a:solidFill>
                    <a:latin typeface="Arial"/>
                  </a:rPr>
                  <a:t>Множествен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4211640" y="4653000"/>
            <a:ext cx="3313080" cy="1324080"/>
            <a:chOff x="4211640" y="4653000"/>
            <a:chExt cx="3313080" cy="1324080"/>
          </a:xfrm>
        </p:grpSpPr>
        <p:grpSp>
          <p:nvGrpSpPr>
            <p:cNvPr id="137" name=""/>
            <p:cNvGrpSpPr/>
            <p:nvPr/>
          </p:nvGrpSpPr>
          <p:grpSpPr>
            <a:xfrm>
              <a:off x="5867280" y="4869000"/>
              <a:ext cx="1657440" cy="747720"/>
              <a:chOff x="5867280" y="4869000"/>
              <a:chExt cx="1657440" cy="747720"/>
            </a:xfrm>
          </p:grpSpPr>
          <p:sp>
            <p:nvSpPr>
              <p:cNvPr id="138" name=""/>
              <p:cNvSpPr/>
              <p:nvPr/>
            </p:nvSpPr>
            <p:spPr>
              <a:xfrm>
                <a:off x="6300720" y="4869000"/>
                <a:ext cx="793800" cy="74772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27640" y="4941720"/>
                <a:ext cx="144720" cy="14292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867280" y="5084640"/>
                <a:ext cx="165744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ffc32"/>
                    </a:solidFill>
                    <a:latin typeface="Arial"/>
                  </a:rPr>
                  <a:t>Женски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932360" y="5084640"/>
              <a:ext cx="1657440" cy="892440"/>
              <a:chOff x="4932360" y="5084640"/>
              <a:chExt cx="1657440" cy="892440"/>
            </a:xfrm>
          </p:grpSpPr>
          <p:sp>
            <p:nvSpPr>
              <p:cNvPr id="142" name=""/>
              <p:cNvSpPr/>
              <p:nvPr/>
            </p:nvSpPr>
            <p:spPr>
              <a:xfrm>
                <a:off x="5364000" y="5229360"/>
                <a:ext cx="793800" cy="74772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5724360" y="5084640"/>
                <a:ext cx="0" cy="14472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32360" y="5445000"/>
                <a:ext cx="165744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ffc32"/>
                    </a:solidFill>
                    <a:latin typeface="Arial"/>
                  </a:rPr>
                  <a:t>Средни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211640" y="4653000"/>
              <a:ext cx="1008000" cy="747720"/>
              <a:chOff x="4211640" y="4653000"/>
              <a:chExt cx="1008000" cy="747720"/>
            </a:xfrm>
          </p:grpSpPr>
          <p:sp>
            <p:nvSpPr>
              <p:cNvPr id="146" name=""/>
              <p:cNvSpPr/>
              <p:nvPr/>
            </p:nvSpPr>
            <p:spPr>
              <a:xfrm>
                <a:off x="4284720" y="4653000"/>
                <a:ext cx="793800" cy="74772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5003640" y="4797000"/>
                <a:ext cx="144720" cy="7164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211640" y="4869000"/>
                <a:ext cx="10080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ffc32"/>
                    </a:solidFill>
                    <a:latin typeface="Arial"/>
                  </a:rPr>
                  <a:t>Мужско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2268360" y="3141360"/>
            <a:ext cx="2953080" cy="1682640"/>
            <a:chOff x="2268360" y="3141360"/>
            <a:chExt cx="2953080" cy="1682640"/>
          </a:xfrm>
        </p:grpSpPr>
        <p:grpSp>
          <p:nvGrpSpPr>
            <p:cNvPr id="150" name=""/>
            <p:cNvGrpSpPr/>
            <p:nvPr/>
          </p:nvGrpSpPr>
          <p:grpSpPr>
            <a:xfrm>
              <a:off x="3564000" y="3141360"/>
              <a:ext cx="1657440" cy="892440"/>
              <a:chOff x="3564000" y="3141360"/>
              <a:chExt cx="1657440" cy="892440"/>
            </a:xfrm>
          </p:grpSpPr>
          <p:sp>
            <p:nvSpPr>
              <p:cNvPr id="151" name=""/>
              <p:cNvSpPr/>
              <p:nvPr/>
            </p:nvSpPr>
            <p:spPr>
              <a:xfrm>
                <a:off x="3995640" y="3286080"/>
                <a:ext cx="793800" cy="74772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4066920" y="3141360"/>
                <a:ext cx="144360" cy="21564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64000" y="3502080"/>
                <a:ext cx="16574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ffc32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843280" y="3284640"/>
              <a:ext cx="1657440" cy="1539360"/>
              <a:chOff x="2843280" y="3284640"/>
              <a:chExt cx="1657440" cy="1539360"/>
            </a:xfrm>
          </p:grpSpPr>
          <p:sp>
            <p:nvSpPr>
              <p:cNvPr id="155" name=""/>
              <p:cNvSpPr/>
              <p:nvPr/>
            </p:nvSpPr>
            <p:spPr>
              <a:xfrm>
                <a:off x="3276720" y="4076640"/>
                <a:ext cx="793800" cy="7473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3708360" y="3284640"/>
                <a:ext cx="0" cy="79200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43280" y="4292280"/>
                <a:ext cx="16574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ffc32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2268360" y="3213000"/>
              <a:ext cx="1657080" cy="963720"/>
              <a:chOff x="2268360" y="3213000"/>
              <a:chExt cx="1657080" cy="963720"/>
            </a:xfrm>
          </p:grpSpPr>
          <p:sp>
            <p:nvSpPr>
              <p:cNvPr id="159" name=""/>
              <p:cNvSpPr/>
              <p:nvPr/>
            </p:nvSpPr>
            <p:spPr>
              <a:xfrm>
                <a:off x="2773080" y="3429000"/>
                <a:ext cx="793800" cy="74772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3276360" y="3213000"/>
                <a:ext cx="144360" cy="21600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68360" y="3645000"/>
                <a:ext cx="16570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ffc32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 flipH="1" flipV="1">
            <a:off x="3492000" y="1267920"/>
            <a:ext cx="71640" cy="79236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164000" y="1628640"/>
            <a:ext cx="1980000" cy="2043360"/>
            <a:chOff x="7164000" y="1628640"/>
            <a:chExt cx="1980000" cy="2043360"/>
          </a:xfrm>
        </p:grpSpPr>
        <p:grpSp>
          <p:nvGrpSpPr>
            <p:cNvPr id="164" name=""/>
            <p:cNvGrpSpPr/>
            <p:nvPr/>
          </p:nvGrpSpPr>
          <p:grpSpPr>
            <a:xfrm>
              <a:off x="7235640" y="2349360"/>
              <a:ext cx="1908360" cy="747720"/>
              <a:chOff x="7235640" y="2349360"/>
              <a:chExt cx="1908360" cy="74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8350200" y="2349360"/>
                <a:ext cx="793800" cy="74772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7235640" y="2781360"/>
                <a:ext cx="108108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54920" y="2492280"/>
                <a:ext cx="11890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ffc32"/>
                    </a:solidFill>
                    <a:latin typeface="Arial"/>
                  </a:rPr>
                  <a:t>Настояще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164000" y="2924280"/>
              <a:ext cx="1980000" cy="747720"/>
              <a:chOff x="7164000" y="2924280"/>
              <a:chExt cx="1980000" cy="747720"/>
            </a:xfrm>
          </p:grpSpPr>
          <p:sp>
            <p:nvSpPr>
              <p:cNvPr id="169" name=""/>
              <p:cNvSpPr/>
              <p:nvPr/>
            </p:nvSpPr>
            <p:spPr>
              <a:xfrm>
                <a:off x="7524720" y="2924280"/>
                <a:ext cx="793800" cy="74772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7164000" y="2997000"/>
                <a:ext cx="360360" cy="21564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86560" y="3141720"/>
                <a:ext cx="165744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ffc32"/>
                    </a:solidFill>
                    <a:latin typeface="Arial"/>
                  </a:rPr>
                  <a:t>Прошедше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164360" y="1628640"/>
              <a:ext cx="1801800" cy="1008360"/>
              <a:chOff x="7164360" y="1628640"/>
              <a:chExt cx="1801800" cy="1008360"/>
            </a:xfrm>
          </p:grpSpPr>
          <p:sp>
            <p:nvSpPr>
              <p:cNvPr id="173" name=""/>
              <p:cNvSpPr/>
              <p:nvPr/>
            </p:nvSpPr>
            <p:spPr>
              <a:xfrm>
                <a:off x="7740720" y="1628640"/>
                <a:ext cx="793800" cy="7477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08720" y="1844640"/>
                <a:ext cx="165744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ffc32"/>
                    </a:solidFill>
                    <a:latin typeface="Arial"/>
                  </a:rPr>
                  <a:t>Будуще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7164360" y="2133720"/>
                <a:ext cx="647640" cy="50328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 flipV="1">
            <a:off x="5940360" y="3428640"/>
            <a:ext cx="158436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211640" y="1916280"/>
            <a:ext cx="360036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1640" y="2492280"/>
            <a:ext cx="424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516720" y="1844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2920" y="620640"/>
            <a:ext cx="1368360" cy="1295640"/>
          </a:xfrm>
          <a:prstGeom prst="ellipse">
            <a:avLst/>
          </a:pr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16000" y="1052640"/>
            <a:ext cx="122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3645000"/>
            <a:ext cx="1297080" cy="1224000"/>
          </a:xfrm>
          <a:prstGeom prst="ellipse">
            <a:avLst/>
          </a:prstGeom>
          <a:blipFill rotWithShape="0">
            <a:blip r:embed="rId2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5157720"/>
            <a:ext cx="1368720" cy="1295640"/>
          </a:xfrm>
          <a:prstGeom prst="ellipse">
            <a:avLst/>
          </a:pr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2997360"/>
            <a:ext cx="1368360" cy="1295280"/>
          </a:xfrm>
          <a:prstGeom prst="ellipse">
            <a:avLst/>
          </a:prstGeom>
          <a:blipFill rotWithShape="0">
            <a:blip r:embed="rId3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2205000"/>
            <a:ext cx="1297080" cy="1224000"/>
          </a:xfrm>
          <a:prstGeom prst="ellipse">
            <a:avLst/>
          </a:prstGeom>
          <a:blipFill rotWithShape="0">
            <a:blip r:embed="rId3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76720" y="3933720"/>
            <a:ext cx="1297080" cy="1224000"/>
          </a:xfrm>
          <a:prstGeom prst="ellipse">
            <a:avLst/>
          </a:pr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87640" y="2060640"/>
            <a:ext cx="1297080" cy="1224000"/>
          </a:xfrm>
          <a:prstGeom prst="ellipse">
            <a:avLst/>
          </a:pr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411280" y="836640"/>
            <a:ext cx="360360" cy="2160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4000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6836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124000" y="1125360"/>
            <a:ext cx="863640" cy="19432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340000" y="1268280"/>
            <a:ext cx="863640" cy="410544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3429000"/>
            <a:ext cx="158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332000" y="5300640"/>
            <a:ext cx="107928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Возвратность</a:t>
            </a:r>
            <a:endParaRPr b="1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140360" y="333360"/>
            <a:ext cx="1295280" cy="1297080"/>
            <a:chOff x="4140360" y="333360"/>
            <a:chExt cx="1295280" cy="1297080"/>
          </a:xfrm>
        </p:grpSpPr>
        <p:sp>
          <p:nvSpPr>
            <p:cNvPr id="196" name=""/>
            <p:cNvSpPr/>
            <p:nvPr/>
          </p:nvSpPr>
          <p:spPr>
            <a:xfrm>
              <a:off x="4140360" y="333360"/>
              <a:ext cx="1295280" cy="1224000"/>
            </a:xfrm>
            <a:prstGeom prst="ellipse">
              <a:avLst/>
            </a:pr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4284360" y="477720"/>
              <a:ext cx="1008000" cy="1152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"/>
                </a:rPr>
                <a:t>Наклонение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79280" y="2708280"/>
            <a:ext cx="1079640" cy="2089080"/>
            <a:chOff x="179280" y="2708280"/>
            <a:chExt cx="1079640" cy="2089080"/>
          </a:xfrm>
        </p:grpSpPr>
        <p:sp>
          <p:nvSpPr>
            <p:cNvPr id="199" name=""/>
            <p:cNvSpPr/>
            <p:nvPr/>
          </p:nvSpPr>
          <p:spPr>
            <a:xfrm>
              <a:off x="250920" y="2708280"/>
              <a:ext cx="792000" cy="792000"/>
            </a:xfrm>
            <a:prstGeom prst="ellipse">
              <a:avLst/>
            </a:prstGeom>
            <a:gradFill rotWithShape="0">
              <a:gsLst>
                <a:gs pos="0">
                  <a:srgbClr val="66ccff">
                    <a:alpha val="80392"/>
                  </a:srgbClr>
                </a:gs>
                <a:gs pos="50000">
                  <a:srgbClr val="bbe0e3">
                    <a:alpha val="52156"/>
                  </a:srgbClr>
                </a:gs>
                <a:gs pos="100000">
                  <a:srgbClr val="66ccff">
                    <a:alpha val="8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71640" y="3284280"/>
              <a:ext cx="215640" cy="144720"/>
            </a:xfrm>
            <a:prstGeom prst="line">
              <a:avLst/>
            </a:prstGeom>
            <a:ln w="38160">
              <a:solidFill>
                <a:srgbClr val="bbe0e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9280" y="2923920"/>
              <a:ext cx="865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0920" y="4005000"/>
              <a:ext cx="792000" cy="792360"/>
            </a:xfrm>
            <a:prstGeom prst="ellipse">
              <a:avLst/>
            </a:prstGeom>
            <a:gradFill rotWithShape="0">
              <a:gsLst>
                <a:gs pos="0">
                  <a:srgbClr val="66ccff">
                    <a:alpha val="80392"/>
                  </a:srgbClr>
                </a:gs>
                <a:gs pos="50000">
                  <a:srgbClr val="bbe0e3">
                    <a:alpha val="52156"/>
                  </a:srgbClr>
                </a:gs>
                <a:gs pos="100000">
                  <a:srgbClr val="66ccff">
                    <a:alpha val="8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042920" y="4076280"/>
              <a:ext cx="216000" cy="215640"/>
            </a:xfrm>
            <a:prstGeom prst="line">
              <a:avLst/>
            </a:prstGeom>
            <a:ln w="38160">
              <a:solidFill>
                <a:srgbClr val="bbe0e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9280" y="4221000"/>
              <a:ext cx="865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 txBox="1"/>
          <p:nvPr/>
        </p:nvSpPr>
        <p:spPr>
          <a:xfrm>
            <a:off x="2700360" y="333360"/>
            <a:ext cx="1224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ГЛАГО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2565360"/>
            <a:ext cx="122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59640" y="4076640"/>
            <a:ext cx="122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2421000"/>
            <a:ext cx="122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Ли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76720" y="4365720"/>
            <a:ext cx="122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51280" y="1125360"/>
            <a:ext cx="2233440" cy="14400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3635280" y="1125000"/>
            <a:ext cx="3097440" cy="280836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563640" y="1196640"/>
            <a:ext cx="1871640" cy="280836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5640" y="692280"/>
            <a:ext cx="144720" cy="7272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492000" y="1267920"/>
            <a:ext cx="71640" cy="79236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964720" y="6021360"/>
            <a:ext cx="5327640" cy="836640"/>
            <a:chOff x="8964720" y="6021360"/>
            <a:chExt cx="5327640" cy="836640"/>
          </a:xfrm>
        </p:grpSpPr>
        <p:pic>
          <p:nvPicPr>
            <p:cNvPr id="216" name="" descr=""/>
            <p:cNvPicPr/>
            <p:nvPr/>
          </p:nvPicPr>
          <p:blipFill>
            <a:blip r:embed="rId35"/>
            <a:srcRect l="8550" t="33428" r="0" b="17498"/>
            <a:stretch/>
          </p:blipFill>
          <p:spPr>
            <a:xfrm>
              <a:off x="8964720" y="6021360"/>
              <a:ext cx="53276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9325080" y="6237360"/>
              <a:ext cx="48956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Синтаксическая р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2 0.00208 L -0.68108 0.00208 E">
                                      <p:cBhvr>
                                        <p:cTn id="107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9640" y="0"/>
            <a:ext cx="8064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24000" y="765000"/>
            <a:ext cx="8569080" cy="5688360"/>
            <a:chOff x="324000" y="765000"/>
            <a:chExt cx="8569080" cy="5688360"/>
          </a:xfrm>
        </p:grpSpPr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324000" y="765000"/>
              <a:ext cx="4170240" cy="568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4716360" y="765000"/>
              <a:ext cx="4176720" cy="56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84360" y="981000"/>
              <a:ext cx="3671640" cy="24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Постоянные признак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1. Вид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59280" y="996840"/>
              <a:ext cx="367200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Непостоянные признак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5640" y="2708280"/>
              <a:ext cx="3672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2. Спряжени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1280" y="3141720"/>
              <a:ext cx="36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3. Возвратность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59280" y="3213000"/>
              <a:ext cx="3672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3. Лицо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16360" y="3716280"/>
              <a:ext cx="36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  </a:t>
              </a: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4. Число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59280" y="2205000"/>
              <a:ext cx="36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1. Наклонени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59280" y="4221000"/>
              <a:ext cx="3672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5. Род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59280" y="2708280"/>
              <a:ext cx="36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2. Время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8686800" cy="67579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 rot="19620000">
            <a:off x="-96480" y="4260600"/>
            <a:ext cx="657072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181080" y="-33480"/>
            <a:ext cx="9325080" cy="689148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1619280" y="0"/>
            <a:ext cx="5162400" cy="6858000"/>
            <a:chOff x="1619280" y="0"/>
            <a:chExt cx="5162400" cy="6858000"/>
          </a:xfrm>
        </p:grpSpPr>
        <p:sp>
          <p:nvSpPr>
            <p:cNvPr id="236" name=""/>
            <p:cNvSpPr/>
            <p:nvPr/>
          </p:nvSpPr>
          <p:spPr>
            <a:xfrm>
              <a:off x="1619280" y="5751720"/>
              <a:ext cx="479880" cy="1103040"/>
            </a:xfrm>
            <a:custGeom>
              <a:avLst/>
              <a:gdLst>
                <a:gd name="textAreaLeft" fmla="*/ 23400 w 479880"/>
                <a:gd name="textAreaRight" fmla="*/ 456480 w 479880"/>
                <a:gd name="textAreaTop" fmla="*/ 23400 h 1103040"/>
                <a:gd name="textAreaBottom" fmla="*/ 1079640 h 1103040"/>
              </a:gdLst>
              <a:ahLst/>
              <a:rect l="textAreaLeft" t="textAreaTop" r="textAreaRight" b="textAreaBottom"/>
              <a:pathLst>
                <a:path w="21600" h="49628">
                  <a:moveTo>
                    <a:pt x="3600" y="0"/>
                  </a:moveTo>
                  <a:arcTo wR="3600" hR="3600" stAng="16200000" swAng="-5400000"/>
                  <a:lnTo>
                    <a:pt x="0" y="46028"/>
                  </a:lnTo>
                  <a:arcTo wR="3600" hR="3600" stAng="10800000" swAng="-5400000"/>
                  <a:lnTo>
                    <a:pt x="18000" y="496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0c0c0">
                    <a:alpha val="32156"/>
                  </a:srgbClr>
                </a:gs>
                <a:gs pos="50000">
                  <a:srgbClr val="ccffff"/>
                </a:gs>
                <a:gs pos="100000">
                  <a:srgbClr val="c0c0c0">
                    <a:alpha val="32156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19280" y="5839560"/>
              <a:ext cx="423000" cy="169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36640" y="0"/>
              <a:ext cx="1323360" cy="20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62"/>
                  </a:moveTo>
                  <a:arcTo wR="10800" hR="10800" stAng="10748416" swAng="108515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62"/>
                  </a:moveTo>
                  <a:arcTo wR="10800" hR="10800" stAng="10748416" swAng="10851584"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c0c0c0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0800000">
              <a:off x="2465640" y="5839560"/>
              <a:ext cx="3481920" cy="945360"/>
            </a:xfrm>
            <a:prstGeom prst="flowChartManualOperation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cffff"/>
                </a:gs>
                <a:gs pos="100000">
                  <a:srgbClr val="c0c0c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19520" y="2126880"/>
              <a:ext cx="2761560" cy="354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099160" y="6303240"/>
              <a:ext cx="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6301800" y="6224040"/>
              <a:ext cx="0" cy="5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01800" y="5751720"/>
              <a:ext cx="479880" cy="1103040"/>
            </a:xfrm>
            <a:custGeom>
              <a:avLst/>
              <a:gdLst>
                <a:gd name="textAreaLeft" fmla="*/ 23400 w 479880"/>
                <a:gd name="textAreaRight" fmla="*/ 456480 w 479880"/>
                <a:gd name="textAreaTop" fmla="*/ 23400 h 1103040"/>
                <a:gd name="textAreaBottom" fmla="*/ 1079640 h 1103040"/>
              </a:gdLst>
              <a:ahLst/>
              <a:rect l="textAreaLeft" t="textAreaTop" r="textAreaRight" b="textAreaBottom"/>
              <a:pathLst>
                <a:path w="21600" h="49628">
                  <a:moveTo>
                    <a:pt x="3600" y="0"/>
                  </a:moveTo>
                  <a:arcTo wR="3600" hR="3600" stAng="16200000" swAng="-5400000"/>
                  <a:lnTo>
                    <a:pt x="0" y="46028"/>
                  </a:lnTo>
                  <a:arcTo wR="3600" hR="3600" stAng="10800000" swAng="-5400000"/>
                  <a:lnTo>
                    <a:pt x="18000" y="496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0c0c0">
                    <a:alpha val="32156"/>
                  </a:srgbClr>
                </a:gs>
                <a:gs pos="50000">
                  <a:srgbClr val="ccffff"/>
                </a:gs>
                <a:gs pos="100000">
                  <a:srgbClr val="c0c0c0">
                    <a:alpha val="32156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39760" y="1890360"/>
              <a:ext cx="2521080" cy="2361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c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0800000">
              <a:off x="2939400" y="1023120"/>
              <a:ext cx="2521080" cy="866520"/>
            </a:xfrm>
            <a:custGeom>
              <a:avLst/>
              <a:gdLst>
                <a:gd name="textAreaLeft" fmla="*/ 554400 w 2521080"/>
                <a:gd name="textAreaRight" fmla="*/ 1966680 w 2521080"/>
                <a:gd name="textAreaTop" fmla="*/ 190440 h 866520"/>
                <a:gd name="textAreaBottom" fmla="*/ 676080 h 8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cffff"/>
                </a:gs>
                <a:gs pos="100000">
                  <a:srgbClr val="c0c0c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40240" y="1023840"/>
              <a:ext cx="13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40240" y="945000"/>
              <a:ext cx="13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39760" y="196956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88800" y="1100160"/>
              <a:ext cx="426600" cy="393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2143800" y="6179400"/>
              <a:ext cx="630360" cy="720000"/>
            </a:xfrm>
            <a:custGeom>
              <a:avLst/>
              <a:gdLst>
                <a:gd name="textAreaLeft" fmla="*/ 138600 w 630360"/>
                <a:gd name="textAreaRight" fmla="*/ 491760 w 630360"/>
                <a:gd name="textAreaTop" fmla="*/ 158400 h 720000"/>
                <a:gd name="textAreaBottom" fmla="*/ 561600 h 72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cffff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5626080" y="6179760"/>
              <a:ext cx="630360" cy="720000"/>
            </a:xfrm>
            <a:custGeom>
              <a:avLst/>
              <a:gdLst>
                <a:gd name="textAreaLeft" fmla="*/ 138600 w 630360"/>
                <a:gd name="textAreaRight" fmla="*/ 491760 w 630360"/>
                <a:gd name="textAreaTop" fmla="*/ 158400 h 720000"/>
                <a:gd name="textAreaBottom" fmla="*/ 561600 h 72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cffff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40240" y="945360"/>
              <a:ext cx="1320120" cy="7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80240" y="5673240"/>
              <a:ext cx="2040480" cy="15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ccffff"/>
                </a:gs>
                <a:gs pos="100000">
                  <a:srgbClr val="3333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88800" y="5754960"/>
              <a:ext cx="479880" cy="1103040"/>
            </a:xfrm>
            <a:custGeom>
              <a:avLst/>
              <a:gdLst>
                <a:gd name="textAreaLeft" fmla="*/ 23400 w 479880"/>
                <a:gd name="textAreaRight" fmla="*/ 456480 w 479880"/>
                <a:gd name="textAreaTop" fmla="*/ 23400 h 1103040"/>
                <a:gd name="textAreaBottom" fmla="*/ 1079640 h 1103040"/>
              </a:gdLst>
              <a:ahLst/>
              <a:rect l="textAreaLeft" t="textAreaTop" r="textAreaRight" b="textAreaBottom"/>
              <a:pathLst>
                <a:path w="21600" h="49628">
                  <a:moveTo>
                    <a:pt x="3600" y="0"/>
                  </a:moveTo>
                  <a:arcTo wR="3600" hR="3600" stAng="16200000" swAng="-5400000"/>
                  <a:lnTo>
                    <a:pt x="0" y="46028"/>
                  </a:lnTo>
                  <a:arcTo wR="3600" hR="3600" stAng="10800000" swAng="-5400000"/>
                  <a:lnTo>
                    <a:pt x="18000" y="496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0c0c0">
                    <a:alpha val="32156"/>
                  </a:srgbClr>
                </a:gs>
                <a:gs pos="50000">
                  <a:srgbClr val="ccffff"/>
                </a:gs>
                <a:gs pos="100000">
                  <a:srgbClr val="c0c0c0">
                    <a:alpha val="32156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60840" y="2127600"/>
              <a:ext cx="120240" cy="3545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19520" y="2127600"/>
              <a:ext cx="120240" cy="3545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42440" y="1607760"/>
              <a:ext cx="2115720" cy="33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Командир   корабл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_________________________________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3240" y="2115720"/>
              <a:ext cx="2454120" cy="33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_______________________________________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73240" y="2454120"/>
              <a:ext cx="2454120" cy="338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Ви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73240" y="2792880"/>
              <a:ext cx="2454120" cy="338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Спряж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73240" y="3131280"/>
              <a:ext cx="2454120" cy="338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Возврат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73240" y="3470040"/>
              <a:ext cx="2454120" cy="338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Накло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73240" y="3808440"/>
              <a:ext cx="2454120" cy="338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Врем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73240" y="4146840"/>
              <a:ext cx="2454120" cy="338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Числ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73240" y="4485600"/>
              <a:ext cx="2454120" cy="338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Р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73240" y="4824000"/>
              <a:ext cx="2454120" cy="338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Лиц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73240" y="5162760"/>
              <a:ext cx="2454120" cy="50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6600"/>
                  </a:solidFill>
                  <a:latin typeface="Arial"/>
                </a:rPr>
                <a:t>Синтаксическая рол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73400" y="5839560"/>
              <a:ext cx="338400" cy="169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58680" y="5839560"/>
              <a:ext cx="423000" cy="169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3735000" y="423000"/>
              <a:ext cx="902520" cy="507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53966" dir="2700000" blurRad="0" rotWithShape="0">
                      <a:srgbClr val="000000"/>
                    </a:outerShdw>
                  </a:effectLst>
                  <a:latin typeface="Arial"/>
                </a:rPr>
                <a:t>ГЛАГОЛ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>
    <p:push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11280" y="260280"/>
            <a:ext cx="7775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Морфологический разбор глаг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835280" y="836640"/>
            <a:ext cx="5111640" cy="5830920"/>
            <a:chOff x="1835280" y="836640"/>
            <a:chExt cx="5111640" cy="5830920"/>
          </a:xfrm>
        </p:grpSpPr>
        <p:pic>
          <p:nvPicPr>
            <p:cNvPr id="273" name="" descr=""/>
            <p:cNvPicPr/>
            <p:nvPr/>
          </p:nvPicPr>
          <p:blipFill>
            <a:blip r:embed="rId2"/>
            <a:stretch/>
          </p:blipFill>
          <p:spPr>
            <a:xfrm>
              <a:off x="1835280" y="836640"/>
              <a:ext cx="5111640" cy="58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995480" y="907920"/>
              <a:ext cx="27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Arial"/>
                </a:rPr>
                <a:t>I</a:t>
              </a:r>
              <a:r>
                <a:rPr b="1" lang="ru-RU" sz="2400" spc="-1" strike="noStrike">
                  <a:solidFill>
                    <a:srgbClr val="0066ff"/>
                  </a:solidFill>
                  <a:latin typeface="Arial"/>
                </a:rPr>
                <a:t>.</a:t>
              </a: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i="1" lang="ru-RU" sz="2400" spc="-1" strike="noStrike">
                  <a:solidFill>
                    <a:srgbClr val="0066ff"/>
                  </a:solidFill>
                  <a:latin typeface="Blackadder ITC"/>
                </a:rPr>
                <a:t>Видят -глаго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95480" y="1413000"/>
              <a:ext cx="151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Arial"/>
                </a:rPr>
                <a:t>II</a:t>
              </a:r>
              <a:r>
                <a:rPr b="1" lang="ru-RU" sz="2400" spc="-1" strike="noStrike">
                  <a:solidFill>
                    <a:srgbClr val="0066ff"/>
                  </a:solidFill>
                  <a:latin typeface="Blackadder ITC"/>
                </a:rPr>
                <a:t>. </a:t>
              </a:r>
              <a:r>
                <a:rPr b="1" i="1" lang="ru-RU" sz="2400" spc="-1" strike="noStrike">
                  <a:solidFill>
                    <a:srgbClr val="0066ff"/>
                  </a:solidFill>
                  <a:latin typeface="Blackadder ITC"/>
                </a:rPr>
                <a:t>Н.ф.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66ff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74680" y="1916280"/>
              <a:ext cx="431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ff"/>
                  </a:solidFill>
                  <a:latin typeface="Blackadder ITC"/>
                </a:rPr>
                <a:t>Постоянные признак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95480" y="3429000"/>
              <a:ext cx="431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ff"/>
                  </a:solidFill>
                  <a:latin typeface="Blackadder ITC"/>
                </a:rPr>
                <a:t>Непостоянные признак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06560" y="5229360"/>
              <a:ext cx="63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Arial"/>
                </a:rPr>
                <a:t>III</a:t>
              </a:r>
              <a:r>
                <a:rPr b="1" lang="ru-RU" sz="2400" spc="-1" strike="noStrike">
                  <a:solidFill>
                    <a:srgbClr val="0066ff"/>
                  </a:solidFill>
                  <a:latin typeface="Arial"/>
                </a:rPr>
                <a:t>.</a:t>
              </a: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4716360" y="9079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Blackadder ITC"/>
              </a:rPr>
              <a:t>(</a:t>
            </a:r>
            <a:r>
              <a:rPr b="1" i="1" lang="en-US" sz="2400" spc="-1" strike="noStrike">
                <a:solidFill>
                  <a:srgbClr val="0066ff"/>
                </a:solidFill>
                <a:latin typeface="Blackadder ITC"/>
              </a:rPr>
              <a:t>что делают</a:t>
            </a:r>
            <a:r>
              <a:rPr b="1" lang="en-US" sz="2400" spc="-1" strike="noStrike">
                <a:solidFill>
                  <a:srgbClr val="0066ff"/>
                </a:solidFill>
                <a:latin typeface="Blackadder ITC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48000" y="141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Blackadder ITC"/>
              </a:rPr>
              <a:t>вид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24000" y="2349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Blackadder ITC"/>
              </a:rPr>
              <a:t>несов. ви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24000" y="263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Blackadder ITC"/>
              </a:rPr>
              <a:t>невозвр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50920" y="2924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0066ff"/>
                </a:solidFill>
                <a:latin typeface="Blackadder ITC"/>
              </a:rPr>
              <a:t> спр. ( искл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860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Blackadder ITC"/>
              </a:rPr>
              <a:t> </a:t>
            </a:r>
            <a:r>
              <a:rPr b="1" i="1" lang="en-US" sz="2400" spc="-1" strike="noStrike">
                <a:solidFill>
                  <a:srgbClr val="0066ff"/>
                </a:solidFill>
                <a:latin typeface="Blackadder ITC"/>
              </a:rPr>
              <a:t>в изъяв. накл.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50920" y="4149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Blackadder ITC"/>
              </a:rPr>
              <a:t> </a:t>
            </a:r>
            <a:r>
              <a:rPr b="1" i="1" lang="ru-RU" sz="2400" spc="-1" strike="noStrike">
                <a:solidFill>
                  <a:srgbClr val="0066ff"/>
                </a:solidFill>
                <a:latin typeface="Blackadder ITC"/>
              </a:rPr>
              <a:t>в наст. вр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50920" y="443700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Blackadder ITC"/>
              </a:rPr>
              <a:t> </a:t>
            </a:r>
            <a:r>
              <a:rPr b="1" i="1" lang="en-US" sz="2400" spc="-1" strike="noStrike">
                <a:solidFill>
                  <a:srgbClr val="0066ff"/>
                </a:solidFill>
                <a:latin typeface="Blackadder ITC"/>
              </a:rPr>
              <a:t>во мн. ч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24000" y="472428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в 3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66ff"/>
                </a:solidFill>
                <a:latin typeface="Blackadder ITC"/>
              </a:rPr>
              <a:t>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11280" y="5229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Blackadder ITC"/>
              </a:rPr>
              <a:t>Космонавты (что делают?)   </a:t>
            </a: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Blackadder ITC"/>
              </a:rPr>
              <a:t>вид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00360" y="6021360"/>
            <a:ext cx="86364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6093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00360" y="6093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558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59280" y="5661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БОРТОВОЙ  </a:t>
            </a:r>
            <a:br>
              <a:rPr sz="4000"/>
            </a:b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ЖУРН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979640" y="476280"/>
            <a:ext cx="5545080" cy="6840360"/>
            <a:chOff x="1979640" y="476280"/>
            <a:chExt cx="5545080" cy="6840360"/>
          </a:xfrm>
        </p:grpSpPr>
        <p:grpSp>
          <p:nvGrpSpPr>
            <p:cNvPr id="296" name=""/>
            <p:cNvGrpSpPr/>
            <p:nvPr/>
          </p:nvGrpSpPr>
          <p:grpSpPr>
            <a:xfrm>
              <a:off x="1979640" y="795240"/>
              <a:ext cx="5414760" cy="6521400"/>
              <a:chOff x="1979640" y="795240"/>
              <a:chExt cx="5414760" cy="6521400"/>
            </a:xfrm>
          </p:grpSpPr>
          <p:pic>
            <p:nvPicPr>
              <p:cNvPr id="29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79640" y="2709000"/>
                <a:ext cx="5414760" cy="46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2619360" y="795240"/>
                <a:ext cx="3732480" cy="191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Командир корабл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5392080" y="476280"/>
              <a:ext cx="213264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6351840" y="874800"/>
              <a:ext cx="107496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 txBox="1"/>
            <p:nvPr/>
          </p:nvSpPr>
          <p:spPr>
            <a:xfrm>
              <a:off x="6351840" y="1193760"/>
              <a:ext cx="1057320" cy="33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0000ff"/>
                  </a:solidFill>
                  <a:latin typeface="Impact"/>
                </a:rPr>
                <a:t>ГЛАГОЛ</a:t>
              </a:r>
              <a:endParaRPr b="1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3:28:28Z</dcterms:created>
  <dc:creator>Server</dc:creator>
  <dc:description/>
  <dc:language>en-US</dc:language>
  <cp:lastModifiedBy>Саша</cp:lastModifiedBy>
  <dcterms:modified xsi:type="dcterms:W3CDTF">2009-04-28T18:35:51Z</dcterms:modified>
  <cp:revision>119</cp:revision>
  <dc:subject/>
  <dc:title>Слайд 1</dc:title>
</cp:coreProperties>
</file>