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382-47A1-4F99-BF9A-856C7F37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A4F1-60E2-42DB-BED1-B710B9AC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A6DB-2D01-4316-BE75-BE7E0CB4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3379-A180-4599-8BFB-8E85E6DE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1C08-2DD0-419D-8667-DC55912E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6329-961E-4148-A6C3-232EEF92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7785-DAAE-446A-8150-F9254AE1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40DF-449B-496E-AE21-45AB0D37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E8AD-A438-48A2-A3DA-C2AAB7C0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68DC-B0D0-4513-812D-F8BE7EBF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EEEF-B56D-499E-9B60-B5575430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F232-A72E-457B-9DA4-A8DCC05B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44EA-6205-4412-854A-EE749D64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974F-E34B-41BF-B683-DC4F7B2E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56B5-7D10-4F8F-9E05-2E60C4A2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EBC5-57F4-4594-AD14-6B5A29D7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0621-B3BA-481C-BADF-F193F416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4BA-A59B-4359-AF5C-ACD2FE93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0930-62E3-4CD0-A2E8-978A9145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F12-118E-4022-926B-0E60A149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3240-BD5C-4B9B-82EE-F13D079C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2FD-3EF6-4E22-954F-F34D9EC1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A60-BBA5-4BBC-A7B2-752B3046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85D2-B037-43D0-9F26-F06A7B72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9040"/>
              <a:chOff x="-1080" y="2601000"/>
              <a:chExt cx="268740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560" y="4049640"/>
                <a:ext cx="1832760" cy="1670400"/>
                <a:chOff x="853560" y="4049640"/>
                <a:chExt cx="1832760" cy="16704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9080" y="3931200"/>
                  <a:ext cx="477360" cy="12520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74200" y="4978800"/>
                  <a:ext cx="110520" cy="5137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040" y="5564880"/>
                  <a:ext cx="200880" cy="903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0CD9-5949-4634-A1F7-48550B22EC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19800" y="0"/>
            <a:ext cx="9049680" cy="6858000"/>
            <a:chOff x="-19800" y="0"/>
            <a:chExt cx="904968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85600" y="61920"/>
              <a:ext cx="3644280" cy="6145920"/>
              <a:chOff x="5385600" y="61920"/>
              <a:chExt cx="3644280" cy="61459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76840" y="347760"/>
                <a:ext cx="2120040" cy="23580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10960" y="1970640"/>
                <a:ext cx="9079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18400" y="2589840"/>
                <a:ext cx="44028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6800" y="676800"/>
                <a:ext cx="38988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33400" y="265500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4040" y="1242720"/>
                <a:ext cx="19080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15880" y="2945160"/>
                <a:ext cx="52452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800"/>
              <a:ext cx="51336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7120" y="2000160"/>
              <a:ext cx="200268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404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7400" y="4532040"/>
              <a:ext cx="56304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70080" y="4728960"/>
              <a:ext cx="13824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2880" y="5195880"/>
              <a:ext cx="17622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8720" y="1032840"/>
              <a:ext cx="1017000" cy="1263240"/>
              <a:chOff x="4158720" y="103284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74520" y="1070640"/>
                <a:ext cx="285840" cy="379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9120" y="1603800"/>
                <a:ext cx="488880" cy="315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9120" y="1962360"/>
                <a:ext cx="511200" cy="160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57760"/>
              <a:ext cx="894600" cy="825480"/>
              <a:chOff x="5645520" y="257760"/>
              <a:chExt cx="894600" cy="8254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480" y="751680"/>
                <a:ext cx="179280" cy="362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720" y="432000"/>
                <a:ext cx="306360" cy="301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1040" y="357120"/>
                <a:ext cx="318240" cy="153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920" y="5242320"/>
              <a:ext cx="1060200" cy="830520"/>
              <a:chOff x="970920" y="5242320"/>
              <a:chExt cx="1060200" cy="8305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3960" y="5506920"/>
                <a:ext cx="25164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840" y="5717880"/>
                <a:ext cx="43056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920" y="5367240"/>
                <a:ext cx="45000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6920" y="408960"/>
              <a:ext cx="1693080" cy="1146960"/>
              <a:chOff x="376920" y="408960"/>
              <a:chExt cx="1693080" cy="114696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8960" y="1027080"/>
                <a:ext cx="355680" cy="531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5640" y="552240"/>
                <a:ext cx="608760" cy="441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9720" y="1066680"/>
                <a:ext cx="636120" cy="22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35080" y="3711960"/>
              <a:ext cx="1158120" cy="1608480"/>
              <a:chOff x="7435080" y="3711960"/>
              <a:chExt cx="1158120" cy="160848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89800" y="4756680"/>
                <a:ext cx="356040" cy="530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41600" y="4455720"/>
                <a:ext cx="60948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33800" y="3781080"/>
                <a:ext cx="63720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5720" y="3240"/>
              <a:ext cx="137088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32240" y="160920"/>
              <a:ext cx="1083240" cy="94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5560" y="1361160"/>
              <a:ext cx="524520" cy="4406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7360" y="1281960"/>
              <a:ext cx="19584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9880" y="0"/>
              <a:ext cx="19728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6360" y="1964880"/>
              <a:ext cx="62496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CB8A-2B87-4AC1-8879-DFF9517AF036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6600cc"/>
                </a:solidFill>
                <a:latin typeface="Verdana"/>
              </a:rPr>
              <a:t>Проект </a:t>
            </a:r>
            <a:br>
              <a:rPr sz="6500"/>
            </a:br>
            <a:r>
              <a:rPr b="0" lang="ru-RU" sz="6500" spc="-1" strike="noStrike">
                <a:solidFill>
                  <a:srgbClr val="6600cc"/>
                </a:solidFill>
                <a:latin typeface="Verdana"/>
              </a:rPr>
              <a:t>«Моя малая Родина»</a:t>
            </a:r>
            <a:endParaRPr b="0" lang="en-US" sz="6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257800" y="380520"/>
            <a:ext cx="33782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Verdana"/>
              </a:rPr>
              <a:t>Ученица 1 г класс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Verdana"/>
              </a:rPr>
              <a:t>Хову-Аксынско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Verdana"/>
              </a:rPr>
              <a:t>начальной школ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Verdana"/>
              </a:rPr>
              <a:t>Руководитель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Verdana"/>
              </a:rPr>
              <a:t>Натпит-оол Н.Б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рофессиональное училище №9. 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Тут можно учиться после окончания средней школы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2" descr="H:\sam_0671.jpg"/>
          <p:cNvPicPr/>
          <p:nvPr/>
        </p:nvPicPr>
        <p:blipFill>
          <a:blip r:embed="rId1"/>
          <a:stretch/>
        </p:blipFill>
        <p:spPr>
          <a:xfrm>
            <a:off x="3581280" y="304812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осле уроков дети ходят в музыкальную школу. Ещё в этом здании  есть библиотека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2" name="Picture 2" descr="H:\sam_0651.jpg"/>
          <p:cNvPicPr/>
          <p:nvPr/>
        </p:nvPicPr>
        <p:blipFill>
          <a:blip r:embed="rId1"/>
          <a:stretch/>
        </p:blipFill>
        <p:spPr>
          <a:xfrm>
            <a:off x="3581280" y="22860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В Хову-Аксах есть больница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4" name="Picture 2" descr="H:\sam_0659.jpg"/>
          <p:cNvPicPr/>
          <p:nvPr/>
        </p:nvPicPr>
        <p:blipFill>
          <a:blip r:embed="rId1"/>
          <a:stretch/>
        </p:blipFill>
        <p:spPr>
          <a:xfrm>
            <a:off x="3657600" y="28195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ожарная часть №19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Picture 2" descr="H:\sam_0674.jpg"/>
          <p:cNvPicPr/>
          <p:nvPr/>
        </p:nvPicPr>
        <p:blipFill>
          <a:blip r:embed="rId1"/>
          <a:stretch/>
        </p:blipFill>
        <p:spPr>
          <a:xfrm>
            <a:off x="3429000" y="2438280"/>
            <a:ext cx="2782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Милиция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8" name="Picture 2" descr="H:\sam_0669.jpg"/>
          <p:cNvPicPr/>
          <p:nvPr/>
        </p:nvPicPr>
        <p:blipFill>
          <a:blip r:embed="rId1"/>
          <a:stretch/>
        </p:blipFill>
        <p:spPr>
          <a:xfrm>
            <a:off x="3429000" y="2514600"/>
            <a:ext cx="23605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Гости  и жители посёлка могут покушать в столовой,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0" name="Picture 2" descr="H:\sam_0649.jpg"/>
          <p:cNvPicPr/>
          <p:nvPr/>
        </p:nvPicPr>
        <p:blipFill>
          <a:blip r:embed="rId1"/>
          <a:stretch/>
        </p:blipFill>
        <p:spPr>
          <a:xfrm>
            <a:off x="3200400" y="272268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культурно отдохнуть в ДК «Танды-Уула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2" name="Picture 2" descr="H:\sam_0650.jpg"/>
          <p:cNvPicPr/>
          <p:nvPr/>
        </p:nvPicPr>
        <p:blipFill>
          <a:blip r:embed="rId1"/>
          <a:stretch/>
        </p:blipFill>
        <p:spPr>
          <a:xfrm>
            <a:off x="3733920" y="2743200"/>
            <a:ext cx="238428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опариться в бане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4" name="Picture 2" descr="H:\sam_0673.jpg"/>
          <p:cNvPicPr/>
          <p:nvPr/>
        </p:nvPicPr>
        <p:blipFill>
          <a:blip r:embed="rId1"/>
          <a:stretch/>
        </p:blipFill>
        <p:spPr>
          <a:xfrm>
            <a:off x="3429000" y="28954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Для гостей работает гостиница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6" name="Picture 2" descr="H:\sam_0666.jpg"/>
          <p:cNvPicPr/>
          <p:nvPr/>
        </p:nvPicPr>
        <p:blipFill>
          <a:blip r:embed="rId1"/>
          <a:stretch/>
        </p:blipFill>
        <p:spPr>
          <a:xfrm>
            <a:off x="3581280" y="3200400"/>
            <a:ext cx="218124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Лекарства можно купить в аптеке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8" name="Picture 2" descr="H:\sam_0670.jpg"/>
          <p:cNvPicPr/>
          <p:nvPr/>
        </p:nvPicPr>
        <p:blipFill>
          <a:blip r:embed="rId1"/>
          <a:stretch/>
        </p:blipFill>
        <p:spPr>
          <a:xfrm>
            <a:off x="3429000" y="2971800"/>
            <a:ext cx="21844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33520" y="9907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ль проекта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здать диск о своей малой Родин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адача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знакомиться  с важными объектами поселка Хову-Акс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А если ваши домашние животные заболели, вам помогут тут. Это ветеринарная инспекция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Picture 2" descr="H:\sam_0685.jpg"/>
          <p:cNvPicPr/>
          <p:nvPr/>
        </p:nvPicPr>
        <p:blipFill>
          <a:blip r:embed="rId1"/>
          <a:stretch/>
        </p:blipFill>
        <p:spPr>
          <a:xfrm>
            <a:off x="3505320" y="27432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Кожуунная и сумонная администрации. 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2" name="Picture 2" descr="H:\sam_0653.jpg"/>
          <p:cNvPicPr/>
          <p:nvPr/>
        </p:nvPicPr>
        <p:blipFill>
          <a:blip r:embed="rId1"/>
          <a:stretch/>
        </p:blipFill>
        <p:spPr>
          <a:xfrm>
            <a:off x="1905120" y="2895480"/>
            <a:ext cx="2109600" cy="1981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H:\sam_0657.jpg"/>
          <p:cNvPicPr/>
          <p:nvPr/>
        </p:nvPicPr>
        <p:blipFill>
          <a:blip r:embed="rId2"/>
          <a:stretch/>
        </p:blipFill>
        <p:spPr>
          <a:xfrm>
            <a:off x="5486400" y="2743200"/>
            <a:ext cx="225576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Этот красивый дом -  пенсионный фонд. Тут назначают пенсию нашим бабушкам и дедушкам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5" name="Picture 2" descr="H:\sam_0682.jpg"/>
          <p:cNvPicPr/>
          <p:nvPr/>
        </p:nvPicPr>
        <p:blipFill>
          <a:blip r:embed="rId1"/>
          <a:stretch/>
        </p:blipFill>
        <p:spPr>
          <a:xfrm>
            <a:off x="3276720" y="2666880"/>
            <a:ext cx="3046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Свои услуги оказывают два банка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7" name="Picture 2" descr="H:\sam_0655.jpg"/>
          <p:cNvPicPr/>
          <p:nvPr/>
        </p:nvPicPr>
        <p:blipFill>
          <a:blip r:embed="rId1"/>
          <a:stretch/>
        </p:blipFill>
        <p:spPr>
          <a:xfrm>
            <a:off x="1676520" y="2895480"/>
            <a:ext cx="2057400" cy="1886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H:\sam_0656.jpg"/>
          <p:cNvPicPr/>
          <p:nvPr/>
        </p:nvPicPr>
        <p:blipFill>
          <a:blip r:embed="rId2"/>
          <a:stretch/>
        </p:blipFill>
        <p:spPr>
          <a:xfrm>
            <a:off x="5105520" y="3124080"/>
            <a:ext cx="19191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Универмаг переименовали в «Престиж». Тут есть столовая, киоски, почта. 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0" name="Picture 4" descr="H:\sam_0667.jpg"/>
          <p:cNvPicPr/>
          <p:nvPr/>
        </p:nvPicPr>
        <p:blipFill>
          <a:blip r:embed="rId1"/>
          <a:stretch/>
        </p:blipFill>
        <p:spPr>
          <a:xfrm>
            <a:off x="3429000" y="2666880"/>
            <a:ext cx="238428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Здание суда и  налоговой инспекции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2" name="Picture 2" descr="H:\sam_0658.jpg"/>
          <p:cNvPicPr/>
          <p:nvPr/>
        </p:nvPicPr>
        <p:blipFill>
          <a:blip r:embed="rId1"/>
          <a:stretch/>
        </p:blipFill>
        <p:spPr>
          <a:xfrm>
            <a:off x="1143000" y="2666880"/>
            <a:ext cx="1981080" cy="1960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:\sam_0687.jpg"/>
          <p:cNvPicPr/>
          <p:nvPr/>
        </p:nvPicPr>
        <p:blipFill>
          <a:blip r:embed="rId2"/>
          <a:stretch/>
        </p:blipFill>
        <p:spPr>
          <a:xfrm>
            <a:off x="5257800" y="2666880"/>
            <a:ext cx="205740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Раньше дома были деревянными, а теперь их покрывают  яркими, красивыми материалами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5" name="Picture 4" descr="F:\DCIM\100PHOTO\SAM_0665.JPG"/>
          <p:cNvPicPr/>
          <p:nvPr/>
        </p:nvPicPr>
        <p:blipFill>
          <a:blip r:embed="rId1"/>
          <a:stretch/>
        </p:blipFill>
        <p:spPr>
          <a:xfrm>
            <a:off x="5638680" y="3048120"/>
            <a:ext cx="1752840" cy="1587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Администратор\Мои документы\ННБ\фото хову-аксы\SAM_0660.JPG"/>
          <p:cNvPicPr/>
          <p:nvPr/>
        </p:nvPicPr>
        <p:blipFill>
          <a:blip r:embed="rId2"/>
          <a:stretch/>
        </p:blipFill>
        <p:spPr>
          <a:xfrm>
            <a:off x="1752480" y="2971800"/>
            <a:ext cx="18669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роцветай, моя малая Родина!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8" name="Picture 2" descr="H:\sam_0658.jpg"/>
          <p:cNvPicPr/>
          <p:nvPr/>
        </p:nvPicPr>
        <p:blipFill>
          <a:blip r:embed="rId1"/>
          <a:stretch/>
        </p:blipFill>
        <p:spPr>
          <a:xfrm>
            <a:off x="6477120" y="1981080"/>
            <a:ext cx="1577880" cy="1562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F:\DCIM\100PHOTO\SAM_0665.JPG"/>
          <p:cNvPicPr/>
          <p:nvPr/>
        </p:nvPicPr>
        <p:blipFill>
          <a:blip r:embed="rId2"/>
          <a:stretch/>
        </p:blipFill>
        <p:spPr>
          <a:xfrm>
            <a:off x="380880" y="1803240"/>
            <a:ext cx="1752840" cy="1671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:\sam_0682.jpg"/>
          <p:cNvPicPr/>
          <p:nvPr/>
        </p:nvPicPr>
        <p:blipFill>
          <a:blip r:embed="rId3"/>
          <a:stretch/>
        </p:blipFill>
        <p:spPr>
          <a:xfrm>
            <a:off x="3124080" y="19414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F:\DCIM\100PHOTO\SAM_0691.JPG"/>
          <p:cNvPicPr/>
          <p:nvPr/>
        </p:nvPicPr>
        <p:blipFill>
          <a:blip r:embed="rId4"/>
          <a:stretch/>
        </p:blipFill>
        <p:spPr>
          <a:xfrm>
            <a:off x="6323040" y="44956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F:\DCIM\100PHOTO\SAM_0692.JPG"/>
          <p:cNvPicPr/>
          <p:nvPr/>
        </p:nvPicPr>
        <p:blipFill>
          <a:blip r:embed="rId5"/>
          <a:stretch/>
        </p:blipFill>
        <p:spPr>
          <a:xfrm>
            <a:off x="3200400" y="4495680"/>
            <a:ext cx="2208240" cy="1657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F:\DCIM\100PHOTO\SAM_0694.JPG"/>
          <p:cNvPicPr/>
          <p:nvPr/>
        </p:nvPicPr>
        <p:blipFill>
          <a:blip r:embed="rId6"/>
          <a:stretch/>
        </p:blipFill>
        <p:spPr>
          <a:xfrm>
            <a:off x="304920" y="4419720"/>
            <a:ext cx="2017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99"/>
                </a:solidFill>
                <a:latin typeface="Verdana"/>
              </a:rPr>
              <a:t>Спасибо 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99"/>
                </a:solidFill>
                <a:latin typeface="Verdana"/>
              </a:rPr>
              <a:t>за внимание!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Verdana"/>
              </a:rPr>
              <a:t>Тожулук Соланг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8" descr="DSC00039"/>
          <p:cNvPicPr/>
          <p:nvPr/>
        </p:nvPicPr>
        <p:blipFill>
          <a:blip r:embed="rId1"/>
          <a:stretch/>
        </p:blipFill>
        <p:spPr>
          <a:xfrm>
            <a:off x="1676520" y="2575080"/>
            <a:ext cx="1828800" cy="2268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DSC00633"/>
          <p:cNvPicPr/>
          <p:nvPr/>
        </p:nvPicPr>
        <p:blipFill>
          <a:blip r:embed="rId2"/>
          <a:stretch/>
        </p:blipFill>
        <p:spPr>
          <a:xfrm>
            <a:off x="5943600" y="2743200"/>
            <a:ext cx="1770120" cy="21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6840" y="6094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селок основан в 1953г., чуть севернее реки Элегест, в красивом месте у высоких скал. В советские времена он был поселком металлургов и горняков. С 1993 года п.Хову-Аксы стал районным центром Чеди-Хольского кожуун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районном центре находятся все важные объект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440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В нем есть двухэтажные и четырёхэтажные дома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Picture 2" descr="H:\sam_0665.jpg"/>
          <p:cNvPicPr/>
          <p:nvPr/>
        </p:nvPicPr>
        <p:blipFill>
          <a:blip r:embed="rId1"/>
          <a:stretch/>
        </p:blipFill>
        <p:spPr>
          <a:xfrm>
            <a:off x="914400" y="2982960"/>
            <a:ext cx="1828800" cy="1652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H:\sam_0662.jpg"/>
          <p:cNvPicPr/>
          <p:nvPr/>
        </p:nvPicPr>
        <p:blipFill>
          <a:blip r:embed="rId2"/>
          <a:stretch/>
        </p:blipFill>
        <p:spPr>
          <a:xfrm>
            <a:off x="5257800" y="3048120"/>
            <a:ext cx="19051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Детские сады: Светлячок, Дюймовочка и Солнышко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0" name="Picture 2" descr="H:\sam_0664.jpg"/>
          <p:cNvPicPr/>
          <p:nvPr/>
        </p:nvPicPr>
        <p:blipFill>
          <a:blip r:embed="rId1"/>
          <a:stretch/>
        </p:blipFill>
        <p:spPr>
          <a:xfrm>
            <a:off x="914400" y="2643120"/>
            <a:ext cx="1523880" cy="150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:\sam_0681.jpg"/>
          <p:cNvPicPr/>
          <p:nvPr/>
        </p:nvPicPr>
        <p:blipFill>
          <a:blip r:embed="rId2"/>
          <a:stretch/>
        </p:blipFill>
        <p:spPr>
          <a:xfrm>
            <a:off x="5029200" y="2895480"/>
            <a:ext cx="1536840" cy="1447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F:\DCIM\100PHOTO\SAM_0689.JPG"/>
          <p:cNvPicPr/>
          <p:nvPr/>
        </p:nvPicPr>
        <p:blipFill>
          <a:blip r:embed="rId3"/>
          <a:stretch/>
        </p:blipFill>
        <p:spPr>
          <a:xfrm>
            <a:off x="2666880" y="4800600"/>
            <a:ext cx="20196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Это здание Управления образованием, там же находится и вечерняя школа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4" name="Picture 2" descr="H:\sam_0654.jpg"/>
          <p:cNvPicPr/>
          <p:nvPr/>
        </p:nvPicPr>
        <p:blipFill>
          <a:blip r:embed="rId1"/>
          <a:stretch/>
        </p:blipFill>
        <p:spPr>
          <a:xfrm>
            <a:off x="3429000" y="2590920"/>
            <a:ext cx="2386080" cy="17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Наша любимая начальная школа. 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Тут учатся дети с 1 по 4 классы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6" name="Picture 3" descr="H:\sam_0648.jpg"/>
          <p:cNvPicPr/>
          <p:nvPr/>
        </p:nvPicPr>
        <p:blipFill>
          <a:blip r:embed="rId1"/>
          <a:stretch/>
        </p:blipFill>
        <p:spPr>
          <a:xfrm>
            <a:off x="3276720" y="2627280"/>
            <a:ext cx="205740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А это средняя школа. Там мы будем учиться с пятого класса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8" name="Picture 2" descr="H:\sam_0676.jpg"/>
          <p:cNvPicPr/>
          <p:nvPr/>
        </p:nvPicPr>
        <p:blipFill>
          <a:blip r:embed="rId1"/>
          <a:stretch/>
        </p:blipFill>
        <p:spPr>
          <a:xfrm>
            <a:off x="3048120" y="2743200"/>
            <a:ext cx="360360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3-02-28T04:17:19Z</dcterms:modified>
  <cp:revision>1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