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B7D-A45D-42E3-AFD2-A3C18838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4EF-E25F-4772-AD8A-19C743F0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A94-228E-439F-BB14-E0CEBFBC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648-3424-4B51-839E-3B4B8FE6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35E-F689-4F24-B86E-B440172B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5853-E759-491E-8B70-20487A1B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2F1B-5C84-472C-8439-BFF76FDA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4CB2-506B-48F7-BBE5-51A056DB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AAD7-BBB4-41AA-9594-7341B6F3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FD44-0094-4354-9DF0-BAE5ABAF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7374-B397-4E5A-BB1C-84E693F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8DA-48FB-4EEC-8AF0-1F8BAE8A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9110-CF4F-4302-91AD-011EEDB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8106-2C05-4637-841B-E5E8CC87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7299-6A93-489C-B754-71B7AD33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BCE1-8125-466D-9321-1FCA3D36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27C6-F218-4024-B508-26FC3B5E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A2D-0CB2-47F9-9EFB-988BC335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9F6-AB63-492E-A8D4-72E2AF5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712-7890-496D-89E6-F612A7BF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CC9-9304-4F1F-9665-88B6666E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222-CE70-4D22-9AA3-921F446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320-50ED-46DF-8096-AA58064E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A97-FCEA-4F0B-9401-AE176F1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9640"/>
                <a:ext cx="1832760" cy="1670400"/>
                <a:chOff x="853560" y="4049640"/>
                <a:chExt cx="1832760" cy="16704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080" y="3931200"/>
                  <a:ext cx="477360" cy="1252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4200" y="4978800"/>
                  <a:ext cx="110520" cy="513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B254-B179-4E47-9C73-9F66D2E0C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5600" y="61920"/>
              <a:ext cx="3644280" cy="6145920"/>
              <a:chOff x="5385600" y="61920"/>
              <a:chExt cx="3644280" cy="614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760"/>
                <a:ext cx="2120040" cy="2358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0960" y="1970640"/>
                <a:ext cx="9079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400" y="2589840"/>
                <a:ext cx="44028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80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3400" y="265500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272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5880" y="2945160"/>
                <a:ext cx="52452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26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0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304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08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2880" y="5195880"/>
              <a:ext cx="17622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8720" y="1032840"/>
              <a:ext cx="1017000" cy="1263240"/>
              <a:chOff x="4158720" y="103284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4520" y="1070640"/>
                <a:ext cx="285840" cy="379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9120" y="1603800"/>
                <a:ext cx="488880" cy="31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9120" y="196236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7760"/>
              <a:ext cx="894600" cy="825480"/>
              <a:chOff x="5645520" y="257760"/>
              <a:chExt cx="8946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516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720" y="432000"/>
                <a:ext cx="306360" cy="30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7120"/>
                <a:ext cx="31824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920" y="5242320"/>
              <a:ext cx="1060200" cy="830520"/>
              <a:chOff x="970920" y="5242320"/>
              <a:chExt cx="106020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92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840" y="5717880"/>
                <a:ext cx="43056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67240"/>
                <a:ext cx="4500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8960"/>
              <a:ext cx="1693080" cy="1146960"/>
              <a:chOff x="376920" y="408960"/>
              <a:chExt cx="169308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960" y="1027080"/>
                <a:ext cx="35568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640" y="552240"/>
                <a:ext cx="608760" cy="44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6668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35080" y="3711960"/>
              <a:ext cx="1158120" cy="1608480"/>
              <a:chOff x="7435080" y="3711960"/>
              <a:chExt cx="115812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89800" y="4756680"/>
                <a:ext cx="35604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1600" y="4455720"/>
                <a:ext cx="60948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33800" y="3781080"/>
                <a:ext cx="63720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5720" y="3240"/>
              <a:ext cx="13708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2240" y="160920"/>
              <a:ext cx="1083240" cy="94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5560" y="1361160"/>
              <a:ext cx="52452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736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98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360" y="1964880"/>
              <a:ext cx="62496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DBA2-F972-450C-8102-B61876CF57D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6600cc"/>
                </a:solidFill>
                <a:latin typeface="Verdana"/>
              </a:rPr>
              <a:t>Проект </a:t>
            </a:r>
            <a:br>
              <a:rPr sz="6500"/>
            </a:br>
            <a:r>
              <a:rPr b="0" lang="ru-RU" sz="6500" spc="-1" strike="noStrike">
                <a:solidFill>
                  <a:srgbClr val="6600cc"/>
                </a:solidFill>
                <a:latin typeface="Verdana"/>
              </a:rPr>
              <a:t>«Моя малая Родина»</a:t>
            </a:r>
            <a:endParaRPr b="0" lang="en-US" sz="6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257800" y="380520"/>
            <a:ext cx="33782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Ученица 1 г клас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Хову-Аксынско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начальной школ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Руководитель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Натпит-оол Н.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рофессиональное училище №9.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ут можно учиться после окончания средней школы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2" descr="H:\sam_0671.jpg"/>
          <p:cNvPicPr/>
          <p:nvPr/>
        </p:nvPicPr>
        <p:blipFill>
          <a:blip r:embed="rId1"/>
          <a:stretch/>
        </p:blipFill>
        <p:spPr>
          <a:xfrm>
            <a:off x="3581280" y="30481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сле уроков дети ходят в музыкальную школу. Ещё в этом здании  есть библиотек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Picture 2" descr="H:\sam_0651.jpg"/>
          <p:cNvPicPr/>
          <p:nvPr/>
        </p:nvPicPr>
        <p:blipFill>
          <a:blip r:embed="rId1"/>
          <a:stretch/>
        </p:blipFill>
        <p:spPr>
          <a:xfrm>
            <a:off x="3581280" y="2286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В Хову-Аксах есть больница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Picture 2" descr="H:\sam_0659.jpg"/>
          <p:cNvPicPr/>
          <p:nvPr/>
        </p:nvPicPr>
        <p:blipFill>
          <a:blip r:embed="rId1"/>
          <a:stretch/>
        </p:blipFill>
        <p:spPr>
          <a:xfrm>
            <a:off x="3657600" y="28195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жарная часть №19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2" descr="H:\sam_0674.jpg"/>
          <p:cNvPicPr/>
          <p:nvPr/>
        </p:nvPicPr>
        <p:blipFill>
          <a:blip r:embed="rId1"/>
          <a:stretch/>
        </p:blipFill>
        <p:spPr>
          <a:xfrm>
            <a:off x="3429000" y="2438280"/>
            <a:ext cx="2782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Милиц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Picture 2" descr="H:\sam_0669.jpg"/>
          <p:cNvPicPr/>
          <p:nvPr/>
        </p:nvPicPr>
        <p:blipFill>
          <a:blip r:embed="rId1"/>
          <a:stretch/>
        </p:blipFill>
        <p:spPr>
          <a:xfrm>
            <a:off x="3429000" y="2514600"/>
            <a:ext cx="2360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Гости  и жители посёлка могут покушать в столовой,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Picture 2" descr="H:\sam_0649.jpg"/>
          <p:cNvPicPr/>
          <p:nvPr/>
        </p:nvPicPr>
        <p:blipFill>
          <a:blip r:embed="rId1"/>
          <a:stretch/>
        </p:blipFill>
        <p:spPr>
          <a:xfrm>
            <a:off x="3200400" y="2722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культурно отдохнуть в ДК «Танды-Уула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Picture 2" descr="H:\sam_0650.jpg"/>
          <p:cNvPicPr/>
          <p:nvPr/>
        </p:nvPicPr>
        <p:blipFill>
          <a:blip r:embed="rId1"/>
          <a:stretch/>
        </p:blipFill>
        <p:spPr>
          <a:xfrm>
            <a:off x="3733920" y="2743200"/>
            <a:ext cx="23842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париться в бане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Picture 2" descr="H:\sam_0673.jpg"/>
          <p:cNvPicPr/>
          <p:nvPr/>
        </p:nvPicPr>
        <p:blipFill>
          <a:blip r:embed="rId1"/>
          <a:stretch/>
        </p:blipFill>
        <p:spPr>
          <a:xfrm>
            <a:off x="3429000" y="28954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ля гостей работает гостиниц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Picture 2" descr="H:\sam_0666.jpg"/>
          <p:cNvPicPr/>
          <p:nvPr/>
        </p:nvPicPr>
        <p:blipFill>
          <a:blip r:embed="rId1"/>
          <a:stretch/>
        </p:blipFill>
        <p:spPr>
          <a:xfrm>
            <a:off x="3581280" y="3200400"/>
            <a:ext cx="218124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Лекарства можно купить в аптеке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8" name="Picture 2" descr="H:\sam_0670.jpg"/>
          <p:cNvPicPr/>
          <p:nvPr/>
        </p:nvPicPr>
        <p:blipFill>
          <a:blip r:embed="rId1"/>
          <a:stretch/>
        </p:blipFill>
        <p:spPr>
          <a:xfrm>
            <a:off x="3429000" y="2971800"/>
            <a:ext cx="2184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3520" y="990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 проект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здать диск о своей малой Родин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ч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знакомиться  с важными объектами поселка Хову-Акс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А если ваши домашние животные заболели, вам помогут тут. Это ветеринарная инспекц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Picture 2" descr="H:\sam_0685.jpg"/>
          <p:cNvPicPr/>
          <p:nvPr/>
        </p:nvPicPr>
        <p:blipFill>
          <a:blip r:embed="rId1"/>
          <a:stretch/>
        </p:blipFill>
        <p:spPr>
          <a:xfrm>
            <a:off x="3505320" y="27432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Кожуунная и сумонная администрации.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2" descr="H:\sam_0653.jpg"/>
          <p:cNvPicPr/>
          <p:nvPr/>
        </p:nvPicPr>
        <p:blipFill>
          <a:blip r:embed="rId1"/>
          <a:stretch/>
        </p:blipFill>
        <p:spPr>
          <a:xfrm>
            <a:off x="1905120" y="2895480"/>
            <a:ext cx="2109600" cy="1981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:\sam_0657.jpg"/>
          <p:cNvPicPr/>
          <p:nvPr/>
        </p:nvPicPr>
        <p:blipFill>
          <a:blip r:embed="rId2"/>
          <a:stretch/>
        </p:blipFill>
        <p:spPr>
          <a:xfrm>
            <a:off x="5486400" y="2743200"/>
            <a:ext cx="22557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Этот красивый дом -  пенсионный фонд. Тут назначают пенсию нашим бабушкам и дедушкам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5" name="Picture 2" descr="H:\sam_0682.jpg"/>
          <p:cNvPicPr/>
          <p:nvPr/>
        </p:nvPicPr>
        <p:blipFill>
          <a:blip r:embed="rId1"/>
          <a:stretch/>
        </p:blipFill>
        <p:spPr>
          <a:xfrm>
            <a:off x="3276720" y="2666880"/>
            <a:ext cx="3046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Свои услуги оказывают два банк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7" name="Picture 2" descr="H:\sam_0655.jpg"/>
          <p:cNvPicPr/>
          <p:nvPr/>
        </p:nvPicPr>
        <p:blipFill>
          <a:blip r:embed="rId1"/>
          <a:stretch/>
        </p:blipFill>
        <p:spPr>
          <a:xfrm>
            <a:off x="1676520" y="2895480"/>
            <a:ext cx="2057400" cy="188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sam_0656.jpg"/>
          <p:cNvPicPr/>
          <p:nvPr/>
        </p:nvPicPr>
        <p:blipFill>
          <a:blip r:embed="rId2"/>
          <a:stretch/>
        </p:blipFill>
        <p:spPr>
          <a:xfrm>
            <a:off x="5105520" y="3124080"/>
            <a:ext cx="19191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Универмаг переименовали в «Престиж». Тут есть столовая, киоски, почта.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0" name="Picture 4" descr="H:\sam_0667.jpg"/>
          <p:cNvPicPr/>
          <p:nvPr/>
        </p:nvPicPr>
        <p:blipFill>
          <a:blip r:embed="rId1"/>
          <a:stretch/>
        </p:blipFill>
        <p:spPr>
          <a:xfrm>
            <a:off x="3429000" y="2666880"/>
            <a:ext cx="23842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Здание суда и  налоговой инспекции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2" name="Picture 2" descr="H:\sam_0658.jpg"/>
          <p:cNvPicPr/>
          <p:nvPr/>
        </p:nvPicPr>
        <p:blipFill>
          <a:blip r:embed="rId1"/>
          <a:stretch/>
        </p:blipFill>
        <p:spPr>
          <a:xfrm>
            <a:off x="1143000" y="2666880"/>
            <a:ext cx="1981080" cy="1960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:\sam_0687.jpg"/>
          <p:cNvPicPr/>
          <p:nvPr/>
        </p:nvPicPr>
        <p:blipFill>
          <a:blip r:embed="rId2"/>
          <a:stretch/>
        </p:blipFill>
        <p:spPr>
          <a:xfrm>
            <a:off x="5257800" y="2666880"/>
            <a:ext cx="205740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аньше дома были деревянными, а теперь их покрывают  яркими, красивыми материалами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5" name="Picture 4" descr="F:\DCIM\100PHOTO\SAM_0665.JPG"/>
          <p:cNvPicPr/>
          <p:nvPr/>
        </p:nvPicPr>
        <p:blipFill>
          <a:blip r:embed="rId1"/>
          <a:stretch/>
        </p:blipFill>
        <p:spPr>
          <a:xfrm>
            <a:off x="5638680" y="3048120"/>
            <a:ext cx="1752840" cy="1587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Администратор\Мои документы\ННБ\фото хову-аксы\SAM_0660.JPG"/>
          <p:cNvPicPr/>
          <p:nvPr/>
        </p:nvPicPr>
        <p:blipFill>
          <a:blip r:embed="rId2"/>
          <a:stretch/>
        </p:blipFill>
        <p:spPr>
          <a:xfrm>
            <a:off x="1752480" y="2971800"/>
            <a:ext cx="18669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роцветай, моя малая Родина!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" name="Picture 2" descr="H:\sam_0658.jpg"/>
          <p:cNvPicPr/>
          <p:nvPr/>
        </p:nvPicPr>
        <p:blipFill>
          <a:blip r:embed="rId1"/>
          <a:stretch/>
        </p:blipFill>
        <p:spPr>
          <a:xfrm>
            <a:off x="6477120" y="1981080"/>
            <a:ext cx="1577880" cy="1562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F:\DCIM\100PHOTO\SAM_0665.JPG"/>
          <p:cNvPicPr/>
          <p:nvPr/>
        </p:nvPicPr>
        <p:blipFill>
          <a:blip r:embed="rId2"/>
          <a:stretch/>
        </p:blipFill>
        <p:spPr>
          <a:xfrm>
            <a:off x="380880" y="1803240"/>
            <a:ext cx="1752840" cy="167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:\sam_0682.jpg"/>
          <p:cNvPicPr/>
          <p:nvPr/>
        </p:nvPicPr>
        <p:blipFill>
          <a:blip r:embed="rId3"/>
          <a:stretch/>
        </p:blipFill>
        <p:spPr>
          <a:xfrm>
            <a:off x="3124080" y="19414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F:\DCIM\100PHOTO\SAM_0691.JPG"/>
          <p:cNvPicPr/>
          <p:nvPr/>
        </p:nvPicPr>
        <p:blipFill>
          <a:blip r:embed="rId4"/>
          <a:stretch/>
        </p:blipFill>
        <p:spPr>
          <a:xfrm>
            <a:off x="6323040" y="44956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F:\DCIM\100PHOTO\SAM_0692.JPG"/>
          <p:cNvPicPr/>
          <p:nvPr/>
        </p:nvPicPr>
        <p:blipFill>
          <a:blip r:embed="rId5"/>
          <a:stretch/>
        </p:blipFill>
        <p:spPr>
          <a:xfrm>
            <a:off x="3200400" y="4495680"/>
            <a:ext cx="2208240" cy="1657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F:\DCIM\100PHOTO\SAM_0694.JPG"/>
          <p:cNvPicPr/>
          <p:nvPr/>
        </p:nvPicPr>
        <p:blipFill>
          <a:blip r:embed="rId6"/>
          <a:stretch/>
        </p:blipFill>
        <p:spPr>
          <a:xfrm>
            <a:off x="304920" y="4419720"/>
            <a:ext cx="2017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99"/>
                </a:solidFill>
                <a:latin typeface="Verdana"/>
              </a:rPr>
              <a:t>Спасибо 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99"/>
                </a:solidFill>
                <a:latin typeface="Verdana"/>
              </a:rPr>
              <a:t>за внимание!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Verdana"/>
              </a:rPr>
              <a:t>Тожулук Соланг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8" descr="DSC00039"/>
          <p:cNvPicPr/>
          <p:nvPr/>
        </p:nvPicPr>
        <p:blipFill>
          <a:blip r:embed="rId1"/>
          <a:stretch/>
        </p:blipFill>
        <p:spPr>
          <a:xfrm>
            <a:off x="1676520" y="2575080"/>
            <a:ext cx="1828800" cy="2268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DSC00633"/>
          <p:cNvPicPr/>
          <p:nvPr/>
        </p:nvPicPr>
        <p:blipFill>
          <a:blip r:embed="rId2"/>
          <a:stretch/>
        </p:blipFill>
        <p:spPr>
          <a:xfrm>
            <a:off x="5943600" y="2743200"/>
            <a:ext cx="17701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6840" y="609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елок основан в 1953г., чуть севернее реки Элегест, в красивом месте у высоких скал. В советские времена он был поселком металлургов и горняков. С 1993 года п.Хову-Аксы стал районным центром Чеди-Хольского кожуун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районном центре находятся все важные объек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440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В нем есть двухэтажные и четырёхэтажные дом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2" descr="H:\sam_0665.jpg"/>
          <p:cNvPicPr/>
          <p:nvPr/>
        </p:nvPicPr>
        <p:blipFill>
          <a:blip r:embed="rId1"/>
          <a:stretch/>
        </p:blipFill>
        <p:spPr>
          <a:xfrm>
            <a:off x="914400" y="2982960"/>
            <a:ext cx="1828800" cy="1652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H:\sam_0662.jpg"/>
          <p:cNvPicPr/>
          <p:nvPr/>
        </p:nvPicPr>
        <p:blipFill>
          <a:blip r:embed="rId2"/>
          <a:stretch/>
        </p:blipFill>
        <p:spPr>
          <a:xfrm>
            <a:off x="5257800" y="3048120"/>
            <a:ext cx="1905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етские сады: Светлячок, Дюймовочка и Солнышко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2" descr="H:\sam_0664.jpg"/>
          <p:cNvPicPr/>
          <p:nvPr/>
        </p:nvPicPr>
        <p:blipFill>
          <a:blip r:embed="rId1"/>
          <a:stretch/>
        </p:blipFill>
        <p:spPr>
          <a:xfrm>
            <a:off x="914400" y="2643120"/>
            <a:ext cx="1523880" cy="150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:\sam_0681.jpg"/>
          <p:cNvPicPr/>
          <p:nvPr/>
        </p:nvPicPr>
        <p:blipFill>
          <a:blip r:embed="rId2"/>
          <a:stretch/>
        </p:blipFill>
        <p:spPr>
          <a:xfrm>
            <a:off x="5029200" y="2895480"/>
            <a:ext cx="1536840" cy="1447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F:\DCIM\100PHOTO\SAM_0689.JPG"/>
          <p:cNvPicPr/>
          <p:nvPr/>
        </p:nvPicPr>
        <p:blipFill>
          <a:blip r:embed="rId3"/>
          <a:stretch/>
        </p:blipFill>
        <p:spPr>
          <a:xfrm>
            <a:off x="2666880" y="4800600"/>
            <a:ext cx="20196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Это здание Управления образованием, там же находится и вечерняя школ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2" descr="H:\sam_0654.jpg"/>
          <p:cNvPicPr/>
          <p:nvPr/>
        </p:nvPicPr>
        <p:blipFill>
          <a:blip r:embed="rId1"/>
          <a:stretch/>
        </p:blipFill>
        <p:spPr>
          <a:xfrm>
            <a:off x="3429000" y="2590920"/>
            <a:ext cx="238608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Наша любимая начальная школа.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ут учатся дети с 1 по 4 классы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3" descr="H:\sam_0648.jpg"/>
          <p:cNvPicPr/>
          <p:nvPr/>
        </p:nvPicPr>
        <p:blipFill>
          <a:blip r:embed="rId1"/>
          <a:stretch/>
        </p:blipFill>
        <p:spPr>
          <a:xfrm>
            <a:off x="3276720" y="2627280"/>
            <a:ext cx="20574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А это средняя школа. Там мы будем учиться с пятого класс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2" descr="H:\sam_0676.jpg"/>
          <p:cNvPicPr/>
          <p:nvPr/>
        </p:nvPicPr>
        <p:blipFill>
          <a:blip r:embed="rId1"/>
          <a:stretch/>
        </p:blipFill>
        <p:spPr>
          <a:xfrm>
            <a:off x="3048120" y="2743200"/>
            <a:ext cx="36036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3-02-28T04:17:19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