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60F-258E-48DD-9E3B-6C8FBC6A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842-AEBA-408E-9CD3-009A3138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1E1-5857-43ED-A3A1-1B401578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0EB-3B5D-4A4F-B2CB-90D5D83D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9EC8-6E88-455F-8B77-2E69D947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21AF-CB01-48E1-9618-A06825B3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4F2F-0F3C-4981-82CD-9800389F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29D1-A41E-4383-89AB-54FE478B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95DF-4448-4325-AC42-A36F62C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8828-C50A-4B6C-B772-566901AA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0E8A-63EC-452D-82EA-E495FF62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008-495E-47DA-B02D-E3E8B414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8219-E187-407D-90D5-94447054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2365-E7DE-485F-8409-07E31682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410E-FA5F-42DB-B18B-971FF812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62E5-4941-4E0C-966D-6201DA14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20F9-3EC3-4A5B-8C4C-A15F57BD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246-1276-4D0D-B48E-7FC1BA12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47C-D890-4D4D-A8A7-ED1587E9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F39-6B13-49F4-ADA6-26BEC4EE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652-B10A-450D-A644-A8003175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6F6-D65C-4B22-8DD5-4C4147A1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8F6-080A-4CD4-8E6B-0B5CFE1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697-6C4F-4C01-B824-142BDE80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A247-A5A4-44AA-8514-05D6964372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DFF-5943-49EE-AEB8-F8BC7F5370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301680" y="106200"/>
            <a:ext cx="851040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b7e7ff"/>
                </a:solidFill>
                <a:latin typeface="Arial"/>
              </a:rPr>
              <a:t>Управление образованием Чеди-Хольского кожууна </a:t>
            </a:r>
            <a:br>
              <a:rPr sz="2000"/>
            </a:br>
            <a:r>
              <a:rPr b="0" lang="en-GB" sz="2000" spc="-1" strike="noStrike">
                <a:solidFill>
                  <a:srgbClr val="b7e7ff"/>
                </a:solidFill>
                <a:latin typeface="Arial"/>
              </a:rPr>
              <a:t>Республики Тыва</a:t>
            </a:r>
            <a:br>
              <a:rPr sz="2000"/>
            </a:br>
            <a:r>
              <a:rPr b="0" lang="en-GB" sz="2000" spc="-1" strike="noStrike">
                <a:solidFill>
                  <a:srgbClr val="b7e7ff"/>
                </a:solidFill>
                <a:latin typeface="Arial"/>
              </a:rPr>
              <a:t>МОУ Хову-Аксынская начальная общеобразовательная школа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b7e7ff"/>
                </a:solidFill>
                <a:latin typeface="Arial"/>
              </a:rPr>
              <a:t>Проект «Символика Республики Тыва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80880" y="2340000"/>
            <a:ext cx="3429000" cy="329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4724280" y="2340000"/>
            <a:ext cx="419112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Ход работы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2"/>
          <p:cNvGrpSpPr/>
          <p:nvPr/>
        </p:nvGrpSpPr>
        <p:grpSpPr>
          <a:xfrm>
            <a:off x="1357200" y="1260360"/>
            <a:ext cx="6643440" cy="5578560"/>
            <a:chOff x="1357200" y="1260360"/>
            <a:chExt cx="6643440" cy="5578560"/>
          </a:xfrm>
        </p:grpSpPr>
        <p:pic>
          <p:nvPicPr>
            <p:cNvPr id="102" name="Picture 3" descr=""/>
            <p:cNvPicPr/>
            <p:nvPr/>
          </p:nvPicPr>
          <p:blipFill>
            <a:blip r:embed="rId2"/>
            <a:stretch/>
          </p:blipFill>
          <p:spPr>
            <a:xfrm>
              <a:off x="1357200" y="1260360"/>
              <a:ext cx="664344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4"/>
            <p:cNvSpPr/>
            <p:nvPr/>
          </p:nvSpPr>
          <p:spPr>
            <a:xfrm>
              <a:off x="1357200" y="1260360"/>
              <a:ext cx="6643440" cy="55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Нам понадобятс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01680" y="1676520"/>
            <a:ext cx="854064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бисер желтого, коричневого, оранжевого, белого, голубого, темно-голубого цв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айетки голубого и золотистого цв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бархатные листы темно-синего и красного цв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лей П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ожниц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голка, ни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зубоч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скраски с изображением герба и флага Республики Ты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м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а раскраску символики Республики Тыва   наносить клей ПВА, с помощью зубочистки по одному разложить пайетки или бисер нужного цв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олученную работу пришить к бархатным лис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Готовую работу положить в рам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Продукт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2874960" y="1447920"/>
            <a:ext cx="3392640" cy="4649400"/>
            <a:chOff x="2874960" y="1447920"/>
            <a:chExt cx="3392640" cy="4649400"/>
          </a:xfrm>
        </p:grpSpPr>
        <p:pic>
          <p:nvPicPr>
            <p:cNvPr id="109" name="Picture 3" descr=""/>
            <p:cNvPicPr/>
            <p:nvPr/>
          </p:nvPicPr>
          <p:blipFill>
            <a:blip r:embed="rId2"/>
            <a:stretch/>
          </p:blipFill>
          <p:spPr>
            <a:xfrm>
              <a:off x="2874960" y="1447920"/>
              <a:ext cx="3392640" cy="46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2874960" y="1447920"/>
              <a:ext cx="3392640" cy="46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301680" y="228600"/>
            <a:ext cx="8510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Автор проекта: ученица 4 «б» класса </a:t>
            </a:r>
            <a:br>
              <a:rPr sz="3200"/>
            </a:b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МОУ Хову-Аксынской НОШ </a:t>
            </a:r>
            <a:br>
              <a:rPr sz="3200"/>
            </a:br>
            <a:r>
              <a:rPr b="0" i="1" lang="en-GB" sz="3200" spc="-1" strike="noStrike">
                <a:solidFill>
                  <a:srgbClr val="b7e7ff"/>
                </a:solidFill>
                <a:latin typeface="Arial"/>
              </a:rPr>
              <a:t>Ондар Ай-Чырыы Алексе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301680" y="2971800"/>
            <a:ext cx="854064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уководитель проекта:  старшая вожатая ДОО «Салгал»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Натпит-оол Надежда Борис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7e7ff"/>
                </a:solidFill>
                <a:latin typeface="Arial"/>
              </a:rPr>
              <a:t>Цель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01680" y="1676520"/>
            <a:ext cx="854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К 90-летию ТНР сделать макет символики Республики Тыва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План проек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Описание герба и фла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Толкование символов герба и фла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Толкование цветов герба и фла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Ход работы мак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.Продукт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01680" y="1676520"/>
            <a:ext cx="854064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Государственный герб Республики Тыва представляет собой изображение на голубом фоне всадника в национальной тувинской одежде, скачущего на лошади навстречу лучам восходящего солнца. В основании герба на традиционной ленте «кадак» белого цвета надпись «Тыва». Всадник, лошадь, солнце и его лучи, надпись «Тыва» выполнены золотым (жёлтым) цветом. Изображение заключено в обрамление пятилепестковой формы с чередованием по контуру полос золотого (желтого), белого и золотого (желтого) цве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1.Описание гер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Описание флаг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01680" y="1676520"/>
            <a:ext cx="854064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«Государственный флаг Республики Тыва представляет собой голубое прямоугольное полотнище. Со стороны древка, из верхнего и нижнего углов флага, исходят наклонные белые и голубые полосы. Голубые полосы образуют при соединении одну полосу, проходящую вдоль длины флага, по его середине. Параллельно ей, сверху и снизу, проходят белые пол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Условный треугольник, образованный белыми полосами, исходящими из верхнего и нижнего углов флага, и его левым краем, имеет золотой (жёлтый) цвет. Отношение ширины флага к его длине — 2: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Расстояние от края полотнища (со стороны древка) до пересечения белых полос равно 1/3 длины флага. Ширина голубых полос, исходящих из верхнего и нижнего углов флага, равна 1/18 ширины флага. Расстояние между наружными краями верхней и нижней белых полос, проходящих вдоль длины флага по его середине, равно 1/6 ширины фла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2. Толкование символов гер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1680" y="1676520"/>
            <a:ext cx="854064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нешний контур Государственного герба Республики Тыва является стилизованным изображением знака, связанного с представлениями древнетюркских народов об устройстве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Изображение скачущего на лошади всадника в национальной тувинской одежде отображает традиционный уклад жизни и основной хозяйственной деятельности людей, на протяжении многих веков проживавших на территории Республики Ты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ключение в состав элементов государственного герба Республики Тыва изображения солнца с расходящимися лучами символизирует стремление людей к высоким идеалам, миру и благополуч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Смысловое значение изображения ленты «кадак» состоит в отражении гостеприимства и дружелюбия народа Республики Ты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7e7ff"/>
                </a:solidFill>
                <a:latin typeface="Arial"/>
              </a:rPr>
              <a:t>Толкование символов фла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сходящие из верхнего и нижнего углов Государственного флага Республики Тыва белые полосы символизируют основные реки, протекающие по территории Республики Тыва, — Бий-Хем и Каа-Хем, а образуемая ими белая полоса, идущая вдоль полотнища флага, — Улуг-Хем (Енисей)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7e7ff"/>
                </a:solidFill>
                <a:latin typeface="Arial"/>
              </a:rPr>
              <a:t>3. Толкование цве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Герб Тувы во многом повторяет герб Тувинской Народной Республики образца 1930 года. В государственных символах Республики Тыва (гербе и флаге) используются цвета голубой, белый и жёлтый (золотой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Голубой цвет символизирует чистое небо, возвышенность целей, взаимоуважение и согласие в общ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елый цвет символизирует чистоту и благородство общественной морали, открытость и самостоятельность государственн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Желтый (золотой) цвет символизирует богатство и справедливость государства. Также в жёлтом (золотом) цвете содержится отражение исторически сложившихся традиционных религиозных убеждений части населения Республики Ты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17T16:37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