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2247-8EB8-4B7B-90CB-C45C0AD3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394-EBD0-4825-88FD-AA563774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6848-9462-497C-990D-F472B0B5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BA2-82AA-4220-936F-581D166F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EC92-17DE-47C6-B55D-60DB7B33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BCAD-133B-470D-83CA-F150F9A6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21C1-8C0F-48B8-9032-56908992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B571-18C3-46D0-A483-B8E0A96B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8645-AAC3-4C24-8065-08AF7983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0865-64A5-4DEF-99B5-B41254D2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4B22-71B9-4949-9B99-A58DA119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9C5-AF71-44A5-8044-017935C4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229C-C4F1-43E7-B8ED-7D5A48F0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593C-E76C-4E8F-9042-4F5C2887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84D4-D315-4177-9A83-48DC9992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38FE-CAF3-4FFA-8344-4FC2B33E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E8E7-1CB1-4A80-A52E-10AB5E65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0B4-E4CA-4A38-A6D5-D4EF0490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8CF-B0C2-4D85-838A-09A17537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A0B-D21B-47F7-B8E5-E05BECBB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2C1-F5D0-45DD-84D4-0F33897F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4755-1D79-4E8A-B9E8-D8593BF9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D291-451C-4193-A1EF-76575AA5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806-6939-455D-AFBC-46C6982D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C323-957C-4325-81EA-0E1CC48C73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6D8A-D1A3-48D4-9300-EE00D75094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301680" y="106200"/>
            <a:ext cx="851040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b7e7ff"/>
                </a:solidFill>
                <a:latin typeface="Arial"/>
              </a:rPr>
              <a:t>Управление образованием Чеди-Хольского кожууна </a:t>
            </a:r>
            <a:br>
              <a:rPr sz="2000"/>
            </a:br>
            <a:r>
              <a:rPr b="0" lang="en-GB" sz="2000" spc="-1" strike="noStrike">
                <a:solidFill>
                  <a:srgbClr val="b7e7ff"/>
                </a:solidFill>
                <a:latin typeface="Arial"/>
              </a:rPr>
              <a:t>Республики Тыва</a:t>
            </a:r>
            <a:br>
              <a:rPr sz="2000"/>
            </a:br>
            <a:r>
              <a:rPr b="0" lang="en-GB" sz="2000" spc="-1" strike="noStrike">
                <a:solidFill>
                  <a:srgbClr val="b7e7ff"/>
                </a:solidFill>
                <a:latin typeface="Arial"/>
              </a:rPr>
              <a:t>МОУ Хову-Аксынская начальная общеобразовательная школа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b7e7ff"/>
                </a:solidFill>
                <a:latin typeface="Arial"/>
              </a:rPr>
              <a:t>Проект «Символика Республики Тыва»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380880" y="2340000"/>
            <a:ext cx="3429000" cy="3298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4724280" y="2340000"/>
            <a:ext cx="4191120" cy="31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7e7ff"/>
                </a:solidFill>
                <a:latin typeface="Arial"/>
              </a:rPr>
              <a:t>Ход работы прое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Group 2"/>
          <p:cNvGrpSpPr/>
          <p:nvPr/>
        </p:nvGrpSpPr>
        <p:grpSpPr>
          <a:xfrm>
            <a:off x="1357200" y="1260360"/>
            <a:ext cx="6643440" cy="5578560"/>
            <a:chOff x="1357200" y="1260360"/>
            <a:chExt cx="6643440" cy="5578560"/>
          </a:xfrm>
        </p:grpSpPr>
        <p:pic>
          <p:nvPicPr>
            <p:cNvPr id="102" name="Picture 3" descr=""/>
            <p:cNvPicPr/>
            <p:nvPr/>
          </p:nvPicPr>
          <p:blipFill>
            <a:blip r:embed="rId2"/>
            <a:stretch/>
          </p:blipFill>
          <p:spPr>
            <a:xfrm>
              <a:off x="1357200" y="1260360"/>
              <a:ext cx="664344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4"/>
            <p:cNvSpPr/>
            <p:nvPr/>
          </p:nvSpPr>
          <p:spPr>
            <a:xfrm>
              <a:off x="1357200" y="1260360"/>
              <a:ext cx="6643440" cy="55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Нам понадобятс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301680" y="1676520"/>
            <a:ext cx="854064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бисер желтого, коричневого, оранжевого, белого, голубого, темно-голубого цве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пайетки голубого и золотистого цве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бархатные листы темно-синего и красного цве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клей П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ножниц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иголка, нит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зубоч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раскраски с изображением герба и флага Республики Ты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рам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30168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На раскраску символики Республики Тыва   наносить клей ПВА, с помощью зубочистки по одному разложить пайетки или бисер нужного цве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Полученную работу пришить к бархатным лис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Готовую работу положить в рам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b7e7ff"/>
                </a:solidFill>
                <a:latin typeface="Arial"/>
              </a:rPr>
              <a:t>Продукт</a:t>
            </a: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b7e7ff"/>
                </a:solidFill>
                <a:latin typeface="Arial"/>
              </a:rPr>
              <a:t> прое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"/>
          <p:cNvGrpSpPr/>
          <p:nvPr/>
        </p:nvGrpSpPr>
        <p:grpSpPr>
          <a:xfrm>
            <a:off x="2874960" y="1447920"/>
            <a:ext cx="3392640" cy="4649400"/>
            <a:chOff x="2874960" y="1447920"/>
            <a:chExt cx="3392640" cy="4649400"/>
          </a:xfrm>
        </p:grpSpPr>
        <p:pic>
          <p:nvPicPr>
            <p:cNvPr id="109" name="Picture 3" descr=""/>
            <p:cNvPicPr/>
            <p:nvPr/>
          </p:nvPicPr>
          <p:blipFill>
            <a:blip r:embed="rId2"/>
            <a:stretch/>
          </p:blipFill>
          <p:spPr>
            <a:xfrm>
              <a:off x="2874960" y="1447920"/>
              <a:ext cx="3392640" cy="46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4"/>
            <p:cNvSpPr/>
            <p:nvPr/>
          </p:nvSpPr>
          <p:spPr>
            <a:xfrm>
              <a:off x="2874960" y="1447920"/>
              <a:ext cx="3392640" cy="46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301680" y="228600"/>
            <a:ext cx="8510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b7e7ff"/>
                </a:solidFill>
                <a:latin typeface="Arial"/>
              </a:rPr>
              <a:t>Автор проекта: ученица 4 «б» класса </a:t>
            </a:r>
            <a:br>
              <a:rPr sz="3200"/>
            </a:br>
            <a:r>
              <a:rPr b="0" lang="en-GB" sz="3200" spc="-1" strike="noStrike">
                <a:solidFill>
                  <a:srgbClr val="b7e7ff"/>
                </a:solidFill>
                <a:latin typeface="Arial"/>
              </a:rPr>
              <a:t>МОУ Хову-Аксынской НОШ </a:t>
            </a:r>
            <a:br>
              <a:rPr sz="3200"/>
            </a:br>
            <a:r>
              <a:rPr b="0" i="1" lang="en-GB" sz="3200" spc="-1" strike="noStrike">
                <a:solidFill>
                  <a:srgbClr val="b7e7ff"/>
                </a:solidFill>
                <a:latin typeface="Arial"/>
              </a:rPr>
              <a:t>Ондар Ай-Чырыы Алексе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301680" y="2971800"/>
            <a:ext cx="854064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Руководитель проекта:  старшая вожатая ДОО «Салгал»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Натпит-оол Надежда Борис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b7e7ff"/>
                </a:solidFill>
                <a:latin typeface="Arial"/>
              </a:rPr>
              <a:t>Цель 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301680" y="1676520"/>
            <a:ext cx="854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К 90-летию ТНР сделать макет символики Республики Тыва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7e7ff"/>
                </a:solidFill>
                <a:latin typeface="Arial"/>
              </a:rPr>
              <a:t>План проект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01680" y="1676520"/>
            <a:ext cx="85406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Описание герба и фла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Толкование символов герба и фла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Толкование цветов герба и фла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Ход работы мак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.Продукт прое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01680" y="1676520"/>
            <a:ext cx="854064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Государственный герб Республики Тыва представляет собой изображение на голубом фоне всадника в национальной тувинской одежде, скачущего на лошади навстречу лучам восходящего солнца. В основании герба на традиционной ленте «кадак» белого цвета надпись «Тыва». Всадник, лошадь, солнце и его лучи, надпись «Тыва» выполнены золотым (жёлтым) цветом. Изображение заключено в обрамление пятилепестковой формы с чередованием по контуру полос золотого (желтого), белого и золотого (желтого) цве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7e7ff"/>
                </a:solidFill>
                <a:latin typeface="Arial"/>
              </a:rPr>
              <a:t>1.Описание гер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Описание флаг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301680" y="1676520"/>
            <a:ext cx="854064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«Государственный флаг Республики Тыва представляет собой голубое прямоугольное полотнище. Со стороны древка, из верхнего и нижнего углов флага, исходят наклонные белые и голубые полосы. Голубые полосы образуют при соединении одну полосу, проходящую вдоль длины флага, по его середине. Параллельно ей, сверху и снизу, проходят белые поло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Условный треугольник, образованный белыми полосами, исходящими из верхнего и нижнего углов флага, и его левым краем, имеет золотой (жёлтый) цвет. Отношение ширины флага к его длине — 2: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Расстояние от края полотнища (со стороны древка) до пересечения белых полос равно 1/3 длины флага. Ширина голубых полос, исходящих из верхнего и нижнего углов флага, равна 1/18 ширины флага. Расстояние между наружными краями верхней и нижней белых полос, проходящих вдоль длины флага по его середине, равно 1/6 ширины фла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7e7ff"/>
                </a:solidFill>
                <a:latin typeface="Arial"/>
              </a:rPr>
              <a:t>2. Толкование символов гер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01680" y="1676520"/>
            <a:ext cx="854064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нешний контур Государственного герба Республики Тыва является стилизованным изображением знака, связанного с представлениями древнетюркских народов об устройстве ми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Изображение скачущего на лошади всадника в национальной тувинской одежде отображает традиционный уклад жизни и основной хозяйственной деятельности людей, на протяжении многих веков проживавших на территории Республики Ты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ключение в состав элементов государственного герба Республики Тыва изображения солнца с расходящимися лучами символизирует стремление людей к высоким идеалам, миру и благополуч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Смысловое значение изображения ленты «кадак» состоит в отражении гостеприимства и дружелюбия народа Республики Ты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b7e7ff"/>
                </a:solidFill>
                <a:latin typeface="Arial"/>
              </a:rPr>
              <a:t>Толкование символов фла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01680" y="1676520"/>
            <a:ext cx="85406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Исходящие из верхнего и нижнего углов Государственного флага Республики Тыва белые полосы символизируют основные реки, протекающие по территории Республики Тыва, — Бий-Хем и Каа-Хем, а образуемая ими белая полоса, идущая вдоль полотнища флага, — Улуг-Хем (Енисей)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7e7ff"/>
                </a:solidFill>
                <a:latin typeface="Arial"/>
              </a:rPr>
              <a:t>3. Толкование цвет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301680" y="1676520"/>
            <a:ext cx="85406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Герб Тувы во многом повторяет герб Тувинской Народной Республики образца 1930 года. В государственных символах Республики Тыва (гербе и флаге) используются цвета голубой, белый и жёлтый (золотой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Голубой цвет символизирует чистое небо, возвышенность целей, взаимоуважение и согласие в общест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Белый цвет символизирует чистоту и благородство общественной морали, открытость и самостоятельность государственной поли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Желтый (золотой) цвет символизирует богатство и справедливость государства. Также в жёлтом (золотом) цвете содержится отражение исторически сложившихся традиционных религиозных убеждений части населения Республики Ты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0-17T16:37:3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