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1BC-06F7-4532-9A9F-C3064AFF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56D-B673-49DD-B9FD-DBCA7409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CECF-DE3D-461C-93F4-72CE9538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E69-41D9-4976-A832-64ACAF68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E201-50C7-4E30-9019-7AD195D4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EA4-D25A-48D7-9A9B-F271711A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467-1B4C-45A4-9882-7BF1FFE0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6B40-F1CD-4871-9B7F-302A7708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325B-3759-42FF-9014-D2BA2148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652-B7B8-45E8-8208-9D5F3B4E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14B-040B-4BC5-801F-535D679A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CEE-D915-4E05-807E-619AA9F0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9079-2AB7-4813-B93E-B5D98C76F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557360"/>
            <a:ext cx="6985080" cy="2808360"/>
          </a:xfrm>
          <a:prstGeom prst="cloudCallout">
            <a:avLst>
              <a:gd name="adj1" fmla="val -30703"/>
              <a:gd name="adj2" fmla="val 90587"/>
            </a:avLst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Job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4005360"/>
            <a:ext cx="2448000" cy="2211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2193840" cy="2278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53080" y="18900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424720" cy="58258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20"/>
          <p:cNvSpPr/>
          <p:nvPr/>
        </p:nvSpPr>
        <p:spPr>
          <a:xfrm rot="10800000">
            <a:off x="1547640" y="475560"/>
            <a:ext cx="4176720" cy="1871640"/>
          </a:xfrm>
          <a:prstGeom prst="cloudCallout">
            <a:avLst>
              <a:gd name="adj1" fmla="val -61291"/>
              <a:gd name="adj2" fmla="val -6552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pil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3507120" cy="66978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0"/>
          <p:cNvSpPr/>
          <p:nvPr/>
        </p:nvSpPr>
        <p:spPr>
          <a:xfrm rot="10800000">
            <a:off x="107640" y="691560"/>
            <a:ext cx="5327640" cy="1871640"/>
          </a:xfrm>
          <a:prstGeom prst="cloudCallout">
            <a:avLst>
              <a:gd name="adj1" fmla="val -62041"/>
              <a:gd name="adj2" fmla="val -7400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hotograp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672080" cy="3413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27640" y="620640"/>
            <a:ext cx="4019400" cy="580572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20"/>
          <p:cNvSpPr/>
          <p:nvPr/>
        </p:nvSpPr>
        <p:spPr>
          <a:xfrm rot="10800000">
            <a:off x="468360" y="259560"/>
            <a:ext cx="4176720" cy="1871640"/>
          </a:xfrm>
          <a:prstGeom prst="cloudCallout">
            <a:avLst>
              <a:gd name="adj1" fmla="val -71134"/>
              <a:gd name="adj2" fmla="val -327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tea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2690640" cy="5877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0"/>
          <p:cNvSpPr/>
          <p:nvPr/>
        </p:nvSpPr>
        <p:spPr>
          <a:xfrm>
            <a:off x="4214880" y="428760"/>
            <a:ext cx="4176720" cy="1871640"/>
          </a:xfrm>
          <a:prstGeom prst="cloudCallout">
            <a:avLst>
              <a:gd name="adj1" fmla="val -70296"/>
              <a:gd name="adj2" fmla="val 21416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police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3800520" cy="602172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20"/>
          <p:cNvSpPr/>
          <p:nvPr/>
        </p:nvSpPr>
        <p:spPr>
          <a:xfrm>
            <a:off x="4716360" y="333360"/>
            <a:ext cx="4176720" cy="1871640"/>
          </a:xfrm>
          <a:prstGeom prst="cloudCallout">
            <a:avLst>
              <a:gd name="adj1" fmla="val -74212"/>
              <a:gd name="adj2" fmla="val 2302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mecha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14760" y="404640"/>
            <a:ext cx="3489480" cy="6453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0"/>
          <p:cNvSpPr/>
          <p:nvPr/>
        </p:nvSpPr>
        <p:spPr>
          <a:xfrm rot="10800000">
            <a:off x="179280" y="691560"/>
            <a:ext cx="3997440" cy="1871640"/>
          </a:xfrm>
          <a:prstGeom prst="cloudCallout">
            <a:avLst>
              <a:gd name="adj1" fmla="val -73712"/>
              <a:gd name="adj2" fmla="val -5144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do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3808440" cy="59245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20"/>
          <p:cNvSpPr/>
          <p:nvPr/>
        </p:nvSpPr>
        <p:spPr>
          <a:xfrm>
            <a:off x="4140360" y="549360"/>
            <a:ext cx="4176720" cy="1871640"/>
          </a:xfrm>
          <a:prstGeom prst="cloudCallout">
            <a:avLst>
              <a:gd name="adj1" fmla="val -66189"/>
              <a:gd name="adj2" fmla="val 2828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mana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708360" y="549360"/>
            <a:ext cx="4794120" cy="56116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20"/>
          <p:cNvSpPr/>
          <p:nvPr/>
        </p:nvSpPr>
        <p:spPr>
          <a:xfrm rot="10800000">
            <a:off x="108000" y="691560"/>
            <a:ext cx="4068720" cy="1871640"/>
          </a:xfrm>
          <a:prstGeom prst="cloudCallout">
            <a:avLst>
              <a:gd name="adj1" fmla="val -71189"/>
              <a:gd name="adj2" fmla="val -3075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si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450720"/>
            <a:ext cx="8893080" cy="57024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20"/>
          <p:cNvSpPr/>
          <p:nvPr/>
        </p:nvSpPr>
        <p:spPr>
          <a:xfrm rot="10800000">
            <a:off x="826920" y="764640"/>
            <a:ext cx="4176720" cy="1872000"/>
          </a:xfrm>
          <a:prstGeom prst="cloudCallout">
            <a:avLst>
              <a:gd name="adj1" fmla="val -82726"/>
              <a:gd name="adj2" fmla="val -2489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dr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4672080" cy="598176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20"/>
          <p:cNvSpPr/>
          <p:nvPr/>
        </p:nvSpPr>
        <p:spPr>
          <a:xfrm>
            <a:off x="4356000" y="333360"/>
            <a:ext cx="4176720" cy="1871640"/>
          </a:xfrm>
          <a:prstGeom prst="cloudCallout">
            <a:avLst>
              <a:gd name="adj1" fmla="val -65888"/>
              <a:gd name="adj2" fmla="val 30916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n a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140360" y="404640"/>
            <a:ext cx="3886200" cy="61214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20"/>
          <p:cNvSpPr/>
          <p:nvPr/>
        </p:nvSpPr>
        <p:spPr>
          <a:xfrm rot="10800000">
            <a:off x="0" y="188280"/>
            <a:ext cx="4464000" cy="1871640"/>
          </a:xfrm>
          <a:prstGeom prst="cloudCallout">
            <a:avLst>
              <a:gd name="adj1" fmla="val -73972"/>
              <a:gd name="adj2" fmla="val -3269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am a hairdress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22560" y="476280"/>
            <a:ext cx="6121440" cy="57006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0"/>
          <p:cNvSpPr/>
          <p:nvPr/>
        </p:nvSpPr>
        <p:spPr>
          <a:xfrm rot="10800000">
            <a:off x="108000" y="691560"/>
            <a:ext cx="4176720" cy="1871640"/>
          </a:xfrm>
          <a:prstGeom prst="cloudCallout">
            <a:avLst>
              <a:gd name="adj1" fmla="val -73643"/>
              <a:gd name="adj2" fmla="val -4728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secret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211640" y="404640"/>
            <a:ext cx="4046400" cy="61200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20"/>
          <p:cNvSpPr/>
          <p:nvPr/>
        </p:nvSpPr>
        <p:spPr>
          <a:xfrm rot="10800000">
            <a:off x="250920" y="691560"/>
            <a:ext cx="4176720" cy="1871640"/>
          </a:xfrm>
          <a:prstGeom prst="cloudCallout">
            <a:avLst>
              <a:gd name="adj1" fmla="val -75430"/>
              <a:gd name="adj2" fmla="val -6917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dent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360" y="549360"/>
            <a:ext cx="5273640" cy="568008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0"/>
          <p:cNvSpPr/>
          <p:nvPr/>
        </p:nvSpPr>
        <p:spPr>
          <a:xfrm rot="10800000">
            <a:off x="1042920" y="1051920"/>
            <a:ext cx="4176720" cy="1871640"/>
          </a:xfrm>
          <a:prstGeom prst="cloudCallout">
            <a:avLst>
              <a:gd name="adj1" fmla="val -76458"/>
              <a:gd name="adj2" fmla="val -4202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b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0"/>
          <p:cNvSpPr/>
          <p:nvPr/>
        </p:nvSpPr>
        <p:spPr>
          <a:xfrm rot="10800000">
            <a:off x="108000" y="475560"/>
            <a:ext cx="4176720" cy="1871640"/>
          </a:xfrm>
          <a:prstGeom prst="cloudCallout">
            <a:avLst>
              <a:gd name="adj1" fmla="val -65736"/>
              <a:gd name="adj2" fmla="val -4881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garde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348000" y="907920"/>
            <a:ext cx="57960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5675040" cy="575928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20"/>
          <p:cNvSpPr/>
          <p:nvPr/>
        </p:nvSpPr>
        <p:spPr>
          <a:xfrm>
            <a:off x="4859280" y="333360"/>
            <a:ext cx="4176720" cy="1871640"/>
          </a:xfrm>
          <a:prstGeom prst="cloudCallout">
            <a:avLst>
              <a:gd name="adj1" fmla="val -73337"/>
              <a:gd name="adj2" fmla="val 26675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fire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0"/>
          <p:cNvSpPr/>
          <p:nvPr/>
        </p:nvSpPr>
        <p:spPr>
          <a:xfrm>
            <a:off x="4859280" y="333360"/>
            <a:ext cx="4176720" cy="1871640"/>
          </a:xfrm>
          <a:prstGeom prst="cloudCallout">
            <a:avLst>
              <a:gd name="adj1" fmla="val -82078"/>
              <a:gd name="adj2" fmla="val -437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da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8862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4305240" cy="581832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20"/>
          <p:cNvSpPr/>
          <p:nvPr/>
        </p:nvSpPr>
        <p:spPr>
          <a:xfrm>
            <a:off x="3851280" y="549360"/>
            <a:ext cx="4176720" cy="1871640"/>
          </a:xfrm>
          <a:prstGeom prst="cloudCallout">
            <a:avLst>
              <a:gd name="adj1" fmla="val -72842"/>
              <a:gd name="adj2" fmla="val 759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n art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6218280" cy="62373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0"/>
          <p:cNvSpPr/>
          <p:nvPr/>
        </p:nvSpPr>
        <p:spPr>
          <a:xfrm rot="10800000">
            <a:off x="179280" y="907200"/>
            <a:ext cx="4176720" cy="1871640"/>
          </a:xfrm>
          <a:prstGeom prst="cloudCallout">
            <a:avLst>
              <a:gd name="adj1" fmla="val -69652"/>
              <a:gd name="adj2" fmla="val -1972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post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03640" y="1197000"/>
            <a:ext cx="3310200" cy="4896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20"/>
          <p:cNvSpPr/>
          <p:nvPr/>
        </p:nvSpPr>
        <p:spPr>
          <a:xfrm rot="10800000">
            <a:off x="107640" y="1267560"/>
            <a:ext cx="4537080" cy="1871640"/>
          </a:xfrm>
          <a:prstGeom prst="cloudCallout">
            <a:avLst>
              <a:gd name="adj1" fmla="val -65152"/>
              <a:gd name="adj2" fmla="val -2633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steward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7166160" cy="53895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20"/>
          <p:cNvSpPr/>
          <p:nvPr/>
        </p:nvSpPr>
        <p:spPr>
          <a:xfrm rot="10800000">
            <a:off x="178920" y="188280"/>
            <a:ext cx="4824360" cy="1871640"/>
          </a:xfrm>
          <a:prstGeom prst="cloudCallout">
            <a:avLst>
              <a:gd name="adj1" fmla="val -61615"/>
              <a:gd name="adj2" fmla="val -4610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saleswo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92720" y="404640"/>
            <a:ext cx="2782800" cy="62373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0"/>
          <p:cNvSpPr/>
          <p:nvPr/>
        </p:nvSpPr>
        <p:spPr>
          <a:xfrm rot="10800000">
            <a:off x="324000" y="980280"/>
            <a:ext cx="4176720" cy="1871640"/>
          </a:xfrm>
          <a:prstGeom prst="cloudCallout">
            <a:avLst>
              <a:gd name="adj1" fmla="val -83981"/>
              <a:gd name="adj2" fmla="val -1404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c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222720" cy="65977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0"/>
          <p:cNvSpPr/>
          <p:nvPr/>
        </p:nvSpPr>
        <p:spPr>
          <a:xfrm>
            <a:off x="4211640" y="692280"/>
            <a:ext cx="4176720" cy="1871640"/>
          </a:xfrm>
          <a:prstGeom prst="cloudCallout">
            <a:avLst>
              <a:gd name="adj1" fmla="val -70754"/>
              <a:gd name="adj2" fmla="val -2353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clea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3433680" cy="5688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20"/>
          <p:cNvSpPr/>
          <p:nvPr/>
        </p:nvSpPr>
        <p:spPr>
          <a:xfrm>
            <a:off x="4140360" y="333360"/>
            <a:ext cx="4176720" cy="1871640"/>
          </a:xfrm>
          <a:prstGeom prst="cloudCallout">
            <a:avLst>
              <a:gd name="adj1" fmla="val -73754"/>
              <a:gd name="adj2" fmla="val 9796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 am a wai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5:06:52Z</dcterms:created>
  <dc:creator>Itachi</dc:creator>
  <dc:description/>
  <dc:language>en-US</dc:language>
  <cp:lastModifiedBy>Itachi</cp:lastModifiedBy>
  <dcterms:modified xsi:type="dcterms:W3CDTF">2009-10-19T17:03:16Z</dcterms:modified>
  <cp:revision>8</cp:revision>
  <dc:subject/>
  <dc:title>Слайд 1</dc:title>
</cp:coreProperties>
</file>