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6C22-DBEB-4ADA-9CD3-92D32EFD8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3F66-DA52-486A-9BC6-BB532D91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6C92-9F7D-4A57-8C02-5448E8374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8087-9423-4420-AE06-8B05AE590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2C0AB-23C8-42FE-BB61-9274246C5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63A1B-9971-48A3-9D7E-A8AD84D1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46D33-62A9-4D93-936C-DA4A4CDE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440D6-0E40-47C6-958B-512CD71A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CB63F-C2B3-4877-B8E1-9CCDD3C4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38D82-E5A8-4F18-9A52-C26EEA74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E3F77-5EEF-44B2-BA30-84D902C2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FF5A-0FC1-455B-9498-CB92464B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2854C-0379-4253-B19D-CCF575BE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C6B2F-2330-4EB2-B702-E4B4CE7F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C14EE-ACD3-4FAC-8793-4561F64A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10FBC-BC0B-4302-A274-3303851F8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CF96C-C3A4-401D-B7AA-71C991A0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B496-B631-48F3-8B36-3CD89CE3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4C59-F23B-45D0-8BF1-3C0AF19D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4643-6F69-42C6-B3CF-883B9AD8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7617-51D6-4F12-BFD6-8B3F2A3C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7B25-A91E-459C-A547-7692D549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CC37-EC58-4E93-BED5-17AA9711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5BBC-85B1-45B5-9AE5-1DBD9D93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25A2D4-9624-4043-BB1F-CA8234C8CA76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40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64E1E01-A938-4F1D-8E9B-41A2960CE806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139400"/>
            <a:ext cx="777240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оздание психологически комфортной  образовательной среды на уроках в начальной школ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рендина И.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начальных клас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У «Средняя школа №12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430200"/>
            <a:ext cx="8541000" cy="25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сихологический комфорт на уроке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к фактор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охранения здоровь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706920" y="3122640"/>
            <a:ext cx="2776320" cy="26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Факторы формирующие здоровье ребён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кология    -10-1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следственность-15-2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дицина-10-1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кружающая среда-50-5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Что такое комфорт?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6630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ловия жизни, пребывания, обстановка, обеспечивающие удобство, спокойствие и уют(С.И. Ожегов Толковый словарь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сихологический комфорт -условия жизни, при которых человек чувствует себя спокойно ,нет необходимости защищать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fort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«поддержка, укрепление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сихологический комфорт </a:t>
            </a:r>
            <a:br>
              <a:rPr sz="4000"/>
            </a:b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еобходим дл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41720" cy="41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пешного развит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пешного усвоения зна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лагоприятного физического состоя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лагоприятного эмоционального состоя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127480" y="2128680"/>
            <a:ext cx="3372120" cy="35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то мешае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психологическому комфорту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417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ащимс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уверенность в себ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вышенная утомляем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медленность темпа деятель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вышенная потребность во внима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вышенная двигательная актив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удность переключения с одной деятельности на другу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4041720" cy="47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SimSun"/>
              </a:rPr>
              <a:t>Учителям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SimSun"/>
              </a:rPr>
              <a:t>Физическая и психологическая напряженность тру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SimSun"/>
              </a:rPr>
              <a:t>Постоянное оценивание со стороны различных люд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SimSun"/>
              </a:rPr>
              <a:t>Высокий уровень ответствен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SimSun"/>
              </a:rPr>
              <a:t>Тенденция агрессивного отношения со стороны родителей и учащих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SimSun"/>
              </a:rPr>
              <a:t>Разные стили управления педагогическими кадрам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852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можно сделать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условиях школьного урок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сохранения психологического комфорт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779640" y="2060280"/>
            <a:ext cx="511164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т эмоционально-личностных особенностей дет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бор и корректировка стиля общ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здание ситуации общ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т физиологических особенност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77720" y="2523960"/>
            <a:ext cx="3262320" cy="30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иды нагрузок во время уро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4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язана с необходимостью долгое время удерживать вынужденное положение во время учебных занят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SimSun"/>
              </a:rPr>
              <a:t>Связана с затратами энергии на мыслительные процессы при приобретении зна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SimSun"/>
              </a:rPr>
              <a:t>Выв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SimSun"/>
              </a:rPr>
              <a:t>Продолжительность наиболее эффективной непрерывной работы составляет 20-25 мину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Физминутки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4032000"/>
            <a:ext cx="8229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адицио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4000" indent="-3240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здоровительные(гимнастика для глаз, самомассаж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4000" indent="-3240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слабляющие (релаксаци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4000" indent="-3240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влекатель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212920" y="1930320"/>
            <a:ext cx="3538440" cy="2122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12:55:03Z</dcterms:created>
  <dc:creator>рома</dc:creator>
  <dc:description/>
  <dc:language>en-US</dc:language>
  <cp:lastModifiedBy>рома</cp:lastModifiedBy>
  <dcterms:modified xsi:type="dcterms:W3CDTF">2011-06-05T18:43:43Z</dcterms:modified>
  <cp:revision>6</cp:revision>
  <dc:subject/>
  <dc:title>Психологический комфорт на уроке  как фактор сохранения здоровья</dc:title>
</cp:coreProperties>
</file>