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4D2-657C-4287-9208-E287265B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49C-AC89-431F-9F12-EC14A28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760-42A9-4D0C-97E7-EF400E2B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67F-3CA6-4638-B531-CC5E16BB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0331B-B563-4F8D-B66B-7E9EA6ED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8F242-D83C-4A47-841A-FEB7A4CB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BC4A3-EF77-493A-9049-E32D0A9A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E3C1C-5019-4A5E-9CF7-B1142E2F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68C01-639D-4E17-8DA4-AE76FDD4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FE439-F4C5-4E6D-A759-6BE0503E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072F6-884E-4522-86D1-A23ECB6D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EFE-F97B-49EA-AF17-7B2F2251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5032F-D088-41C2-BAD7-CCE29E08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06C46-9177-45F1-91C4-D0E26EA1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C45CB-0554-445D-9607-06F13E69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5BE6F-884F-439E-8260-D92816D3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2B916-E002-448C-B2C4-4AFCE066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C83-2E21-43C4-828D-183260E4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230-2EA1-4C55-80B0-F51190AD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B29-F964-40DF-8B66-813196C8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05D-946B-40DF-9739-20B40A5C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3E0-D4B2-4E92-B74C-BC998D49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80B-7596-41D0-A30C-3ED91BD2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2BF-41ED-4029-B0E0-AF3BE788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18CB65-A080-4FDB-9C74-11844A0FBF3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0F42BB-FFB9-4508-B1C3-22334218082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3940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здание психологически комфортной  образовательной среды на уроках в начальной школ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ендина И.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У «Средняя школа №12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430200"/>
            <a:ext cx="85410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сихологический комфорт на урок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 фактор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хранения здоровь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06920" y="3122640"/>
            <a:ext cx="2776320" cy="26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акторы формирующие здоровье ребё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логия    -10-1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ледственность-15-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ицина-10-1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ружающая среда-50-5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то такое комфорт?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630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ловия жизни, пребывания, обстановка, обеспечивающие удобство, спокойствие и уют(С.И. Ожегов Толковый словарь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сихологический комфорт -условия жизни, при которых человек чувствует себя спокойно ,нет необходимости защища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for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«поддержка, укреплени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сихологический комфорт </a:t>
            </a:r>
            <a:br>
              <a:rPr sz="40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еобходим дл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4172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пешного разви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пешного усвоения зн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оприятного физического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оприятного эмоционального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27480" y="2128680"/>
            <a:ext cx="3372120" cy="35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меш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сихологическому комфорт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417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ащим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веренность в себ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ная утом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медленность темпа дея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ная потребность во вним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ная двигательная актив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удность переключения с одной деятельности на другу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4041720" cy="47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Учителя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Физическая и психологическая напряженность тру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Постоянное оценивание со стороны различных люд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Высокий уровень ответств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Тенденция агрессивного отношения со стороны родителей и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Разные стили управления педагогическими кадра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852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можно сдела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школьного уро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сохранения психологического комфорт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79640" y="2060280"/>
            <a:ext cx="51116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т эмоционально-личностных особенностей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бор и корректировка стиля об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ситуации об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т физиологических особен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7720" y="2523960"/>
            <a:ext cx="3262320" cy="30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нагрузок во время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язана с необходимостью долгое время удерживать вынужденное положение во время учебных заня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SimSun"/>
              </a:rPr>
              <a:t>Связана с затратами энергии на мыслительные процессы при приобретении зн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SimSun"/>
              </a:rPr>
              <a:t>Вы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Продолжительность наиболее эффективной непрерывной работы составляет 20-25 мину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изминутк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03200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доровительные(гимнастика для глаз, самомассаж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лабляющие (релаксац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лек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12920" y="1930320"/>
            <a:ext cx="3538440" cy="212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2:55:03Z</dcterms:created>
  <dc:creator>рома</dc:creator>
  <dc:description/>
  <dc:language>en-US</dc:language>
  <cp:lastModifiedBy>рома</cp:lastModifiedBy>
  <dcterms:modified xsi:type="dcterms:W3CDTF">2011-06-05T18:43:43Z</dcterms:modified>
  <cp:revision>6</cp:revision>
  <dc:subject/>
  <dc:title>Психологический комфорт на уроке  как фактор сохранения здоровья</dc:title>
</cp:coreProperties>
</file>