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BAEA6-9094-40B8-A5BD-B2885FBAE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4897C-FF32-4233-B06E-8D502D7BC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FF680-A46C-4525-AA44-6B0DFC6C0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01832-8F8D-476C-A407-8E7B48060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7D4CF-C284-48AC-9FC9-4412935B2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AB844-42C0-4B30-B520-BDF5201CE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9C638-CFCC-47AD-940A-87A685F26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B1106-072A-4479-BD38-E1C1736B1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3B6B1-DC71-41AE-B589-FEAC37AF9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7B76C-F5C2-4189-A9E8-1332DBA5B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C4411-F03E-4295-8C65-754F78F9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83C83-9266-451F-8AB5-29E029A48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74FF9-0155-449F-BD6E-1E42A220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3F0A4-B35D-4EE2-BD5A-DF416893C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E0E71-C96C-4FC7-A9B7-6478DD576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48DD6-C609-4D56-A1CC-257C6DEEC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0F8D8-1BD5-417C-A2F7-76DD9CB11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3B8AE-7A7C-4939-BCA7-4D9D3CFC5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3C103-FAE4-4055-9D05-219548FA7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3F393-CA79-4EC6-B548-61730C397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37063-56D2-4419-AC12-524C78FB2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8B1AB-D927-47EB-9C4D-DC166F7D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3B126-6B07-4B2D-BE16-E3318131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227E4-B983-4B36-A60F-4C8F20F9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D97E7-25C4-4BE4-9D95-97305ED50DC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1D9B9-8D73-43C7-8FDB-2C5FE6247FD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5" name="Picture 4" descr="Рисунок 1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Рефлексия</a:t>
            </a:r>
            <a:br>
              <a:rPr sz="4400"/>
            </a:b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Закончите предложение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571680" y="264312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так, сегодня на уроке я 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Словарная работа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ублицистика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ублици́стика (от лат. publicus — общественный) — род произведений, посвященных актуальным проблемам и явлениям текущей жизни и общества; играет важную политическую и идеологическую роль как средство выражения плюрализма общественного мнения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убличный 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убличный осуществляемый в присутствии публики, открытый Публичное выступле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Работа с текстом.</a:t>
            </a:r>
            <a:br>
              <a:rPr sz="4000"/>
            </a:br>
            <a:r>
              <a:rPr b="0" lang="ru-RU" sz="2800" spc="-1" strike="noStrike">
                <a:solidFill>
                  <a:srgbClr val="dfdef6"/>
                </a:solidFill>
                <a:latin typeface="Arial"/>
              </a:rPr>
              <a:t>Перед вами набор предложений. Надо расположить их так, чтобы получился связный текст.</a:t>
            </a: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Я думаю, что должно быть больше интеллигентных людей, владеющих литературной речью, говорящих ярко, образно, остроумно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Б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 последнее время я замечаю, что мы, молодежь, все чаще употребляем в своей речи иностранные словеч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В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Безусловно, нам надо серьезно изучать литературный русский язы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Г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Мы заменяем многие выражения на слова из американского сленга, и потому наш русский язык становится примитивным, невыразительны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Д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менно таким человеком я и хочу стать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Работа с текстом.</a:t>
            </a:r>
            <a:br>
              <a:rPr sz="4000"/>
            </a:br>
            <a:r>
              <a:rPr b="0" lang="ru-RU" sz="2800" spc="-1" strike="noStrike">
                <a:solidFill>
                  <a:srgbClr val="dfdef6"/>
                </a:solidFill>
                <a:latin typeface="Arial"/>
              </a:rPr>
              <a:t>Перед вами набор предложений. Надо расположить их так, чтобы получился связный текст.</a:t>
            </a: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В последнее время я замечаю, что мы, молодежь, все чаще употребляем в своей речи иностранные словечки. 2. Мы заменяем многие выражения на слова из американского сленга, и потому наш русский язык становится примитивным, невыразительным. 3. Я думаю, что должно быть больше интеллигентных людей, владеющих литературной речью, говорящих ярко, образно, остроумно. 4. Именно таким человеком я и хочу стать. 5. Безусловно, нам надо серьезно изучать литературный русский язы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Работа в парах. (Кто быстрее?)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3" name="Picture 4" descr="Рисунок 3"/>
          <p:cNvPicPr/>
          <p:nvPr/>
        </p:nvPicPr>
        <p:blipFill>
          <a:blip r:embed="rId1"/>
          <a:stretch/>
        </p:blipFill>
        <p:spPr>
          <a:xfrm>
            <a:off x="539640" y="1357200"/>
            <a:ext cx="8209080" cy="51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Работа в парах. (Кто быстрее?)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5" name="Picture 4" descr="Рисунок 4"/>
          <p:cNvPicPr/>
          <p:nvPr/>
        </p:nvPicPr>
        <p:blipFill>
          <a:blip r:embed="rId1"/>
          <a:stretch/>
        </p:blipFill>
        <p:spPr>
          <a:xfrm>
            <a:off x="611280" y="1384200"/>
            <a:ext cx="7993080" cy="50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Работа в парах. (Кто быстрее?)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7" name="Picture 4" descr="Рисунок 5"/>
          <p:cNvPicPr/>
          <p:nvPr/>
        </p:nvPicPr>
        <p:blipFill>
          <a:blip r:embed="rId1"/>
          <a:stretch/>
        </p:blipFill>
        <p:spPr>
          <a:xfrm>
            <a:off x="755640" y="1481040"/>
            <a:ext cx="7561440" cy="47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Запишите в первый столбик средства, которые можно использовать в публичном выступлении, а во второй - которые нельзя.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9" name="Picture 6" descr="Рисунок 6"/>
          <p:cNvPicPr/>
          <p:nvPr/>
        </p:nvPicPr>
        <p:blipFill>
          <a:blip r:embed="rId1"/>
          <a:stretch/>
        </p:blipFill>
        <p:spPr>
          <a:xfrm>
            <a:off x="395280" y="2060640"/>
            <a:ext cx="8497800" cy="44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Работа  в группах.</a:t>
            </a:r>
            <a:br>
              <a:rPr sz="4000"/>
            </a:b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Подготовьте публичное выступление на тему: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 группа- «Олимпиада в Сочи – это здорово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 группа – «Почему нужно изучать русский язык?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 группа – Каким человеком я хочу быть?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0T14:15:00Z</dcterms:created>
  <dc:creator>User</dc:creator>
  <dc:description/>
  <dc:language>en-US</dc:language>
  <cp:lastModifiedBy>Lihovskayasoh</cp:lastModifiedBy>
  <dcterms:modified xsi:type="dcterms:W3CDTF">2013-02-21T07:16:50Z</dcterms:modified>
  <cp:revision>10</cp:revision>
  <dc:subject/>
  <dc:title>Публичное выступление на общественно значимую тему.</dc:title>
</cp:coreProperties>
</file>