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50F4-69BF-4433-9163-05E1E2B1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4599-2E23-40C5-9C81-07FBC1B2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F277-D17C-4020-B2D0-711DA9BC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55BB-8C72-496A-B2D6-66667AFB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4AA7-3C7F-456D-B192-CC1ECCA0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0D21-EF95-4C93-94A7-BBB05AF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543-D9B9-4184-85EE-3C62DE55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5690-E83A-425F-8CFC-9D1E339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76A-8F6B-4219-89CA-35F2499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D85A-0188-47C3-BD6A-2E1AB30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CB1D-8238-4A6A-A0AE-D2E79BE1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052A-CC2A-45B4-AE4A-4AD2643C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701-5DBE-43A3-B96C-B8AA1AA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621-9DE4-47A8-B7EC-9AF11C2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B688-3DAE-4699-BFCF-F1DA6211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325B-D23F-41AB-B72C-C7D9753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216E-C565-4BD3-A7BE-1B2442E1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FF08-6A1D-42AB-9D7E-EE33D54F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1170-6749-4836-AFA1-E3787765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82F0-3469-4DFA-834C-304525B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2AED-9E9A-4A96-A8C3-C30148AD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922A-DB81-43E2-9B32-165D61C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ADB-CC9F-4B0B-B1C5-8D19A81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3E9A-52E8-43D6-B614-4DD9D1D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DF0-0269-4BCB-89D2-7DFE12CD83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98F-9EE0-4956-88D3-683C51D344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4" descr="Рисунок 1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флексия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кончите предлож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71680" y="2643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ак, сегодня на уроке я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цистик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ци́стика (от лат. publicus — общественный) — род произведений, посвященных актуальным проблемам и явлениям текущей жизни и общества; играет важную политическую и идеологическую роль как средство выражения плюрализма общественного мнения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чный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чный осуществляемый в присутствии публики, открытый Публичное выступ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с текстом.</a:t>
            </a:r>
            <a:br>
              <a:rPr sz="40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Перед вами набор предложений. Надо расположить их так, чтобы получился связный текст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умаю, что должно быть больше интеллигентных людей, владеющих литературной речью, говорящих ярко, образно, остроум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последнее время я замечаю, что мы, молодежь, все чаще употребляем в своей речи иностранные слове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Безусловно, нам надо серьезно изучать литературный русский яз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Мы заменяем многие выражения на слова из американского сленга, и потому наш русский язык становится примитивным, невыраз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менно таким человеком я и хочу ста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с текстом.</a:t>
            </a:r>
            <a:br>
              <a:rPr sz="40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Перед вами набор предложений. Надо расположить их так, чтобы получился связный текст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 последнее время я замечаю, что мы, молодежь, все чаще употребляем в своей речи иностранные словечки. 2. Мы заменяем многие выражения на слова из американского сленга, и потому наш русский язык становится примитивным, невыразительным. 3. Я думаю, что должно быть больше интеллигентных людей, владеющих литературной речью, говорящих ярко, образно, остроумно. 4. Именно таким человеком я и хочу стать. 5. Безусловно, нам надо серьезно изучать литературный русски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4" descr="Рисунок 3"/>
          <p:cNvPicPr/>
          <p:nvPr/>
        </p:nvPicPr>
        <p:blipFill>
          <a:blip r:embed="rId1"/>
          <a:stretch/>
        </p:blipFill>
        <p:spPr>
          <a:xfrm>
            <a:off x="539640" y="1357200"/>
            <a:ext cx="820908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4" descr="Рисунок 4"/>
          <p:cNvPicPr/>
          <p:nvPr/>
        </p:nvPicPr>
        <p:blipFill>
          <a:blip r:embed="rId1"/>
          <a:stretch/>
        </p:blipFill>
        <p:spPr>
          <a:xfrm>
            <a:off x="611280" y="1384200"/>
            <a:ext cx="7993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4" descr="Рисунок 5"/>
          <p:cNvPicPr/>
          <p:nvPr/>
        </p:nvPicPr>
        <p:blipFill>
          <a:blip r:embed="rId1"/>
          <a:stretch/>
        </p:blipFill>
        <p:spPr>
          <a:xfrm>
            <a:off x="755640" y="1481040"/>
            <a:ext cx="75614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Запишите в первый столбик средства, которые можно использовать в публичном выступлении, а во второй - которые нельз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Рисунок 6"/>
          <p:cNvPicPr/>
          <p:nvPr/>
        </p:nvPicPr>
        <p:blipFill>
          <a:blip r:embed="rId1"/>
          <a:stretch/>
        </p:blipFill>
        <p:spPr>
          <a:xfrm>
            <a:off x="395280" y="2060640"/>
            <a:ext cx="84978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 в группах.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одготовьте публичное выступление на тему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- «Олимпиада в Сочи – это здоро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«Почему нужно изучать русский язык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группа – Каким человеком я хочу быть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15:00Z</dcterms:created>
  <dc:creator>User</dc:creator>
  <dc:description/>
  <dc:language>en-US</dc:language>
  <cp:lastModifiedBy>Lihovskayasoh</cp:lastModifiedBy>
  <dcterms:modified xsi:type="dcterms:W3CDTF">2013-02-21T07:16:50Z</dcterms:modified>
  <cp:revision>10</cp:revision>
  <dc:subject/>
  <dc:title>Публичное выступление на общественно значимую тему.</dc:title>
</cp:coreProperties>
</file>