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5D4B-DBC6-4BAA-A0CF-1133E016A1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 Слайд №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B520-6B15-4286-8075-BC6CC3F667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№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DD96-97B4-47A9-934F-AE119B95C8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ранизации одноименной повести А. И. Куприна «Белый пудель» . Год выпуска: 195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: 01: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щено: Одесская киносту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ссер: Владимир Шредель, Марианна Роша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лях: Валентина Куценко, Георгий Милляр, Галина Левченко, Владимир Поляков, Александр Антонов, Виктор Кольцов, Семен Свашенк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0DE9-7F36-4C03-95F2-2104EE14E8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/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0BF3-3D65-4E78-944B-032A13CFAB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Слайд№1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Чистопис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7961-4026-49FE-B119-9836139490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Чистопис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FB85-2D38-4B34-A4DD-E751F3DF38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айд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48EF-5A5C-4055-96E1-CCEA2B3C9A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№4(если нет электронной дос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BDD1-6CE6-40D9-9C3D-777A791031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 выпуска: 195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щено: Одесская киносту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ссер: Владимир Шредель, Марианна Роша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лях: Валентина Куценко, Георгий Милляр, Галина Левченко, Владимир Поляков, Александр Антонов, Виктор Кольцов, Семен Свашенк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DC6B-2F8B-4D42-B779-5C5ECC917D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 Слайд №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4CF9-72E8-4FB1-8205-870B490109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61F0-E52F-4845-815B-20CD8827F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B1CE-83B5-4447-AC8F-167C7C23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A261-9D97-4DE7-9F05-4360F2992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9F9D-666F-451C-9543-1BBA8BC72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9CD1-1C17-4AEB-B8A0-592488489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DC8D-6680-44C5-946B-9617DE1F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DE37-8A8B-47B5-BF43-47FBDE74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2A57-1D87-4802-ADBF-0FF70F1A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DBA3-76B8-462B-A601-3BF29715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ACB3-DC41-4DFD-870C-0F09786E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3013-B30C-4C77-9F27-8238B625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753A-73F2-4F7A-B187-E983D2E4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859A-CD09-4F8C-B161-DDF4AC20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53F7-C626-4CDA-BBAA-E321E1C3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70FD-FCBF-4AF3-8173-DC2BE5BA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381A-DE99-4D7C-A63A-337A9B0CE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CA1F-D1F3-4927-837A-C6B833457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3E9070-A306-4393-BA5D-E36A2C3E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9D4B0B-D16D-4452-BE04-9DFEE308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949F28-418D-4BAD-BA5B-EA8A87F0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906CAC-9805-433B-89A8-E74D22A7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472508-B1E9-49C1-A23F-1B512D84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6D62-129B-4685-A99E-4D221196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088494-106E-4E1B-8FD5-6F6CB7D2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78A35F-06B2-4830-AB14-46851162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FDBAF7-EE8B-4B03-BC1D-D4AF3FF6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A831E3-6F84-4D9C-BA2F-A5C6AEEC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9EA5B3-2182-4BD9-B5C1-3F010286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53548A-F998-45D2-BDC9-B2DA94B3D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026892-A35E-4808-853B-42C06211E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83ED6-1A8F-44C6-A63E-D3A969DDA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8FFE5-07E0-4327-87CB-0457E492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CCDCF-6126-46CD-B786-5E3A0539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5EEE-1654-4D24-8CDA-1BCD0967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0F80B-8226-4A76-A788-B25CFC64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48961-9DFF-4D61-8B1C-9FBC6F30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E3CF6-AEC6-475B-A25B-CBBF1C6E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399B6-CB15-4735-B0A7-B4C71402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9E44F-6FA3-41EB-8F8B-E96270B7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1E7D3-2F4A-4C16-B0E4-39077F66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D4AD5-3A6C-4285-9D63-C700F986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5F1FC-5FEE-47D5-80EE-ED5C13F25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97082-D4D4-460E-B55B-3170C7EA7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39AED9-BD2B-4B2F-8834-C024A2D38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E379-569D-4C2D-88C3-5B126C46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A151D3-049F-4519-8902-2F152CFE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3B3024-C4A1-46C6-8490-EB7A929A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1C1164-4277-4E5A-92C1-3AE55854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558675-0770-408E-A539-20CD3E86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DB7857-5088-4BD1-B76E-1933C23A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70ACEA-84CE-44F6-B2FB-20F76889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4E5458-F862-4399-9CDE-8D08C589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E759A6-029E-4BDA-AC92-8934E2DE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A41A5B-2E10-4E3D-9F8F-A7F428BD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D66F37-2359-41B5-ABB3-EF3443DD2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C13B-1B9A-4D61-97F2-647F47C9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B669E9-D92E-42B5-8036-124A5A027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AF8D5E-6576-492A-9FDC-DAFA4A1B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3805FB-2F4E-4B64-8DD4-25F5A15E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7444B1-B035-4A04-893D-EEE8039C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B032B2-87BC-4C16-96E7-554485EC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F0FDB4-E5AD-4227-9210-3D884720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E6A668-5382-4266-9023-6B34C1D2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C6651A-C6FB-41E2-817F-F691AF66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222893-390F-4B49-8C71-103B170B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95D109-3C65-4516-8987-8FB6C32E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5513-5840-4652-A28C-42A023B8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06A86E-C59B-475A-B762-C8A7CF2E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7DFB6A-F043-4584-8340-ACA216FA8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0EED9B-6616-45F6-BD97-D0631E041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90A375-7519-47BD-81BE-EC8DDBAC6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2D9753-7129-470E-9437-FC30AEE8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8B6013-364F-47FC-9257-422DA368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B9D2A8-45C8-4596-95CE-D9772162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19C576-4EE4-4DEC-B848-22D73665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84A03F-6B08-4BF1-B229-A3D97B5D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FAF1E1-4410-411C-8AC7-CA46DADB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DBE2-E303-473B-8CAB-04F2B656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6C9FF7-3F25-49AD-A7C4-777DC7C8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96920C-2690-4614-97A7-355766F9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14777B-BF91-4DD8-860C-058EB7A8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8DCEA2-EEF1-469E-904E-51205379D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AA6036-337E-480F-B6FA-9DA202265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D2BB-6895-4C7D-B65E-E64D6E88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78C2-1330-4C49-8AA3-4334B7CD2D8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684C-4B02-41A2-943D-5B074880710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A731-850B-4BC6-BE08-5C0FCA7C997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C642-1144-40EA-AA14-0F681582100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FC5E-9C98-4BAF-A361-D0845C5B650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DF1C-F867-45DE-8998-DC3EEC3F328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4630-F83F-46FA-8FE0-A9FAA2A94FB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УРОК РУССКОГО ЯЗЫКА В 4  КЛАССЕ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УМК «ШКОЛА 2100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Тема: 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«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Развитие умения писать слова с изученной орфограммой, графически объяснять выбор написания безударных падежных окончаний имен прилагательных».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емкина Светлана Александровн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ГБОУ школы №371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Московского района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Санкт-Петербурга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ru-RU" sz="2700" spc="-1" strike="noStrike">
                <a:solidFill>
                  <a:srgbClr val="d0a80a"/>
                </a:solidFill>
                <a:latin typeface="Century Schoolbook"/>
              </a:rPr>
              <a:t>СОСТАВЬ СЛОВОСОЧЕТАНИЯ И ГРАФИЧЕСКИ ДОКАЖИ, ЧТО У ТЕБЯ СЛОВА СВЯЗАНЫ ГРАММАТИЧЕСКИ: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нная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ойный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йной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образного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едушкиным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сти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ка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ловьем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манка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88" name="Прямая со стрелкой 3"/>
          <p:cNvCxnSpPr/>
          <p:nvPr/>
        </p:nvCxnSpPr>
        <p:spPr>
          <a:xfrm>
            <a:off x="3008160" y="2484000"/>
            <a:ext cx="1493280" cy="30330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89" name="Прямая со стрелкой 6"/>
          <p:cNvCxnSpPr/>
          <p:nvPr/>
        </p:nvCxnSpPr>
        <p:spPr>
          <a:xfrm flipV="1">
            <a:off x="3635280" y="3460320"/>
            <a:ext cx="727560" cy="9057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90" name="Прямая со стрелкой 7"/>
          <p:cNvCxnSpPr/>
          <p:nvPr/>
        </p:nvCxnSpPr>
        <p:spPr>
          <a:xfrm flipV="1">
            <a:off x="3634920" y="4811760"/>
            <a:ext cx="762840" cy="2732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91" name="Прямая со стрелкой 8"/>
          <p:cNvCxnSpPr/>
          <p:nvPr/>
        </p:nvCxnSpPr>
        <p:spPr>
          <a:xfrm flipV="1">
            <a:off x="2410920" y="2788560"/>
            <a:ext cx="1986840" cy="10674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92" name="Прямая со стрелкой 9"/>
          <p:cNvCxnSpPr/>
          <p:nvPr/>
        </p:nvCxnSpPr>
        <p:spPr>
          <a:xfrm>
            <a:off x="2410920" y="3246480"/>
            <a:ext cx="1986840" cy="8308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Прямоугольник 1"/>
          <p:cNvSpPr/>
          <p:nvPr/>
        </p:nvSpPr>
        <p:spPr>
          <a:xfrm>
            <a:off x="539640" y="260280"/>
            <a:ext cx="7345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«Суета на балконе затихла. Барыня с мальчиком и господин в золот</a:t>
            </a:r>
            <a:r>
              <a:rPr b="1" lang="ru-RU" sz="2800" spc="-1" strike="noStrike">
                <a:solidFill>
                  <a:srgbClr val="00b050"/>
                </a:solidFill>
                <a:latin typeface="Century Schoolbook"/>
              </a:rPr>
              <a:t>___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очках подошли к самым перилам; остальн</a:t>
            </a:r>
            <a:r>
              <a:rPr b="1" lang="ru-RU" sz="2800" spc="-1" strike="noStrike">
                <a:solidFill>
                  <a:srgbClr val="00b050"/>
                </a:solidFill>
                <a:latin typeface="Century Schoolbook"/>
              </a:rPr>
              <a:t>___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почтительно оставались на задн</a:t>
            </a:r>
            <a:r>
              <a:rPr b="1" lang="ru-RU" sz="2800" spc="-1" strike="noStrike">
                <a:solidFill>
                  <a:srgbClr val="00b050"/>
                </a:solidFill>
                <a:latin typeface="Century Schoolbook"/>
              </a:rPr>
              <a:t>___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плане. Из глубины сада пришел садовник в фартуке и стал неподалеку от дедушки. Откуда-то вылезший дворник поместился позади садовника. Это был огромн</a:t>
            </a:r>
            <a:r>
              <a:rPr b="1" lang="ru-RU" sz="2800" spc="-1" strike="noStrike">
                <a:solidFill>
                  <a:srgbClr val="00b050"/>
                </a:solidFill>
                <a:latin typeface="Century Schoolbook"/>
              </a:rPr>
              <a:t>___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бородат</a:t>
            </a:r>
            <a:r>
              <a:rPr b="1" lang="ru-RU" sz="2800" spc="-1" strike="noStrike">
                <a:solidFill>
                  <a:srgbClr val="00b050"/>
                </a:solidFill>
                <a:latin typeface="Century Schoolbook"/>
              </a:rPr>
              <a:t>___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мужчина с мрачн</a:t>
            </a:r>
            <a:r>
              <a:rPr b="1" lang="ru-RU" sz="2800" spc="-1" strike="noStrike">
                <a:solidFill>
                  <a:srgbClr val="00b050"/>
                </a:solidFill>
                <a:latin typeface="Century Schoolbook"/>
              </a:rPr>
              <a:t>___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, узколоб</a:t>
            </a:r>
            <a:r>
              <a:rPr b="1" lang="ru-RU" sz="2800" spc="-1" strike="noStrike">
                <a:solidFill>
                  <a:srgbClr val="00b050"/>
                </a:solidFill>
                <a:latin typeface="Century Schoolbook"/>
              </a:rPr>
              <a:t>___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, ряб</a:t>
            </a:r>
            <a:r>
              <a:rPr b="1" lang="ru-RU" sz="2800" spc="-1" strike="noStrike">
                <a:solidFill>
                  <a:srgbClr val="00b050"/>
                </a:solidFill>
                <a:latin typeface="Century Schoolbook"/>
              </a:rPr>
              <a:t>___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лицом. Одет он был в нов</a:t>
            </a:r>
            <a:r>
              <a:rPr b="1" lang="ru-RU" sz="2800" spc="-1" strike="noStrike">
                <a:solidFill>
                  <a:srgbClr val="00b050"/>
                </a:solidFill>
                <a:latin typeface="Century Schoolbook"/>
              </a:rPr>
              <a:t>___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розов</a:t>
            </a:r>
            <a:r>
              <a:rPr b="1" lang="ru-RU" sz="2800" spc="-1" strike="noStrike">
                <a:solidFill>
                  <a:srgbClr val="00b050"/>
                </a:solidFill>
                <a:latin typeface="Century Schoolbook"/>
              </a:rPr>
              <a:t>___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рубашку, по которой шли кос</a:t>
            </a:r>
            <a:r>
              <a:rPr b="1" lang="ru-RU" sz="2800" spc="-1" strike="noStrike">
                <a:solidFill>
                  <a:srgbClr val="00b050"/>
                </a:solidFill>
                <a:latin typeface="Century Schoolbook"/>
              </a:rPr>
              <a:t>____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рядами крупн</a:t>
            </a:r>
            <a:r>
              <a:rPr b="1" lang="ru-RU" sz="2800" spc="-1" strike="noStrike">
                <a:solidFill>
                  <a:srgbClr val="00b050"/>
                </a:solidFill>
                <a:latin typeface="Century Schoolbook"/>
              </a:rPr>
              <a:t>___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черн</a:t>
            </a:r>
            <a:r>
              <a:rPr b="1" lang="ru-RU" sz="2800" spc="-1" strike="noStrike">
                <a:solidFill>
                  <a:srgbClr val="00b050"/>
                </a:solidFill>
                <a:latin typeface="Century Schoolbook"/>
              </a:rPr>
              <a:t>____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горошины»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Управляющая кнопка: настраиваемая 2">
            <a:hlinkClick r:id="rId1" action="ppaction://hlinksldjump"/>
          </p:cNvPr>
          <p:cNvSpPr/>
          <p:nvPr/>
        </p:nvSpPr>
        <p:spPr>
          <a:xfrm>
            <a:off x="8334360" y="5843520"/>
            <a:ext cx="287280" cy="289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9080"/>
              <a:gd name="textAreaBottom" fmla="*/ 270720 h 289080"/>
            </a:gdLst>
            <a:ahLst/>
            <a:rect l="textAreaLeft" t="textAreaTop" r="textAreaRight" b="textAreaBottom"/>
            <a:pathLst>
              <a:path w="21600" h="21735">
                <a:moveTo>
                  <a:pt x="0" y="0"/>
                </a:moveTo>
                <a:lnTo>
                  <a:pt x="21600" y="0"/>
                </a:lnTo>
                <a:lnTo>
                  <a:pt x="21600" y="21735"/>
                </a:lnTo>
                <a:lnTo>
                  <a:pt x="0" y="21735"/>
                </a:lnTo>
                <a:close/>
              </a:path>
              <a:path fill="lightenLess" w="21600" h="217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35">
                <a:moveTo>
                  <a:pt x="21600" y="0"/>
                </a:moveTo>
                <a:lnTo>
                  <a:pt x="21600" y="21735"/>
                </a:lnTo>
                <a:lnTo>
                  <a:pt x="20200" y="20335"/>
                </a:lnTo>
                <a:lnTo>
                  <a:pt x="20200" y="1400"/>
                </a:lnTo>
                <a:close/>
              </a:path>
              <a:path fill="darkenLess" w="21600" h="21735">
                <a:moveTo>
                  <a:pt x="21600" y="21735"/>
                </a:moveTo>
                <a:lnTo>
                  <a:pt x="0" y="21735"/>
                </a:lnTo>
                <a:lnTo>
                  <a:pt x="1400" y="20335"/>
                </a:lnTo>
                <a:lnTo>
                  <a:pt x="20200" y="20335"/>
                </a:lnTo>
                <a:close/>
              </a:path>
              <a:path fill="lighten" w="21600" h="21735">
                <a:moveTo>
                  <a:pt x="0" y="217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35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-360" y="274320"/>
            <a:ext cx="8675640" cy="64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   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«Суета на балконе затихла. Барыня с мальчиком и господин в золот</a:t>
            </a:r>
            <a:r>
              <a:rPr b="1" lang="ru-RU" sz="3200" spc="-1" strike="noStrike">
                <a:solidFill>
                  <a:srgbClr val="00b050"/>
                </a:solidFill>
                <a:latin typeface="Century Schoolbook"/>
              </a:rPr>
              <a:t>ых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очках подошли к самым перилам; остальн</a:t>
            </a:r>
            <a:r>
              <a:rPr b="1" lang="ru-RU" sz="3200" spc="-1" strike="noStrike">
                <a:solidFill>
                  <a:srgbClr val="00b050"/>
                </a:solidFill>
                <a:latin typeface="Century Schoolbook"/>
              </a:rPr>
              <a:t>ые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почтительно оставались на задн</a:t>
            </a:r>
            <a:r>
              <a:rPr b="1" lang="ru-RU" sz="3200" spc="-1" strike="noStrike">
                <a:solidFill>
                  <a:srgbClr val="00b050"/>
                </a:solidFill>
                <a:latin typeface="Century Schoolbook"/>
              </a:rPr>
              <a:t>ем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плане. Из глубины сада пришел садовник в фартуке и стал неподалеку от дедушки. Откуда-то вылезший дворник поместился позади садовника. Это был огромн</a:t>
            </a:r>
            <a:r>
              <a:rPr b="1" lang="ru-RU" sz="3200" spc="-1" strike="noStrike">
                <a:solidFill>
                  <a:srgbClr val="00b050"/>
                </a:solidFill>
                <a:latin typeface="Century Schoolbook"/>
              </a:rPr>
              <a:t>ый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бородат</a:t>
            </a:r>
            <a:r>
              <a:rPr b="1" lang="ru-RU" sz="3200" spc="-1" strike="noStrike">
                <a:solidFill>
                  <a:srgbClr val="00b050"/>
                </a:solidFill>
                <a:latin typeface="Century Schoolbook"/>
              </a:rPr>
              <a:t>ый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мужчина с мрачн</a:t>
            </a:r>
            <a:r>
              <a:rPr b="1" lang="ru-RU" sz="3200" spc="-1" strike="noStrike">
                <a:solidFill>
                  <a:srgbClr val="00b050"/>
                </a:solidFill>
                <a:latin typeface="Century Schoolbook"/>
              </a:rPr>
              <a:t>ым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, узколоб</a:t>
            </a:r>
            <a:r>
              <a:rPr b="1" lang="ru-RU" sz="3200" spc="-1" strike="noStrike">
                <a:solidFill>
                  <a:srgbClr val="00b050"/>
                </a:solidFill>
                <a:latin typeface="Century Schoolbook"/>
              </a:rPr>
              <a:t>ым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, ряб</a:t>
            </a:r>
            <a:r>
              <a:rPr b="1" lang="ru-RU" sz="3200" spc="-1" strike="noStrike">
                <a:solidFill>
                  <a:srgbClr val="00b050"/>
                </a:solidFill>
                <a:latin typeface="Century Schoolbook"/>
              </a:rPr>
              <a:t>ым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лицом. Одет он был в нов</a:t>
            </a:r>
            <a:r>
              <a:rPr b="1" lang="ru-RU" sz="3200" spc="-1" strike="noStrike">
                <a:solidFill>
                  <a:srgbClr val="00b050"/>
                </a:solidFill>
                <a:latin typeface="Century Schoolbook"/>
              </a:rPr>
              <a:t>ую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розов</a:t>
            </a:r>
            <a:r>
              <a:rPr b="1" lang="ru-RU" sz="3200" spc="-1" strike="noStrike">
                <a:solidFill>
                  <a:srgbClr val="00b050"/>
                </a:solidFill>
                <a:latin typeface="Century Schoolbook"/>
              </a:rPr>
              <a:t>ую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рубашку, по которой шли кос</a:t>
            </a:r>
            <a:r>
              <a:rPr b="1" lang="ru-RU" sz="3200" spc="-1" strike="noStrike">
                <a:solidFill>
                  <a:srgbClr val="00b050"/>
                </a:solidFill>
                <a:latin typeface="Century Schoolbook"/>
              </a:rPr>
              <a:t>ыми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рядами крупн</a:t>
            </a:r>
            <a:r>
              <a:rPr b="1" lang="ru-RU" sz="3200" spc="-1" strike="noStrike">
                <a:solidFill>
                  <a:srgbClr val="00b050"/>
                </a:solidFill>
                <a:latin typeface="Century Schoolbook"/>
              </a:rPr>
              <a:t>ые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черн</a:t>
            </a:r>
            <a:r>
              <a:rPr b="1" lang="ru-RU" sz="3200" spc="-1" strike="noStrike">
                <a:solidFill>
                  <a:srgbClr val="00b050"/>
                </a:solidFill>
                <a:latin typeface="Century Schoolbook"/>
              </a:rPr>
              <a:t>ые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горошины»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«…не все продается,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что покупается…»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1"/>
          <a:stretch/>
        </p:blipFill>
        <p:spPr>
          <a:xfrm>
            <a:off x="4340160" y="189000"/>
            <a:ext cx="44085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-230760"/>
            <a:ext cx="746748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68000" y="981000"/>
            <a:ext cx="8218440" cy="54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ndara"/>
              </a:rPr>
              <a:t>Спасибо за урок.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Candara"/>
              </a:rPr>
              <a:t>Молодцы!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Прямоугольник 1"/>
          <p:cNvSpPr/>
          <p:nvPr/>
        </p:nvSpPr>
        <p:spPr>
          <a:xfrm>
            <a:off x="755640" y="333360"/>
            <a:ext cx="7345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ы материалы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ик Р.Н. Бунеева, Е.В. Бунеевой, О.В. Прониной «Русский язык. 4 класс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 к учебнику Русский язык. 4 класс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И. Куприн. Собрание сочинений в 9 томах. Том 3. М.: Худ. литература, 1971. С. 264- 293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ые ресурсы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slovari.yandex.ru  - словарь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google.ru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иллюстраци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ОКОНЧАНИЯ ИМЕН ПРИЛАГАТЕЛЬНЫХ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о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ы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и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ог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ег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ом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ем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ую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юю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Управляющая кнопка: настраиваемая 14">
            <a:hlinkClick r:id="rId1" action="ppaction://hlinksldjump"/>
          </p:cNvPr>
          <p:cNvSpPr/>
          <p:nvPr/>
        </p:nvSpPr>
        <p:spPr>
          <a:xfrm>
            <a:off x="8271000" y="5877000"/>
            <a:ext cx="287280" cy="233280"/>
          </a:xfrm>
          <a:custGeom>
            <a:avLst/>
            <a:gdLst>
              <a:gd name="textAreaLeft" fmla="*/ 15120 w 287280"/>
              <a:gd name="textAreaRight" fmla="*/ 272160 w 287280"/>
              <a:gd name="textAreaTop" fmla="*/ 15120 h 233280"/>
              <a:gd name="textAreaBottom" fmla="*/ 218160 h 233280"/>
            </a:gdLst>
            <a:ahLst/>
            <a:rect l="textAreaLeft" t="textAreaTop" r="textAreaRight" b="textAreaBottom"/>
            <a:pathLst>
              <a:path w="26592" h="21600">
                <a:moveTo>
                  <a:pt x="0" y="0"/>
                </a:moveTo>
                <a:lnTo>
                  <a:pt x="26592" y="0"/>
                </a:lnTo>
                <a:lnTo>
                  <a:pt x="26592" y="21600"/>
                </a:lnTo>
                <a:lnTo>
                  <a:pt x="0" y="21600"/>
                </a:lnTo>
                <a:close/>
              </a:path>
              <a:path fill="lightenLess" w="26592" h="21600">
                <a:moveTo>
                  <a:pt x="0" y="0"/>
                </a:moveTo>
                <a:lnTo>
                  <a:pt x="26592" y="0"/>
                </a:lnTo>
                <a:lnTo>
                  <a:pt x="25192" y="1400"/>
                </a:lnTo>
                <a:lnTo>
                  <a:pt x="1400" y="1400"/>
                </a:lnTo>
                <a:close/>
              </a:path>
              <a:path fill="darken" w="26592" h="21600">
                <a:moveTo>
                  <a:pt x="26592" y="0"/>
                </a:moveTo>
                <a:lnTo>
                  <a:pt x="26592" y="21600"/>
                </a:lnTo>
                <a:lnTo>
                  <a:pt x="25192" y="20200"/>
                </a:lnTo>
                <a:lnTo>
                  <a:pt x="25192" y="1400"/>
                </a:lnTo>
                <a:close/>
              </a:path>
              <a:path fill="darkenLess" w="26592" h="21600">
                <a:moveTo>
                  <a:pt x="26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92" y="20200"/>
                </a:lnTo>
                <a:close/>
              </a:path>
              <a:path fill="lighten" w="26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ОКОНЧАНИЯ ИМЕН ПРИЛАГАТЕЛЬНЫХ В ЕД.Ч.,М.Р. ,Ж.Р. И СР. Р.: 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о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ы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и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ог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ег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ом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ем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ую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юю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.п.,В.п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.п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.п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.п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7" name="Прямая со стрелкой 7"/>
          <p:cNvCxnSpPr/>
          <p:nvPr/>
        </p:nvCxnSpPr>
        <p:spPr>
          <a:xfrm>
            <a:off x="1332000" y="1882440"/>
            <a:ext cx="3169440" cy="4294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8" name="Прямая со стрелкой 9"/>
          <p:cNvCxnSpPr/>
          <p:nvPr/>
        </p:nvCxnSpPr>
        <p:spPr>
          <a:xfrm flipV="1">
            <a:off x="1332000" y="2310840"/>
            <a:ext cx="3161520" cy="5086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9" name="Прямая со стрелкой 13"/>
          <p:cNvCxnSpPr/>
          <p:nvPr/>
        </p:nvCxnSpPr>
        <p:spPr>
          <a:xfrm flipV="1">
            <a:off x="1476360" y="2310840"/>
            <a:ext cx="2931120" cy="38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0" name="Прямая со стрелкой 21"/>
          <p:cNvCxnSpPr/>
          <p:nvPr/>
        </p:nvCxnSpPr>
        <p:spPr>
          <a:xfrm flipV="1">
            <a:off x="1402920" y="3175920"/>
            <a:ext cx="3025080" cy="277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1" name="Прямая со стрелкой 22"/>
          <p:cNvCxnSpPr/>
          <p:nvPr/>
        </p:nvCxnSpPr>
        <p:spPr>
          <a:xfrm flipV="1">
            <a:off x="1476360" y="3188880"/>
            <a:ext cx="2931120" cy="4564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2" name="Прямая со стрелкой 27"/>
          <p:cNvCxnSpPr/>
          <p:nvPr/>
        </p:nvCxnSpPr>
        <p:spPr>
          <a:xfrm flipV="1">
            <a:off x="1500120" y="4075920"/>
            <a:ext cx="2907360" cy="3610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3" name="Прямая со стрелкой 28"/>
          <p:cNvCxnSpPr/>
          <p:nvPr/>
        </p:nvCxnSpPr>
        <p:spPr>
          <a:xfrm>
            <a:off x="1500120" y="4076280"/>
            <a:ext cx="2928240" cy="10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4" name="Прямая со стрелкой 43"/>
          <p:cNvCxnSpPr/>
          <p:nvPr/>
        </p:nvCxnSpPr>
        <p:spPr>
          <a:xfrm flipV="1">
            <a:off x="1332000" y="4941000"/>
            <a:ext cx="3140640" cy="723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5" name="Прямая со стрелкой 44"/>
          <p:cNvCxnSpPr/>
          <p:nvPr/>
        </p:nvCxnSpPr>
        <p:spPr>
          <a:xfrm flipV="1">
            <a:off x="1402920" y="4941360"/>
            <a:ext cx="3025080" cy="4327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1152360" y="476280"/>
          <a:ext cx="6948720" cy="5429160"/>
        </p:xfrm>
        <a:graphic>
          <a:graphicData uri="http://schemas.openxmlformats.org/drawingml/2006/table">
            <a:tbl>
              <a:tblPr/>
              <a:tblGrid>
                <a:gridCol w="6948720"/>
              </a:tblGrid>
              <a:tr h="5429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лгоритм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5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Найти сущ.+при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5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Поставить ?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щ.→  при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5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Выделить  □ в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5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Написать  □ в прилагательно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5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омни! После мягких согласных пишутся другие букв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Прямоугольник 1"/>
          <p:cNvSpPr/>
          <p:nvPr/>
        </p:nvSpPr>
        <p:spPr>
          <a:xfrm>
            <a:off x="971640" y="260280"/>
            <a:ext cx="6985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…Мальчика он взял пять лет тому назад "напрокат" у забулдыги, вдов_____ сапожника, обязавшись за это уплачивать по два рубля в месяц. Но сапожник вскоре умер, и Сергей остался навеки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анным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дедушкой и душою, и мелк____  житейск______интересами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к___   роскошь южн___  природы не трогала старика…»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3" descr=""/>
          <p:cNvPicPr/>
          <p:nvPr/>
        </p:nvPicPr>
        <p:blipFill>
          <a:blip r:embed="rId1"/>
          <a:stretch/>
        </p:blipFill>
        <p:spPr>
          <a:xfrm>
            <a:off x="1332000" y="-15840"/>
            <a:ext cx="518472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Прямоугольник 1"/>
          <p:cNvSpPr/>
          <p:nvPr/>
        </p:nvSpPr>
        <p:spPr>
          <a:xfrm>
            <a:off x="468360" y="260280"/>
            <a:ext cx="8064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…любил свою шарманку так, как можно любить только живое, близкое, пожалуй, даже родственное существо. Свыкнувшись с ней за многие годы тяжелой бродячей жизни, он стал, наконец, видеть в ней что-то одухотворенное, почти сознательное»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147636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ru-RU" sz="2700" spc="-1" strike="noStrike">
                <a:solidFill>
                  <a:srgbClr val="d0a80a"/>
                </a:solidFill>
                <a:latin typeface="Century Schoolbook"/>
              </a:rPr>
              <a:t>СОСТАВЬ СЛОВОСОЧЕТАНИЯ И ГРАФИЧЕСКИ ДОКАЖИ, ЧТО У ТЕБЯ СЛОВА СВЯЗАНЫ ГРАММАТИЧЕСКИ: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нная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ойный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йной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образного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едушкиным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сти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ка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ловьем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манка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Управляющая кнопка: настраиваемая 4">
            <a:hlinkClick r:id="rId1" action="ppaction://hlinksldjump"/>
          </p:cNvPr>
          <p:cNvSpPr/>
          <p:nvPr/>
        </p:nvSpPr>
        <p:spPr>
          <a:xfrm>
            <a:off x="8244000" y="57942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uren</cp:lastModifiedBy>
  <cp:lastPrinted>2013-02-12T17:06:15Z</cp:lastPrinted>
  <dcterms:modified xsi:type="dcterms:W3CDTF">2013-02-28T18:45:06Z</dcterms:modified>
  <cp:revision>24</cp:revision>
  <dc:subject/>
  <dc:title>Презентация PowerPoint</dc:title>
</cp:coreProperties>
</file>