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CB6B-B2A0-4E8B-9D54-ED8398066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 Слайд №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41A4-65BD-471D-B768-1C5BDF1113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7CA8-D01B-4317-B7BC-0FFBAA4223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ранизации одноименной повести А. И. Куприна «Белый пудель» . Год выпуска: 19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: 01: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: Одесская киност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ссер: Владимир Шредель, Марианна Рош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лях: Валентина Куценко, Георгий Милляр, Галина Левченко, Владимир Поляков, Александр Антонов, Виктор Кольцов, Семен Свашен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54AD-B072-4F44-8BF2-673E043013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5BA7-DECE-4235-8B73-3CD70EDDA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лайд№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истопис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9ABD-99E5-4C9A-AE26-BF18A4A2F5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ист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E221-E153-48B9-948C-FDEEEB166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CCC0-2E15-49F1-9EA1-A51EDC62A9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№4(если нет электронной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7C70-D265-4464-8626-96BDBF19B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выпуска: 19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: Одесская киност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ссер: Владимир Шредель, Марианна Рош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лях: Валентина Куценко, Георгий Милляр, Галина Левченко, Владимир Поляков, Александр Антонов, Виктор Кольцов, Семен Свашен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31FD-EC92-4E9C-BCF9-FD44577D8C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 Слайд №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E4E-35F5-459C-9B22-2D23AD9A3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7A3-2699-4E6F-924C-5B076F68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2EA-EDD1-46EF-9A36-3A0C0ABC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493-18EB-4C41-B1A6-5A8C9BCE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0FE-BD37-4FC7-B4D6-DEED0203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CD7-951B-4336-A5FC-B5FAB483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C12B-9C1F-4D41-8194-6CD91E85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D75A-D04D-463E-A0DE-C88FEBB8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6BB9-9C12-49B0-A14A-0DEE455D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5C78-83B1-49F5-BCD9-775D2D10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40B6-B590-479A-BC85-DF07C9F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C9D5-29F1-42E6-97FF-F1F12B8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E35-63BD-45B5-B3DD-ED077644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CA6F-CA23-4925-A7B2-6BD564AB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7E1-C96B-47CD-AE8B-AC0372A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A222-5DF6-43EA-93E7-DAA72B9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98C2-65D3-4C8F-A797-F04240E4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8689-7A22-4C7F-96C5-E6C163C9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990C3-F921-4159-9C19-31022C27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1A3C1-2417-4EF1-A79B-CBFC8CAD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F5004-DA28-494F-8FCF-69A9A838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7FAF2-E87D-422D-9C30-2F403DF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617A1-7AC2-4698-8596-B2CE4D09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D5C-6154-4F0F-B44B-0A0B7589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03ADA-52E1-44DD-B3F0-C9325B94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39609-F1D6-44E0-A9A3-079B707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B37AB-DDC9-485A-B936-5F3590E7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1F353-0C76-42D0-BDBC-D291748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05455-8DC6-4251-87DA-C2B0B704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0B9A6-BC2E-4D3B-859A-9AA454FE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76B92-39E2-4C35-AB75-95B6D32D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957D-21B1-45B6-9861-0D687FB4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FBE0-CB64-441A-BD41-C4A5460B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240A-189C-4497-B380-C056EC70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85A-E9A5-45E6-9CBB-7219AA8E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D9DA-316B-4A62-AF3A-78BB6A0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6006-D0A5-4E2A-A1E9-57F3CBE1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549D-7199-40DB-A2E9-E660707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6874D-7702-4622-913F-AD4C6E8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8C74-FC1B-4287-885F-8EE156F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17D8-EAA9-419D-B24A-0BA11E13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196A-BF36-48A6-8748-8A079E78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14DA-429B-46DB-9A7D-C0EC770C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2DC8-5C1A-44B2-A2EA-4D6186E4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66BD2-05F1-4DEC-A8EE-92FFB8A1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5F4-E6C8-42A6-A26D-D43660F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63EBC-5EC2-475C-ADEF-FD44281F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C9432-7149-41A8-AFB1-630ABB5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D9249-12FC-4604-AA79-623FE3E0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B6AF9-1F0B-4B33-818B-4327C15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892ED-6C0A-40AB-ADE7-1A06444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FBCEA-6982-4AE0-82E4-E22F302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C7871-82D2-4034-84FA-FE294F5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C0963-5FA7-405C-AF86-4F56CB1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C8D6C-FDF6-40C1-B8D8-EE4B2CCE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E07A9-B92A-4C1D-B18F-B0B8E5B3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DB7-B465-4A5E-92BB-E63ACA9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8ECDC-37DE-4D31-B52D-5FBAD898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C7469-B6BB-40D5-8872-BE353108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7467E-30D5-496F-8030-F472F11F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82110-84A9-4F8E-8CCD-D544E1A3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9DC80-5C28-4ACB-9664-FFF977F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2DDF4-9B1A-4E97-B667-4146A84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1E4E5-F1E7-44AC-B0CF-DE9D2419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F6087-C326-411E-94AE-6010236C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23B27-0111-4736-A13E-D2C425D5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E1AC6-22F0-4796-95D4-8270C984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599-D907-4456-B93A-E402B10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1146D-743C-41A8-816E-4028C149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15648-0DE3-4099-A65A-F554D01F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3E2B3-8078-4F7C-B216-262993C2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DEEAB-1C6A-4CFC-987C-164A0E1A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E8E5E-CA82-4FF5-BFB0-86169B7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310F0-017E-4D97-B6F9-D0CC714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5A8B1-6DDE-44AF-9FE2-FC78128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943A1-60BB-4A05-A985-4024C1F2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A7B71-EEBF-42D1-9F78-A48AFFE9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483E0-AF3B-4F33-8E93-AFC52131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040-B3B4-487A-8122-54A0FE7E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07B99-2A4C-4B49-B47C-179AD08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152BB-4002-4084-A8DA-18DDC85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1005D-7681-49FF-9989-3D6908B6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8BAC2-2BD2-4F31-8BD2-705CCE34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8775D-021C-4372-8E43-698C5534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2E9-1FE8-4B22-8F6F-DC379FA4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390-EBA9-4F07-A197-575E412B7C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1A4E-68EE-4982-86F9-F90A4DED76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6056-332A-4466-9F0F-8C7DEA1CCD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2EB1-5C81-431E-9BA4-94D4200570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B183-E8C6-4E16-8257-D90F73D75A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5B22-FBDE-4807-9A24-3FCCD3C0E6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49BA-5D41-44AF-AED5-C98D3E53F4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УРОК РУССКОГО ЯЗЫКА В 4  КЛАССЕ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УМК «ШКОЛА 2100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ма: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азвитие умения писать слова с изученной орфограммой, графически объяснять выбор написания безударных падежных окончаний имен прилагательных».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мкин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БОУ школы №371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осковского район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анкт-Петербург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d0a80a"/>
                </a:solidFill>
                <a:latin typeface="Century Schoolbook"/>
              </a:rPr>
              <a:t>СОСТАВЬ СЛОВОСОЧЕТАНИЯ И ГРАФИЧЕСКИ ДОКАЖИ, ЧТО У ТЕБЯ СЛОВА СВЯЗАНЫ ГРАММАТИЧЕСКИ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йны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но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бразног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душкины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ловье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ман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8" name="Прямая со стрелкой 3"/>
          <p:cNvCxnSpPr/>
          <p:nvPr/>
        </p:nvCxnSpPr>
        <p:spPr>
          <a:xfrm>
            <a:off x="3008160" y="2484000"/>
            <a:ext cx="1493280" cy="3033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9" name="Прямая со стрелкой 6"/>
          <p:cNvCxnSpPr/>
          <p:nvPr/>
        </p:nvCxnSpPr>
        <p:spPr>
          <a:xfrm flipV="1">
            <a:off x="3635280" y="3460320"/>
            <a:ext cx="727560" cy="905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0" name="Прямая со стрелкой 7"/>
          <p:cNvCxnSpPr/>
          <p:nvPr/>
        </p:nvCxnSpPr>
        <p:spPr>
          <a:xfrm flipV="1">
            <a:off x="3634920" y="4811760"/>
            <a:ext cx="762840" cy="2732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1" name="Прямая со стрелкой 8"/>
          <p:cNvCxnSpPr/>
          <p:nvPr/>
        </p:nvCxnSpPr>
        <p:spPr>
          <a:xfrm flipV="1">
            <a:off x="2410920" y="2788560"/>
            <a:ext cx="1986840" cy="1067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2" name="Прямая со стрелкой 9"/>
          <p:cNvCxnSpPr/>
          <p:nvPr/>
        </p:nvCxnSpPr>
        <p:spPr>
          <a:xfrm>
            <a:off x="2410920" y="3246480"/>
            <a:ext cx="1986840" cy="830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539640" y="260280"/>
            <a:ext cx="734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Суета на балконе затихла. Барыня с мальчиком и господин в золот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очках подошли к самым перилам; осталь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почтительно оставались на зад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плане. Из глубины сада пришел садовник в фартуке и стал неподалеку от дедушки. Откуда-то вылезший дворник поместился позади садовника. Это был огром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бородат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мужчина с мрач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узколоб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ряб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лицом. Одет он был в нов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озов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убашку, по которой шли кос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ядами круп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чер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горошины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Управляющая кнопка: настраиваемая 2">
            <a:hlinkClick r:id="rId1" action="ppaction://hlinksldjump"/>
          </p:cNvPr>
          <p:cNvSpPr/>
          <p:nvPr/>
        </p:nvSpPr>
        <p:spPr>
          <a:xfrm>
            <a:off x="8334360" y="584352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-360" y="274320"/>
            <a:ext cx="8675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«Суета на балконе затихла. Барыня с мальчиком и господин в золот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очках подошли к самым перилам; осталь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почтительно оставались на зад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е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плане. Из глубины сада пришел садовник в фартуке и стал неподалеку от дедушки. Откуда-то вылезший дворник поместился позади садовника. Это был огром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бородат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мужчина с мрач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узколоб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ряб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лицом. Одет он был в нов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ую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розов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ую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рубашку, по которой шли кос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и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рядами круп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чер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горошины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…не все продается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покупается…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340160" y="189000"/>
            <a:ext cx="44085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-2307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000" y="981000"/>
            <a:ext cx="821844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ndara"/>
              </a:rPr>
              <a:t>Спасибо за урок.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ndara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755640" y="33336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ы материал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Р.Н. Бунеева, Е.В. Бунеевой, О.В. Прониной «Русский язык. 4 клас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к учебнику Русский язык. 4 класс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И. Куприн. Собрание сочинений в 9 томах. Том 3. М.: Худ. литература, 1971. С. 264- 293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ресур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lovari.yandex.ru  - словар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oogle.ru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ллюстр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КОНЧАНИЯ ИМЕН ПРИЛАГАТЕЛЬН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у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ю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Управляющая кнопка: настраиваемая 14">
            <a:hlinkClick r:id="rId1" action="ppaction://hlinksldjump"/>
          </p:cNvPr>
          <p:cNvSpPr/>
          <p:nvPr/>
        </p:nvSpPr>
        <p:spPr>
          <a:xfrm>
            <a:off x="8271000" y="5877000"/>
            <a:ext cx="287280" cy="233280"/>
          </a:xfrm>
          <a:custGeom>
            <a:avLst/>
            <a:gdLst>
              <a:gd name="textAreaLeft" fmla="*/ 15120 w 287280"/>
              <a:gd name="textAreaRight" fmla="*/ 272160 w 287280"/>
              <a:gd name="textAreaTop" fmla="*/ 15120 h 233280"/>
              <a:gd name="textAreaBottom" fmla="*/ 218160 h 23328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КОНЧАНИЯ ИМЕН ПРИЛАГАТЕЛЬНЫХ В ЕД.Ч.,М.Р. ,Ж.Р. И СР. Р.: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у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ю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.п.,В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Прямая со стрелкой 7"/>
          <p:cNvCxnSpPr/>
          <p:nvPr/>
        </p:nvCxnSpPr>
        <p:spPr>
          <a:xfrm>
            <a:off x="1332000" y="1882440"/>
            <a:ext cx="316944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9"/>
          <p:cNvCxnSpPr/>
          <p:nvPr/>
        </p:nvCxnSpPr>
        <p:spPr>
          <a:xfrm flipV="1">
            <a:off x="1332000" y="2310840"/>
            <a:ext cx="3161520" cy="508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13"/>
          <p:cNvCxnSpPr/>
          <p:nvPr/>
        </p:nvCxnSpPr>
        <p:spPr>
          <a:xfrm flipV="1">
            <a:off x="1476360" y="2310840"/>
            <a:ext cx="2931120" cy="38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1"/>
          <p:cNvCxnSpPr/>
          <p:nvPr/>
        </p:nvCxnSpPr>
        <p:spPr>
          <a:xfrm flipV="1">
            <a:off x="1402920" y="3175920"/>
            <a:ext cx="3025080" cy="27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2"/>
          <p:cNvCxnSpPr/>
          <p:nvPr/>
        </p:nvCxnSpPr>
        <p:spPr>
          <a:xfrm flipV="1">
            <a:off x="1476360" y="3188880"/>
            <a:ext cx="2931120" cy="456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7"/>
          <p:cNvCxnSpPr/>
          <p:nvPr/>
        </p:nvCxnSpPr>
        <p:spPr>
          <a:xfrm flipV="1">
            <a:off x="1500120" y="4075920"/>
            <a:ext cx="2907360" cy="36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>
            <a:off x="1500120" y="4076280"/>
            <a:ext cx="292824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4" name="Прямая со стрелкой 43"/>
          <p:cNvCxnSpPr/>
          <p:nvPr/>
        </p:nvCxnSpPr>
        <p:spPr>
          <a:xfrm flipV="1">
            <a:off x="1332000" y="4941000"/>
            <a:ext cx="3140640" cy="72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5" name="Прямая со стрелкой 44"/>
          <p:cNvCxnSpPr/>
          <p:nvPr/>
        </p:nvCxnSpPr>
        <p:spPr>
          <a:xfrm flipV="1">
            <a:off x="1402920" y="4941360"/>
            <a:ext cx="3025080" cy="432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52360" y="476280"/>
          <a:ext cx="6948720" cy="5429160"/>
        </p:xfrm>
        <a:graphic>
          <a:graphicData uri="http://schemas.openxmlformats.org/drawingml/2006/table">
            <a:tbl>
              <a:tblPr/>
              <a:tblGrid>
                <a:gridCol w="6948720"/>
              </a:tblGrid>
              <a:tr h="542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горитм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Найти сущ.+при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Поставить ?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щ.→  при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Выделить  □ в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Написать  □ в прилагательн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мни! После мягких согласных пишутся другие букв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971640" y="26028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Мальчика он взял пять лет тому назад "напрокат" у забулдыги, вдов_____ сапожника, обязавшись за это уплачивать по два рубля в месяц. Но сапожник вскоре умер, и Сергей остался навек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едушкой и душою, и мелк____  житейск______интерес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___   роскошь южн___  природы не трогала старика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1332000" y="-15840"/>
            <a:ext cx="51847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468360" y="260280"/>
            <a:ext cx="806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любил свою шарманку так, как можно любить только живое, близкое, пожалуй, даже родственное существо. Свыкнувшись с ней за многие годы тяжелой бродячей жизни, он стал, наконец, видеть в ней что-то одухотворенное, почти сознательное»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7636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d0a80a"/>
                </a:solidFill>
                <a:latin typeface="Century Schoolbook"/>
              </a:rPr>
              <a:t>СОСТАВЬ СЛОВОСОЧЕТАНИЯ И ГРАФИЧЕСКИ ДОКАЖИ, ЧТО У ТЕБЯ СЛОВА СВЯЗАНЫ ГРАММАТИЧЕСКИ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йны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но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бразног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душкины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ловье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ман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244000" y="579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ren</cp:lastModifiedBy>
  <cp:lastPrinted>2013-02-12T17:06:15Z</cp:lastPrinted>
  <dcterms:modified xsi:type="dcterms:W3CDTF">2013-02-28T18:45:06Z</dcterms:modified>
  <cp:revision>24</cp:revision>
  <dc:subject/>
  <dc:title>Презентация PowerPoint</dc:title>
</cp:coreProperties>
</file>