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png" ContentType="image/png"/>
  <Override PartName="/ppt/media/image1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1DA2-20C5-48EC-AC1B-F7D56A036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0462-84A4-41F0-89A1-0B438D89D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CFC-92AC-4868-8BB5-1C093C7FD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D9C-DF71-4200-9415-D41ECB15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941-4618-4221-9FF0-8A1AB04F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8ED-BABF-4C11-8CA9-85591504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757-A506-4553-ACEC-D56CF25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67D-23B9-4EDD-9327-502087C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6E6-7F3F-4F7F-837C-DBAC13C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672-1E3C-408F-AC65-F0AF9F93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CDF-DCD2-412C-A481-9B9A900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E0E-A30F-47C5-BA6B-64F4539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430-5255-4EA3-9BB8-59744B0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04F-57E1-4154-8A41-A1F4153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F80-77AD-447F-8479-96E6252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957A-17FA-44DB-9893-E30EE6288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219640" y="6021360"/>
            <a:ext cx="18432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ел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2519640"/>
          </a:xfrm>
          <a:prstGeom prst="rect">
            <a:avLst/>
          </a:prstGeom>
          <a:ln w="38160">
            <a:solidFill>
              <a:srgbClr val="def6f1"/>
            </a:solidFill>
            <a:miter/>
          </a:ln>
        </p:spPr>
      </p:pic>
      <p:pic>
        <p:nvPicPr>
          <p:cNvPr id="50" name="Picture 13" descr="FOTO21"/>
          <p:cNvPicPr/>
          <p:nvPr/>
        </p:nvPicPr>
        <p:blipFill>
          <a:blip r:embed="rId2"/>
          <a:stretch/>
        </p:blipFill>
        <p:spPr>
          <a:xfrm rot="20212200">
            <a:off x="468000" y="3715920"/>
            <a:ext cx="3268440" cy="21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4" descr="FOTO18"/>
          <p:cNvPicPr/>
          <p:nvPr/>
        </p:nvPicPr>
        <p:blipFill>
          <a:blip r:embed="rId3"/>
          <a:stretch/>
        </p:blipFill>
        <p:spPr>
          <a:xfrm rot="1101000">
            <a:off x="5435640" y="3716280"/>
            <a:ext cx="315900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71518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044468-1"/>
          <p:cNvPicPr/>
          <p:nvPr/>
        </p:nvPicPr>
        <p:blipFill>
          <a:blip r:embed="rId2"/>
          <a:stretch/>
        </p:blipFill>
        <p:spPr>
          <a:xfrm>
            <a:off x="4643280" y="3454560"/>
            <a:ext cx="450072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563917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788_3033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large_959"/>
          <p:cNvPicPr/>
          <p:nvPr/>
        </p:nvPicPr>
        <p:blipFill>
          <a:blip r:embed="rId5"/>
          <a:stretch/>
        </p:blipFill>
        <p:spPr>
          <a:xfrm>
            <a:off x="2411280" y="1484280"/>
            <a:ext cx="432144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3564000" y="177336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и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971640" y="191628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верху  взгляд  на  Россию  брось,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ыпалась  речками…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.В.Маяко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6059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оение молекулы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50920" y="1773360"/>
            <a:ext cx="3074400" cy="1871640"/>
            <a:chOff x="250920" y="1773360"/>
            <a:chExt cx="3074400" cy="1871640"/>
          </a:xfrm>
        </p:grpSpPr>
        <p:sp>
          <p:nvSpPr>
            <p:cNvPr id="118" name="Oval 4"/>
            <p:cNvSpPr/>
            <p:nvPr/>
          </p:nvSpPr>
          <p:spPr>
            <a:xfrm>
              <a:off x="969840" y="2132280"/>
              <a:ext cx="1656720" cy="151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5"/>
            <p:cNvSpPr/>
            <p:nvPr/>
          </p:nvSpPr>
          <p:spPr>
            <a:xfrm>
              <a:off x="250920" y="1773360"/>
              <a:ext cx="91404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2411280" y="1845000"/>
              <a:ext cx="91404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7"/>
          <p:cNvSpPr/>
          <p:nvPr/>
        </p:nvSpPr>
        <p:spPr>
          <a:xfrm>
            <a:off x="3712680" y="2349360"/>
            <a:ext cx="45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а состоит из двух атомов водо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одного атома кислор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724360" y="501336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250920" y="4941720"/>
            <a:ext cx="2771640" cy="1287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186120" y="6308640"/>
            <a:ext cx="29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ода в твердом состоя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Обь-река сибирская"/>
          <p:cNvPicPr/>
          <p:nvPr/>
        </p:nvPicPr>
        <p:blipFill>
          <a:blip r:embed="rId2"/>
          <a:stretch/>
        </p:blipFill>
        <p:spPr>
          <a:xfrm>
            <a:off x="3132000" y="3645000"/>
            <a:ext cx="280836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138840" y="5229360"/>
            <a:ext cx="28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Вода в жидком состоя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Круговорот воды в природе"/>
          <p:cNvPicPr/>
          <p:nvPr/>
        </p:nvPicPr>
        <p:blipFill>
          <a:blip r:embed="rId3"/>
          <a:stretch/>
        </p:blipFill>
        <p:spPr>
          <a:xfrm>
            <a:off x="6156360" y="5013360"/>
            <a:ext cx="280836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5587560" y="630864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Вода в газообразном состоя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dipol"/>
          <p:cNvPicPr/>
          <p:nvPr/>
        </p:nvPicPr>
        <p:blipFill>
          <a:blip r:embed="rId4"/>
          <a:stretch/>
        </p:blipFill>
        <p:spPr>
          <a:xfrm>
            <a:off x="5364000" y="90792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501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Н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+ О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  2Н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5280" y="70740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Лавуазье доверено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Чтоб было всё проверено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С Лапласом выполнял </a:t>
            </a: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                                    </a:t>
            </a: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эксперимен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Всё проанализировал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Он воду синтезировал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И доказал: она не элемент</a:t>
            </a: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68360" y="620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Работы продолж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Он видит в разлож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Воды в стволе, нагретом                                                                                 докрасн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И это путь единственны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Для утвержденья истины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На газы разлагается он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32000" y="4801680"/>
            <a:ext cx="6767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2Н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 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ahoma"/>
              </a:rPr>
              <a:t>эл. ток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  2Н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+ О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76360" y="486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ременный спосо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3851280" y="33336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не ценит воду до тех пор,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4500720" y="170028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а не иссякнет источник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5435640" y="2852640"/>
            <a:ext cx="2733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точная мудрос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8" descr="________-___________Y3C3709-1"/>
          <p:cNvPicPr/>
          <p:nvPr/>
        </p:nvPicPr>
        <p:blipFill>
          <a:blip r:embed="rId1"/>
          <a:stretch/>
        </p:blipFill>
        <p:spPr>
          <a:xfrm rot="488400">
            <a:off x="324000" y="3068640"/>
            <a:ext cx="4271760" cy="28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800x1"/>
          <p:cNvPicPr/>
          <p:nvPr/>
        </p:nvPicPr>
        <p:blipFill>
          <a:blip r:embed="rId2"/>
          <a:stretch/>
        </p:blipFill>
        <p:spPr>
          <a:xfrm rot="21225600">
            <a:off x="4211280" y="3933360"/>
            <a:ext cx="4235400" cy="268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20070118_150358_ny_43"/>
          <p:cNvPicPr/>
          <p:nvPr/>
        </p:nvPicPr>
        <p:blipFill>
          <a:blip r:embed="rId3"/>
          <a:stretch/>
        </p:blipFill>
        <p:spPr>
          <a:xfrm rot="21107400">
            <a:off x="250560" y="620280"/>
            <a:ext cx="3485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SC00120"/>
          <p:cNvPicPr/>
          <p:nvPr/>
        </p:nvPicPr>
        <p:blipFill>
          <a:blip r:embed="rId1"/>
          <a:stretch/>
        </p:blipFill>
        <p:spPr>
          <a:xfrm>
            <a:off x="468360" y="765000"/>
            <a:ext cx="8209080" cy="512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куст 129 Талинской площади 3"/>
          <p:cNvPicPr/>
          <p:nvPr/>
        </p:nvPicPr>
        <p:blipFill>
          <a:blip r:embed="rId2"/>
          <a:stretch/>
        </p:blipFill>
        <p:spPr>
          <a:xfrm>
            <a:off x="468360" y="765000"/>
            <a:ext cx="8207280" cy="511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290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untitled"/>
          <p:cNvPicPr/>
          <p:nvPr/>
        </p:nvPicPr>
        <p:blipFill>
          <a:blip r:embed="rId4"/>
          <a:stretch/>
        </p:blipFill>
        <p:spPr>
          <a:xfrm>
            <a:off x="4356000" y="35020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68360" y="189000"/>
            <a:ext cx="475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ЛЕЗН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3" descr="дизентерия"/>
          <p:cNvPicPr/>
          <p:nvPr/>
        </p:nvPicPr>
        <p:blipFill>
          <a:blip r:embed="rId1"/>
          <a:stretch/>
        </p:blipFill>
        <p:spPr>
          <a:xfrm>
            <a:off x="324000" y="134136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инфузория"/>
          <p:cNvPicPr/>
          <p:nvPr/>
        </p:nvPicPr>
        <p:blipFill>
          <a:blip r:embed="rId2"/>
          <a:stretch/>
        </p:blipFill>
        <p:spPr>
          <a:xfrm>
            <a:off x="5796000" y="33336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nematoda2"/>
          <p:cNvPicPr/>
          <p:nvPr/>
        </p:nvPicPr>
        <p:blipFill>
          <a:blip r:embed="rId3"/>
          <a:stretch/>
        </p:blipFill>
        <p:spPr>
          <a:xfrm>
            <a:off x="3886200" y="1916280"/>
            <a:ext cx="2529000" cy="28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оловратки"/>
          <p:cNvPicPr/>
          <p:nvPr/>
        </p:nvPicPr>
        <p:blipFill>
          <a:blip r:embed="rId4"/>
          <a:stretch/>
        </p:blipFill>
        <p:spPr>
          <a:xfrm>
            <a:off x="1116000" y="3860640"/>
            <a:ext cx="3094200" cy="251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сальмонела"/>
          <p:cNvPicPr/>
          <p:nvPr/>
        </p:nvPicPr>
        <p:blipFill>
          <a:blip r:embed="rId5"/>
          <a:stretch/>
        </p:blipFill>
        <p:spPr>
          <a:xfrm>
            <a:off x="6659640" y="3141720"/>
            <a:ext cx="2484360" cy="2076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холера"/>
          <p:cNvPicPr/>
          <p:nvPr/>
        </p:nvPicPr>
        <p:blipFill>
          <a:blip r:embed="rId6"/>
          <a:stretch/>
        </p:blipFill>
        <p:spPr>
          <a:xfrm>
            <a:off x="4716360" y="4941720"/>
            <a:ext cx="24829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204128400"/>
          <p:cNvPicPr/>
          <p:nvPr/>
        </p:nvPicPr>
        <p:blipFill>
          <a:blip r:embed="rId1"/>
          <a:stretch/>
        </p:blipFill>
        <p:spPr>
          <a:xfrm>
            <a:off x="1332000" y="1341360"/>
            <a:ext cx="6048360" cy="5112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3"/>
          <p:cNvSpPr txBox="1"/>
          <p:nvPr/>
        </p:nvSpPr>
        <p:spPr>
          <a:xfrm>
            <a:off x="539640" y="333360"/>
            <a:ext cx="741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ИСТНЫЕ  СООРУЖЕ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toymart_76136_05big"/>
          <p:cNvPicPr/>
          <p:nvPr/>
        </p:nvPicPr>
        <p:blipFill>
          <a:blip r:embed="rId1"/>
          <a:stretch/>
        </p:blipFill>
        <p:spPr>
          <a:xfrm>
            <a:off x="250920" y="5621400"/>
            <a:ext cx="930240" cy="1236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339840" y="234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50920" y="35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9 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79280" y="4292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,5 вед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340000" y="1197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ши  д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372360" y="40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3" descr="toymart_76136_05big"/>
          <p:cNvPicPr/>
          <p:nvPr/>
        </p:nvPicPr>
        <p:blipFill>
          <a:blip r:embed="rId2"/>
          <a:stretch/>
        </p:blipFill>
        <p:spPr>
          <a:xfrm>
            <a:off x="1474920" y="2997360"/>
            <a:ext cx="2903400" cy="386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4" descr="toymart_76136_05big"/>
          <p:cNvPicPr/>
          <p:nvPr/>
        </p:nvPicPr>
        <p:blipFill>
          <a:blip r:embed="rId3"/>
          <a:stretch/>
        </p:blipFill>
        <p:spPr>
          <a:xfrm>
            <a:off x="464328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7"/>
          <p:cNvSpPr/>
          <p:nvPr/>
        </p:nvSpPr>
        <p:spPr>
          <a:xfrm>
            <a:off x="2268360" y="544500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р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8 вед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6156360" y="5084640"/>
            <a:ext cx="26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ходу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0-40 вед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179280" y="26028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точная потребность в вод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050920" y="692280"/>
            <a:ext cx="8302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Воде была дана волшебная власть стать соком жизни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на Земле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786920" y="5012280"/>
            <a:ext cx="38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Леонард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да Вин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ода"/>
          <p:cNvPicPr/>
          <p:nvPr/>
        </p:nvPicPr>
        <p:blipFill>
          <a:blip r:embed="rId1"/>
          <a:stretch/>
        </p:blipFill>
        <p:spPr>
          <a:xfrm>
            <a:off x="0" y="0"/>
            <a:ext cx="2158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/>
          <p:cNvSpPr/>
          <p:nvPr/>
        </p:nvSpPr>
        <p:spPr>
          <a:xfrm>
            <a:off x="179280" y="404640"/>
            <a:ext cx="3600720" cy="2448000"/>
          </a:xfrm>
          <a:prstGeom prst="cloudCallout">
            <a:avLst>
              <a:gd name="adj1" fmla="val -40398"/>
              <a:gd name="adj2" fmla="val 80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971640" y="981000"/>
            <a:ext cx="43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д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ь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364000" y="3789360"/>
            <a:ext cx="360072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084720" y="4149720"/>
            <a:ext cx="41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и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 rot="642600">
            <a:off x="5219280" y="333000"/>
            <a:ext cx="3600360" cy="2665440"/>
          </a:xfrm>
          <a:prstGeom prst="cloudCallout">
            <a:avLst>
              <a:gd name="adj1" fmla="val -48902"/>
              <a:gd name="adj2" fmla="val 84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651640" y="981000"/>
            <a:ext cx="252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д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ергетик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1042920" y="3573360"/>
            <a:ext cx="3600360" cy="2448000"/>
          </a:xfrm>
          <a:prstGeom prst="cloudCallout">
            <a:avLst>
              <a:gd name="adj1" fmla="val -45722"/>
              <a:gd name="adj2" fmla="val 69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1692360" y="443700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3924360" y="602136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1692360" y="414972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116000" y="1268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6300720" y="458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т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156360" y="14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яжел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3635280" y="285264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692360" y="450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мер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йсберг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1981440"/>
          </a:xfrm>
          <a:prstGeom prst="rect">
            <a:avLst/>
          </a:prstGeom>
          <a:ln w="38160">
            <a:solidFill>
              <a:srgbClr val="def6f1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У тебя нет ни вкуса, ни цвета, ни запаха; тебя не возможно описать, тобой наслаждаются, не ведая, что ты такое. .. </a:t>
            </a:r>
            <a:r>
              <a:rPr b="1" lang="ru-RU" sz="1000" spc="-1" strike="noStrike">
                <a:solidFill>
                  <a:srgbClr val="000099"/>
                </a:solidFill>
                <a:latin typeface="Monotype Corsiva"/>
              </a:rPr>
              <a:t>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63640" y="907560"/>
            <a:ext cx="525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Вод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новое"/>
          <p:cNvPicPr/>
          <p:nvPr/>
        </p:nvPicPr>
        <p:blipFill>
          <a:blip r:embed="rId2"/>
          <a:stretch/>
        </p:blipFill>
        <p:spPr>
          <a:xfrm>
            <a:off x="5435640" y="404028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753120" y="4896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уан де Сент-Экзюпе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ost-20-1177351865"/>
          <p:cNvPicPr/>
          <p:nvPr/>
        </p:nvPicPr>
        <p:blipFill>
          <a:blip r:embed="rId1"/>
          <a:stretch/>
        </p:blipFill>
        <p:spPr>
          <a:xfrm>
            <a:off x="1835280" y="907920"/>
            <a:ext cx="5545080" cy="509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0" y="4267080"/>
            <a:ext cx="3059280" cy="2590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1692360" y="299736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70%  содержат животные организ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90% содержат плоды огурца, арбу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65% массы тела челов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j0178617"/>
          <p:cNvPicPr/>
          <p:nvPr/>
        </p:nvPicPr>
        <p:blipFill>
          <a:blip r:embed="rId1"/>
          <a:stretch/>
        </p:blipFill>
        <p:spPr>
          <a:xfrm rot="20809200">
            <a:off x="468360" y="2997000"/>
            <a:ext cx="3241800" cy="21445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4" name="Picture 5" descr="j0201203"/>
          <p:cNvPicPr/>
          <p:nvPr/>
        </p:nvPicPr>
        <p:blipFill>
          <a:blip r:embed="rId2"/>
          <a:stretch/>
        </p:blipFill>
        <p:spPr>
          <a:xfrm>
            <a:off x="2411280" y="4221000"/>
            <a:ext cx="3370320" cy="22291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Picture 6" descr="j0185204"/>
          <p:cNvPicPr/>
          <p:nvPr/>
        </p:nvPicPr>
        <p:blipFill>
          <a:blip r:embed="rId3"/>
          <a:stretch/>
        </p:blipFill>
        <p:spPr>
          <a:xfrm>
            <a:off x="5651640" y="260280"/>
            <a:ext cx="3240000" cy="216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6" name="Picture 7" descr="016-1"/>
          <p:cNvPicPr/>
          <p:nvPr/>
        </p:nvPicPr>
        <p:blipFill>
          <a:blip r:embed="rId4">
            <a:grayscl/>
          </a:blip>
          <a:stretch/>
        </p:blipFill>
        <p:spPr>
          <a:xfrm rot="566400">
            <a:off x="6157440" y="4700160"/>
            <a:ext cx="2362320" cy="1671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468360" y="333360"/>
            <a:ext cx="66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 меж растениям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царствует вой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ревья, трав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верх растут задорно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851280" y="2565360"/>
            <a:ext cx="559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 корни их в земле,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еся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вой труд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За почву и за влаг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пор веду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6_20060300"/>
          <p:cNvPicPr/>
          <p:nvPr/>
        </p:nvPicPr>
        <p:blipFill>
          <a:blip r:embed="rId1"/>
          <a:stretch/>
        </p:blipFill>
        <p:spPr>
          <a:xfrm>
            <a:off x="0" y="0"/>
            <a:ext cx="5796000" cy="434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_129"/>
          <p:cNvPicPr/>
          <p:nvPr/>
        </p:nvPicPr>
        <p:blipFill>
          <a:blip r:embed="rId2"/>
          <a:stretch/>
        </p:blipFill>
        <p:spPr>
          <a:xfrm>
            <a:off x="3924360" y="2708280"/>
            <a:ext cx="5219640" cy="414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020260088269"/>
          <p:cNvPicPr/>
          <p:nvPr/>
        </p:nvPicPr>
        <p:blipFill>
          <a:blip r:embed="rId3"/>
          <a:stretch/>
        </p:blipFill>
        <p:spPr>
          <a:xfrm>
            <a:off x="6732720" y="189000"/>
            <a:ext cx="202392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normal_408074"/>
          <p:cNvPicPr/>
          <p:nvPr/>
        </p:nvPicPr>
        <p:blipFill>
          <a:blip r:embed="rId4"/>
          <a:stretch/>
        </p:blipFill>
        <p:spPr>
          <a:xfrm>
            <a:off x="395280" y="4581360"/>
            <a:ext cx="3073320" cy="204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s320x240"/>
          <p:cNvPicPr/>
          <p:nvPr/>
        </p:nvPicPr>
        <p:blipFill>
          <a:blip r:embed="rId5"/>
          <a:stretch/>
        </p:blipFill>
        <p:spPr>
          <a:xfrm>
            <a:off x="826920" y="765000"/>
            <a:ext cx="7345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2534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держание воды в организме человека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2205000"/>
            <a:ext cx="2159280" cy="2879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0302953"/>
          <p:cNvPicPr/>
          <p:nvPr/>
        </p:nvPicPr>
        <p:blipFill>
          <a:blip r:embed="rId1"/>
          <a:stretch/>
        </p:blipFill>
        <p:spPr>
          <a:xfrm>
            <a:off x="3708360" y="2421000"/>
            <a:ext cx="1728720" cy="2448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77" name="Line 7"/>
          <p:cNvSpPr/>
          <p:nvPr/>
        </p:nvSpPr>
        <p:spPr>
          <a:xfrm flipV="1">
            <a:off x="4572000" y="1916280"/>
            <a:ext cx="0" cy="2174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987640" y="981000"/>
            <a:ext cx="302436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видное тело гл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5724360" y="2781000"/>
            <a:ext cx="30168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084720" y="2492280"/>
            <a:ext cx="2232360" cy="79236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 эма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5724360" y="4365720"/>
            <a:ext cx="36036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227640" y="4076640"/>
            <a:ext cx="208944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572000" y="5157720"/>
            <a:ext cx="0" cy="358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564000" y="5589720"/>
            <a:ext cx="208764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3059280" y="4365720"/>
            <a:ext cx="380880" cy="1141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539640" y="4076640"/>
            <a:ext cx="2448000" cy="86508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вая тка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H="1" flipV="1">
            <a:off x="2987640" y="2852640"/>
            <a:ext cx="380880" cy="1144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539640" y="2492280"/>
            <a:ext cx="2448000" cy="79236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144695313_filmz_demon1136659557_i_1036_full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4956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4643280" y="333360"/>
            <a:ext cx="223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ЯНО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619280" y="333360"/>
            <a:ext cx="2232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МЫ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826920" y="1268280"/>
            <a:ext cx="792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 на 65% состоит из вод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читайте, какое количество вод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ся в каждом из ва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716360" y="314172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саму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одяную» групп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15547"/>
          <p:cNvPicPr/>
          <p:nvPr/>
        </p:nvPicPr>
        <p:blipFill>
          <a:blip r:embed="rId1"/>
          <a:stretch/>
        </p:blipFill>
        <p:spPr>
          <a:xfrm>
            <a:off x="6180120" y="0"/>
            <a:ext cx="2963880" cy="3168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47628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хождение  воды  в  природ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9528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анимает  71 %  земного  ша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95280" y="2060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97 % приходится на океаны и мор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3dcaefb69383"/>
          <p:cNvPicPr/>
          <p:nvPr/>
        </p:nvPicPr>
        <p:blipFill>
          <a:blip r:embed="rId2"/>
          <a:stretch/>
        </p:blipFill>
        <p:spPr>
          <a:xfrm rot="21039600">
            <a:off x="324000" y="292392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ormal_ocean6"/>
          <p:cNvPicPr/>
          <p:nvPr/>
        </p:nvPicPr>
        <p:blipFill>
          <a:blip r:embed="rId3"/>
          <a:stretch/>
        </p:blipFill>
        <p:spPr>
          <a:xfrm>
            <a:off x="2987640" y="4292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312098"/>
          <p:cNvPicPr/>
          <p:nvPr/>
        </p:nvPicPr>
        <p:blipFill>
          <a:blip r:embed="rId4"/>
          <a:stretch/>
        </p:blipFill>
        <p:spPr>
          <a:xfrm rot="1420200">
            <a:off x="5003280" y="3068280"/>
            <a:ext cx="3708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3367"/>
          <p:cNvPicPr/>
          <p:nvPr/>
        </p:nvPicPr>
        <p:blipFill>
          <a:blip r:embed="rId1"/>
          <a:stretch/>
        </p:blipFill>
        <p:spPr>
          <a:xfrm>
            <a:off x="0" y="5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0579"/>
          <p:cNvPicPr/>
          <p:nvPr/>
        </p:nvPicPr>
        <p:blipFill>
          <a:blip r:embed="rId2"/>
          <a:stretch/>
        </p:blipFill>
        <p:spPr>
          <a:xfrm>
            <a:off x="2916360" y="1773360"/>
            <a:ext cx="4897440" cy="36716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5435640" y="907920"/>
            <a:ext cx="117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826920" y="4365720"/>
            <a:ext cx="14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от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2340000" y="5805360"/>
            <a:ext cx="178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и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971640" y="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2,5 % озера, реки, подземн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264200" y="65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6cc8a61029c0"/>
          <p:cNvPicPr/>
          <p:nvPr/>
        </p:nvPicPr>
        <p:blipFill>
          <a:blip r:embed="rId3"/>
          <a:stretch/>
        </p:blipFill>
        <p:spPr>
          <a:xfrm>
            <a:off x="4535640" y="376092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7:31:23Z</dcterms:created>
  <dc:creator>user403</dc:creator>
  <dc:description>Тауль Ольга Анатольевна</dc:description>
  <dc:language>en-US</dc:language>
  <cp:lastModifiedBy>Admin</cp:lastModifiedBy>
  <dcterms:modified xsi:type="dcterms:W3CDTF">2013-02-27T23:15:55Z</dcterms:modified>
  <cp:revision>44</cp:revision>
  <dc:subject/>
  <dc:title>Гидросф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Презентация1</vt:lpwstr>
  </property>
  <property fmtid="{D5CDD505-2E9C-101B-9397-08002B2CF9AE}" pid="3" name="LastUsedName">
    <vt:lpwstr>Презентация1</vt:lpwstr>
  </property>
</Properties>
</file>