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74BA-4386-4803-BAD7-861900923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F9A9-8F8E-4467-B387-852A3CACB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4761-3507-42EC-92F6-B8C91B74F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6FAA-5A78-409F-A60D-D3ACFA66A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7E606-3B83-4D23-ACA5-624E9693E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850CA-75AB-4060-BFDD-E60635C3E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9CF60-D8C9-4AFF-B62F-423B21F18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E2204-803E-453A-B580-561004084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6F0C8-70E5-4E6A-B4BC-2EF22712E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3EA53-50B6-418B-A8C5-8C9EC095A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D24F5-1517-482A-AD33-713FE422D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7450-E36F-40AD-BBE8-5F71B5E02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5814E-A692-481A-8C6A-F21DDC592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ED3F8-54FF-4889-8255-D8DB4E165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2665E-FA8C-4E94-88FF-9E5B677E9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55DF2-DA7E-44C1-B9DF-89FFB426A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E72CF-5A0C-4EF2-A0AA-DF88351C3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361AD4-9096-4397-BB78-F64F8D32D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20F442-FDF3-4424-BDC0-9C156F7D1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9A9585-E020-42FD-9591-A3FD0E10F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F73E41-D75C-448F-AEC8-BD1042D0F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70B49B-6D08-44B1-952A-1EBEB9687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D6C3-C805-493E-B8BE-EC23F2C1B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5F30CB-5642-4C72-8841-B37DCCF5A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2DE635-DF60-429D-A61E-B414E7326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521F51-E82A-46CA-AB67-5E8517DDA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18DB2C-83F9-46C9-A2D2-359F31BFF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FB3A8F-08B8-46C7-97B6-044BBE94C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E1C3AD-7FDE-4BED-B393-5C1A0511C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4A9E09-22EC-472D-B414-81F1757FB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B6CD83-2233-40F3-89AF-478FC7738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301357-EC61-416E-8BF9-9ADE0A5AF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13116C-5D06-48CD-8D6A-8917B9801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70B3-472E-41E1-AD64-63A22C822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776F26-DA1C-4C50-832A-DD3B5C280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6E9F99-B11F-49AC-8B0B-57253B224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BB3FE1-A267-4EDA-8568-0EADAAC55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768B0A-1736-401E-82C3-5E2D6DF89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36556F-9594-430B-B5B9-E307ADB2F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7D05BA-3469-48DD-9BA6-653653A33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C56028-CC80-4FF5-855E-89453DB1C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37A139-1CD6-4110-A0C5-53FC08EB8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DEE483-27E3-4724-84AE-8796ECE37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67B4755-192E-4D9C-A3B3-AD960387E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8FDC-F12C-461B-B16A-0FC35B169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671AD2-49CE-44F1-9DFF-BB9AE52BB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F76CE8-42B6-482C-9906-E7B05A558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986111-B558-42EF-B4FE-AAD86A689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89AF39-D360-4533-840E-79998A22B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917057-737D-48B8-9820-AE72B3B6C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B9B440-0BB3-4D54-ACCA-B12A60CB0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98D2B9-F3CD-49FD-87B3-F25CD4C68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920255-2E79-48C1-B3EA-F214A7E57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256693-3E93-43DE-B6D3-51BF644B0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52BC9E-7AB1-403E-B962-1329A5E3F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1B5D-6D9E-44BB-AF39-D48894B6D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7121C6-D4B9-4379-83B1-2D3BA3AD4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4E70F20-7488-460D-83CB-DAA0457AA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72D8E74-3E65-4DF3-A493-C6FFFEC64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CE3D4C2-EFCF-40A3-8D94-C9C17B877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845AC6-C591-4602-B2C2-5DFC351DC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ACB0C32-54B2-4A88-8783-9616F8360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4DB2B7F-D65F-4042-8F81-A097C08B0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C045DDB-CCA7-4325-8089-53B18454E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C60C94A-3B46-4227-AAF9-29E600BE6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CD964AF-FC9E-481F-88C0-E7CC8DDA1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D55E-74B3-48EE-9229-AD81C3381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F97C84E-B6F2-476C-886A-40CF7BB84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7662A32-3ECF-4AD4-B33A-BAD4F7B54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F93016-E18C-4434-811F-284BF54C4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1591243-39C2-4E0F-AFDC-9667F08F0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0E3AE5D-A20B-4D87-B420-70A3A50A8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08BC4D9-CA96-4A1F-BF27-1A37B5712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872F3C9-BD36-4794-85DE-66E4A6360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E4C3589-C48B-47DF-A1F9-2DE49191D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2F39DA7-DE7F-43CB-94D4-B327DD09C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B6E8314-1810-407C-92AF-22983503D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93DA-6150-4AD1-B4F7-4478AF6BA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1FBFE26-35B3-4196-8E47-FAF6F91BA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30D3F6F-CE2B-4EBD-B096-4C728AA62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D2C4D92-7AFF-4A4A-B18A-BEFB5460B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ED093C7-EF98-4E10-86F1-5A531A62A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86D7037-5A71-4F3C-BE46-C3B49AD01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B9C6-B7D6-4572-8AFB-64CE04937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80F54-FD66-43BF-9EF3-80791FBD4A87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F5091-61ED-431A-A506-8D7EC814FB89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D453F-3416-463F-8057-BAB887AF6EF4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CEC17-44F0-4202-B55F-D37D99CC4F21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EBAEA-A30B-427E-A530-0A7790CD0CF7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6CEB4-B26D-456E-9309-87C31CCB3E03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7A8A3-3A58-4664-87D2-1F7899A9E9BE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PHRASAL VERBS</a:t>
            </a:r>
            <a:br>
              <a:rPr sz="3000"/>
            </a:b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8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Скругленный прямоугольник 3"/>
          <p:cNvSpPr/>
          <p:nvPr/>
        </p:nvSpPr>
        <p:spPr>
          <a:xfrm>
            <a:off x="3348000" y="2997360"/>
            <a:ext cx="2160720" cy="863280"/>
          </a:xfrm>
          <a:prstGeom prst="roundRect">
            <a:avLst>
              <a:gd name="adj" fmla="val 16667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t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4" name="Прямая со стрелкой 7"/>
          <p:cNvCxnSpPr/>
          <p:nvPr/>
        </p:nvCxnSpPr>
        <p:spPr>
          <a:xfrm flipH="1" flipV="1">
            <a:off x="2268000" y="2420280"/>
            <a:ext cx="1152000" cy="57708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355" name="Прямая со стрелкой 9"/>
          <p:cNvCxnSpPr>
            <a:stCxn id="353" idx="0"/>
            <a:endCxn id="356" idx="4"/>
          </p:cNvCxnSpPr>
          <p:nvPr/>
        </p:nvCxnSpPr>
        <p:spPr>
          <a:xfrm flipV="1">
            <a:off x="4428720" y="2133000"/>
            <a:ext cx="143640" cy="86436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357" name="Прямая со стрелкой 11"/>
          <p:cNvCxnSpPr/>
          <p:nvPr/>
        </p:nvCxnSpPr>
        <p:spPr>
          <a:xfrm flipV="1">
            <a:off x="5363640" y="2276280"/>
            <a:ext cx="1296360" cy="72144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358" name="Прямая со стрелкой 17"/>
          <p:cNvCxnSpPr>
            <a:stCxn id="353" idx="1"/>
          </p:cNvCxnSpPr>
          <p:nvPr/>
        </p:nvCxnSpPr>
        <p:spPr>
          <a:xfrm flipH="1">
            <a:off x="2339640" y="3428640"/>
            <a:ext cx="1008720" cy="108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359" name="Прямая со стрелкой 19"/>
          <p:cNvCxnSpPr/>
          <p:nvPr/>
        </p:nvCxnSpPr>
        <p:spPr>
          <a:xfrm>
            <a:off x="5579640" y="3284280"/>
            <a:ext cx="793080" cy="108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360" name="Прямая со стрелкой 21"/>
          <p:cNvCxnSpPr/>
          <p:nvPr/>
        </p:nvCxnSpPr>
        <p:spPr>
          <a:xfrm flipH="1">
            <a:off x="2123640" y="3789360"/>
            <a:ext cx="1224720" cy="72000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361" name="Прямая со стрелкой 23"/>
          <p:cNvCxnSpPr/>
          <p:nvPr/>
        </p:nvCxnSpPr>
        <p:spPr>
          <a:xfrm>
            <a:off x="5508720" y="3789360"/>
            <a:ext cx="1008720" cy="21672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362" name="Прямая со стрелкой 25"/>
          <p:cNvCxnSpPr/>
          <p:nvPr/>
        </p:nvCxnSpPr>
        <p:spPr>
          <a:xfrm flipH="1">
            <a:off x="3418920" y="3933360"/>
            <a:ext cx="361080" cy="115164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363" name="Прямая со стрелкой 27"/>
          <p:cNvCxnSpPr/>
          <p:nvPr/>
        </p:nvCxnSpPr>
        <p:spPr>
          <a:xfrm>
            <a:off x="4859280" y="3933360"/>
            <a:ext cx="937440" cy="115164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sp>
        <p:nvSpPr>
          <p:cNvPr id="364" name="Овал 28"/>
          <p:cNvSpPr/>
          <p:nvPr/>
        </p:nvSpPr>
        <p:spPr>
          <a:xfrm>
            <a:off x="539640" y="476280"/>
            <a:ext cx="2448000" cy="2016000"/>
          </a:xfrm>
          <a:prstGeom prst="ellipse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entury Schoolbook"/>
              </a:rPr>
              <a:t>O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1)Leave the gr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2)Remo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3) Become successf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Овал 29"/>
          <p:cNvSpPr/>
          <p:nvPr/>
        </p:nvSpPr>
        <p:spPr>
          <a:xfrm>
            <a:off x="3132000" y="189000"/>
            <a:ext cx="2880000" cy="1944720"/>
          </a:xfrm>
          <a:prstGeom prst="ellipse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entury Schoolbook"/>
              </a:rPr>
              <a:t>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entury School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Understand fu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entury School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Give a bedroom to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sm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entury School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Овал 30"/>
          <p:cNvSpPr/>
          <p:nvPr/>
        </p:nvSpPr>
        <p:spPr>
          <a:xfrm>
            <a:off x="5940360" y="1197000"/>
            <a:ext cx="2232000" cy="1008000"/>
          </a:xfrm>
          <a:prstGeom prst="ellipse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entury Schoolbook"/>
              </a:rPr>
              <a:t>O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Take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Овал 31"/>
          <p:cNvSpPr/>
          <p:nvPr/>
        </p:nvSpPr>
        <p:spPr>
          <a:xfrm>
            <a:off x="6227640" y="2421000"/>
            <a:ext cx="2376720" cy="1079280"/>
          </a:xfrm>
          <a:prstGeom prst="ellipse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entury Schoolbook"/>
              </a:rPr>
              <a:t>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Emplo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Овал 32"/>
          <p:cNvSpPr/>
          <p:nvPr/>
        </p:nvSpPr>
        <p:spPr>
          <a:xfrm>
            <a:off x="6516720" y="3573360"/>
            <a:ext cx="2303280" cy="1656000"/>
          </a:xfrm>
          <a:prstGeom prst="ellipse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entury Schoolbook"/>
              </a:rPr>
              <a:t>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Take smb as your guest to a restaurant e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Овал 33"/>
          <p:cNvSpPr/>
          <p:nvPr/>
        </p:nvSpPr>
        <p:spPr>
          <a:xfrm>
            <a:off x="5435640" y="5013360"/>
            <a:ext cx="2016000" cy="1079640"/>
          </a:xfrm>
          <a:prstGeom prst="ellipse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entury Schoolbook"/>
              </a:rPr>
              <a:t>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entury School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entury School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Occup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Овал 34"/>
          <p:cNvSpPr/>
          <p:nvPr/>
        </p:nvSpPr>
        <p:spPr>
          <a:xfrm>
            <a:off x="2771640" y="5084640"/>
            <a:ext cx="2160720" cy="1224000"/>
          </a:xfrm>
          <a:prstGeom prst="ellipse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entury Schoolbook"/>
              </a:rPr>
              <a:t>Af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Be similar to a rel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Овал 35"/>
          <p:cNvSpPr/>
          <p:nvPr/>
        </p:nvSpPr>
        <p:spPr>
          <a:xfrm>
            <a:off x="539640" y="4437000"/>
            <a:ext cx="2016360" cy="1079640"/>
          </a:xfrm>
          <a:prstGeom prst="ellipse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entury Schoolbook"/>
              </a:rPr>
              <a:t>A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Separate into pa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Овал 36"/>
          <p:cNvSpPr/>
          <p:nvPr/>
        </p:nvSpPr>
        <p:spPr>
          <a:xfrm>
            <a:off x="539640" y="2781360"/>
            <a:ext cx="1800360" cy="1079280"/>
          </a:xfrm>
          <a:prstGeom prst="ellipse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entury Schoolbook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Century Schoolboo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2T14:25:02Z</dcterms:created>
  <dc:creator>1</dc:creator>
  <dc:description/>
  <dc:language>en-US</dc:language>
  <cp:lastModifiedBy>1</cp:lastModifiedBy>
  <dcterms:modified xsi:type="dcterms:W3CDTF">2013-02-22T20:31:07Z</dcterms:modified>
  <cp:revision>17</cp:revision>
  <dc:subject/>
  <dc:title>Слайд 1</dc:title>
</cp:coreProperties>
</file>