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0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gif" ContentType="image/gif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A00-5E6D-4CDB-A15D-5F100F2A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05E-8E28-4A4C-B1B3-5EE41E29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A3E-B7AE-43DD-9BC2-17F776F1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6DF-49BB-427A-9842-EAF76E2F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AB6-727C-4D54-9188-89EEFDE9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2F8-1ACD-4D62-8825-DF786E3E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1FE-2E48-40D0-9CC4-90AE9E22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8A2-7E65-4D45-A8D4-753EA89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D62-4E80-4538-9C23-E3DBC7C1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9A5-2B4A-4F62-AB84-8A53BE6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D6D-7B91-4034-B5F4-5169A302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6A3-B408-4A8C-A182-BD47C33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9477-2507-4E47-8FBB-AAA4C767B9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1B1B-5760-4AE1-B2FD-975ED9697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Arial"/>
                <a:ea typeface="Arial"/>
              </a:rPr>
              <a:t>Числа от 1 до 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14400" y="385776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ТЕСТ №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МОИ шаблоны ЭКСПЕРИМЕНТы\30040876.jpg"/>
          <p:cNvPicPr/>
          <p:nvPr/>
        </p:nvPicPr>
        <p:blipFill>
          <a:blip r:embed="rId2"/>
          <a:stretch/>
        </p:blipFill>
        <p:spPr>
          <a:xfrm>
            <a:off x="281160" y="3925800"/>
            <a:ext cx="2322360" cy="257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МОИ шаблоны ЭКСПЕРИМЕНТы\18112_0-550-700-1.jpg"/>
          <p:cNvPicPr/>
          <p:nvPr/>
        </p:nvPicPr>
        <p:blipFill>
          <a:blip r:embed="rId3"/>
          <a:stretch/>
        </p:blipFill>
        <p:spPr>
          <a:xfrm>
            <a:off x="928800" y="414324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:\Documents and Settings\Aida\Рабочий стол\текстуры и фоны, клипарты\новеньки картинки\addition 2 plus 2 ha.gif"/>
          <p:cNvPicPr/>
          <p:nvPr/>
        </p:nvPicPr>
        <p:blipFill>
          <a:blip r:embed="rId4"/>
          <a:stretch/>
        </p:blipFill>
        <p:spPr>
          <a:xfrm>
            <a:off x="1071720" y="6000840"/>
            <a:ext cx="714240" cy="45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Documents and Settings\Aida\Рабочий стол\текстуры и фоны, клипарты\Scool_objekts\scool (30).png"/>
          <p:cNvPicPr/>
          <p:nvPr/>
        </p:nvPicPr>
        <p:blipFill>
          <a:blip r:embed="rId5"/>
          <a:stretch/>
        </p:blipFill>
        <p:spPr>
          <a:xfrm>
            <a:off x="7715160" y="5715000"/>
            <a:ext cx="77940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Documents and Settings\Aida\Рабочий стол\текстуры и фоны, клипарты\Scool_objekts\scool (45).png"/>
          <p:cNvPicPr/>
          <p:nvPr/>
        </p:nvPicPr>
        <p:blipFill>
          <a:blip r:embed="rId6"/>
          <a:stretch/>
        </p:blipFill>
        <p:spPr>
          <a:xfrm>
            <a:off x="7643880" y="485784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текстуры и фоны, клипарты\Scool_objekts\scool (46).png"/>
          <p:cNvPicPr/>
          <p:nvPr/>
        </p:nvPicPr>
        <p:blipFill>
          <a:blip r:embed="rId7"/>
          <a:stretch/>
        </p:blipFill>
        <p:spPr>
          <a:xfrm>
            <a:off x="6858000" y="5857920"/>
            <a:ext cx="93672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8"/>
          <a:stretch/>
        </p:blipFill>
        <p:spPr>
          <a:xfrm>
            <a:off x="207180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9"/>
          <a:stretch/>
        </p:blipFill>
        <p:spPr>
          <a:xfrm>
            <a:off x="6143760" y="100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10"/>
          <a:stretch/>
        </p:blipFill>
        <p:spPr>
          <a:xfrm>
            <a:off x="5000760" y="14288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11"/>
          <a:stretch/>
        </p:blipFill>
        <p:spPr>
          <a:xfrm>
            <a:off x="5214960" y="571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12"/>
          <a:stretch/>
        </p:blipFill>
        <p:spPr>
          <a:xfrm>
            <a:off x="7072200" y="15717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13"/>
          <a:stretch/>
        </p:blipFill>
        <p:spPr>
          <a:xfrm>
            <a:off x="6858000" y="7858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14"/>
          <a:stretch/>
        </p:blipFill>
        <p:spPr>
          <a:xfrm>
            <a:off x="3500280" y="14288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15"/>
          <a:stretch/>
        </p:blipFill>
        <p:spPr>
          <a:xfrm>
            <a:off x="3929040" y="571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16"/>
          <a:stretch/>
        </p:blipFill>
        <p:spPr>
          <a:xfrm>
            <a:off x="1714680" y="15001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17"/>
          <a:stretch/>
        </p:blipFill>
        <p:spPr>
          <a:xfrm>
            <a:off x="857160" y="1071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 Среди данных чисел подчеркни наименьшее число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, 5, 2, 6, 9,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CC9A-6047-45EE-9D2A-763F1A1D08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60EB-8957-47E3-9793-76BE7D5FF0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465300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 Среди данных чисел подчеркни наибольшее число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, 2, 3, 1, 7,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1C0C-A73E-44C4-B779-1349A0EA2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06B4-5339-4A6C-A2F1-9323B1D90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653000"/>
            <a:ext cx="57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 Вместо точек поставь пропущенные знаки действий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…1=2      6…1=7      9…1=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C0A1-2BA1-470E-B605-88619D9D74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284A-F9D3-453B-A7FE-E84D2C8EE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07664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 Запиши ответ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+3=…      5+1=…    4+3=…   6+2=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+5=…      3+4=…    3+2=…   2+7=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A775-D5D2-44B5-B7FB-451D22F3DF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D986-1A0A-4383-80A5-8ADD11818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852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2852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2852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3573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3573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3573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2852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3573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 Вставь пропущенное число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+…=8      3+…=9      1+7=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0D2B-96B6-4C02-BF1F-F264096C2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A1F-1E8B-47B3-A895-C28903C45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Запиши цифрами в строчку данные ниже числа.</a:t>
            </a:r>
            <a:br>
              <a:rPr sz="44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емь, один, ноль, три пять, девять, шесть, четыре, два, десят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, 1, 0, 3, 5, 9, 6, 4, 2,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6095-9305-47D3-BAA4-94CE37F34F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E00-474D-4738-8E14-C89600B63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 Вместо точек вставь пропущенные числ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, … , … , … , … ,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9, … , … , … , … , … , …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938D-44BC-4311-A602-E79D0B506F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1E06-7C98-41E3-9861-AB79C5B51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386064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386064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386064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386064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465300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458136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465300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458136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458136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458136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 Подчеркни число, которое следует при счете за числом 9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, 5, 7, 3, 10, 6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1702-F34A-4C58-BA5C-8AFF5CC5E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0F1B-EE25-4E7A-991D-4321C85DA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58136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 Подчеркни число, которое стоит при счете перед числом 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, 7, 1, 8, 6, 4, 9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8AAC-5C62-4170-B843-C0B8EB5F5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6E0-1DE1-4C35-AF51-BCA3AAD6CE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458136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 Расставь числа от большого к меньшему. Напиши их в строчку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, 1, 6, 4, 8, 2      …………………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A2D-D5BE-41D7-B171-161B36B7E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0D0B-BE62-4A71-8929-9ADFC5FC2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 Расставь числа от большого к меньшему. Напиши их в строчку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410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, 1, 6, 4, 8, 2.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A728-86D7-4A27-8DEC-2AE066781D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F799-0E74-4F8B-9985-C7312E4B2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4005360"/>
            <a:ext cx="57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752472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 Подчеркни число, которое на 1 больше 7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, 3, 2, 8, 9, 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46E6-6B2D-4CF4-9AD0-1D48797015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B5D8-8B69-4D57-8AC5-03A9828D8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458136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 Подчеркни число, которое на 1 меньше 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, 2, 4, 1, 3, 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1F3B-6931-4B9E-9C05-FB06856C41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1B22-6984-4EF0-9A05-A568F7442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65300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9:57:39Z</dcterms:created>
  <dc:creator>Aida_Alex</dc:creator>
  <dc:description/>
  <dc:language>en-US</dc:language>
  <cp:lastModifiedBy>Admin</cp:lastModifiedBy>
  <dcterms:modified xsi:type="dcterms:W3CDTF">2012-11-07T09:36:05Z</dcterms:modified>
  <cp:revision>2</cp:revision>
  <dc:subject/>
  <dc:title>Слайд 1</dc:title>
</cp:coreProperties>
</file>