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0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gif" ContentType="image/gif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91E-E376-4CA5-859B-35BFBF77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AC8-4D07-43D1-B46D-7B24EF4E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EDA-F49A-4AFF-9F53-5C877448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C22-FFE6-4CA5-B2B0-217962A4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099-707A-45B0-9F99-8A6BA4DB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AD7-84A0-4081-96E0-1B7D8AF8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C0C-9F3A-4265-B828-5BD3099A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6A7-022A-4B13-85A4-CEF886B4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95C-B58C-4E06-BFFA-2792460A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306-8D9E-4AD9-9819-13F8A35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190-3B01-4668-A5A2-FD95D17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180-1D4E-4403-B735-7C38047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94AD-24C4-4503-B863-4F146E76A5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53A5-E024-4C8A-8735-57F71FFBB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Arial"/>
                <a:ea typeface="Arial"/>
              </a:rPr>
              <a:t>Числа от 1 до 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14400" y="385776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ТЕСТ №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МОИ шаблоны ЭКСПЕРИМЕНТы\30040876.jpg"/>
          <p:cNvPicPr/>
          <p:nvPr/>
        </p:nvPicPr>
        <p:blipFill>
          <a:blip r:embed="rId2"/>
          <a:stretch/>
        </p:blipFill>
        <p:spPr>
          <a:xfrm>
            <a:off x="281160" y="3925800"/>
            <a:ext cx="2322360" cy="257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МОИ шаблоны ЭКСПЕРИМЕНТы\18112_0-550-700-1.jpg"/>
          <p:cNvPicPr/>
          <p:nvPr/>
        </p:nvPicPr>
        <p:blipFill>
          <a:blip r:embed="rId3"/>
          <a:stretch/>
        </p:blipFill>
        <p:spPr>
          <a:xfrm>
            <a:off x="928800" y="414324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:\Documents and Settings\Aida\Рабочий стол\текстуры и фоны, клипарты\новеньки картинки\addition 2 plus 2 ha.gif"/>
          <p:cNvPicPr/>
          <p:nvPr/>
        </p:nvPicPr>
        <p:blipFill>
          <a:blip r:embed="rId4"/>
          <a:stretch/>
        </p:blipFill>
        <p:spPr>
          <a:xfrm>
            <a:off x="1071720" y="6000840"/>
            <a:ext cx="714240" cy="45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Documents and Settings\Aida\Рабочий стол\текстуры и фоны, клипарты\Scool_objekts\scool (30).png"/>
          <p:cNvPicPr/>
          <p:nvPr/>
        </p:nvPicPr>
        <p:blipFill>
          <a:blip r:embed="rId5"/>
          <a:stretch/>
        </p:blipFill>
        <p:spPr>
          <a:xfrm>
            <a:off x="7715160" y="5715000"/>
            <a:ext cx="77940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Documents and Settings\Aida\Рабочий стол\текстуры и фоны, клипарты\Scool_objekts\scool (45).png"/>
          <p:cNvPicPr/>
          <p:nvPr/>
        </p:nvPicPr>
        <p:blipFill>
          <a:blip r:embed="rId6"/>
          <a:stretch/>
        </p:blipFill>
        <p:spPr>
          <a:xfrm>
            <a:off x="7643880" y="485784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текстуры и фоны, клипарты\Scool_objekts\scool (46).png"/>
          <p:cNvPicPr/>
          <p:nvPr/>
        </p:nvPicPr>
        <p:blipFill>
          <a:blip r:embed="rId7"/>
          <a:stretch/>
        </p:blipFill>
        <p:spPr>
          <a:xfrm>
            <a:off x="6858000" y="5857920"/>
            <a:ext cx="93672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8"/>
          <a:stretch/>
        </p:blipFill>
        <p:spPr>
          <a:xfrm>
            <a:off x="207180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9"/>
          <a:stretch/>
        </p:blipFill>
        <p:spPr>
          <a:xfrm>
            <a:off x="6143760" y="100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10"/>
          <a:stretch/>
        </p:blipFill>
        <p:spPr>
          <a:xfrm>
            <a:off x="5000760" y="14288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11"/>
          <a:stretch/>
        </p:blipFill>
        <p:spPr>
          <a:xfrm>
            <a:off x="5214960" y="571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12"/>
          <a:stretch/>
        </p:blipFill>
        <p:spPr>
          <a:xfrm>
            <a:off x="7072200" y="15717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13"/>
          <a:stretch/>
        </p:blipFill>
        <p:spPr>
          <a:xfrm>
            <a:off x="6858000" y="7858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14"/>
          <a:stretch/>
        </p:blipFill>
        <p:spPr>
          <a:xfrm>
            <a:off x="3500280" y="14288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15"/>
          <a:stretch/>
        </p:blipFill>
        <p:spPr>
          <a:xfrm>
            <a:off x="3929040" y="571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16"/>
          <a:stretch/>
        </p:blipFill>
        <p:spPr>
          <a:xfrm>
            <a:off x="1714680" y="15001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17"/>
          <a:stretch/>
        </p:blipFill>
        <p:spPr>
          <a:xfrm>
            <a:off x="857160" y="1071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 Среди данных чисел подчеркни наименьшее число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, 5, 2, 6, 9,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786-9FB8-42DD-AB93-0FBD3B6B69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91B9-B990-45F5-B591-AA6DC91873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465300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 Среди данных чисел подчеркни наибольшее число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, 2, 3, 1, 7,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6BCD-0312-4A8F-863F-D753112F2D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0452-06E2-448F-9ABB-6F712B832C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653000"/>
            <a:ext cx="57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 Вместо точек поставь пропущенные знаки действий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…1=2      6…1=7      9…1=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9550-27A0-43E1-BFD2-6F3A764CDC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09C2-94F7-4281-87FD-1B52BF79E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07664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 Запиши ответ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+3=…      5+1=…    4+3=…   6+2=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+5=…      3+4=…    3+2=…   2+7=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574-81EB-4C6D-923C-8709FF5902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9A6B-564B-4B0C-BFC9-4E58565EA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573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3573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3573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357336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 Вставь пропущенное число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+…=8      3+…=9      1+7=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E06B-EDA2-4E72-8834-0795776AB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D7AE-A9B8-46BE-9951-599316107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Запиши цифрами в строчку данные ниже числа.</a:t>
            </a:r>
            <a:br>
              <a:rPr sz="44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емь, один, ноль, три пять, девять, шесть, четыре, два, деся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, 1, 0, 3, 5, 9, 6, 4, 2,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A0F8-894D-4F13-BDE9-42414310A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0D7A-E2F3-4B72-91C4-15DD9FB39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 Вместо точек вставь пропущенные числ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, … , … , … , … ,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9, … , … , … , … , … , …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AA6-09D1-4F9D-AC1C-4915F5A780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6AF6-0C4E-40DC-B1CC-24F545305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86064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386064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86064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386064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465300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458136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465300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58136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458136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4581360"/>
            <a:ext cx="57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 Подчеркни число, которое следует при счете за числом 9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, 5, 7, 3, 10, 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FD13-F14D-4357-931E-4B1491C3BA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40F3-6115-476D-A519-56E572415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58136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 Подчеркни число, которое стоит при счете перед числом 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, 7, 1, 8, 6, 4, 9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CCC1-A9B0-4C57-8853-E4819172E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6F18-D94F-48C8-AB0D-C6FD877FD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458136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 Расставь числа от большого к меньшему. Напиши их в строчку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, 1, 6, 4, 8, 2      ………………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3725-4BE3-423E-845A-2B47CCE9D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991E-85A8-402F-BBA5-84B6C2062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 Расставь числа от большого к меньшему. Напиши их в строчку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410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, 1, 6, 4, 8, 2.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21E7-C3B9-431E-A37A-4BDB2C5039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88CD-A7C6-48DA-9CB8-B0AD9F179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4005360"/>
            <a:ext cx="57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4005360"/>
            <a:ext cx="576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 Подчеркни число, которое на 1 больше 7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, 3, 2, 8, 9, 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5C32-EA13-43C9-A035-DF22CE31CA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BE09-9358-49FC-95C8-69FDAE1F7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458136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 Подчеркни число, которое на 1 меньше 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, 2, 4, 1, 3, 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3238-5FF3-400A-8E6D-F083DDF268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2F7-B129-4342-BF4F-3691DA1D5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65300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9:57:39Z</dcterms:created>
  <dc:creator>Aida_Alex</dc:creator>
  <dc:description/>
  <dc:language>en-US</dc:language>
  <cp:lastModifiedBy>Admin</cp:lastModifiedBy>
  <dcterms:modified xsi:type="dcterms:W3CDTF">2012-11-07T09:36:05Z</dcterms:modified>
  <cp:revision>2</cp:revision>
  <dc:subject/>
  <dc:title>Слайд 1</dc:title>
</cp:coreProperties>
</file>