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n_big.wav" ContentType="audio/x-wav"/>
  <Override PartName="/ppt/media/e_big.wav" ContentType="audio/x-wav"/>
  <Override PartName="/ppt/media/m_big.wav" ContentType="audio/x-wav"/>
  <Override PartName="/ppt/media/image14.wmf" ContentType="image/x-wmf"/>
  <Override PartName="/ppt/media/l_big.wav" ContentType="audio/x-wav"/>
  <Override PartName="/ppt/media/image16.wmf" ContentType="image/x-wmf"/>
  <Override PartName="/ppt/media/k_big.wav" ContentType="audio/x-wav"/>
  <Override PartName="/ppt/media/image1.png" ContentType="image/png"/>
  <Override PartName="/ppt/media/t_big.wav" ContentType="audio/x-wav"/>
  <Override PartName="/ppt/media/image12.wmf" ContentType="image/x-wmf"/>
  <Override PartName="/ppt/media/j_big.wav" ContentType="audio/x-wav"/>
  <Override PartName="/ppt/media/s_big.wav" ContentType="audio/x-wav"/>
  <Override PartName="/ppt/media/image11.wmf" ContentType="image/x-wmf"/>
  <Override PartName="/ppt/media/i_big.wav" ContentType="audio/x-wav"/>
  <Override PartName="/ppt/media/image10.wmf" ContentType="image/x-wmf"/>
  <Override PartName="/ppt/media/p_big.wav" ContentType="audio/x-wav"/>
  <Override PartName="/ppt/media/y_big.wav" ContentType="audio/x-wav"/>
  <Override PartName="/ppt/media/image15.wmf" ContentType="image/x-wmf"/>
  <Override PartName="/ppt/media/h_big.wav" ContentType="audio/x-wav"/>
  <Override PartName="/ppt/media/image24.wmf" ContentType="image/x-wmf"/>
  <Override PartName="/ppt/media/image9.wmf" ContentType="image/x-wmf"/>
  <Override PartName="/ppt/media/g_big.wav" ContentType="audio/x-wav"/>
  <Override PartName="/ppt/media/image7.wmf" ContentType="image/x-wmf"/>
  <Override PartName="/ppt/media/image8.wmf" ContentType="image/x-wmf"/>
  <Override PartName="/ppt/media/image20.wmf" ContentType="image/x-wmf"/>
  <Override PartName="/ppt/media/image21.wmf" ContentType="image/x-wmf"/>
  <Override PartName="/ppt/media/image22.wmf" ContentType="image/x-wmf"/>
  <Override PartName="/ppt/media/u_big.wav" ContentType="audio/x-wav"/>
  <Override PartName="/ppt/media/image17.wmf" ContentType="image/x-wmf"/>
  <Override PartName="/ppt/media/v_big.wav" ContentType="audio/x-wav"/>
  <Override PartName="/ppt/media/image25.wmf" ContentType="image/x-wmf"/>
  <Override PartName="/ppt/media/d_big.wav" ContentType="audio/x-wav"/>
  <Override PartName="/ppt/media/image2.wmf" ContentType="image/x-wmf"/>
  <Override PartName="/ppt/media/image26.wmf" ContentType="image/x-wmf"/>
  <Override PartName="/ppt/media/image19.wmf" ContentType="image/x-wmf"/>
  <Override PartName="/ppt/media/b_big.wav" ContentType="audio/x-wav"/>
  <Override PartName="/ppt/media/image3.wmf" ContentType="image/x-wmf"/>
  <Override PartName="/ppt/media/image27.wmf" ContentType="image/x-wmf"/>
  <Override PartName="/ppt/media/image18.wmf" ContentType="image/x-wmf"/>
  <Override PartName="/ppt/media/r_big.wav" ContentType="audio/x-wav"/>
  <Override PartName="/ppt/media/z_big.wav" ContentType="audio/x-wav"/>
  <Override PartName="/ppt/media/x_big.wav" ContentType="audio/x-wav"/>
  <Override PartName="/ppt/media/image23.wmf" ContentType="image/x-wmf"/>
  <Override PartName="/ppt/media/o_big.wav" ContentType="audio/x-wav"/>
  <Override PartName="/ppt/media/image6.wmf" ContentType="image/x-wmf"/>
  <Override PartName="/ppt/media/w_big.wav" ContentType="audio/x-wav"/>
  <Override PartName="/ppt/media/f_big.wav" ContentType="audio/x-wav"/>
  <Override PartName="/ppt/media/image13.wmf" ContentType="image/x-wmf"/>
  <Override PartName="/ppt/media/c_big.wav" ContentType="audio/x-wav"/>
  <Override PartName="/ppt/media/image4.wmf" ContentType="image/x-wmf"/>
  <Override PartName="/ppt/media/q_big.wav" ContentType="audio/x-wav"/>
  <Override PartName="/ppt/media/image5.wmf" ContentType="image/x-wmf"/>
  <Override PartName="/ppt/media/a_big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E238-A68B-4909-AD23-53295C3C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760D-B72C-4E40-9282-95B06664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1C1F-DADD-4F9F-B6F7-6EE63113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1560-9573-4A94-B561-C7123111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7ADF-7CF4-4720-91EA-BCD50B1E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460E-ACB8-46BE-ABD9-59026009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E214-69F0-48F9-B7E1-68D36487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11E6-1DFC-49BF-A641-8805B60E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4596-2138-477D-964E-FB623CA7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DB28-3D85-42CA-9FE8-B9DDB502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5883-489B-4504-9719-7394B2AC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EC1-AF98-49C9-B6AE-6A4BB085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151D-5E07-464A-B076-11786E27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3007-BA46-42A5-AE92-EB83947D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E5FE-9BB3-4169-98C4-9666E9EB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05DA-0EFA-4E47-9916-C9C8EF06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3899-0CF2-448E-9FD9-52DCAD96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6883-52C7-49AE-8A1C-E7A099FC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3F49-1CAD-492C-BDA7-E1591F8B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A60E-F291-4D42-AF6A-57981588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A9AD-9E85-471E-940C-8E1A8D86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3D66-FE9D-4AA0-8458-C892FFA7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194C-A413-4799-A7C9-94B7DA86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E976-332A-480D-BEFB-0409BF43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9716-EC0D-4A9F-89ED-D72FC08A760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AACE-8978-4F79-96C0-E3DDA4A96DF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i_big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j_big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k_big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l_big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m_big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n_big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o_big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p_big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q_big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r_big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a_big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s_big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audio" Target="../media/t_big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u_big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audio" Target="../media/v_big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w_big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audio" Target="../media/x_big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y_big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audio" Target="../media/z_big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b_big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_big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d_big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e_big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f_big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g_big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h_big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5229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The English Alphabe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476280"/>
            <a:ext cx="53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333399"/>
                </a:solidFill>
                <a:uFillTx/>
                <a:latin typeface="Tahoma"/>
              </a:rPr>
              <a:t>The AB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02040" y="2354400"/>
          <a:ext cx="2957400" cy="27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2040" y="2354400"/>
                    <a:ext cx="2957400" cy="27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I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700360" y="2276640"/>
            <a:ext cx="3384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i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11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J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456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12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K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51847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13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843280" y="1989000"/>
            <a:ext cx="35290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15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843280" y="2060640"/>
            <a:ext cx="3313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16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N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600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17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453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o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18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P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34560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19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4680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q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21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R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843280" y="1989000"/>
            <a:ext cx="360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22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484360" y="1773360"/>
            <a:ext cx="4537080" cy="4897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708360" y="260280"/>
            <a:ext cx="22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_big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4608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23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T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3527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24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U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00360" y="1989000"/>
            <a:ext cx="3456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u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25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V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843280" y="2060640"/>
            <a:ext cx="3600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27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3456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28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59280" y="2060640"/>
            <a:ext cx="3457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x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29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Y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5616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30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Z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43280" y="2060640"/>
            <a:ext cx="3816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31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627280" y="1844640"/>
            <a:ext cx="3816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3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460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4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4465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1773360"/>
            <a:ext cx="33843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6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F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627280" y="1916280"/>
            <a:ext cx="3457440" cy="46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7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G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81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9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H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87640" y="1989000"/>
            <a:ext cx="3240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10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7T12:43:51Z</dcterms:created>
  <dc:creator>Sveta</dc:creator>
  <dc:description/>
  <dc:language>en-US</dc:language>
  <cp:lastModifiedBy>Itachi</cp:lastModifiedBy>
  <dcterms:modified xsi:type="dcterms:W3CDTF">2010-02-05T08:45:03Z</dcterms:modified>
  <cp:revision>12</cp:revision>
  <dc:subject/>
  <dc:title>Слайд 1</dc:title>
</cp:coreProperties>
</file>