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n_big.wav" ContentType="audio/x-wav"/>
  <Override PartName="/ppt/media/e_big.wav" ContentType="audio/x-wav"/>
  <Override PartName="/ppt/media/m_big.wav" ContentType="audio/x-wav"/>
  <Override PartName="/ppt/media/image14.wmf" ContentType="image/x-wmf"/>
  <Override PartName="/ppt/media/l_big.wav" ContentType="audio/x-wav"/>
  <Override PartName="/ppt/media/image16.wmf" ContentType="image/x-wmf"/>
  <Override PartName="/ppt/media/k_big.wav" ContentType="audio/x-wav"/>
  <Override PartName="/ppt/media/image1.png" ContentType="image/png"/>
  <Override PartName="/ppt/media/t_big.wav" ContentType="audio/x-wav"/>
  <Override PartName="/ppt/media/image12.wmf" ContentType="image/x-wmf"/>
  <Override PartName="/ppt/media/j_big.wav" ContentType="audio/x-wav"/>
  <Override PartName="/ppt/media/s_big.wav" ContentType="audio/x-wav"/>
  <Override PartName="/ppt/media/image11.wmf" ContentType="image/x-wmf"/>
  <Override PartName="/ppt/media/i_big.wav" ContentType="audio/x-wav"/>
  <Override PartName="/ppt/media/image10.wmf" ContentType="image/x-wmf"/>
  <Override PartName="/ppt/media/p_big.wav" ContentType="audio/x-wav"/>
  <Override PartName="/ppt/media/y_big.wav" ContentType="audio/x-wav"/>
  <Override PartName="/ppt/media/image15.wmf" ContentType="image/x-wmf"/>
  <Override PartName="/ppt/media/h_big.wav" ContentType="audio/x-wav"/>
  <Override PartName="/ppt/media/image24.wmf" ContentType="image/x-wmf"/>
  <Override PartName="/ppt/media/image9.wmf" ContentType="image/x-wmf"/>
  <Override PartName="/ppt/media/g_big.wav" ContentType="audio/x-wav"/>
  <Override PartName="/ppt/media/image7.wmf" ContentType="image/x-wmf"/>
  <Override PartName="/ppt/media/image8.wmf" ContentType="image/x-wmf"/>
  <Override PartName="/ppt/media/image20.wmf" ContentType="image/x-wmf"/>
  <Override PartName="/ppt/media/image21.wmf" ContentType="image/x-wmf"/>
  <Override PartName="/ppt/media/image22.wmf" ContentType="image/x-wmf"/>
  <Override PartName="/ppt/media/u_big.wav" ContentType="audio/x-wav"/>
  <Override PartName="/ppt/media/image17.wmf" ContentType="image/x-wmf"/>
  <Override PartName="/ppt/media/v_big.wav" ContentType="audio/x-wav"/>
  <Override PartName="/ppt/media/image25.wmf" ContentType="image/x-wmf"/>
  <Override PartName="/ppt/media/d_big.wav" ContentType="audio/x-wav"/>
  <Override PartName="/ppt/media/image2.wmf" ContentType="image/x-wmf"/>
  <Override PartName="/ppt/media/image26.wmf" ContentType="image/x-wmf"/>
  <Override PartName="/ppt/media/image19.wmf" ContentType="image/x-wmf"/>
  <Override PartName="/ppt/media/b_big.wav" ContentType="audio/x-wav"/>
  <Override PartName="/ppt/media/image3.wmf" ContentType="image/x-wmf"/>
  <Override PartName="/ppt/media/image27.wmf" ContentType="image/x-wmf"/>
  <Override PartName="/ppt/media/image18.wmf" ContentType="image/x-wmf"/>
  <Override PartName="/ppt/media/r_big.wav" ContentType="audio/x-wav"/>
  <Override PartName="/ppt/media/z_big.wav" ContentType="audio/x-wav"/>
  <Override PartName="/ppt/media/x_big.wav" ContentType="audio/x-wav"/>
  <Override PartName="/ppt/media/image23.wmf" ContentType="image/x-wmf"/>
  <Override PartName="/ppt/media/o_big.wav" ContentType="audio/x-wav"/>
  <Override PartName="/ppt/media/image6.wmf" ContentType="image/x-wmf"/>
  <Override PartName="/ppt/media/w_big.wav" ContentType="audio/x-wav"/>
  <Override PartName="/ppt/media/f_big.wav" ContentType="audio/x-wav"/>
  <Override PartName="/ppt/media/image13.wmf" ContentType="image/x-wmf"/>
  <Override PartName="/ppt/media/c_big.wav" ContentType="audio/x-wav"/>
  <Override PartName="/ppt/media/image4.wmf" ContentType="image/x-wmf"/>
  <Override PartName="/ppt/media/q_big.wav" ContentType="audio/x-wav"/>
  <Override PartName="/ppt/media/image5.wmf" ContentType="image/x-wmf"/>
  <Override PartName="/ppt/media/a_bi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06A-F2E2-421D-B1F1-4E0ED1F5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768-F21A-40AE-8F7C-D92076EB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A2D-0AE3-4003-84DE-BD45E093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E5E-CDC5-4761-8639-0768AA28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B553-5313-4C93-BBDA-7F445EAF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2C4E-C955-4D3E-B0DC-384B3BA0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F069-86C7-4354-A605-BD87FDAE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A824-B71E-451A-82C3-9314DA1A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FC60-239A-438C-A775-2BE5036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D5F-98AA-42F5-B324-6061CD01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CBA0-36DA-489D-B702-070756E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A6B-5E34-4551-B515-5FD2FCAF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5F41-B76B-411B-AF20-516A0BC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CF69-B189-440C-B3ED-0F9427B3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ACDA-9B0E-4CA2-A52F-08F466D1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D2B9-3EB8-4BC5-A2B0-0AC90D7C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FD7C-E3EA-4D6E-B26F-BEA2B480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37A-9568-4CD9-9B8B-D6177830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B4C-195D-4174-B621-A12220E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6E3-AA07-4993-BD8A-EB9CADC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E4D-B51F-44A1-9532-B1AC6A18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335-A66E-48BF-B1D1-523A5154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516-68F9-4013-9B9B-582FEB3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0EA-B16A-4D59-9C69-9A432C46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7EE3-A1CF-4E36-BE8E-F04BD719804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04C7-6A54-4065-9831-FCD22BD4008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i_big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j_big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k_bi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l_big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m_big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n_big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o_big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p_big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q_bi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r_big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_bi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s_big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t_big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u_big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v_big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_big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x_big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y_big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z_big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_big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_bi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_bi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e_bi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f_bi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g_bi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h_big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522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The English Alphabe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47628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333399"/>
                </a:solidFill>
                <a:uFillTx/>
                <a:latin typeface="Tahoma"/>
              </a:rPr>
              <a:t>The AB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02040" y="2354400"/>
          <a:ext cx="29574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2040" y="2354400"/>
                    <a:ext cx="29574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338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J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5184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3529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5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31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456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68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1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2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537080" cy="4897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08360" y="26028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_big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52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U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45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8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3457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x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61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0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Z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1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81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60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465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384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F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45744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8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24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_big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1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2:43:51Z</dcterms:created>
  <dc:creator>Sveta</dc:creator>
  <dc:description/>
  <dc:language>en-US</dc:language>
  <cp:lastModifiedBy>Itachi</cp:lastModifiedBy>
  <dcterms:modified xsi:type="dcterms:W3CDTF">2010-02-05T08:45:03Z</dcterms:modified>
  <cp:revision>12</cp:revision>
  <dc:subject/>
  <dc:title>Слайд 1</dc:title>
</cp:coreProperties>
</file>