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274300" cy="7243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869-79B2-4311-9AAC-ABC3E5FA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18752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D61-36E0-4CD4-A9DD-F56E224B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049-5EFA-4F1C-BAD4-5665C1F3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68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9056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68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4187520"/>
            <a:ext cx="2976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CDB-B8A3-4AF9-9F54-F9ADF22F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7F8-AF2C-45CA-AF98-44219010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AE7-E25B-46DD-993F-F2AB827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4DC-1B27-4AE9-9F52-D263D54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52A-313A-48E5-87BD-034588D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90160"/>
            <a:ext cx="92455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B51-7410-4AF0-90E3-E959C77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9DE-B424-49C1-B105-76C107A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8752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6D2-2051-401A-BE7E-2B1C91C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690560"/>
            <a:ext cx="4511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187520"/>
            <a:ext cx="9245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025-63DC-4940-911C-BF97C7C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690560"/>
            <a:ext cx="9245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595920"/>
            <a:ext cx="239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0000" y="6595920"/>
            <a:ext cx="3254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62360" y="6595920"/>
            <a:ext cx="23972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F9E5-C9C3-4A0A-B8E8-8782E3CF0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816120" y="1173240"/>
            <a:ext cx="8458200" cy="5887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2" name="Text Box 3"/>
          <p:cNvSpPr/>
          <p:nvPr/>
        </p:nvSpPr>
        <p:spPr>
          <a:xfrm>
            <a:off x="744480" y="4539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York The Statue of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92455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. Disney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icture"/>
          <p:cNvPicPr/>
          <p:nvPr/>
        </p:nvPicPr>
        <p:blipFill>
          <a:blip r:embed="rId1"/>
          <a:stretch/>
        </p:blipFill>
        <p:spPr>
          <a:xfrm>
            <a:off x="1752480" y="669960"/>
            <a:ext cx="6408720" cy="6573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274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, the Capital of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icture"/>
          <p:cNvPicPr/>
          <p:nvPr/>
        </p:nvPicPr>
        <p:blipFill>
          <a:blip r:embed="rId1"/>
          <a:stretch/>
        </p:blipFill>
        <p:spPr>
          <a:xfrm>
            <a:off x="457200" y="1317600"/>
            <a:ext cx="9217080" cy="5926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924552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and Can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icture"/>
          <p:cNvPicPr/>
          <p:nvPr/>
        </p:nvPicPr>
        <p:blipFill>
          <a:blip r:embed="rId1"/>
          <a:stretch/>
        </p:blipFill>
        <p:spPr>
          <a:xfrm>
            <a:off x="600120" y="1030320"/>
            <a:ext cx="914544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309240"/>
            <a:ext cx="924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York. The United Nations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"/>
          <p:cNvPicPr/>
          <p:nvPr/>
        </p:nvPicPr>
        <p:blipFill>
          <a:blip r:embed="rId1"/>
          <a:stretch/>
        </p:blipFill>
        <p:spPr>
          <a:xfrm>
            <a:off x="1824120" y="1030320"/>
            <a:ext cx="590544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nt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picture"/>
          <p:cNvPicPr/>
          <p:nvPr/>
        </p:nvPicPr>
        <p:blipFill>
          <a:blip r:embed="rId1"/>
          <a:stretch/>
        </p:blipFill>
        <p:spPr>
          <a:xfrm>
            <a:off x="1320840" y="1101600"/>
            <a:ext cx="770400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92455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.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icture"/>
          <p:cNvPicPr/>
          <p:nvPr/>
        </p:nvPicPr>
        <p:blipFill>
          <a:blip r:embed="rId1"/>
          <a:stretch/>
        </p:blipFill>
        <p:spPr>
          <a:xfrm>
            <a:off x="673200" y="812880"/>
            <a:ext cx="9001080" cy="6431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,D.C. The Capi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picture"/>
          <p:cNvPicPr/>
          <p:nvPr/>
        </p:nvPicPr>
        <p:blipFill>
          <a:blip r:embed="rId1"/>
          <a:stretch/>
        </p:blipFill>
        <p:spPr>
          <a:xfrm>
            <a:off x="816120" y="1173240"/>
            <a:ext cx="9001080" cy="6070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6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9245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 The Lincoln Mem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icture"/>
          <p:cNvPicPr/>
          <p:nvPr/>
        </p:nvPicPr>
        <p:blipFill>
          <a:blip r:embed="rId1"/>
          <a:stretch/>
        </p:blipFill>
        <p:spPr>
          <a:xfrm>
            <a:off x="960480" y="1101600"/>
            <a:ext cx="892980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4000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ington D.C. 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icture"/>
          <p:cNvPicPr/>
          <p:nvPr/>
        </p:nvPicPr>
        <p:blipFill>
          <a:blip r:embed="rId1"/>
          <a:stretch/>
        </p:blipFill>
        <p:spPr>
          <a:xfrm>
            <a:off x="1033560" y="1030320"/>
            <a:ext cx="8424720" cy="621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6000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 Francisco. China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cture"/>
          <p:cNvPicPr/>
          <p:nvPr/>
        </p:nvPicPr>
        <p:blipFill>
          <a:blip r:embed="rId1"/>
          <a:stretch/>
        </p:blipFill>
        <p:spPr>
          <a:xfrm>
            <a:off x="2833560" y="1246320"/>
            <a:ext cx="5399280" cy="5997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8120" y="-360"/>
            <a:ext cx="924588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 Francisco. The Golden Gate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cture"/>
          <p:cNvPicPr/>
          <p:nvPr/>
        </p:nvPicPr>
        <p:blipFill>
          <a:blip r:embed="rId1"/>
          <a:stretch/>
        </p:blipFill>
        <p:spPr>
          <a:xfrm>
            <a:off x="457200" y="957240"/>
            <a:ext cx="9360000" cy="6286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90160"/>
            <a:ext cx="92455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 The NASA Mus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cture"/>
          <p:cNvPicPr/>
          <p:nvPr/>
        </p:nvPicPr>
        <p:blipFill>
          <a:blip r:embed="rId1"/>
          <a:stretch/>
        </p:blipFill>
        <p:spPr>
          <a:xfrm>
            <a:off x="241200" y="1101600"/>
            <a:ext cx="9791640" cy="614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4000"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274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D.C.The National Gallery of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icture"/>
          <p:cNvPicPr/>
          <p:nvPr/>
        </p:nvPicPr>
        <p:blipFill>
          <a:blip r:embed="rId1"/>
          <a:stretch/>
        </p:blipFill>
        <p:spPr>
          <a:xfrm>
            <a:off x="384120" y="957240"/>
            <a:ext cx="9648720" cy="6048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3000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274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 – the largest city in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icture"/>
          <p:cNvPicPr/>
          <p:nvPr/>
        </p:nvPicPr>
        <p:blipFill>
          <a:blip r:embed="rId1"/>
          <a:stretch/>
        </p:blipFill>
        <p:spPr>
          <a:xfrm>
            <a:off x="1033560" y="812880"/>
            <a:ext cx="8351640" cy="6431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advTm="2000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4:50:02Z</dcterms:created>
  <dc:creator>User5</dc:creator>
  <dc:description/>
  <dc:language>en-US</dc:language>
  <cp:lastModifiedBy>User</cp:lastModifiedBy>
  <dcterms:modified xsi:type="dcterms:W3CDTF">2011-10-19T09:49:07Z</dcterms:modified>
  <cp:revision>12</cp:revision>
  <dc:subject/>
  <dc:title>Слайд 1</dc:title>
</cp:coreProperties>
</file>