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274300" cy="72437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0A4-3FD8-4B83-A244-5F829272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1690560"/>
            <a:ext cx="9245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4187520"/>
            <a:ext cx="9245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0E5-B3E4-4343-8455-321C8101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1690560"/>
            <a:ext cx="4511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690560"/>
            <a:ext cx="4511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4187520"/>
            <a:ext cx="4511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87520"/>
            <a:ext cx="4511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D75-6E5C-4FB4-9DB5-B56B77FD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1690560"/>
            <a:ext cx="29768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680" y="1690560"/>
            <a:ext cx="29768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1690560"/>
            <a:ext cx="29768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4187520"/>
            <a:ext cx="29768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680" y="4187520"/>
            <a:ext cx="29768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4187520"/>
            <a:ext cx="29768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B9E8-22B6-4A70-91F5-DA207F75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1690560"/>
            <a:ext cx="924552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E71-8512-475F-9809-F703C6FD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1690560"/>
            <a:ext cx="9245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E47-8DF7-44F3-9AC2-937828B3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1690560"/>
            <a:ext cx="4511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690560"/>
            <a:ext cx="4511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272-825F-4B07-8CE8-2F26BAF4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F12-8468-4646-8985-3EE6B326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290160"/>
            <a:ext cx="92455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5E4-B629-4B6C-BDBC-73A30840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1690560"/>
            <a:ext cx="4511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690560"/>
            <a:ext cx="4511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4187520"/>
            <a:ext cx="4511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536F-5A6D-4DC1-B267-2AC88B1D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1690560"/>
            <a:ext cx="4511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690560"/>
            <a:ext cx="4511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87520"/>
            <a:ext cx="4511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5B0-4F8F-41A9-8CE7-CD3C807B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1690560"/>
            <a:ext cx="4511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690560"/>
            <a:ext cx="4511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4187520"/>
            <a:ext cx="9245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1B66-42DA-44B6-B772-1FB0CC65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1690560"/>
            <a:ext cx="9245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6595920"/>
            <a:ext cx="239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0000" y="6595920"/>
            <a:ext cx="3254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62360" y="6595920"/>
            <a:ext cx="23972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9EE8-5637-4C5F-B100-AAD6C52601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icture"/>
          <p:cNvPicPr/>
          <p:nvPr/>
        </p:nvPicPr>
        <p:blipFill>
          <a:blip r:embed="rId1"/>
          <a:stretch/>
        </p:blipFill>
        <p:spPr>
          <a:xfrm>
            <a:off x="816120" y="1173240"/>
            <a:ext cx="8458200" cy="5887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42" name="Text Box 3"/>
          <p:cNvSpPr/>
          <p:nvPr/>
        </p:nvSpPr>
        <p:spPr>
          <a:xfrm>
            <a:off x="744480" y="4539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York The Statue of 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92455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Angeles. Disney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icture"/>
          <p:cNvPicPr/>
          <p:nvPr/>
        </p:nvPicPr>
        <p:blipFill>
          <a:blip r:embed="rId1"/>
          <a:stretch/>
        </p:blipFill>
        <p:spPr>
          <a:xfrm>
            <a:off x="1752480" y="669960"/>
            <a:ext cx="6408720" cy="65739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2000"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274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hington D.C., the Capital of The U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picture"/>
          <p:cNvPicPr/>
          <p:nvPr/>
        </p:nvPicPr>
        <p:blipFill>
          <a:blip r:embed="rId1"/>
          <a:stretch/>
        </p:blipFill>
        <p:spPr>
          <a:xfrm>
            <a:off x="457200" y="1317600"/>
            <a:ext cx="9217080" cy="59263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3000"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924552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and Cany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icture"/>
          <p:cNvPicPr/>
          <p:nvPr/>
        </p:nvPicPr>
        <p:blipFill>
          <a:blip r:embed="rId1"/>
          <a:stretch/>
        </p:blipFill>
        <p:spPr>
          <a:xfrm>
            <a:off x="600120" y="1030320"/>
            <a:ext cx="9145440" cy="6213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309240"/>
            <a:ext cx="924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York. The United Nations Buil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icture"/>
          <p:cNvPicPr/>
          <p:nvPr/>
        </p:nvPicPr>
        <p:blipFill>
          <a:blip r:embed="rId1"/>
          <a:stretch/>
        </p:blipFill>
        <p:spPr>
          <a:xfrm>
            <a:off x="1824120" y="1030320"/>
            <a:ext cx="5905440" cy="6213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2000">
    <p:comb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hington D.C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entag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picture"/>
          <p:cNvPicPr/>
          <p:nvPr/>
        </p:nvPicPr>
        <p:blipFill>
          <a:blip r:embed="rId1"/>
          <a:stretch/>
        </p:blipFill>
        <p:spPr>
          <a:xfrm>
            <a:off x="1320840" y="1101600"/>
            <a:ext cx="7704000" cy="61423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3000">
    <p:push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924552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York. Manhat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picture"/>
          <p:cNvPicPr/>
          <p:nvPr/>
        </p:nvPicPr>
        <p:blipFill>
          <a:blip r:embed="rId1"/>
          <a:stretch/>
        </p:blipFill>
        <p:spPr>
          <a:xfrm>
            <a:off x="673200" y="812880"/>
            <a:ext cx="9001080" cy="64310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hington,D.C. The Capi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picture"/>
          <p:cNvPicPr/>
          <p:nvPr/>
        </p:nvPicPr>
        <p:blipFill>
          <a:blip r:embed="rId1"/>
          <a:stretch/>
        </p:blipFill>
        <p:spPr>
          <a:xfrm>
            <a:off x="816120" y="1173240"/>
            <a:ext cx="9001080" cy="6070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6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92455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hington D.C. The Lincoln Memo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picture"/>
          <p:cNvPicPr/>
          <p:nvPr/>
        </p:nvPicPr>
        <p:blipFill>
          <a:blip r:embed="rId1"/>
          <a:stretch/>
        </p:blipFill>
        <p:spPr>
          <a:xfrm>
            <a:off x="960480" y="1101600"/>
            <a:ext cx="8929800" cy="61423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4000"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hington D.C. The White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picture"/>
          <p:cNvPicPr/>
          <p:nvPr/>
        </p:nvPicPr>
        <p:blipFill>
          <a:blip r:embed="rId1"/>
          <a:stretch/>
        </p:blipFill>
        <p:spPr>
          <a:xfrm>
            <a:off x="1033560" y="1030320"/>
            <a:ext cx="8424720" cy="6213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6000">
    <p:comb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 Francisco. China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icture"/>
          <p:cNvPicPr/>
          <p:nvPr/>
        </p:nvPicPr>
        <p:blipFill>
          <a:blip r:embed="rId1"/>
          <a:stretch/>
        </p:blipFill>
        <p:spPr>
          <a:xfrm>
            <a:off x="2833560" y="1246320"/>
            <a:ext cx="5399280" cy="5997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3000">
    <p:comb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8120" y="-360"/>
            <a:ext cx="924588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n Francisco. The Golden Gate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icture"/>
          <p:cNvPicPr/>
          <p:nvPr/>
        </p:nvPicPr>
        <p:blipFill>
          <a:blip r:embed="rId1"/>
          <a:stretch/>
        </p:blipFill>
        <p:spPr>
          <a:xfrm>
            <a:off x="457200" y="957240"/>
            <a:ext cx="9360000" cy="6286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3000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hington D.C. The NASA Muse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picture"/>
          <p:cNvPicPr/>
          <p:nvPr/>
        </p:nvPicPr>
        <p:blipFill>
          <a:blip r:embed="rId1"/>
          <a:stretch/>
        </p:blipFill>
        <p:spPr>
          <a:xfrm>
            <a:off x="241200" y="1101600"/>
            <a:ext cx="9791640" cy="61423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4000">
    <p:comb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274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hington D.C.The National Gallery of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picture"/>
          <p:cNvPicPr/>
          <p:nvPr/>
        </p:nvPicPr>
        <p:blipFill>
          <a:blip r:embed="rId1"/>
          <a:stretch/>
        </p:blipFill>
        <p:spPr>
          <a:xfrm>
            <a:off x="384120" y="957240"/>
            <a:ext cx="9648720" cy="6048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3000">
    <p:comb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274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Angeles – the largest city in Califor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icture"/>
          <p:cNvPicPr/>
          <p:nvPr/>
        </p:nvPicPr>
        <p:blipFill>
          <a:blip r:embed="rId1"/>
          <a:stretch/>
        </p:blipFill>
        <p:spPr>
          <a:xfrm>
            <a:off x="1033560" y="812880"/>
            <a:ext cx="8351640" cy="64310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2000"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04:50:02Z</dcterms:created>
  <dc:creator>User5</dc:creator>
  <dc:description/>
  <dc:language>en-US</dc:language>
  <cp:lastModifiedBy>User</cp:lastModifiedBy>
  <dcterms:modified xsi:type="dcterms:W3CDTF">2011-10-19T09:49:07Z</dcterms:modified>
  <cp:revision>12</cp:revision>
  <dc:subject/>
  <dc:title>Слайд 1</dc:title>
</cp:coreProperties>
</file>