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484-9962-4947-B075-4F78A63A10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C658-3626-476E-BFC0-EA84DB11C0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A91-CF85-4F0C-8D86-D2EF41D3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0BE-374E-4FFA-8370-570FE8B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8FD-D30B-4204-8B79-12F1F53F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D6A-212A-4D44-BE42-668C2AD4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2BD-EDCA-4001-BEB2-DD847BA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9BF-2F2E-45CD-9C9F-08E6EA07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4CA-C09C-45B1-8F83-AA8A442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6DC-90FF-4D3C-83AF-65264D9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672-5D0E-4642-8D9D-A7F96D4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016-64AA-4697-B378-EFB19FF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E28-AE92-4556-8AEE-58FE668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338-0E05-4181-A4AA-1B8ADD5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DC1A-4FD6-4F8D-8CE4-C400ECB4AF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6760" y="42876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Презентация внеклассного мероприятия по иностранному языку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5500" spc="-1" strike="noStrike">
                <a:solidFill>
                  <a:srgbClr val="ffffff"/>
                </a:solidFill>
                <a:latin typeface="Book Antiqua"/>
              </a:rPr>
              <a:t>Unsere Schule</a:t>
            </a:r>
            <a:r>
              <a:rPr b="0" lang="ru-RU" sz="55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Рисунок 2" descr="gb_flag.gif"/>
          <p:cNvPicPr/>
          <p:nvPr/>
        </p:nvPicPr>
        <p:blipFill>
          <a:blip r:embed="rId1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Выноска-облако 9"/>
          <p:cNvSpPr/>
          <p:nvPr/>
        </p:nvSpPr>
        <p:spPr>
          <a:xfrm>
            <a:off x="5076720" y="1125360"/>
            <a:ext cx="3743280" cy="3240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90600" y="378000"/>
            <a:ext cx="824076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 rot="20258400">
            <a:off x="3844800" y="4771800"/>
            <a:ext cx="495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Box 3"/>
          <p:cNvSpPr/>
          <p:nvPr/>
        </p:nvSpPr>
        <p:spPr>
          <a:xfrm rot="20356800">
            <a:off x="531360" y="329976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f1e0"/>
                </a:solidFill>
                <a:latin typeface="Book Antiqua"/>
              </a:rPr>
              <a:t>Zum Geburtstag,  liebe Schule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012000" y="1773360"/>
            <a:ext cx="291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Book Antiqua"/>
              </a:rPr>
              <a:t>35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diesem Projekt haben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Konstantin Muss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Semitschev Iv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 Schüler der Klasse 8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gearbei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jektleite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Ignatjewa Maria Alexeew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Скрыпова Екатерина\Desktop\Наша школа\P1040610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61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Скрыпова Екатерина\Desktop\dlya_sayta_foto.jpg"/>
          <p:cNvPicPr/>
          <p:nvPr/>
        </p:nvPicPr>
        <p:blipFill>
          <a:blip r:embed="rId2"/>
          <a:stretch/>
        </p:blipFill>
        <p:spPr>
          <a:xfrm>
            <a:off x="4978440" y="2692440"/>
            <a:ext cx="4165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13" descr="IMG_5263.JPG"/>
          <p:cNvPicPr/>
          <p:nvPr/>
        </p:nvPicPr>
        <p:blipFill>
          <a:blip r:embed="rId1"/>
          <a:stretch/>
        </p:blipFill>
        <p:spPr>
          <a:xfrm>
            <a:off x="2843280" y="1643040"/>
            <a:ext cx="315756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93560" y="237960"/>
            <a:ext cx="8242560" cy="1194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gb_flag.gif"/>
          <p:cNvPicPr/>
          <p:nvPr/>
        </p:nvPicPr>
        <p:blipFill>
          <a:blip r:embed="rId3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214200" y="1643040"/>
            <a:ext cx="3143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57120" y="150012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w here is a tale that I must tel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ust sit right there and listen wel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 woman entered our school one day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changed our lives in many a w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3000240" y="4272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428920" y="4214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he is bright and brainy as could b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did all she could do, as you will se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atever we wished, we had no doub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s woman would bring it all about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929200" y="1500120"/>
            <a:ext cx="285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he is kind and gentle and very funny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worked wonders with the school’s money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 many years is a valued treasur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spent endless hours bringing the children pleasur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5715000" y="1500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5715000" y="1500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20840" y="311040"/>
            <a:ext cx="824220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7.JPG"/>
          <p:cNvPicPr/>
          <p:nvPr/>
        </p:nvPicPr>
        <p:blipFill>
          <a:blip r:embed="rId3"/>
          <a:stretch/>
        </p:blipFill>
        <p:spPr>
          <a:xfrm>
            <a:off x="1214280" y="214308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10.jpg"/>
          <p:cNvPicPr/>
          <p:nvPr/>
        </p:nvPicPr>
        <p:blipFill>
          <a:blip r:embed="rId4"/>
          <a:stretch/>
        </p:blipFill>
        <p:spPr>
          <a:xfrm>
            <a:off x="7072200" y="214308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01_30_26.JPEG"/>
          <p:cNvPicPr/>
          <p:nvPr/>
        </p:nvPicPr>
        <p:blipFill>
          <a:blip r:embed="rId5"/>
          <a:stretch/>
        </p:blipFill>
        <p:spPr>
          <a:xfrm>
            <a:off x="4143240" y="214308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6"/>
          <a:stretch/>
        </p:blipFill>
        <p:spPr>
          <a:xfrm>
            <a:off x="1133640" y="4780080"/>
            <a:ext cx="2431800" cy="798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500040" y="385776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3571920" y="3857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429240" y="3857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42960" y="15001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atyana Georgievna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714840" y="15001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alina  Ivanov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6643800" y="1500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ena Viktorov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1570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Екатерина Васильевна.jpg"/>
          <p:cNvPicPr/>
          <p:nvPr/>
        </p:nvPicPr>
        <p:blipFill>
          <a:blip r:embed="rId2"/>
          <a:stretch/>
        </p:blipFill>
        <p:spPr>
          <a:xfrm>
            <a:off x="5929200" y="4857840"/>
            <a:ext cx="1135080" cy="1706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gb_flag.gif"/>
          <p:cNvPicPr/>
          <p:nvPr/>
        </p:nvPicPr>
        <p:blipFill>
          <a:blip r:embed="rId3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Елена Юрьевна.jpg"/>
          <p:cNvPicPr/>
          <p:nvPr/>
        </p:nvPicPr>
        <p:blipFill>
          <a:blip r:embed="rId4"/>
          <a:stretch/>
        </p:blipFill>
        <p:spPr>
          <a:xfrm>
            <a:off x="200016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Марина Леонидовна.jpg"/>
          <p:cNvPicPr/>
          <p:nvPr/>
        </p:nvPicPr>
        <p:blipFill>
          <a:blip r:embed="rId5"/>
          <a:stretch/>
        </p:blipFill>
        <p:spPr>
          <a:xfrm>
            <a:off x="328608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мария Алексеевна.jpg"/>
          <p:cNvPicPr/>
          <p:nvPr/>
        </p:nvPicPr>
        <p:blipFill>
          <a:blip r:embed="rId6"/>
          <a:stretch/>
        </p:blipFill>
        <p:spPr>
          <a:xfrm>
            <a:off x="457200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017.jpg"/>
          <p:cNvPicPr/>
          <p:nvPr/>
        </p:nvPicPr>
        <p:blipFill>
          <a:blip r:embed="rId7"/>
          <a:stretch/>
        </p:blipFill>
        <p:spPr>
          <a:xfrm>
            <a:off x="585792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018.jpg"/>
          <p:cNvPicPr/>
          <p:nvPr/>
        </p:nvPicPr>
        <p:blipFill>
          <a:blip r:embed="rId8"/>
          <a:stretch/>
        </p:blipFill>
        <p:spPr>
          <a:xfrm>
            <a:off x="4643280" y="4857840"/>
            <a:ext cx="1140120" cy="1706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019.jpg"/>
          <p:cNvPicPr/>
          <p:nvPr/>
        </p:nvPicPr>
        <p:blipFill>
          <a:blip r:embed="rId9"/>
          <a:stretch/>
        </p:blipFill>
        <p:spPr>
          <a:xfrm>
            <a:off x="721512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021.jpg"/>
          <p:cNvPicPr/>
          <p:nvPr/>
        </p:nvPicPr>
        <p:blipFill>
          <a:blip r:embed="rId10"/>
          <a:stretch/>
        </p:blipFill>
        <p:spPr>
          <a:xfrm>
            <a:off x="64296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023.jpg"/>
          <p:cNvPicPr/>
          <p:nvPr/>
        </p:nvPicPr>
        <p:blipFill>
          <a:blip r:embed="rId11"/>
          <a:stretch/>
        </p:blipFill>
        <p:spPr>
          <a:xfrm>
            <a:off x="200016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027.jpg"/>
          <p:cNvPicPr/>
          <p:nvPr/>
        </p:nvPicPr>
        <p:blipFill>
          <a:blip r:embed="rId12"/>
          <a:stretch/>
        </p:blipFill>
        <p:spPr>
          <a:xfrm>
            <a:off x="335772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034.jpg"/>
          <p:cNvPicPr/>
          <p:nvPr/>
        </p:nvPicPr>
        <p:blipFill>
          <a:blip r:embed="rId13"/>
          <a:stretch/>
        </p:blipFill>
        <p:spPr>
          <a:xfrm>
            <a:off x="4643280" y="300024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030.jpg"/>
          <p:cNvPicPr/>
          <p:nvPr/>
        </p:nvPicPr>
        <p:blipFill>
          <a:blip r:embed="rId14"/>
          <a:stretch/>
        </p:blipFill>
        <p:spPr>
          <a:xfrm>
            <a:off x="64296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6" descr="035.jpg"/>
          <p:cNvPicPr/>
          <p:nvPr/>
        </p:nvPicPr>
        <p:blipFill>
          <a:blip r:embed="rId15"/>
          <a:stretch/>
        </p:blipFill>
        <p:spPr>
          <a:xfrm>
            <a:off x="721512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7" descr="036.jpg"/>
          <p:cNvPicPr/>
          <p:nvPr/>
        </p:nvPicPr>
        <p:blipFill>
          <a:blip r:embed="rId16"/>
          <a:stretch/>
        </p:blipFill>
        <p:spPr>
          <a:xfrm>
            <a:off x="5929200" y="3000240"/>
            <a:ext cx="1135080" cy="170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019.jpg"/>
          <p:cNvPicPr/>
          <p:nvPr/>
        </p:nvPicPr>
        <p:blipFill>
          <a:blip r:embed="rId17"/>
          <a:stretch/>
        </p:blipFill>
        <p:spPr>
          <a:xfrm>
            <a:off x="7236000" y="1052640"/>
            <a:ext cx="11397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C:\Users\Скрыпова Екатерина\Desktop\0_5ac14_3e657fe7_XL.png"/>
          <p:cNvPicPr/>
          <p:nvPr/>
        </p:nvPicPr>
        <p:blipFill>
          <a:blip r:embed="rId1"/>
          <a:stretch/>
        </p:blipFill>
        <p:spPr>
          <a:xfrm>
            <a:off x="1835280" y="2349360"/>
            <a:ext cx="299232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Users\Скрыпова Екатерина\Desktop\0_520d0_bf3350da_XXXL.png"/>
          <p:cNvPicPr/>
          <p:nvPr/>
        </p:nvPicPr>
        <p:blipFill>
          <a:blip r:embed="rId3"/>
          <a:stretch/>
        </p:blipFill>
        <p:spPr>
          <a:xfrm rot="20202600">
            <a:off x="269640" y="80640"/>
            <a:ext cx="720720" cy="151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Скрыпова Екатерина\Desktop\0_520d0_bf3350da_XXXL.png"/>
          <p:cNvPicPr/>
          <p:nvPr/>
        </p:nvPicPr>
        <p:blipFill>
          <a:blip r:embed="rId4"/>
          <a:stretch/>
        </p:blipFill>
        <p:spPr>
          <a:xfrm rot="20701800">
            <a:off x="6270480" y="2830320"/>
            <a:ext cx="1297080" cy="273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5" descr="C:\Users\Скрыпова Екатерина\Desktop\0_73880_31fa9b37_XL.png"/>
          <p:cNvPicPr/>
          <p:nvPr/>
        </p:nvPicPr>
        <p:blipFill>
          <a:blip r:embed="rId5"/>
          <a:stretch/>
        </p:blipFill>
        <p:spPr>
          <a:xfrm rot="1002000">
            <a:off x="7434000" y="398520"/>
            <a:ext cx="1770120" cy="214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фотографии\IMG_4914.JPG"/>
          <p:cNvPicPr/>
          <p:nvPr/>
        </p:nvPicPr>
        <p:blipFill>
          <a:blip r:embed="rId6"/>
          <a:stretch/>
        </p:blipFill>
        <p:spPr>
          <a:xfrm>
            <a:off x="1143000" y="1071720"/>
            <a:ext cx="7358040" cy="5072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gb_flag.gif"/>
          <p:cNvPicPr/>
          <p:nvPr/>
        </p:nvPicPr>
        <p:blipFill>
          <a:blip r:embed="rId7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010720" cy="1438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llo, wir sind Schȕler der Schule №26 mit erweitertem Chemi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d Biologieunterricht, a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ss Novgorod, aus Russland. Unsere Sch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№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6  befindet sich am Stadtrand, Kotschetovstrasse 35,Block 4. Das Schulgebäude ist dreistȍcki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Erdgeschoss befinden sich die Eingangshalle, die Garderobe, die Sporthalle, der Speiseraum, das Sekretariat, die Bibliothek, die Aula, die Klassenrȁume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Biologie, Musik, Kunst und  Werk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ersten Stock befinden sich viele Klassenrȁume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wie auch die Fachrȁume fȕr die Schȕler der Grundschule,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Deutsch,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Englisch, Russisch und Literatur,  und Physik. Unser Stolz ist der neue  Computerra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zweiten Stock liegen viele  sch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 gemȕtliche Fachrȁume fȕr die Sch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r der Oberstufe : fȕr Chemie,Mathematik, Literatur und Russisch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Arbeitsgemeinschaften (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Handarbe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39:51Z</dcterms:created>
  <dc:creator>Константин</dc:creator>
  <dc:description/>
  <dc:language>en-US</dc:language>
  <cp:lastModifiedBy>Скрыпова Екатерина Васильевна</cp:lastModifiedBy>
  <dcterms:modified xsi:type="dcterms:W3CDTF">2013-02-28T07:34:19Z</dcterms:modified>
  <cp:revision>140</cp:revision>
  <dc:subject/>
  <dc:title>Слайд 1</dc:title>
</cp:coreProperties>
</file>