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513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60548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6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E92D8-4837-4843-BC07-43CCD2FDD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B328-6EEA-4D57-8171-CF93BAE35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BA4B-B4C7-400F-8BF7-FBE2BACB9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5922-02CB-414F-B485-CEF2C92F1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7674-8CD6-476D-AEB1-A1090C217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1743-21A3-4F14-9557-EAE3DD0B16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E090-BBB1-4524-B4AF-A0D5B06597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0EAF-4366-43E6-8AE6-0980A1EFB2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EC73-FBB3-41DF-9929-6097A8C07E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7239-6BF2-4864-A32C-B4070C9956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58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D8C0E-01D8-42F3-BAEA-8B631319BC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60C2-468C-49B6-B0CD-7A45F94C17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D6C2-BF78-4B50-8896-736EE320E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C22B-B784-40A5-8A5F-167B0F17B5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900F-D679-407E-A436-5A182DED6B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0659-BE48-4FBA-921F-0E1EC2236C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D598-8A9C-4B32-8BAA-8594FC7B62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51E6-E0DD-4DFF-847F-BFEB732178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31F9-22C5-4434-AB3C-F0DE6C721B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58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502E-E5C2-41F3-9F06-E4D284E30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260E-BC62-437B-AB88-31F0E799D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58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8C1C-A6BB-43F0-8D4A-CB9060DA8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F3F1-8D0E-449E-BB7E-CB6177ECF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2781-6A4D-4A3D-9FFC-8BE3A0769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6DA7-F469-46C6-96BA-455DABCA9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6d49"/>
            </a:gs>
            <a:gs pos="100000">
              <a:srgbClr val="fdeb9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46360" y="1308240"/>
            <a:ext cx="6849000" cy="4893480"/>
            <a:chOff x="846360" y="1308240"/>
            <a:chExt cx="6849000" cy="4893480"/>
          </a:xfrm>
        </p:grpSpPr>
        <p:sp>
          <p:nvSpPr>
            <p:cNvPr id="1" name=""/>
            <p:cNvSpPr/>
            <p:nvPr/>
          </p:nvSpPr>
          <p:spPr>
            <a:xfrm flipV="1" rot="20820000">
              <a:off x="904680" y="1590840"/>
              <a:ext cx="2000520" cy="28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60000">
              <a:off x="894960" y="1724040"/>
              <a:ext cx="2333160" cy="144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60000">
              <a:off x="892080" y="1821240"/>
              <a:ext cx="2576880" cy="21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700000">
              <a:off x="872280" y="1934640"/>
              <a:ext cx="2840400" cy="43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40000">
              <a:off x="863640" y="2095560"/>
              <a:ext cx="3179160" cy="43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80000">
              <a:off x="846360" y="2268360"/>
              <a:ext cx="3511080" cy="46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0000">
              <a:off x="816120" y="2504520"/>
              <a:ext cx="3905640" cy="46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0000">
              <a:off x="810360" y="2736720"/>
              <a:ext cx="4304520" cy="4320"/>
            </a:xfrm>
            <a:prstGeom prst="rect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20000">
              <a:off x="731880" y="2999160"/>
              <a:ext cx="4834440" cy="4320"/>
            </a:xfrm>
            <a:prstGeom prst="rect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0000">
              <a:off x="676440" y="3323520"/>
              <a:ext cx="5296680" cy="4320"/>
            </a:xfrm>
            <a:prstGeom prst="rect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0000">
              <a:off x="563400" y="3778200"/>
              <a:ext cx="597240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0000">
              <a:off x="933120" y="4142160"/>
              <a:ext cx="6202440" cy="2880"/>
            </a:xfrm>
            <a:prstGeom prst="rect">
              <a:avLst/>
            </a:prstGeom>
            <a:gradFill rotWithShape="0">
              <a:gsLst>
                <a:gs pos="0">
                  <a:srgbClr val="756d4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0000">
              <a:off x="2439360" y="4205880"/>
              <a:ext cx="5297040" cy="4680"/>
            </a:xfrm>
            <a:prstGeom prst="rect">
              <a:avLst/>
            </a:prstGeom>
            <a:gradFill rotWithShape="0">
              <a:gsLst>
                <a:gs pos="0">
                  <a:srgbClr val="4c472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9020000">
              <a:off x="4003920" y="4403160"/>
              <a:ext cx="4105800" cy="4320"/>
            </a:xfrm>
            <a:prstGeom prst="rect">
              <a:avLst/>
            </a:prstGeom>
            <a:gradFill rotWithShape="0">
              <a:gsLst>
                <a:gs pos="0">
                  <a:srgbClr val="08070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0000">
              <a:off x="5341680" y="5001480"/>
              <a:ext cx="2863440" cy="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60000">
              <a:off x="7034040" y="5922360"/>
              <a:ext cx="686520" cy="1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754560" y="3426120"/>
              <a:ext cx="6945120" cy="4680"/>
            </a:xfrm>
            <a:prstGeom prst="rect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0000">
              <a:off x="695880" y="4853520"/>
              <a:ext cx="4756680" cy="4680"/>
            </a:xfrm>
            <a:prstGeom prst="rect">
              <a:avLst/>
            </a:prstGeom>
            <a:gradFill rotWithShape="0">
              <a:gsLst>
                <a:gs pos="0">
                  <a:srgbClr val="a19564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40000">
              <a:off x="732960" y="5169960"/>
              <a:ext cx="3217680" cy="4320"/>
            </a:xfrm>
            <a:prstGeom prst="rect">
              <a:avLst/>
            </a:prstGeom>
            <a:gradFill rotWithShape="0">
              <a:gsLst>
                <a:gs pos="0">
                  <a:srgbClr val="a19564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80000">
              <a:off x="796320" y="5581080"/>
              <a:ext cx="1604520" cy="4320"/>
            </a:xfrm>
            <a:prstGeom prst="rect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0000">
              <a:off x="676440" y="4612320"/>
              <a:ext cx="6289920" cy="4320"/>
            </a:xfrm>
            <a:prstGeom prst="rect">
              <a:avLst/>
            </a:prstGeom>
            <a:gradFill rotWithShape="0">
              <a:gsLst>
                <a:gs pos="0">
                  <a:srgbClr val="7b724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60000">
              <a:off x="790200" y="3105360"/>
              <a:ext cx="6910560" cy="4320"/>
            </a:xfrm>
            <a:prstGeom prst="rect">
              <a:avLst/>
            </a:prstGeom>
            <a:gradFill rotWithShape="0">
              <a:gsLst>
                <a:gs pos="0">
                  <a:srgbClr val="92875b"/>
                </a:gs>
                <a:gs pos="100000">
                  <a:srgbClr val="fde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60000">
              <a:off x="1013400" y="2855880"/>
              <a:ext cx="661176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40000">
              <a:off x="1352160" y="2652840"/>
              <a:ext cx="6288480" cy="468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80000">
              <a:off x="1899000" y="2351880"/>
              <a:ext cx="571464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20000">
              <a:off x="2131920" y="2205000"/>
              <a:ext cx="546588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720000">
              <a:off x="2352240" y="2067120"/>
              <a:ext cx="5234040" cy="4320"/>
            </a:xfrm>
            <a:prstGeom prst="rect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60000">
              <a:off x="2629440" y="1971720"/>
              <a:ext cx="4954320" cy="4680"/>
            </a:xfrm>
            <a:prstGeom prst="rect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60000">
              <a:off x="2818440" y="1852920"/>
              <a:ext cx="4769640" cy="4320"/>
            </a:xfrm>
            <a:prstGeom prst="rect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40000">
              <a:off x="1625760" y="2495160"/>
              <a:ext cx="597780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60000">
              <a:off x="688680" y="4278240"/>
              <a:ext cx="7063560" cy="4680"/>
            </a:xfrm>
            <a:prstGeom prst="rect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200000">
              <a:off x="722160" y="3846960"/>
              <a:ext cx="7010280" cy="4680"/>
            </a:xfrm>
            <a:prstGeom prst="rect">
              <a:avLst/>
            </a:prstGeom>
            <a:gradFill rotWithShape="0">
              <a:gsLst>
                <a:gs pos="0">
                  <a:srgbClr val="82795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771920" y="4806720"/>
              <a:ext cx="189720" cy="12708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192680" y="4412520"/>
              <a:ext cx="188640" cy="12564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103760" y="5211360"/>
              <a:ext cx="221760" cy="14256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308040" y="3841560"/>
              <a:ext cx="175680" cy="11052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325240" y="4415760"/>
              <a:ext cx="190080" cy="12564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60200" y="4114080"/>
              <a:ext cx="176040" cy="11988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783440" y="4088160"/>
              <a:ext cx="168480" cy="1180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342800" y="3835440"/>
              <a:ext cx="167040" cy="11052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268360" y="3815640"/>
              <a:ext cx="175680" cy="10872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679560" y="3598920"/>
              <a:ext cx="176040" cy="10908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116160" y="336240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12160" y="3141360"/>
              <a:ext cx="150120" cy="7884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73040" y="3350520"/>
              <a:ext cx="155520" cy="954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53320" y="2788200"/>
              <a:ext cx="144000" cy="784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98400" y="264312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77000" y="278532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43480" y="2624760"/>
              <a:ext cx="142920" cy="7992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7920" y="296244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00640" y="3150720"/>
              <a:ext cx="148320" cy="78480"/>
            </a:xfrm>
            <a:prstGeom prst="ellipse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5920" y="3553560"/>
              <a:ext cx="167040" cy="11952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61800" y="2968920"/>
              <a:ext cx="155880" cy="784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0040" y="3170160"/>
              <a:ext cx="154080" cy="784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9600" y="335952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48200" y="2994480"/>
              <a:ext cx="1501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33800" y="265968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45640" y="28098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94840" y="26550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03800" y="27990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15200" y="263556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61600" y="297468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98280" y="3159360"/>
              <a:ext cx="150120" cy="972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39240" y="281412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44320" y="265068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50840" y="279288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18400" y="3376440"/>
              <a:ext cx="15588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56160" y="3174480"/>
              <a:ext cx="150120" cy="788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29160" y="358236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45880" y="2950560"/>
              <a:ext cx="155520" cy="9540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5600" y="2517120"/>
              <a:ext cx="13716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28960" y="237600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13880" y="224892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78000" y="237168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30240" y="2501640"/>
              <a:ext cx="138600" cy="6696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32080" y="225648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9200" y="251100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6920" y="237924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06080" y="2495880"/>
              <a:ext cx="13716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47520" y="225648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90040" y="237456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84040" y="225036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00880" y="251244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38640" y="2371680"/>
              <a:ext cx="138600" cy="6516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60760" y="2255040"/>
              <a:ext cx="138600" cy="666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79640" y="2500560"/>
              <a:ext cx="13824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89880" y="237600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17040" y="224892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07880" y="2258280"/>
              <a:ext cx="13860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04320" y="2517120"/>
              <a:ext cx="142920" cy="648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17440" y="2389680"/>
              <a:ext cx="142920" cy="6516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94000" y="5211360"/>
              <a:ext cx="221400" cy="14832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33040" y="5709960"/>
              <a:ext cx="214560" cy="14976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82640" y="4435200"/>
              <a:ext cx="189720" cy="12744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12840" y="412776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1680" y="3850560"/>
              <a:ext cx="175680" cy="11052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55160" y="3555000"/>
              <a:ext cx="166680" cy="11988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91600" y="4808160"/>
              <a:ext cx="187200" cy="12708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6840" y="334620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95760" y="295056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34040" y="3147480"/>
              <a:ext cx="150480" cy="7848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1840" y="27882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07960" y="2650680"/>
              <a:ext cx="14436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8040" y="2517120"/>
              <a:ext cx="138600" cy="648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78400" y="238212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41480" y="2256480"/>
              <a:ext cx="142920" cy="6516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7280" y="2145960"/>
              <a:ext cx="122760" cy="6516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28720" y="2144520"/>
              <a:ext cx="124200" cy="6480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98000" y="2144520"/>
              <a:ext cx="125640" cy="648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36200" y="2055240"/>
              <a:ext cx="122760" cy="648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45000" y="1953360"/>
              <a:ext cx="125640" cy="6516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92000" y="1785240"/>
              <a:ext cx="12564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28160" y="2057760"/>
              <a:ext cx="12420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65080" y="1855080"/>
              <a:ext cx="124200" cy="648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9280" y="1942560"/>
              <a:ext cx="124200" cy="666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80840" y="2159640"/>
              <a:ext cx="12276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5280" y="2135160"/>
              <a:ext cx="12564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3240" y="1942560"/>
              <a:ext cx="122760" cy="66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71160" y="2044440"/>
              <a:ext cx="122760" cy="66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99800" y="1764000"/>
              <a:ext cx="124200" cy="65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36920" y="2053440"/>
              <a:ext cx="117360" cy="576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6440" y="2156400"/>
              <a:ext cx="117360" cy="558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10520" y="204120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03920" y="204120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9040" y="1864080"/>
              <a:ext cx="117000" cy="55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99960" y="1701720"/>
              <a:ext cx="117000" cy="558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07320" y="1612440"/>
              <a:ext cx="117360" cy="576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53240" y="1604880"/>
              <a:ext cx="1173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2240" y="1932120"/>
              <a:ext cx="117360" cy="56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2000" y="2032200"/>
              <a:ext cx="11736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38640" y="2141280"/>
              <a:ext cx="1170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50240" y="163368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1360" y="1618560"/>
              <a:ext cx="1173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08240" y="1638360"/>
              <a:ext cx="1170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8920" y="1942560"/>
              <a:ext cx="122760" cy="5760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18320" y="1774800"/>
              <a:ext cx="124200" cy="572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32560" y="186552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9120" y="1704960"/>
              <a:ext cx="124200" cy="55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75600" y="162000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02920" y="2165760"/>
              <a:ext cx="123120" cy="558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74400" y="195660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95480" y="1768680"/>
              <a:ext cx="123120" cy="576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75440" y="1689840"/>
              <a:ext cx="125640" cy="558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53680" y="1773000"/>
              <a:ext cx="122760" cy="576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76200" y="2041200"/>
              <a:ext cx="124200" cy="5724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0240" y="1857960"/>
              <a:ext cx="123120" cy="576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18880" y="1685520"/>
              <a:ext cx="12564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39960" y="1949040"/>
              <a:ext cx="124200" cy="5724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05600" y="202320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8400" y="176544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08400" y="1856520"/>
              <a:ext cx="12564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1080" y="1704960"/>
              <a:ext cx="12420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040" y="1779120"/>
              <a:ext cx="12276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29240" y="1716840"/>
              <a:ext cx="12564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7800" y="1848960"/>
              <a:ext cx="1227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3160" y="1785240"/>
              <a:ext cx="12420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94280" y="1870200"/>
              <a:ext cx="12312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20200" y="1688040"/>
              <a:ext cx="124200" cy="56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58040" y="1980720"/>
              <a:ext cx="12276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06200" y="1551960"/>
              <a:ext cx="112680" cy="464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62400" y="1568520"/>
              <a:ext cx="113040" cy="48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20320" y="1560960"/>
              <a:ext cx="111240" cy="46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3760" y="1551960"/>
              <a:ext cx="111240" cy="48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8120" y="1469880"/>
              <a:ext cx="112680" cy="48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11400" y="1542600"/>
              <a:ext cx="113040" cy="48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37520" y="2129400"/>
              <a:ext cx="117000" cy="648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59920" y="2262600"/>
              <a:ext cx="137160" cy="666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79960" y="1945800"/>
              <a:ext cx="124200" cy="666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78680" y="1842840"/>
              <a:ext cx="122760" cy="6516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73560" y="1423080"/>
              <a:ext cx="87120" cy="4212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73840" y="1423080"/>
              <a:ext cx="87120" cy="4212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12520" y="1369800"/>
              <a:ext cx="87120" cy="424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17360" y="1308240"/>
              <a:ext cx="91440" cy="4212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6240" y="1369800"/>
              <a:ext cx="91440" cy="424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7280" y="1443960"/>
              <a:ext cx="90000" cy="424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0480" y="1491120"/>
              <a:ext cx="1044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91360" y="1497240"/>
              <a:ext cx="9828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57840" y="1485360"/>
              <a:ext cx="11304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0760" y="5727960"/>
              <a:ext cx="219960" cy="13896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48320" y="5236920"/>
              <a:ext cx="221400" cy="15012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43640" y="4479480"/>
              <a:ext cx="187200" cy="12744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01480" y="414468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5840" y="4830840"/>
              <a:ext cx="187200" cy="12744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67600" y="3838320"/>
              <a:ext cx="168480" cy="11052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22120" y="358704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95000" y="336240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6720" y="295956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7a7047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32600" y="3153600"/>
              <a:ext cx="1555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10240" y="282024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77280" y="266256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3320" y="251856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86160" y="2397240"/>
              <a:ext cx="138600" cy="666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25120" y="2270160"/>
              <a:ext cx="137160" cy="666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62360" y="5788440"/>
              <a:ext cx="221400" cy="14076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17040" y="5267160"/>
              <a:ext cx="221400" cy="14832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6920" y="5284080"/>
              <a:ext cx="225720" cy="142200"/>
            </a:xfrm>
            <a:prstGeom prst="ellipse">
              <a:avLst/>
            </a:prstGeom>
            <a:gradFill rotWithShape="0">
              <a:gsLst>
                <a:gs pos="0">
                  <a:srgbClr val="4c472e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4000" y="5756760"/>
              <a:ext cx="221400" cy="138960"/>
            </a:xfrm>
            <a:prstGeom prst="ellipse">
              <a:avLst/>
            </a:prstGeom>
            <a:gradFill rotWithShape="0">
              <a:gsLst>
                <a:gs pos="0">
                  <a:srgbClr val="4c472e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05840" y="4858200"/>
              <a:ext cx="190080" cy="12708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22280" y="4506840"/>
              <a:ext cx="188640" cy="12708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19040" y="4888440"/>
              <a:ext cx="186840" cy="125640"/>
            </a:xfrm>
            <a:prstGeom prst="ellipse">
              <a:avLst/>
            </a:prstGeom>
            <a:gradFill rotWithShape="0">
              <a:gsLst>
                <a:gs pos="0">
                  <a:srgbClr val="4c472e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53840" y="4133880"/>
              <a:ext cx="175680" cy="10872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04880" y="4471920"/>
              <a:ext cx="188640" cy="12744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600" y="414468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4c472e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5480" y="3858120"/>
              <a:ext cx="175680" cy="10908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28680" y="3603600"/>
              <a:ext cx="175680" cy="11052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77680" y="3002040"/>
              <a:ext cx="150120" cy="9504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3320" y="3362400"/>
              <a:ext cx="155880" cy="9684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33680" y="3173400"/>
              <a:ext cx="150120" cy="7848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800" y="283824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706844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9560" y="266868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706844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29680" y="3868560"/>
              <a:ext cx="176040" cy="10908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46360" y="4123440"/>
              <a:ext cx="167040" cy="1180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23760" y="358704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10800" y="2152080"/>
              <a:ext cx="11700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85400" y="5703480"/>
              <a:ext cx="225720" cy="140760"/>
            </a:xfrm>
            <a:prstGeom prst="ellipse">
              <a:avLst/>
            </a:prstGeom>
            <a:gradFill rotWithShape="0">
              <a:gsLst>
                <a:gs pos="0">
                  <a:srgbClr val="4c472e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3CE2D-C4BB-4856-9E37-13093641CE5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724c"/>
            </a:gs>
            <a:gs pos="100000">
              <a:srgbClr val="fdeb9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43480" y="1311120"/>
            <a:ext cx="6845760" cy="4891680"/>
            <a:chOff x="843480" y="1311120"/>
            <a:chExt cx="6845760" cy="4891680"/>
          </a:xfrm>
        </p:grpSpPr>
        <p:sp>
          <p:nvSpPr>
            <p:cNvPr id="258" name=""/>
            <p:cNvSpPr/>
            <p:nvPr/>
          </p:nvSpPr>
          <p:spPr>
            <a:xfrm flipV="1" rot="20820000">
              <a:off x="903240" y="1595160"/>
              <a:ext cx="1998720" cy="28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60000">
              <a:off x="894960" y="1725840"/>
              <a:ext cx="2331720" cy="43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60000">
              <a:off x="887760" y="1822680"/>
              <a:ext cx="2575080" cy="1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00000">
              <a:off x="869040" y="1941480"/>
              <a:ext cx="2841120" cy="39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40000">
              <a:off x="862200" y="2099160"/>
              <a:ext cx="3178440" cy="46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80000">
              <a:off x="844920" y="2271240"/>
              <a:ext cx="3508920" cy="39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0000">
              <a:off x="813240" y="2507040"/>
              <a:ext cx="3906360" cy="43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0000">
              <a:off x="807480" y="2739240"/>
              <a:ext cx="4303440" cy="2880"/>
            </a:xfrm>
            <a:prstGeom prst="rect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20000">
              <a:off x="729000" y="3002040"/>
              <a:ext cx="4831200" cy="4320"/>
            </a:xfrm>
            <a:prstGeom prst="rect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0000">
              <a:off x="673200" y="3328560"/>
              <a:ext cx="5295960" cy="4320"/>
            </a:xfrm>
            <a:prstGeom prst="rect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0000">
              <a:off x="561600" y="3779280"/>
              <a:ext cx="5970600" cy="288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0000">
              <a:off x="930600" y="4145400"/>
              <a:ext cx="6201000" cy="4320"/>
            </a:xfrm>
            <a:prstGeom prst="rect">
              <a:avLst/>
            </a:prstGeom>
            <a:gradFill rotWithShape="0">
              <a:gsLst>
                <a:gs pos="0">
                  <a:srgbClr val="756d4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0000">
              <a:off x="2433600" y="4210560"/>
              <a:ext cx="5295600" cy="3960"/>
            </a:xfrm>
            <a:prstGeom prst="rect">
              <a:avLst/>
            </a:prstGeom>
            <a:gradFill rotWithShape="0">
              <a:gsLst>
                <a:gs pos="0">
                  <a:srgbClr val="4c472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020000">
              <a:off x="4000680" y="4407480"/>
              <a:ext cx="4104720" cy="4680"/>
            </a:xfrm>
            <a:prstGeom prst="rect">
              <a:avLst/>
            </a:prstGeom>
            <a:gradFill rotWithShape="0">
              <a:gsLst>
                <a:gs pos="0">
                  <a:srgbClr val="08070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0000">
              <a:off x="5337360" y="5003640"/>
              <a:ext cx="2862720" cy="1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60000">
              <a:off x="7030800" y="5923440"/>
              <a:ext cx="686520" cy="1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">
              <a:off x="752040" y="3426480"/>
              <a:ext cx="6941520" cy="4680"/>
            </a:xfrm>
            <a:prstGeom prst="rect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0000">
              <a:off x="693360" y="4856040"/>
              <a:ext cx="4753800" cy="4320"/>
            </a:xfrm>
            <a:prstGeom prst="rect">
              <a:avLst/>
            </a:prstGeom>
            <a:gradFill rotWithShape="0">
              <a:gsLst>
                <a:gs pos="0">
                  <a:srgbClr val="a19564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40000">
              <a:off x="730440" y="5169960"/>
              <a:ext cx="3218400" cy="4320"/>
            </a:xfrm>
            <a:prstGeom prst="rect">
              <a:avLst/>
            </a:prstGeom>
            <a:gradFill rotWithShape="0">
              <a:gsLst>
                <a:gs pos="0">
                  <a:srgbClr val="a19564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80000">
              <a:off x="794880" y="5583600"/>
              <a:ext cx="1604160" cy="4680"/>
            </a:xfrm>
            <a:prstGeom prst="rect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0000">
              <a:off x="673200" y="4613400"/>
              <a:ext cx="6288120" cy="4320"/>
            </a:xfrm>
            <a:prstGeom prst="rect">
              <a:avLst/>
            </a:prstGeom>
            <a:gradFill rotWithShape="0">
              <a:gsLst>
                <a:gs pos="0">
                  <a:srgbClr val="7b724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60000">
              <a:off x="787320" y="3107160"/>
              <a:ext cx="6907320" cy="4320"/>
            </a:xfrm>
            <a:prstGeom prst="rect">
              <a:avLst/>
            </a:prstGeom>
            <a:gradFill rotWithShape="0">
              <a:gsLst>
                <a:gs pos="0">
                  <a:srgbClr val="92875b"/>
                </a:gs>
                <a:gs pos="100000">
                  <a:srgbClr val="fde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60000">
              <a:off x="1013760" y="2859480"/>
              <a:ext cx="660852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40000">
              <a:off x="1349640" y="2656440"/>
              <a:ext cx="628524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80000">
              <a:off x="1894320" y="2353320"/>
              <a:ext cx="5713200" cy="468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20000">
              <a:off x="2128320" y="2206440"/>
              <a:ext cx="546336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20000">
              <a:off x="2350440" y="2071440"/>
              <a:ext cx="5231520" cy="4320"/>
            </a:xfrm>
            <a:prstGeom prst="rect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60000">
              <a:off x="2628000" y="1976040"/>
              <a:ext cx="4951440" cy="2520"/>
            </a:xfrm>
            <a:prstGeom prst="rect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60000">
              <a:off x="2816640" y="1856880"/>
              <a:ext cx="4768560" cy="3960"/>
            </a:xfrm>
            <a:prstGeom prst="rect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40000">
              <a:off x="1622520" y="2497680"/>
              <a:ext cx="5975280" cy="396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60000">
              <a:off x="684720" y="4278960"/>
              <a:ext cx="7061400" cy="4320"/>
            </a:xfrm>
            <a:prstGeom prst="rect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00000">
              <a:off x="718560" y="3849840"/>
              <a:ext cx="7008840" cy="4320"/>
            </a:xfrm>
            <a:prstGeom prst="rect">
              <a:avLst/>
            </a:prstGeom>
            <a:gradFill rotWithShape="0">
              <a:gsLst>
                <a:gs pos="0">
                  <a:srgbClr val="82795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68680" y="4809240"/>
              <a:ext cx="187200" cy="12708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89440" y="4415400"/>
              <a:ext cx="188640" cy="1270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00880" y="5212440"/>
              <a:ext cx="221400" cy="14256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05880" y="3845160"/>
              <a:ext cx="175680" cy="11052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23440" y="4417920"/>
              <a:ext cx="188640" cy="12744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55520" y="4114800"/>
              <a:ext cx="175680" cy="11988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79840" y="4090680"/>
              <a:ext cx="168840" cy="1180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41360" y="3837600"/>
              <a:ext cx="167040" cy="11052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64760" y="3819600"/>
              <a:ext cx="176040" cy="10872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77400" y="3602880"/>
              <a:ext cx="174240" cy="10872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14360" y="336636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08920" y="3144960"/>
              <a:ext cx="150120" cy="7884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69080" y="3352680"/>
              <a:ext cx="155880" cy="954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50800" y="2791800"/>
              <a:ext cx="144000" cy="784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93000" y="264636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71600" y="278892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8080" y="2626560"/>
              <a:ext cx="142920" cy="802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82520" y="296604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96680" y="3154320"/>
              <a:ext cx="148680" cy="78480"/>
            </a:xfrm>
            <a:prstGeom prst="ellipse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20880" y="3558600"/>
              <a:ext cx="167040" cy="11952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59640" y="2970720"/>
              <a:ext cx="155880" cy="784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57880" y="3173760"/>
              <a:ext cx="155880" cy="784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0" y="336168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44960" y="2997720"/>
              <a:ext cx="150120" cy="788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30200" y="266148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2040" y="28116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90880" y="26586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98760" y="28026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13040" y="263880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58360" y="297684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97920" y="316332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35640" y="281592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1080" y="265392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48320" y="279648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15520" y="3380040"/>
              <a:ext cx="15588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52920" y="3178440"/>
              <a:ext cx="150120" cy="788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25920" y="3584520"/>
              <a:ext cx="174240" cy="1180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41920" y="2954160"/>
              <a:ext cx="155880" cy="9504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93800" y="2518920"/>
              <a:ext cx="136800" cy="666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26800" y="2379600"/>
              <a:ext cx="13680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09200" y="225072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73320" y="2373840"/>
              <a:ext cx="136800" cy="666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28440" y="2505240"/>
              <a:ext cx="138600" cy="666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28480" y="226008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7040" y="2514600"/>
              <a:ext cx="13680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13320" y="2382480"/>
              <a:ext cx="13680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03560" y="2499480"/>
              <a:ext cx="13680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44640" y="2260080"/>
              <a:ext cx="13680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86800" y="237636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81160" y="2253600"/>
              <a:ext cx="136800" cy="65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98000" y="2517840"/>
              <a:ext cx="136800" cy="648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36480" y="2373840"/>
              <a:ext cx="138600" cy="648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56440" y="2258640"/>
              <a:ext cx="138600" cy="648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75320" y="2502360"/>
              <a:ext cx="138600" cy="669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85560" y="237960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14520" y="2250720"/>
              <a:ext cx="13680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02120" y="2261160"/>
              <a:ext cx="13860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00360" y="2520360"/>
              <a:ext cx="142920" cy="6516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13480" y="2393280"/>
              <a:ext cx="142920" cy="6516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92200" y="5215320"/>
              <a:ext cx="221400" cy="14832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160" y="5712480"/>
              <a:ext cx="214560" cy="15012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80120" y="4436280"/>
              <a:ext cx="186840" cy="12564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10680" y="412848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59520" y="3854520"/>
              <a:ext cx="174240" cy="11052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49760" y="3558600"/>
              <a:ext cx="167040" cy="11952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88360" y="4810680"/>
              <a:ext cx="188640" cy="12564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54320" y="335124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91800" y="295236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30080" y="3151080"/>
              <a:ext cx="150120" cy="7848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16440" y="27918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02560" y="2653920"/>
              <a:ext cx="144000" cy="7884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160" y="2518920"/>
              <a:ext cx="138600" cy="666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74080" y="238572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37160" y="2260080"/>
              <a:ext cx="142920" cy="6660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82960" y="2149200"/>
              <a:ext cx="122760" cy="6516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6200" y="2145960"/>
              <a:ext cx="123840" cy="6516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94040" y="2145960"/>
              <a:ext cx="124200" cy="6516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33680" y="2058120"/>
              <a:ext cx="122760" cy="6516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39600" y="1956600"/>
              <a:ext cx="124200" cy="6516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88040" y="1788480"/>
              <a:ext cx="12384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26000" y="2061360"/>
              <a:ext cx="124200" cy="666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61840" y="1856880"/>
              <a:ext cx="125640" cy="6516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5680" y="1946160"/>
              <a:ext cx="124200" cy="6516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78680" y="2162880"/>
              <a:ext cx="12420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93480" y="2138400"/>
              <a:ext cx="12384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20000" y="1946160"/>
              <a:ext cx="122760" cy="65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69720" y="2047680"/>
              <a:ext cx="122760" cy="66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98000" y="1765800"/>
              <a:ext cx="124200" cy="65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32600" y="2056680"/>
              <a:ext cx="117000" cy="576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80680" y="2160000"/>
              <a:ext cx="115560" cy="558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04760" y="204480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01400" y="204480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95080" y="1867320"/>
              <a:ext cx="117360" cy="55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94920" y="1705320"/>
              <a:ext cx="117360" cy="558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03720" y="161568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50000" y="1609560"/>
              <a:ext cx="11736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69000" y="1935360"/>
              <a:ext cx="11700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68760" y="203724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35400" y="2144880"/>
              <a:ext cx="1173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48800" y="163728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88120" y="1621800"/>
              <a:ext cx="1170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4640" y="1641600"/>
              <a:ext cx="1155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64960" y="1946160"/>
              <a:ext cx="122760" cy="5760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14360" y="1778040"/>
              <a:ext cx="125640" cy="572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27160" y="1868760"/>
              <a:ext cx="123840" cy="576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5520" y="1708200"/>
              <a:ext cx="123840" cy="55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1640" y="1623240"/>
              <a:ext cx="126000" cy="5724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00400" y="2169000"/>
              <a:ext cx="123120" cy="558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70440" y="195804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93320" y="1771920"/>
              <a:ext cx="123120" cy="576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71480" y="1693080"/>
              <a:ext cx="124200" cy="558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50080" y="1776240"/>
              <a:ext cx="122760" cy="576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4040" y="2044800"/>
              <a:ext cx="124200" cy="5724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97000" y="1861200"/>
              <a:ext cx="122760" cy="576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16720" y="168840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38160" y="1952280"/>
              <a:ext cx="125640" cy="5724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03800" y="2026440"/>
              <a:ext cx="123840" cy="5724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75160" y="1768680"/>
              <a:ext cx="12564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06240" y="186120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28920" y="1708200"/>
              <a:ext cx="12420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1800" y="1782360"/>
              <a:ext cx="1227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26000" y="172044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24560" y="1852200"/>
              <a:ext cx="1227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99920" y="1788480"/>
              <a:ext cx="124200" cy="56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91040" y="1873080"/>
              <a:ext cx="122760" cy="56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16960" y="1691280"/>
              <a:ext cx="12564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55160" y="1983960"/>
              <a:ext cx="122760" cy="56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04400" y="1554840"/>
              <a:ext cx="112680" cy="46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59160" y="1571760"/>
              <a:ext cx="112680" cy="48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16720" y="1564200"/>
              <a:ext cx="113040" cy="46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49800" y="1554840"/>
              <a:ext cx="110160" cy="48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83080" y="1471680"/>
              <a:ext cx="112680" cy="48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06360" y="1546200"/>
              <a:ext cx="112680" cy="48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33920" y="2132640"/>
              <a:ext cx="117360" cy="648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55960" y="2266200"/>
              <a:ext cx="137160" cy="648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77080" y="1949040"/>
              <a:ext cx="125640" cy="666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74720" y="1846080"/>
              <a:ext cx="122760" cy="666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71400" y="1426320"/>
              <a:ext cx="87120" cy="4212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72040" y="1426320"/>
              <a:ext cx="87120" cy="4212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08200" y="1373040"/>
              <a:ext cx="87120" cy="406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15200" y="1311120"/>
              <a:ext cx="91080" cy="424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22640" y="1373040"/>
              <a:ext cx="91080" cy="406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94040" y="1447560"/>
              <a:ext cx="91080" cy="424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15440" y="1494360"/>
              <a:ext cx="1044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89560" y="1500840"/>
              <a:ext cx="9828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54960" y="1488240"/>
              <a:ext cx="11268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96800" y="5730480"/>
              <a:ext cx="220320" cy="13932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46160" y="5238000"/>
              <a:ext cx="221400" cy="15012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38240" y="4482000"/>
              <a:ext cx="189000" cy="12564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97160" y="4146840"/>
              <a:ext cx="176040" cy="1180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40800" y="4834800"/>
              <a:ext cx="188640" cy="12564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64720" y="3839400"/>
              <a:ext cx="168480" cy="11052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17800" y="3588840"/>
              <a:ext cx="176040" cy="1180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89240" y="336636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32760" y="296316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7a7047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26840" y="3156840"/>
              <a:ext cx="155880" cy="7884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05920" y="282204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74400" y="266616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47200" y="2522160"/>
              <a:ext cx="137160" cy="648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81840" y="2400840"/>
              <a:ext cx="138600" cy="666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21880" y="2273760"/>
              <a:ext cx="136800" cy="648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59840" y="5792760"/>
              <a:ext cx="221400" cy="14076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14520" y="5268240"/>
              <a:ext cx="221400" cy="14832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02600" y="5285160"/>
              <a:ext cx="225720" cy="142200"/>
            </a:xfrm>
            <a:prstGeom prst="ellipse">
              <a:avLst/>
            </a:prstGeom>
            <a:gradFill rotWithShape="0">
              <a:gsLst>
                <a:gs pos="0">
                  <a:srgbClr val="635c3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79320" y="5760720"/>
              <a:ext cx="221760" cy="139320"/>
            </a:xfrm>
            <a:prstGeom prst="ellipse">
              <a:avLst/>
            </a:prstGeom>
            <a:gradFill rotWithShape="0">
              <a:gsLst>
                <a:gs pos="0">
                  <a:srgbClr val="635c3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01880" y="4859280"/>
              <a:ext cx="188640" cy="12708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16520" y="4509000"/>
              <a:ext cx="187200" cy="12708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12920" y="4889520"/>
              <a:ext cx="188640" cy="127080"/>
            </a:xfrm>
            <a:prstGeom prst="ellipse">
              <a:avLst/>
            </a:prstGeom>
            <a:gradFill rotWithShape="0">
              <a:gsLst>
                <a:gs pos="0">
                  <a:srgbClr val="635c3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49880" y="4137840"/>
              <a:ext cx="175680" cy="10872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9120" y="4474440"/>
              <a:ext cx="188640" cy="12564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4920" y="414540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635c3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02600" y="3862080"/>
              <a:ext cx="174240" cy="10872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25800" y="3607200"/>
              <a:ext cx="175680" cy="11052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173360" y="300420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47200" y="3366360"/>
              <a:ext cx="155880" cy="9540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29000" y="3175200"/>
              <a:ext cx="150120" cy="7884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30680" y="28404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92875b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56320" y="267192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92875b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25000" y="3870720"/>
              <a:ext cx="174240" cy="10908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3480" y="4127400"/>
              <a:ext cx="167040" cy="1180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20880" y="3590640"/>
              <a:ext cx="174240" cy="1180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09360" y="2155320"/>
              <a:ext cx="11700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80720" y="5706720"/>
              <a:ext cx="225720" cy="140760"/>
            </a:xfrm>
            <a:prstGeom prst="ellipse">
              <a:avLst/>
            </a:prstGeom>
            <a:gradFill rotWithShape="0">
              <a:gsLst>
                <a:gs pos="0">
                  <a:srgbClr val="635c3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3948D4F-FDB7-4171-A9EE-F11C1A2B044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677052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0" y="0"/>
            <a:ext cx="9139320" cy="7015320"/>
            <a:chOff x="0" y="0"/>
            <a:chExt cx="9139320" cy="7015320"/>
          </a:xfrm>
        </p:grpSpPr>
        <p:pic>
          <p:nvPicPr>
            <p:cNvPr id="5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9320" cy="70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0" y="0"/>
              <a:ext cx="9139320" cy="70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2160" y="2857680"/>
            <a:ext cx="777240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ВИТАМИН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60720" y="539640"/>
            <a:ext cx="485748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ОУ СПО «Вольский медицинский колледж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00720" y="5908680"/>
            <a:ext cx="4157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: Авдалян Ирина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дакова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тамин E (токоферола ацет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95280" y="3716280"/>
            <a:ext cx="1363680" cy="1333440"/>
            <a:chOff x="395280" y="3716280"/>
            <a:chExt cx="1363680" cy="1333440"/>
          </a:xfrm>
        </p:grpSpPr>
        <p:pic>
          <p:nvPicPr>
            <p:cNvPr id="612" name="" descr=""/>
            <p:cNvPicPr/>
            <p:nvPr/>
          </p:nvPicPr>
          <p:blipFill>
            <a:blip r:embed="rId1"/>
            <a:stretch/>
          </p:blipFill>
          <p:spPr>
            <a:xfrm>
              <a:off x="395280" y="3716280"/>
              <a:ext cx="136368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395280" y="3716280"/>
              <a:ext cx="136368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979640" y="1600200"/>
            <a:ext cx="670716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тельные масла, печень, молоко, овся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324000" y="1936800"/>
            <a:ext cx="1506240" cy="1342800"/>
            <a:chOff x="324000" y="1936800"/>
            <a:chExt cx="1506240" cy="1342800"/>
          </a:xfrm>
        </p:grpSpPr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324000" y="1936800"/>
              <a:ext cx="150624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324000" y="1936800"/>
              <a:ext cx="150624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dur="indefinite" fill="hold">
                      <p:stCondLst>
                        <p:cond delay="0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 К (синтетический фитоменади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050920" y="1600200"/>
            <a:ext cx="663588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63600" y="1700280"/>
            <a:ext cx="1365120" cy="1509480"/>
            <a:chOff x="363600" y="1700280"/>
            <a:chExt cx="1365120" cy="1509480"/>
          </a:xfrm>
        </p:grpSpPr>
        <p:pic>
          <p:nvPicPr>
            <p:cNvPr id="621" name="" descr=""/>
            <p:cNvPicPr/>
            <p:nvPr/>
          </p:nvPicPr>
          <p:blipFill>
            <a:blip r:embed="rId1"/>
            <a:stretch/>
          </p:blipFill>
          <p:spPr>
            <a:xfrm>
              <a:off x="363600" y="1700280"/>
              <a:ext cx="1365120" cy="15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363600" y="1700280"/>
              <a:ext cx="136512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404640" y="3789360"/>
            <a:ext cx="1209960" cy="1476360"/>
            <a:chOff x="404640" y="3789360"/>
            <a:chExt cx="1209960" cy="1476360"/>
          </a:xfrm>
        </p:grpSpPr>
        <p:pic>
          <p:nvPicPr>
            <p:cNvPr id="624" name="" descr=""/>
            <p:cNvPicPr/>
            <p:nvPr/>
          </p:nvPicPr>
          <p:blipFill>
            <a:blip r:embed="rId2"/>
            <a:stretch/>
          </p:blipFill>
          <p:spPr>
            <a:xfrm>
              <a:off x="404640" y="3789360"/>
              <a:ext cx="1209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404640" y="3789360"/>
              <a:ext cx="120996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0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 fill="hold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 fill="hold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619280" y="2160720"/>
            <a:ext cx="64008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999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1484280"/>
            <a:ext cx="5870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372360" y="1700280"/>
            <a:ext cx="2587320" cy="1938240"/>
            <a:chOff x="6372360" y="1700280"/>
            <a:chExt cx="2587320" cy="1938240"/>
          </a:xfrm>
        </p:grpSpPr>
        <p:pic>
          <p:nvPicPr>
            <p:cNvPr id="566" name="" descr=""/>
            <p:cNvPicPr/>
            <p:nvPr/>
          </p:nvPicPr>
          <p:blipFill>
            <a:blip r:embed="rId1"/>
            <a:stretch/>
          </p:blipFill>
          <p:spPr>
            <a:xfrm>
              <a:off x="6372360" y="1700280"/>
              <a:ext cx="258732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6372360" y="1700280"/>
              <a:ext cx="258732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 fill="hold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0920" y="1268280"/>
            <a:ext cx="590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5929200" y="2714760"/>
            <a:ext cx="302760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539640" y="662040"/>
            <a:ext cx="821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95280" y="1700280"/>
            <a:ext cx="1900080" cy="1509480"/>
            <a:chOff x="395280" y="1700280"/>
            <a:chExt cx="1900080" cy="1509480"/>
          </a:xfrm>
        </p:grpSpPr>
        <p:pic>
          <p:nvPicPr>
            <p:cNvPr id="573" name="" descr=""/>
            <p:cNvPicPr/>
            <p:nvPr/>
          </p:nvPicPr>
          <p:blipFill>
            <a:blip r:embed="rId1"/>
            <a:stretch/>
          </p:blipFill>
          <p:spPr>
            <a:xfrm>
              <a:off x="395280" y="1700280"/>
              <a:ext cx="1900080" cy="15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395280" y="1700280"/>
              <a:ext cx="190008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2556000" y="1600200"/>
            <a:ext cx="613080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50920" y="3789360"/>
            <a:ext cx="2011320" cy="1335240"/>
            <a:chOff x="250920" y="3789360"/>
            <a:chExt cx="2011320" cy="1335240"/>
          </a:xfrm>
        </p:grpSpPr>
        <p:pic>
          <p:nvPicPr>
            <p:cNvPr id="577" name="" descr=""/>
            <p:cNvPicPr/>
            <p:nvPr/>
          </p:nvPicPr>
          <p:blipFill>
            <a:blip r:embed="rId2"/>
            <a:stretch/>
          </p:blipFill>
          <p:spPr>
            <a:xfrm>
              <a:off x="250920" y="3789360"/>
              <a:ext cx="20113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50920" y="3789360"/>
              <a:ext cx="201132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0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6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68360" y="244440"/>
            <a:ext cx="8218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0920" y="1600200"/>
            <a:ext cx="633708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6359400" y="2214720"/>
            <a:ext cx="2427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0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214800" y="428760"/>
            <a:ext cx="5715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ль витамина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786120" y="1357200"/>
            <a:ext cx="507204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выполняет в организме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фотохимический процесс акта з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285840" y="3357720"/>
            <a:ext cx="2857320" cy="292896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714240" y="1285920"/>
            <a:ext cx="1857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5"/>
          <a:stretch/>
        </p:blipFill>
        <p:spPr>
          <a:xfrm>
            <a:off x="285840" y="357120"/>
            <a:ext cx="28573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0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85840" y="1357200"/>
            <a:ext cx="1995480" cy="2281320"/>
            <a:chOff x="285840" y="1357200"/>
            <a:chExt cx="1995480" cy="228132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285840" y="1357200"/>
              <a:ext cx="199548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285840" y="1357200"/>
              <a:ext cx="199548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268360" y="1844640"/>
            <a:ext cx="6418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задержка роста в молодом возраст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сухость слизистых (также вследствие замедленного обновления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ксерофтальмия (сухость конъюнктивы глаз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помутнение и размягчение роговицы глаза (кератомаляц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нарушение функции размножения (оплодотворяющей активности сперматозоидов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201132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0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dur="indefinite" fill="hold">
                            <p:stCondLst>
                              <p:cond delay="2040"/>
                            </p:stCondLst>
                            <p:childTnLst>
                              <p:par>
                                <p:cTn id="16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4357800" y="214200"/>
            <a:ext cx="45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572000" y="1143000"/>
            <a:ext cx="403848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вою группу восемь витами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 (ти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2 (рибофлав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3 (ниац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5 (пантотеновая кисло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6 (пиридокс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7 (биот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8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2 (цианкобал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9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лиевая кис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10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1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в печени, почках, мясе и мол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2"/>
          <a:stretch/>
        </p:blipFill>
        <p:spPr>
          <a:xfrm>
            <a:off x="357120" y="1214280"/>
            <a:ext cx="3143160" cy="25164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13"/>
          <a:stretch/>
        </p:blipFill>
        <p:spPr>
          <a:xfrm>
            <a:off x="333360" y="3929040"/>
            <a:ext cx="323856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00040" y="357120"/>
            <a:ext cx="74437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384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РР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643040" y="2214720"/>
            <a:ext cx="6353280" cy="4352760"/>
            <a:chOff x="1643040" y="2214720"/>
            <a:chExt cx="6353280" cy="435276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1643040" y="2214720"/>
              <a:ext cx="635328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643040" y="2214720"/>
              <a:ext cx="6353280" cy="43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20840" y="4425840"/>
            <a:ext cx="4049640" cy="1890720"/>
            <a:chOff x="420840" y="4425840"/>
            <a:chExt cx="4049640" cy="1890720"/>
          </a:xfrm>
        </p:grpSpPr>
        <p:pic>
          <p:nvPicPr>
            <p:cNvPr id="602" name="" descr=""/>
            <p:cNvPicPr/>
            <p:nvPr/>
          </p:nvPicPr>
          <p:blipFill>
            <a:blip r:embed="rId2"/>
            <a:stretch/>
          </p:blipFill>
          <p:spPr>
            <a:xfrm>
              <a:off x="420840" y="4425840"/>
              <a:ext cx="404964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20840" y="4425840"/>
              <a:ext cx="404964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719280" y="1146240"/>
            <a:ext cx="7754760" cy="1012680"/>
            <a:chOff x="719280" y="1146240"/>
            <a:chExt cx="7754760" cy="1012680"/>
          </a:xfrm>
        </p:grpSpPr>
        <p:pic>
          <p:nvPicPr>
            <p:cNvPr id="605" name="" descr=""/>
            <p:cNvPicPr/>
            <p:nvPr/>
          </p:nvPicPr>
          <p:blipFill>
            <a:blip r:embed="rId3"/>
            <a:stretch/>
          </p:blipFill>
          <p:spPr>
            <a:xfrm>
              <a:off x="719280" y="1146240"/>
              <a:ext cx="77547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719280" y="1146240"/>
              <a:ext cx="775476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6877080" y="2637000"/>
            <a:ext cx="1805040" cy="1908000"/>
            <a:chOff x="6877080" y="2637000"/>
            <a:chExt cx="1805040" cy="1908000"/>
          </a:xfrm>
        </p:grpSpPr>
        <p:pic>
          <p:nvPicPr>
            <p:cNvPr id="608" name="" descr=""/>
            <p:cNvPicPr/>
            <p:nvPr/>
          </p:nvPicPr>
          <p:blipFill>
            <a:blip r:embed="rId4"/>
            <a:stretch/>
          </p:blipFill>
          <p:spPr>
            <a:xfrm>
              <a:off x="6877080" y="2637000"/>
              <a:ext cx="180504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6877080" y="2637000"/>
              <a:ext cx="180504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dur="indefinite" fill="hold">
                      <p:stCondLst>
                        <p:cond delay="0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 fill="hold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01:34Z</dcterms:created>
  <dc:creator>Zver</dc:creator>
  <dc:description/>
  <dc:language>en-US</dc:language>
  <cp:lastModifiedBy>Name</cp:lastModifiedBy>
  <dcterms:modified xsi:type="dcterms:W3CDTF">2010-09-28T21:51:29Z</dcterms:modified>
  <cp:revision>18</cp:revision>
  <dc:subject/>
  <dc:title>Витамин 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6000000000001024140</vt:lpwstr>
  </property>
</Properties>
</file>