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044-F102-4142-B7AB-DDCCB132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9FC-43DE-4A59-B767-17671E6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0B2-EA01-411F-86F9-E48093DA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5B7-8868-4E46-A0B5-6D043432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8AC-DDFB-4B2B-BDB1-8F9E694E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8972-3FB1-44B7-955F-BDAA650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A1F9-CBE1-4889-B398-AA9C4841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21D9-D12E-4492-BBFB-B828BB9B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B520-4C22-4D75-AE41-7177E25D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D17-9B85-4967-803F-35563EA8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FA5-279C-4A4E-A1ED-BC3233A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CE1-59AF-4B39-98EF-34CB788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8DFD-1118-455B-9ECF-A49972E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19A-6C46-4C67-AF11-77AD9B2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1DD-443D-4C20-98E5-86D35BEC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253-717E-4723-B087-B80B5D36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D155-67C3-484E-994D-2748D831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F12C-37FD-40C0-926B-AF2AA90E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42A9-B3E1-4BEC-9CE3-0FDBDEC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619F-3E47-406A-A7A5-B214F94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FAFC-421D-4005-B4BA-5DDA92B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C291-82A3-4719-BAD3-328152E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514-CA10-4CB1-8EF1-CC694D4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E139-A5A3-47CF-AA93-8C9BEB78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E741-1E3D-436A-8F28-EDECCFF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97D3-04E7-469F-81E0-47A0C3E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AD34-AA1C-45C6-B2A9-60D5AF8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6007-D167-4A4C-8C6D-BFD193E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EED7-1CB7-4B9A-826C-8302DB44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850E-0B78-4739-97B3-1F3F7759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8C37-1183-4A6B-A97C-1DA2C4A7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771F-C0CC-4282-A76F-D822516D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347B-77BA-4794-BC24-3155807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88-273B-48E9-8792-D82B0EE1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E8B4-FD37-4F26-B1EC-A3C1118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8FB3-5CAC-4271-81A6-C26A61D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6877-5CFD-45CD-916E-A99BA63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882F-7E14-4D1F-9C6F-373ADE0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9C17-0A5D-4C82-8637-804C2E6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B07F-60B5-4BBF-9F5D-233C039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85E1-811D-4208-A63F-7A102EA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B813-BD7D-406E-9937-0D94D6A9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8D06-43E2-46F7-B38C-47B18101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ECB-EB8A-4A10-ABC3-52813DEF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A70-1FA8-42FD-99C1-FA570E4B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5A8-1441-4096-9436-2EDC04D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05B-E7FB-49B4-9CD8-0D1F15F8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D30-FA5C-413B-BC63-1D3D28EA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0F3A5F-528E-4186-B13C-B703DC2F68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B12FE-40CA-4244-850E-B0718E7361C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DD969-C939-4BB6-8B07-EC983C9EEF8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65B31B-534C-47B1-813B-A1475F0CFD1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72;&#1081;&#1083;:Thumbe_2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ом\Desktop\смурфики\fe7d8b_thum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лшебная </a:t>
            </a: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АЗБУК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МУРФИК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22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214520" cy="4142880"/>
          </a:xfrm>
          <a:prstGeom prst="rect">
            <a:avLst/>
          </a:prstGeom>
          <a:ln w="9525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833040" y="836640"/>
            <a:ext cx="956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5004000" y="5013000"/>
            <a:ext cx="3816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Г» нашли у Га́рфилда  — популярный персонаж одноимённой серии комиксов созданный художником Джимом Дэви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ом\Desktop\гномы\i (30).jpg"/>
          <p:cNvPicPr/>
          <p:nvPr/>
        </p:nvPicPr>
        <p:blipFill>
          <a:blip r:embed="rId3"/>
          <a:stretch/>
        </p:blipFill>
        <p:spPr>
          <a:xfrm>
            <a:off x="1403640" y="4509000"/>
            <a:ext cx="16855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20"/>
          </p:nvPr>
        </p:nvSpPr>
        <p:spPr>
          <a:xfrm>
            <a:off x="3204000" y="6237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30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http://upload.wikimedia.org/wikipedia/ru/thumb/9/92/Thumbe_2.jpg/210px-Thumbe_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60000" y="260640"/>
            <a:ext cx="3843000" cy="3714480"/>
          </a:xfrm>
          <a:prstGeom prst="rect">
            <a:avLst/>
          </a:prstGeom>
          <a:ln w="9525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761400" y="548640"/>
            <a:ext cx="1019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4056480" y="2644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467640" y="4653000"/>
            <a:ext cx="446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Д» нашли у Дюймовочки — крохотная девочка, героиня одноимённой сказки датского поэта, путешественника и сказоч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Х. Андерс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ом\Desktop\гномы\i (40).jpg"/>
          <p:cNvPicPr/>
          <p:nvPr/>
        </p:nvPicPr>
        <p:blipFill>
          <a:blip r:embed="rId4"/>
          <a:stretch/>
        </p:blipFill>
        <p:spPr>
          <a:xfrm>
            <a:off x="5724000" y="4293000"/>
            <a:ext cx="9615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39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4788000" y="188640"/>
            <a:ext cx="4071600" cy="3714480"/>
          </a:xfrm>
          <a:prstGeom prst="rect">
            <a:avLst/>
          </a:prstGeom>
          <a:ln w="9525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4069440" y="26442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4069440" y="26442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323640" y="332640"/>
            <a:ext cx="1583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9"/>
          <p:cNvSpPr/>
          <p:nvPr/>
        </p:nvSpPr>
        <p:spPr>
          <a:xfrm>
            <a:off x="539640" y="4509000"/>
            <a:ext cx="381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Е» нашли у Емели — ленивый персонаж русской народной ска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По щучьему велен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Users\ом\Desktop\гномы\i (31).jpg"/>
          <p:cNvPicPr/>
          <p:nvPr/>
        </p:nvPicPr>
        <p:blipFill>
          <a:blip r:embed="rId3"/>
          <a:stretch/>
        </p:blipFill>
        <p:spPr>
          <a:xfrm>
            <a:off x="5220000" y="4653000"/>
            <a:ext cx="1076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49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"/>
          <p:cNvPicPr/>
          <p:nvPr/>
        </p:nvPicPr>
        <p:blipFill>
          <a:blip r:embed="rId2"/>
          <a:stretch/>
        </p:blipFill>
        <p:spPr>
          <a:xfrm>
            <a:off x="4932000" y="332640"/>
            <a:ext cx="4000320" cy="3785760"/>
          </a:xfrm>
          <a:prstGeom prst="rect">
            <a:avLst/>
          </a:prstGeom>
          <a:ln w="9525">
            <a:noFill/>
          </a:ln>
        </p:spPr>
      </p:pic>
      <p:sp>
        <p:nvSpPr>
          <p:cNvPr id="251" name="Прямоугольник 6"/>
          <p:cNvSpPr/>
          <p:nvPr/>
        </p:nvSpPr>
        <p:spPr>
          <a:xfrm>
            <a:off x="323640" y="332640"/>
            <a:ext cx="151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7"/>
          <p:cNvSpPr/>
          <p:nvPr/>
        </p:nvSpPr>
        <p:spPr>
          <a:xfrm>
            <a:off x="539640" y="4398480"/>
            <a:ext cx="45360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Ё» нашли у Ёжика - главный герой мультсериала «Смешар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Users\ом\Desktop\гномы\i (32).jpg"/>
          <p:cNvPicPr/>
          <p:nvPr/>
        </p:nvPicPr>
        <p:blipFill>
          <a:blip r:embed="rId3"/>
          <a:stretch/>
        </p:blipFill>
        <p:spPr>
          <a:xfrm>
            <a:off x="5580000" y="4797000"/>
            <a:ext cx="1190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57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4" descr="жарптиц.jpg"/>
          <p:cNvPicPr/>
          <p:nvPr/>
        </p:nvPicPr>
        <p:blipFill>
          <a:blip r:embed="rId2"/>
          <a:stretch/>
        </p:blipFill>
        <p:spPr>
          <a:xfrm>
            <a:off x="4932000" y="188640"/>
            <a:ext cx="4086000" cy="3785760"/>
          </a:xfrm>
          <a:prstGeom prst="rect">
            <a:avLst/>
          </a:prstGeom>
          <a:ln w="9525">
            <a:noFill/>
          </a:ln>
        </p:spPr>
      </p:pic>
      <p:sp>
        <p:nvSpPr>
          <p:cNvPr id="259" name="Прямоугольник 6"/>
          <p:cNvSpPr/>
          <p:nvPr/>
        </p:nvSpPr>
        <p:spPr>
          <a:xfrm>
            <a:off x="323640" y="404640"/>
            <a:ext cx="2448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539640" y="4149000"/>
            <a:ext cx="316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Ж» нашли у Жар-птицы — сказочная птица, персонаж русских сказок.  Перья жар-птицы обладают способностью светить и своим блеском поражают зрение челове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ом\Desktop\гномы\i (43).jpg"/>
          <p:cNvPicPr/>
          <p:nvPr/>
        </p:nvPicPr>
        <p:blipFill>
          <a:blip r:embed="rId3"/>
          <a:stretch/>
        </p:blipFill>
        <p:spPr>
          <a:xfrm>
            <a:off x="4788000" y="4293000"/>
            <a:ext cx="2304000" cy="17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65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5" descr="золушка.bmp"/>
          <p:cNvPicPr/>
          <p:nvPr/>
        </p:nvPicPr>
        <p:blipFill>
          <a:blip r:embed="rId2"/>
          <a:stretch/>
        </p:blipFill>
        <p:spPr>
          <a:xfrm>
            <a:off x="5940000" y="188640"/>
            <a:ext cx="2999880" cy="4285800"/>
          </a:xfrm>
          <a:prstGeom prst="rect">
            <a:avLst/>
          </a:prstGeom>
          <a:ln w="9525">
            <a:noFill/>
          </a:ln>
        </p:spPr>
      </p:pic>
      <p:sp>
        <p:nvSpPr>
          <p:cNvPr id="267" name="Прямоугольник 6"/>
          <p:cNvSpPr/>
          <p:nvPr/>
        </p:nvSpPr>
        <p:spPr>
          <a:xfrm>
            <a:off x="827640" y="548640"/>
            <a:ext cx="1367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539640" y="4398480"/>
            <a:ext cx="482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З» нашли у Золушки – нелюбимая падчерица, героиня одноименной сказки Ш.Пер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ом\Desktop\гномы\i (39).jpg"/>
          <p:cNvPicPr/>
          <p:nvPr/>
        </p:nvPicPr>
        <p:blipFill>
          <a:blip r:embed="rId3"/>
          <a:stretch/>
        </p:blipFill>
        <p:spPr>
          <a:xfrm>
            <a:off x="5580000" y="4941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73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" descr=""/>
          <p:cNvPicPr/>
          <p:nvPr/>
        </p:nvPicPr>
        <p:blipFill>
          <a:blip r:embed="rId2"/>
          <a:stretch/>
        </p:blipFill>
        <p:spPr>
          <a:xfrm>
            <a:off x="5004000" y="188640"/>
            <a:ext cx="3928680" cy="3642840"/>
          </a:xfrm>
          <a:prstGeom prst="rect">
            <a:avLst/>
          </a:prstGeom>
          <a:ln w="9525">
            <a:noFill/>
          </a:ln>
        </p:spPr>
      </p:pic>
      <p:sp>
        <p:nvSpPr>
          <p:cNvPr id="275" name="Прямоугольник 6"/>
          <p:cNvSpPr/>
          <p:nvPr/>
        </p:nvSpPr>
        <p:spPr>
          <a:xfrm>
            <a:off x="755640" y="620640"/>
            <a:ext cx="4386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88000" y="494100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И» нашли у Иванушки - дурачок — герой русских народных сказ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C:\Users\ом\Desktop\гномы\i (44).jpg"/>
          <p:cNvPicPr/>
          <p:nvPr/>
        </p:nvPicPr>
        <p:blipFill>
          <a:blip r:embed="rId3"/>
          <a:stretch/>
        </p:blipFill>
        <p:spPr>
          <a:xfrm>
            <a:off x="683640" y="50853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26"/>
          </p:nvPr>
        </p:nvSpPr>
        <p:spPr>
          <a:xfrm>
            <a:off x="3276000" y="64929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81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82" name="Содержимое 5" descr="kolobok.jpg"/>
          <p:cNvPicPr/>
          <p:nvPr/>
        </p:nvPicPr>
        <p:blipFill>
          <a:blip r:embed="rId2"/>
          <a:stretch/>
        </p:blipFill>
        <p:spPr>
          <a:xfrm>
            <a:off x="5364000" y="260640"/>
            <a:ext cx="3428640" cy="3285720"/>
          </a:xfrm>
          <a:prstGeom prst="rect">
            <a:avLst/>
          </a:prstGeom>
          <a:ln w="9525">
            <a:noFill/>
          </a:ln>
        </p:spPr>
      </p:pic>
      <p:sp>
        <p:nvSpPr>
          <p:cNvPr id="283" name="Прямоугольник 6"/>
          <p:cNvSpPr/>
          <p:nvPr/>
        </p:nvSpPr>
        <p:spPr>
          <a:xfrm>
            <a:off x="539640" y="476640"/>
            <a:ext cx="4570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323640" y="4437000"/>
            <a:ext cx="653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К» нашли у Колобка 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88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5" descr="лунтик.jpg"/>
          <p:cNvPicPr/>
          <p:nvPr/>
        </p:nvPicPr>
        <p:blipFill>
          <a:blip r:embed="rId2"/>
          <a:stretch/>
        </p:blipFill>
        <p:spPr>
          <a:xfrm>
            <a:off x="5292000" y="188640"/>
            <a:ext cx="3714480" cy="3785760"/>
          </a:xfrm>
          <a:prstGeom prst="rect">
            <a:avLst/>
          </a:prstGeom>
          <a:ln w="9525">
            <a:noFill/>
          </a:ln>
        </p:spPr>
      </p:pic>
      <p:sp>
        <p:nvSpPr>
          <p:cNvPr id="290" name="Прямоугольник 6"/>
          <p:cNvSpPr/>
          <p:nvPr/>
        </p:nvSpPr>
        <p:spPr>
          <a:xfrm>
            <a:off x="755640" y="476640"/>
            <a:ext cx="223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467640" y="4653000"/>
            <a:ext cx="639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Л» нашли у Лунтика — главный герой мультипликационного телесериала «Приключения Лунт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нь рождения Лунтика 12 апр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9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5" descr="матроскин.jpg"/>
          <p:cNvPicPr/>
          <p:nvPr/>
        </p:nvPicPr>
        <p:blipFill>
          <a:blip r:embed="rId2"/>
          <a:stretch/>
        </p:blipFill>
        <p:spPr>
          <a:xfrm>
            <a:off x="4500000" y="260640"/>
            <a:ext cx="4500360" cy="4168440"/>
          </a:xfrm>
          <a:prstGeom prst="rect">
            <a:avLst/>
          </a:prstGeom>
          <a:ln w="9525">
            <a:noFill/>
          </a:ln>
        </p:spPr>
      </p:pic>
      <p:sp>
        <p:nvSpPr>
          <p:cNvPr id="297" name="Прямоугольник 6"/>
          <p:cNvSpPr/>
          <p:nvPr/>
        </p:nvSpPr>
        <p:spPr>
          <a:xfrm>
            <a:off x="467640" y="404640"/>
            <a:ext cx="259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539640" y="4869000"/>
            <a:ext cx="631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М» нашли у Матроскина — вымышленный кот, популярный персонаж произведений детского писателя Эдуарда Успен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Начало истор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одном обыкновенном волшебном лесу жили смурфики. Жили они с папой Смурфом. Папа часто уходил из дома по своим волшебным делам, а смурфики оставались одни. И чего они только не вытворяли! То разобьют посуду, то сломают волшебную палочку. То залезут в чулан и съедят все волшебное варень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вот однажды Папа принёс волшебную Азбук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0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5" descr=""/>
          <p:cNvPicPr/>
          <p:nvPr/>
        </p:nvPicPr>
        <p:blipFill>
          <a:blip r:embed="rId2"/>
          <a:stretch/>
        </p:blipFill>
        <p:spPr>
          <a:xfrm>
            <a:off x="5436000" y="260640"/>
            <a:ext cx="3357360" cy="3928680"/>
          </a:xfrm>
          <a:prstGeom prst="rect">
            <a:avLst/>
          </a:prstGeom>
          <a:ln w="9525">
            <a:noFill/>
          </a:ln>
        </p:spPr>
      </p:pic>
      <p:sp>
        <p:nvSpPr>
          <p:cNvPr id="304" name="Прямоугольник 6"/>
          <p:cNvSpPr/>
          <p:nvPr/>
        </p:nvSpPr>
        <p:spPr>
          <a:xfrm>
            <a:off x="395640" y="332640"/>
            <a:ext cx="4746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286000" y="4365000"/>
            <a:ext cx="45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Н» нашли у Незнайки 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09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"/>
          <p:cNvPicPr/>
          <p:nvPr/>
        </p:nvPicPr>
        <p:blipFill>
          <a:blip r:embed="rId2"/>
          <a:stretch/>
        </p:blipFill>
        <p:spPr>
          <a:xfrm>
            <a:off x="4860000" y="188640"/>
            <a:ext cx="4001760" cy="3785760"/>
          </a:xfrm>
          <a:prstGeom prst="rect">
            <a:avLst/>
          </a:prstGeom>
          <a:ln w="9525">
            <a:noFill/>
          </a:ln>
        </p:spPr>
      </p:pic>
      <p:sp>
        <p:nvSpPr>
          <p:cNvPr id="311" name="Прямоугольник 6"/>
          <p:cNvSpPr/>
          <p:nvPr/>
        </p:nvSpPr>
        <p:spPr>
          <a:xfrm>
            <a:off x="467640" y="404640"/>
            <a:ext cx="467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2286000" y="4509000"/>
            <a:ext cx="45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О» нашли у Ослика Иа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16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"/>
          <p:cNvPicPr/>
          <p:nvPr/>
        </p:nvPicPr>
        <p:blipFill>
          <a:blip r:embed="rId2"/>
          <a:stretch/>
        </p:blipFill>
        <p:spPr>
          <a:xfrm>
            <a:off x="5148000" y="332640"/>
            <a:ext cx="3731760" cy="3119040"/>
          </a:xfrm>
          <a:prstGeom prst="rect">
            <a:avLst/>
          </a:prstGeom>
          <a:ln w="9525">
            <a:noFill/>
          </a:ln>
        </p:spPr>
      </p:pic>
      <p:sp>
        <p:nvSpPr>
          <p:cNvPr id="318" name="Прямоугольник 6"/>
          <p:cNvSpPr/>
          <p:nvPr/>
        </p:nvSpPr>
        <p:spPr>
          <a:xfrm>
            <a:off x="755640" y="332640"/>
            <a:ext cx="230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2286000" y="439848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П» нашли у Пятачка- маленький поросенок, самый близкий друг Винни-П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23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24" name="Содержимое 10" descr="русалочка.jpg"/>
          <p:cNvPicPr/>
          <p:nvPr/>
        </p:nvPicPr>
        <p:blipFill>
          <a:blip r:embed="rId2"/>
          <a:stretch/>
        </p:blipFill>
        <p:spPr>
          <a:xfrm>
            <a:off x="5076000" y="260640"/>
            <a:ext cx="3903480" cy="3714480"/>
          </a:xfrm>
          <a:prstGeom prst="rect">
            <a:avLst/>
          </a:prstGeom>
          <a:ln w="9525">
            <a:noFill/>
          </a:ln>
        </p:spPr>
      </p:pic>
      <p:sp>
        <p:nvSpPr>
          <p:cNvPr id="325" name="Прямоугольник 6"/>
          <p:cNvSpPr/>
          <p:nvPr/>
        </p:nvSpPr>
        <p:spPr>
          <a:xfrm>
            <a:off x="755640" y="692640"/>
            <a:ext cx="428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2286000" y="4653000"/>
            <a:ext cx="4571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Р» нашли у Русалки – героиня мифов, сказок, в образе девушки с длинными волосами и рыбьим хвостом, живуща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30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4857840" y="357120"/>
            <a:ext cx="3917520" cy="3536640"/>
          </a:xfrm>
          <a:prstGeom prst="rect">
            <a:avLst/>
          </a:prstGeom>
          <a:ln w="9525">
            <a:noFill/>
          </a:ln>
        </p:spPr>
      </p:pic>
      <p:sp>
        <p:nvSpPr>
          <p:cNvPr id="332" name="Прямоугольник 6"/>
          <p:cNvSpPr/>
          <p:nvPr/>
        </p:nvSpPr>
        <p:spPr>
          <a:xfrm>
            <a:off x="755640" y="404640"/>
            <a:ext cx="4353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3605760" y="3244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2286000" y="4509000"/>
            <a:ext cx="457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С» нашли у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шариков — забавные круглые зверушки, живущие  в собственном вымышлен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38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"/>
          <p:cNvPicPr/>
          <p:nvPr/>
        </p:nvPicPr>
        <p:blipFill>
          <a:blip r:embed="rId2"/>
          <a:stretch/>
        </p:blipFill>
        <p:spPr>
          <a:xfrm>
            <a:off x="5148000" y="188640"/>
            <a:ext cx="3688920" cy="3576240"/>
          </a:xfrm>
          <a:prstGeom prst="rect">
            <a:avLst/>
          </a:prstGeom>
          <a:ln w="9525">
            <a:noFill/>
          </a:ln>
        </p:spPr>
      </p:pic>
      <p:sp>
        <p:nvSpPr>
          <p:cNvPr id="340" name="Прямоугольник 6"/>
          <p:cNvSpPr/>
          <p:nvPr/>
        </p:nvSpPr>
        <p:spPr>
          <a:xfrm>
            <a:off x="611640" y="476640"/>
            <a:ext cx="4462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2286000" y="443700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Т» нашли у Тома - мультипликационный  кот серо-голубого окраса из мультсериала Том и Джерри, гоняющийся за мышонком Джер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4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4" descr="Удав.bmp"/>
          <p:cNvPicPr/>
          <p:nvPr/>
        </p:nvPicPr>
        <p:blipFill>
          <a:blip r:embed="rId2"/>
          <a:stretch/>
        </p:blipFill>
        <p:spPr>
          <a:xfrm>
            <a:off x="5364000" y="260640"/>
            <a:ext cx="3657240" cy="3499920"/>
          </a:xfrm>
          <a:prstGeom prst="rect">
            <a:avLst/>
          </a:prstGeom>
          <a:ln w="9525">
            <a:noFill/>
          </a:ln>
        </p:spPr>
      </p:pic>
      <p:sp>
        <p:nvSpPr>
          <p:cNvPr id="347" name="Прямоугольник 6"/>
          <p:cNvSpPr/>
          <p:nvPr/>
        </p:nvSpPr>
        <p:spPr>
          <a:xfrm>
            <a:off x="755640" y="404640"/>
            <a:ext cx="4360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2286000" y="4221000"/>
            <a:ext cx="457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У» нашли у Удава -  герой мультфи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36"/>
          </p:nvPr>
        </p:nvSpPr>
        <p:spPr>
          <a:xfrm rot="10800000">
            <a:off x="3124800" y="63568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5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ом\Desktop\смурфики\000003b.jpg"/>
          <p:cNvPicPr/>
          <p:nvPr/>
        </p:nvPicPr>
        <p:blipFill>
          <a:blip r:embed="rId2"/>
          <a:stretch/>
        </p:blipFill>
        <p:spPr>
          <a:xfrm>
            <a:off x="0" y="11664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"/>
          <p:cNvPicPr/>
          <p:nvPr/>
        </p:nvPicPr>
        <p:blipFill>
          <a:blip r:embed="rId3"/>
          <a:stretch/>
        </p:blipFill>
        <p:spPr>
          <a:xfrm>
            <a:off x="5652000" y="188640"/>
            <a:ext cx="3231720" cy="3571560"/>
          </a:xfrm>
          <a:prstGeom prst="rect">
            <a:avLst/>
          </a:prstGeom>
          <a:ln w="9525">
            <a:noFill/>
          </a:ln>
        </p:spPr>
      </p:pic>
      <p:sp>
        <p:nvSpPr>
          <p:cNvPr id="355" name="Прямоугольник 7"/>
          <p:cNvSpPr/>
          <p:nvPr/>
        </p:nvSpPr>
        <p:spPr>
          <a:xfrm>
            <a:off x="683640" y="548640"/>
            <a:ext cx="4509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8"/>
          <p:cNvSpPr/>
          <p:nvPr/>
        </p:nvSpPr>
        <p:spPr>
          <a:xfrm>
            <a:off x="3950640" y="26442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2286000" y="4293000"/>
            <a:ext cx="4571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Ф» нашли у Фионы – принцесса из популярного мультфильма «Шрек». Родилась она в Великобрит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61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"/>
          <p:cNvPicPr/>
          <p:nvPr/>
        </p:nvPicPr>
        <p:blipFill>
          <a:blip r:embed="rId2"/>
          <a:stretch/>
        </p:blipFill>
        <p:spPr>
          <a:xfrm>
            <a:off x="5429160" y="214200"/>
            <a:ext cx="3357360" cy="3038040"/>
          </a:xfrm>
          <a:prstGeom prst="rect">
            <a:avLst/>
          </a:prstGeom>
          <a:ln w="9525">
            <a:noFill/>
          </a:ln>
        </p:spPr>
      </p:pic>
      <p:sp>
        <p:nvSpPr>
          <p:cNvPr id="363" name="Прямоугольник 8"/>
          <p:cNvSpPr/>
          <p:nvPr/>
        </p:nvSpPr>
        <p:spPr>
          <a:xfrm>
            <a:off x="971640" y="548640"/>
            <a:ext cx="4137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2286000" y="4005000"/>
            <a:ext cx="4571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Х» нашли у Хрюши — персонаж детской телепередачи «Спокойной ночи, малыши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нём рождения Хрюши счи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0 февраля 197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раз — поросёнок. Хрюша часто шалит и попадает в неприятные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4" descr="цар-лягушка.bmp"/>
          <p:cNvPicPr/>
          <p:nvPr/>
        </p:nvPicPr>
        <p:blipFill>
          <a:blip r:embed="rId2"/>
          <a:stretch/>
        </p:blipFill>
        <p:spPr>
          <a:xfrm>
            <a:off x="5072040" y="214200"/>
            <a:ext cx="3857400" cy="3428640"/>
          </a:xfrm>
          <a:prstGeom prst="rect">
            <a:avLst/>
          </a:prstGeom>
          <a:ln w="9525">
            <a:noFill/>
          </a:ln>
        </p:spPr>
      </p:pic>
      <p:sp>
        <p:nvSpPr>
          <p:cNvPr id="369" name="Прямоугольник 7"/>
          <p:cNvSpPr/>
          <p:nvPr/>
        </p:nvSpPr>
        <p:spPr>
          <a:xfrm>
            <a:off x="467640" y="548640"/>
            <a:ext cx="467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286000" y="3933000"/>
            <a:ext cx="4571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Ц» нашли у Царевны - Лягу́шки 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ихеева Е. А. Экскурсия в город Мастеров и Мастериц.Внекласное мероприятие. ВиЭксМ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ом\Desktop\смурфики\382668Smu2.JP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 ней 33 буквы, сказал он. – Из них можно составить любое волшебное слово и заклинание. Но помните: с книгой надо обращаться очень аккуратно. Ведь эта Азбука – волшебна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76" name="Picture 4" descr="C:\Users\ом\Desktop\смурфики\i.jpg"/>
          <p:cNvPicPr/>
          <p:nvPr/>
        </p:nvPicPr>
        <p:blipFill>
          <a:blip r:embed="rId2"/>
          <a:stretch/>
        </p:blipFill>
        <p:spPr>
          <a:xfrm rot="1431600">
            <a:off x="5004000" y="3788640"/>
            <a:ext cx="1209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74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"/>
          <p:cNvPicPr/>
          <p:nvPr/>
        </p:nvPicPr>
        <p:blipFill>
          <a:blip r:embed="rId2"/>
          <a:stretch/>
        </p:blipFill>
        <p:spPr>
          <a:xfrm>
            <a:off x="5572080" y="214200"/>
            <a:ext cx="3374640" cy="3214440"/>
          </a:xfrm>
          <a:prstGeom prst="rect">
            <a:avLst/>
          </a:prstGeom>
          <a:ln w="9525">
            <a:noFill/>
          </a:ln>
        </p:spPr>
      </p:pic>
      <p:sp>
        <p:nvSpPr>
          <p:cNvPr id="376" name="Прямоугольник 6"/>
          <p:cNvSpPr/>
          <p:nvPr/>
        </p:nvSpPr>
        <p:spPr>
          <a:xfrm>
            <a:off x="899640" y="692640"/>
            <a:ext cx="4216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2286000" y="3645000"/>
            <a:ext cx="4571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Ч» нашли у Чебурашки — персонаж 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Э. Успенского «Крокодил Гена и его друз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81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"/>
          <p:cNvPicPr/>
          <p:nvPr/>
        </p:nvPicPr>
        <p:blipFill>
          <a:blip r:embed="rId2"/>
          <a:stretch/>
        </p:blipFill>
        <p:spPr>
          <a:xfrm>
            <a:off x="5292000" y="188640"/>
            <a:ext cx="3398400" cy="3133440"/>
          </a:xfrm>
          <a:prstGeom prst="rect">
            <a:avLst/>
          </a:prstGeom>
          <a:ln w="9525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611640" y="476640"/>
            <a:ext cx="4728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2286000" y="4149000"/>
            <a:ext cx="4571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Ш» нашли у Шрека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88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4" descr="щука.bmp"/>
          <p:cNvPicPr/>
          <p:nvPr/>
        </p:nvPicPr>
        <p:blipFill>
          <a:blip r:embed="rId2"/>
          <a:stretch/>
        </p:blipFill>
        <p:spPr>
          <a:xfrm>
            <a:off x="5286240" y="357120"/>
            <a:ext cx="3470040" cy="3357360"/>
          </a:xfrm>
          <a:prstGeom prst="rect">
            <a:avLst/>
          </a:prstGeom>
          <a:ln w="9525">
            <a:noFill/>
          </a:ln>
        </p:spPr>
      </p:pic>
      <p:sp>
        <p:nvSpPr>
          <p:cNvPr id="390" name="Прямоугольник 6"/>
          <p:cNvSpPr/>
          <p:nvPr/>
        </p:nvSpPr>
        <p:spPr>
          <a:xfrm>
            <a:off x="899640" y="692640"/>
            <a:ext cx="4439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2286000" y="414900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Щ» нашли у Щуки - 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9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5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369960" cy="3401640"/>
          </a:xfrm>
          <a:prstGeom prst="rect">
            <a:avLst/>
          </a:prstGeom>
          <a:ln w="9525">
            <a:noFill/>
          </a:ln>
        </p:spPr>
      </p:pic>
      <p:sp>
        <p:nvSpPr>
          <p:cNvPr id="397" name="Прямоугольник 6"/>
          <p:cNvSpPr/>
          <p:nvPr/>
        </p:nvSpPr>
        <p:spPr>
          <a:xfrm>
            <a:off x="755640" y="692640"/>
            <a:ext cx="4326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2613600" y="4365000"/>
            <a:ext cx="39160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Э» нашли у Эльфов - духи «Волшебной стра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0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5" descr=""/>
          <p:cNvPicPr/>
          <p:nvPr/>
        </p:nvPicPr>
        <p:blipFill>
          <a:blip r:embed="rId2"/>
          <a:stretch/>
        </p:blipFill>
        <p:spPr>
          <a:xfrm>
            <a:off x="5357880" y="285840"/>
            <a:ext cx="3368160" cy="3357360"/>
          </a:xfrm>
          <a:prstGeom prst="rect">
            <a:avLst/>
          </a:prstGeom>
          <a:ln w="9525">
            <a:noFill/>
          </a:ln>
        </p:spPr>
      </p:pic>
      <p:sp>
        <p:nvSpPr>
          <p:cNvPr id="404" name="Прямоугольник 6"/>
          <p:cNvSpPr/>
          <p:nvPr/>
        </p:nvSpPr>
        <p:spPr>
          <a:xfrm>
            <a:off x="683640" y="548640"/>
            <a:ext cx="4673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"/>
          <p:cNvSpPr/>
          <p:nvPr/>
        </p:nvSpPr>
        <p:spPr>
          <a:xfrm>
            <a:off x="2286000" y="4077000"/>
            <a:ext cx="4571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Ч» нашли  у Чудо - Юдо 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09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6" descr="баба яга.bmp"/>
          <p:cNvPicPr/>
          <p:nvPr/>
        </p:nvPicPr>
        <p:blipFill>
          <a:blip r:embed="rId2"/>
          <a:stretch/>
        </p:blipFill>
        <p:spPr>
          <a:xfrm>
            <a:off x="5357880" y="285840"/>
            <a:ext cx="3552480" cy="3580920"/>
          </a:xfrm>
          <a:prstGeom prst="rect">
            <a:avLst/>
          </a:prstGeom>
          <a:ln w="9525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683640" y="260640"/>
            <a:ext cx="4425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7"/>
          <p:cNvSpPr/>
          <p:nvPr/>
        </p:nvSpPr>
        <p:spPr>
          <a:xfrm>
            <a:off x="2286000" y="4293000"/>
            <a:ext cx="45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Я» нашли у Бабы - Яги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C:\Users\ом\Desktop\гномы\8_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4900" spc="-1" strike="noStrike" cap="all">
                <a:solidFill>
                  <a:srgbClr val="ff0000"/>
                </a:solidFill>
                <a:latin typeface="Calibri"/>
              </a:rPr>
              <a:t>Ура!   Мы нашли все Буквы.</a:t>
            </a:r>
            <a:br>
              <a:rPr sz="4900"/>
            </a:br>
            <a:br>
              <a:rPr sz="4000"/>
            </a:b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Users\ом\Desktop\смурфики\13639181.jpg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1640" y="274680"/>
            <a:ext cx="6994800" cy="5760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5640" y="404640"/>
            <a:ext cx="8290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гда папа Смур вернулся из волшебного леса. Смурфики бросились к нему и закричали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Папа Смурф мы знаем теперь все буквы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Любую найти можем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Молодцы!- сказал Папа.- Значит, в этом году вы пойдете в Волшебную школу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УРА !!!- закричали смурфики. Да  стакой силой, что Папа чуть не огло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ом\Desktop\смурфики\17866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ри дня сидели смурфы над азбукой и учили буквы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аконец выучили их все до единой. Но какие бы слова они не произносили , никакого колдовства не получалос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 Обманул нас папа,- сказали обиженно смурфик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 может волшебство заключается не  в буквах, а в  чём-нибудь ещё? – подумал  Знайка самы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ообразительный смурф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ом\Desktop\смурфики\17866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-Сейчас проверим, сказал самый решительный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зяли они Азбуку и стали её трясти, что бы выяснить где прячется волшебство. А буквы вдруг высыпались из книги, разлетелись в разные стороны и попрятались. Азбука  и вправду оказалась волшебной.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  <a:effectLst>
            <a:outerShdw dist="37674" dir="2700000" blurRad="127080" rotWithShape="0">
              <a:srgbClr val="000000">
                <a:alpha val="45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Ю                                          Щ                  В               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                       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      я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Ю               Б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85" name="Picture 4" descr="C:\Users\ом\Desktop\смурфики\i.jpg"/>
          <p:cNvPicPr/>
          <p:nvPr/>
        </p:nvPicPr>
        <p:blipFill>
          <a:blip r:embed="rId2"/>
          <a:stretch/>
        </p:blipFill>
        <p:spPr>
          <a:xfrm rot="655200">
            <a:off x="3779640" y="3140640"/>
            <a:ext cx="1209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ом\Desktop\гномы\i (24)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Ох и попадет нам от папы смурфа! Эх, не возьмут нас в Школу!.. Ух, что будет! – повздыхали- повздыхали смурфики и отправились буквы иска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9742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642840" cy="407160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5" descr="C:\Users\ом\Desktop\смурфики\i (7).jpg"/>
          <p:cNvPicPr/>
          <p:nvPr/>
        </p:nvPicPr>
        <p:blipFill>
          <a:blip r:embed="rId3"/>
          <a:stretch/>
        </p:blipFill>
        <p:spPr>
          <a:xfrm>
            <a:off x="6876360" y="494100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0"/>
          <p:cNvSpPr/>
          <p:nvPr/>
        </p:nvSpPr>
        <p:spPr>
          <a:xfrm>
            <a:off x="539640" y="332640"/>
            <a:ext cx="3603600" cy="237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467640" y="4725000"/>
            <a:ext cx="5400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укву А Нашли у Айболита -его настоящее имя - доктор Дулитл, и появи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н на свет благод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нглийскому писа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ью Лофтин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Михеева Е. А. Экскурсия в город Мастеров и Мастериц.Внекласное мероприятие. ВиЭксМ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"/>
          <p:cNvPicPr/>
          <p:nvPr/>
        </p:nvPicPr>
        <p:blipFill>
          <a:blip r:embed="rId2"/>
          <a:stretch/>
        </p:blipFill>
        <p:spPr>
          <a:xfrm>
            <a:off x="4714920" y="214200"/>
            <a:ext cx="4214520" cy="421452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6"/>
          <p:cNvSpPr/>
          <p:nvPr/>
        </p:nvSpPr>
        <p:spPr>
          <a:xfrm>
            <a:off x="4362480" y="3244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4362480" y="3244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395640" y="4941000"/>
            <a:ext cx="42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Б» нашли у Белоснежки — красивая девушка, персонаж известный по сказ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Братьев Гри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2286000" y="296748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оугольник 10"/>
          <p:cNvSpPr/>
          <p:nvPr/>
        </p:nvSpPr>
        <p:spPr>
          <a:xfrm>
            <a:off x="683640" y="476640"/>
            <a:ext cx="18000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10243e"/>
                </a:solidFill>
                <a:latin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Users\ом\Desktop\гномы\i (45).jpg"/>
          <p:cNvPicPr/>
          <p:nvPr/>
        </p:nvPicPr>
        <p:blipFill>
          <a:blip r:embed="rId3"/>
          <a:stretch/>
        </p:blipFill>
        <p:spPr>
          <a:xfrm>
            <a:off x="6228360" y="486900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ихеева Е. А. Экскурсия в город Мастеров и Мастериц.Внекласное мероприятие. ВиЭксМ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13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-675360"/>
            <a:ext cx="9395280" cy="75330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"/>
          <p:cNvPicPr/>
          <p:nvPr/>
        </p:nvPicPr>
        <p:blipFill>
          <a:blip r:embed="rId2"/>
          <a:stretch/>
        </p:blipFill>
        <p:spPr>
          <a:xfrm>
            <a:off x="4786200" y="285840"/>
            <a:ext cx="4000320" cy="3928680"/>
          </a:xfrm>
          <a:prstGeom prst="rect">
            <a:avLst/>
          </a:prstGeom>
          <a:ln w="9525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467640" y="188640"/>
            <a:ext cx="1754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17375e"/>
                </a:solidFill>
                <a:latin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4068000" y="27810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395640" y="522936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В» нашли у Винни-Пуха  — плюшевый мишка, персонаж повестей и стихов Алана Александра Мил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ом\Desktop\гномы\i (28).jpg"/>
          <p:cNvPicPr/>
          <p:nvPr/>
        </p:nvPicPr>
        <p:blipFill>
          <a:blip r:embed="rId3"/>
          <a:stretch/>
        </p:blipFill>
        <p:spPr>
          <a:xfrm>
            <a:off x="6012000" y="4437000"/>
            <a:ext cx="1656000" cy="17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  <Words>796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9:44:16Z</dcterms:created>
  <dc:creator>Admin</dc:creator>
  <dc:description/>
  <dc:language>en-US</dc:language>
  <cp:lastModifiedBy>Не Влезай - УБЪЁТ!</cp:lastModifiedBy>
  <dcterms:modified xsi:type="dcterms:W3CDTF">2013-02-24T15:48:04Z</dcterms:modified>
  <cp:revision>3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