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43A3-49F2-42AC-91E4-77251058D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2ECD-DE08-42E9-B625-7029BFE4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F646-20E0-42BB-9D50-935DC518C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C5B1-3AD2-45BE-9BE8-56D5E0C5A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6354-72F6-4A2F-A91C-A97CD32C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4EE6-0C35-4B60-B00C-53E0CF0A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FBFE-0679-44DB-B318-6C38C223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03ED-3F3F-4598-BE60-BB050A75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19C1-CDC1-47FB-8803-1DFF2E56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8F6F-16EC-42C4-BA35-4E597585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CFD1-470F-4187-AB76-90DB98D1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976C-1893-4EB9-B8D3-D0695F78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E04E-7D4B-4C1B-977B-DD099F3A7B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           </a:t>
            </a: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Сочинение </a:t>
            </a:r>
            <a:br>
              <a:rPr sz="3200"/>
            </a:b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              текса-повеств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4" descr="мигающие звёзды.gif"/>
          <p:cNvPicPr/>
          <p:nvPr/>
        </p:nvPicPr>
        <p:blipFill>
          <a:blip r:embed="rId1"/>
          <a:stretch/>
        </p:blipFill>
        <p:spPr>
          <a:xfrm>
            <a:off x="500040" y="1542960"/>
            <a:ext cx="8143920" cy="502920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5" descr=""/>
          <p:cNvPicPr/>
          <p:nvPr/>
        </p:nvPicPr>
        <p:blipFill>
          <a:blip r:embed="rId2"/>
          <a:stretch/>
        </p:blipFill>
        <p:spPr>
          <a:xfrm>
            <a:off x="1657440" y="2646360"/>
            <a:ext cx="5895720" cy="198612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 flipH="1">
            <a:off x="3999960" y="428760"/>
            <a:ext cx="40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фантастиче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250920" y="18792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 ты представляешь, когда слышишь слово космос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полёт к звёздам.mp3" descr=""/>
          <p:cNvPicPr/>
          <p:nvPr/>
        </p:nvPicPr>
        <p:blipFill>
          <a:blip r:embed="rId1"/>
          <a:stretch/>
        </p:blipFill>
        <p:spPr>
          <a:xfrm>
            <a:off x="8501040" y="6215040"/>
            <a:ext cx="447840" cy="447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8858160" cy="5367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3"/>
          <a:stretch/>
        </p:blipFill>
        <p:spPr>
          <a:xfrm>
            <a:off x="142920" y="108000"/>
            <a:ext cx="8997840" cy="6750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6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"/>
          <p:cNvPicPr/>
          <p:nvPr/>
        </p:nvPicPr>
        <p:blipFill>
          <a:blip r:embed="rId7"/>
          <a:stretch/>
        </p:blipFill>
        <p:spPr>
          <a:xfrm>
            <a:off x="0" y="0"/>
            <a:ext cx="92934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"/>
          <p:cNvPicPr/>
          <p:nvPr/>
        </p:nvPicPr>
        <p:blipFill>
          <a:blip r:embed="rId8"/>
          <a:stretch/>
        </p:blipFill>
        <p:spPr>
          <a:xfrm>
            <a:off x="0" y="0"/>
            <a:ext cx="928692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"/>
          <p:cNvPicPr/>
          <p:nvPr/>
        </p:nvPicPr>
        <p:blipFill>
          <a:blip r:embed="rId9"/>
          <a:stretch/>
        </p:blipFill>
        <p:spPr>
          <a:xfrm>
            <a:off x="0" y="0"/>
            <a:ext cx="9286920" cy="6853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"/>
          <p:cNvPicPr/>
          <p:nvPr/>
        </p:nvPicPr>
        <p:blipFill>
          <a:blip r:embed="rId10"/>
          <a:stretch/>
        </p:blipFill>
        <p:spPr>
          <a:xfrm>
            <a:off x="0" y="0"/>
            <a:ext cx="9318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5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0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5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60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>
                                  <p:stCondLst>
                                    <p:cond delay="70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80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9651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19:05:29Z</dcterms:created>
  <dc:creator>Customer</dc:creator>
  <dc:description/>
  <dc:language>en-US</dc:language>
  <cp:lastModifiedBy>Лариса Владимировна</cp:lastModifiedBy>
  <dcterms:modified xsi:type="dcterms:W3CDTF">2013-03-01T07:43:41Z</dcterms:modified>
  <cp:revision>14</cp:revision>
  <dc:subject/>
  <dc:title>Слайд 1</dc:title>
</cp:coreProperties>
</file>