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317-BECF-4777-AE2E-A36D49E3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436-1391-4780-9315-5427316A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4C4-1CF5-46BF-AE06-768F64CB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BB1-FDD0-435F-B00E-BEEF23E5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99D-9E28-47A0-9D19-25481AA9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976-912D-4ACB-BF94-0428E563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647-F86B-4310-B19B-BEF3832D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FC7-F2EF-48EA-A560-EA6BA970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72F-26E9-47C3-A63D-5A1C00F1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2CA-68B9-4478-A530-A14819A0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66A-6A2A-4159-AB73-7785761E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1A1-EE61-4784-83DF-BA9C478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4E98-3AAC-4F2A-8ABE-4864C58ED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Сочинение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             текса-пове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мигающие звёзды.gif"/>
          <p:cNvPicPr/>
          <p:nvPr/>
        </p:nvPicPr>
        <p:blipFill>
          <a:blip r:embed="rId1"/>
          <a:stretch/>
        </p:blipFill>
        <p:spPr>
          <a:xfrm>
            <a:off x="500040" y="1542960"/>
            <a:ext cx="8143920" cy="50292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1657440" y="2646360"/>
            <a:ext cx="5895720" cy="1986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 flipH="1">
            <a:off x="3999960" y="428760"/>
            <a:ext cx="40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фантастиче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50920" y="1879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ты представляешь, когда слышишь слово космо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олёт к звёздам.mp3" descr=""/>
          <p:cNvPicPr/>
          <p:nvPr/>
        </p:nvPicPr>
        <p:blipFill>
          <a:blip r:embed="rId1"/>
          <a:stretch/>
        </p:blipFill>
        <p:spPr>
          <a:xfrm>
            <a:off x="8501040" y="62150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8858160" cy="5367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142920" y="108000"/>
            <a:ext cx="8997840" cy="675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7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8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9"/>
          <a:stretch/>
        </p:blipFill>
        <p:spPr>
          <a:xfrm>
            <a:off x="0" y="0"/>
            <a:ext cx="9286920" cy="6853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10"/>
          <a:stretch/>
        </p:blipFill>
        <p:spPr>
          <a:xfrm>
            <a:off x="0" y="0"/>
            <a:ext cx="931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5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70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80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9651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9:05:29Z</dcterms:created>
  <dc:creator>Customer</dc:creator>
  <dc:description/>
  <dc:language>en-US</dc:language>
  <cp:lastModifiedBy>Лариса Владимировна</cp:lastModifiedBy>
  <dcterms:modified xsi:type="dcterms:W3CDTF">2013-03-01T07:43:41Z</dcterms:modified>
  <cp:revision>14</cp:revision>
  <dc:subject/>
  <dc:title>Слайд 1</dc:title>
</cp:coreProperties>
</file>