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FE8-9918-4B8F-A83A-5F124B9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D1D-2DFC-40C2-ADA2-EAC43EED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108-4CE7-4020-BFFC-4FCB2EDD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307-C2E6-4F04-A4ED-F68FD9FB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DE5-1A20-48F0-99F7-EAABA11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9A1-5DC4-4C17-968C-971EE98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B84-E65E-4C29-A25A-762F7E0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1BC-797C-46DC-A9E6-C2919357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EB2-7F06-4EFB-8597-3F33696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03B-9A38-4FD8-8391-F8F816A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134-2942-48B8-9C26-49C7B63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912-F91A-41B4-AC97-DD70C47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F4C-1323-4D9E-A57D-45F1BBC9C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26267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Полёт на Ма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214200" y="1285920"/>
            <a:ext cx="3787920" cy="1576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1928880" y="3071880"/>
            <a:ext cx="3857400" cy="165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rcRect l="0" t="0" r="0" b="47241"/>
          <a:stretch/>
        </p:blipFill>
        <p:spPr>
          <a:xfrm>
            <a:off x="5143680" y="4929120"/>
            <a:ext cx="3787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61 0.05347 C -0.06024 -0.18727 -0.4191 -0.42778 -0.56094 -0.52269 C -0.70278 -0.6176 -0.55452 -0.51737 -0.55261 -0.51644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592 0.12408 L 0.34826 0.2710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8438 0.04421 L 0.35382 0.26736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У меня появляется возможность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бывать на Мар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rcRect l="0" t="0" r="0" b="47241"/>
          <a:stretch/>
        </p:blipFill>
        <p:spPr>
          <a:xfrm>
            <a:off x="285840" y="1428840"/>
            <a:ext cx="860904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011600" y="5715000"/>
            <a:ext cx="719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когда это произошл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именно тебе представилась такая возможнос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Космическое 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7871" t="51892" r="4354" b="0"/>
          <a:stretch/>
        </p:blipFill>
        <p:spPr>
          <a:xfrm>
            <a:off x="55440" y="857160"/>
            <a:ext cx="9041040" cy="4286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66160" y="5286240"/>
            <a:ext cx="333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оходил полё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он запомнился теб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89440" y="4857840"/>
            <a:ext cx="778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произошло с тобой на план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тил ли ты там кого-нибудь? Как состоялась эта встре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ещё необычного ты увидел на Марс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тебя поразила эта планет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I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Вот так чуд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7473960" cy="3214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7863480" y="1143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05:29Z</dcterms:created>
  <dc:creator>Customer</dc:creator>
  <dc:description/>
  <dc:language>en-US</dc:language>
  <cp:lastModifiedBy>Лариса Владимировна</cp:lastModifiedBy>
  <dcterms:modified xsi:type="dcterms:W3CDTF">2013-03-01T07:48:23Z</dcterms:modified>
  <cp:revision>15</cp:revision>
  <dc:subject/>
  <dc:title>Слайд 1</dc:title>
</cp:coreProperties>
</file>