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4D7-6A7C-48E0-A65D-35DD8901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DB8-A285-405E-9BDB-36B556CE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A63-CA44-4AB9-BFF9-0346C6CB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B36-8756-432C-9BC6-D0A7D408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4B7-3799-4F83-993E-DBD5D9A3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E04-79E7-49A5-AA4F-5BC2C245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2B7-93C5-4F52-8112-E304E982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D34-8A50-450C-9490-33287526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D06-2D8B-42B9-939F-D82BE8F7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A6E-2786-4B34-B680-2DC78927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C89-8268-4ACF-9D94-25AB7CEA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EA8-BB6A-497F-80F9-0BA06247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FFBA-8952-428C-AF25-EA960C816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26267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Полёт на Мар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rcRect l="0" t="51892" r="0" b="0"/>
          <a:stretch/>
        </p:blipFill>
        <p:spPr>
          <a:xfrm>
            <a:off x="214200" y="1285920"/>
            <a:ext cx="3787920" cy="1576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1928880" y="3071880"/>
            <a:ext cx="3857400" cy="165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rcRect l="0" t="0" r="0" b="47241"/>
          <a:stretch/>
        </p:blipFill>
        <p:spPr>
          <a:xfrm>
            <a:off x="5143680" y="4929120"/>
            <a:ext cx="3787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861 0.05347 C -0.06024 -0.18727 -0.4191 -0.42778 -0.56094 -0.52269 C -0.70278 -0.6176 -0.55452 -0.51737 -0.55261 -0.51644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592 0.12408 L 0.34826 0.27107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08438 0.04421 L 0.35382 0.26736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. У меня появляется возможность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бывать на Марс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rcRect l="0" t="0" r="0" b="47241"/>
          <a:stretch/>
        </p:blipFill>
        <p:spPr>
          <a:xfrm>
            <a:off x="285840" y="1428840"/>
            <a:ext cx="8609040" cy="3929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011600" y="5715000"/>
            <a:ext cx="719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 когда это произошл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именно тебе представилась такая возможнос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II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. Космическое путешест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rcRect l="7871" t="51892" r="4354" b="0"/>
          <a:stretch/>
        </p:blipFill>
        <p:spPr>
          <a:xfrm>
            <a:off x="55440" y="857160"/>
            <a:ext cx="9041040" cy="4286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66160" y="5286240"/>
            <a:ext cx="333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оходил полё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он запомнился теб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289440" y="4857840"/>
            <a:ext cx="778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произошло с тобой на план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етил ли ты там кого-нибудь? Как состоялась эта встре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ещё необычного ты увидел на Марс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тебя поразила эта планет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III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. Вот так чуд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7473960" cy="3214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7863480" y="114300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9:05:29Z</dcterms:created>
  <dc:creator>Customer</dc:creator>
  <dc:description/>
  <dc:language>en-US</dc:language>
  <cp:lastModifiedBy>Лариса Владимировна</cp:lastModifiedBy>
  <dcterms:modified xsi:type="dcterms:W3CDTF">2013-03-01T07:48:23Z</dcterms:modified>
  <cp:revision>15</cp:revision>
  <dc:subject/>
  <dc:title>Слайд 1</dc:title>
</cp:coreProperties>
</file>