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E54-A437-4F43-A63A-191F4937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EBE-1638-4C47-ADBF-9215942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643-DB47-4587-8861-C5E0C3E6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0C0-A922-47F3-BCF9-6D437EED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E322-E298-4532-8C99-003F453F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C517-63F4-4D80-B2AA-F4FEA71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3C0B-F11B-44A9-9CEC-57471A1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F4DA-F0D1-4AB6-BDCA-4A4E164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7FFE-07AE-46E6-A944-823FEE1C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BBF1-F327-4549-BB8D-9C062DA3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DE39-C14E-4A8A-9EFF-28E1322E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213-E056-4D23-A745-EBC95151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ABB2-F3AA-4DFD-A997-247BE89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7DB9-E043-434E-9E3C-8D363DE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8569-FDB3-405E-846E-BFF6C31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D67D-453B-4CEE-9384-F76D31B3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31DE-EAF0-4E6C-9E63-68AA3056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6D39-A072-4728-9EDB-930E3F08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09E5-9D4C-48DA-9C0E-1926731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934C-A98E-4B19-AF5E-D55E12F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F466-426C-4B4E-A05C-390F8F80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BEB7-9E9A-43E2-A61E-3CC49909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EEB-9D64-4EA8-BB52-5D483053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D495-3BEF-4319-8F31-2E2C53C0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C876-BEFA-49BA-A984-3D45D17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2619-9659-4CF7-BEE4-D722FAE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2C56-178F-485A-85ED-C28D71E9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333F-7289-4906-AE5D-8C4946A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528F-324A-41E6-8101-FD7A6051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C23D-0ED7-42D2-99D0-0D9288FB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1EE4-AB1A-4F74-9B0D-78C49617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5553-3AB9-442C-987B-324D738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5131-EEE6-4244-9057-EAA43B4A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4EA-4E3D-487A-AEE1-554A3A8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2035-A4A1-4D3A-8629-C581498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B2AA-3016-4664-997C-ED06C04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03C6-9CD6-4D4D-BE61-26FBD877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FF4D-D990-46A8-ADED-A2827CB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32E6-723B-4E38-952E-7162DD4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EB55-CDFC-4F7D-8967-F5309271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3323-1A42-441C-8253-B6888BA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8E6B-1648-47DC-B582-DB329BF9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320AA-3B0F-4548-B3AA-6DCE0EA0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4B2-FD78-455B-A63C-8E3920A4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152-9F37-4114-A9DA-D87D89F3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E74-1BA2-48E2-BFC1-B6A045A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F83-E9EB-4884-A193-701B38F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687-9649-43E8-BC1E-93C11C7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B93-35BC-4CF9-88A2-034832794D8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352A-7406-403C-8595-FD1765C80D4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6A0E-B2BE-49F2-B61B-FD229C639BD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650-770D-49B4-814F-447A37B667D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600" y="142560"/>
            <a:ext cx="8258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es sept nouvelles merveilles du mond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5716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Il n’y a pas longtemps plus de 100 millions de personnes dans le monde entier ont choisi les 7 nouvelles merveilles du monde. On a nommé: le Grand Mur de Chine, Taj Mahal en Inde, le Colisée  à  Rome, l’ancienne ville Petra en Iordanie, la ville Machu Picchu au Peru, Chichen Itza  au Mexique et la Statue de Jésus Christ  le Sauveur 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u Br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83581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e grand mur de Ch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457360" cy="144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2000"/>
          </a:bodyPr>
          <a:p>
            <a:pPr marL="4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’est le plus grand mur jamais fait par l’hom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469584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        </a:t>
            </a: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Tag Mah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e n’est pas seulement l’exemple de la beauté architecturale, mais aussi  le symbole de l’amour tendre et étern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575160" y="1855800"/>
            <a:ext cx="51116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5398920" cy="11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e Colisée à  Rom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2349360"/>
            <a:ext cx="2514600" cy="4175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’exemple de l’architecture antiq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5" descr="new7wonder03.jpg"/>
          <p:cNvPicPr/>
          <p:nvPr/>
        </p:nvPicPr>
        <p:blipFill>
          <a:blip r:embed="rId1"/>
          <a:stretch/>
        </p:blipFill>
        <p:spPr>
          <a:xfrm>
            <a:off x="3575160" y="2271600"/>
            <a:ext cx="5111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4152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4617b"/>
                </a:solidFill>
                <a:latin typeface="Constantia"/>
              </a:rPr>
              <a:t>L’ancienne ville de Petr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743200" cy="4403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etra (la ville dans les falaises) est l’exemple de la pensée architecturale et le génie de co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597560" y="1919160"/>
            <a:ext cx="30668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59022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4617b"/>
                </a:solidFill>
                <a:latin typeface="Constantia"/>
              </a:rPr>
              <a:t>La statue de Jesus Christ le Sauveur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743200" cy="4332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a statue aux bras ouverts est le symbole de la bonté, de protection, de l’amo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3619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496584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      </a:t>
            </a:r>
            <a:r>
              <a:rPr b="0" lang="fr-FR" sz="4800" spc="-1" strike="noStrike">
                <a:solidFill>
                  <a:srgbClr val="04617b"/>
                </a:solidFill>
                <a:latin typeface="Constantia"/>
              </a:rPr>
              <a:t>Chichen</a:t>
            </a: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Itz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hichen Itza c’est le monument de la civilisation complètement et mystérieusement dispar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575160" y="2046240"/>
            <a:ext cx="51116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54184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       </a:t>
            </a:r>
            <a:r>
              <a:rPr b="0" lang="en-US" sz="4800" spc="-1" strike="noStrike">
                <a:solidFill>
                  <a:srgbClr val="04617b"/>
                </a:solidFill>
                <a:latin typeface="Constantia"/>
              </a:rPr>
              <a:t>Machu Picchu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Machu Picchu c’est le lieu magique et mystérieux: la ville cachée dans les nuages. Et le dernier exemple de l’empire dispar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84480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ина</cp:lastModifiedBy>
  <dcterms:modified xsi:type="dcterms:W3CDTF">2013-03-01T19:49:34Z</dcterms:modified>
  <cp:revision>33</cp:revision>
  <dc:subject/>
  <dc:title>New Seven Wonders of the World</dc:title>
</cp:coreProperties>
</file>