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1A8-C775-4216-B48B-A4544325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026E-8A99-40C8-A3B5-618F67C8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490-B0B6-48C8-B498-EEE8D811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32B-9A38-4357-A7FA-C7439AC8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0ADD-0899-43DC-A3D1-FF904A21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83E5-BBCB-4507-9FB2-82403980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7515-A6CF-4B39-B394-AB979083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80D9-4485-486F-9312-BA885C5C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03D7-0D67-4FF7-9AAA-127CB04C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1BF8-B7EC-4129-AAC2-030C60B2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8331-5491-4FC5-A985-4DFBB01C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952-2E49-48B1-A2C2-4B7C52D0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11FF-E476-418D-B43E-9C4E789E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4D0C-76B2-4C09-9860-D1A28A9C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1EDE-0FD8-4136-94DC-211949B4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9E68-4A96-4514-B797-29DB07F8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8DDA-36CF-4E32-8AB1-027D7C76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791CE-CE45-493E-BCAF-D6E0F151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E97CC-B241-41D2-BB47-01D9F28A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2CAE-E4E4-4A85-803D-FCFD8FEF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000FC-7FA0-4C06-B436-B1FE5FEF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A2AD0-8777-4AEB-B888-C77A4806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187-0603-46DD-84E0-104608B5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E5BD3-65FA-42F4-AA02-29C2CFDE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A2C78-D1B8-4379-B0C5-B90F2D7F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F5330-F609-47DD-8E5F-C693A922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AA5F7-61BE-46D8-93F8-B64CF852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64368-1E63-4D12-B118-985521A7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4A3A1-119E-4009-B3BD-744758EE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6DB5A-2899-442F-95D3-D44EAEA9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CFCCF-3C34-417C-B916-81BDE5BB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B22E6-7500-4157-8001-85EF3946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C9CEE-E27D-40FA-8FB2-1276E5C9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ACA-5B0A-4AFB-A17D-C6FA9741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D96A2-E1A8-403F-A84F-D36F5CB0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5F7F3-6D4D-4891-B90C-657247B3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DE91B-0171-4922-A8C1-7AFD0B04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AB18D-F786-48A6-B5F5-1E658B3C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DA35A-3391-4268-A4EB-6785D609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D4D02-A0A7-4A5F-A6B4-6CBF7194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957CD-75C5-4D61-AD77-8CC39A5E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9A035-D753-45E4-BEB6-B084BBF6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AA6C3-A276-4266-BAB6-9D5E4246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2BD-D5F5-4DAE-997C-9F64EDA1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AEE2-D2C2-4AA7-A5E7-C6EEDD18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8E2A-4B35-4B08-ABE1-20EABBFA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149-F5B2-4AF4-AC63-439A099C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467-4A23-454E-93FF-57681C1C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05D8-0ADE-434D-BAFB-364E6534C2B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8FEE-62F4-4E12-93AE-6DB8C38CB3E1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8D5C-184D-4A15-BC9E-0E5E0DAA0BC2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AA14-B221-48DD-83CD-2B111D0A2A8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2600" y="142560"/>
            <a:ext cx="825804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4617b"/>
                </a:solidFill>
                <a:latin typeface="Constantia"/>
              </a:rPr>
              <a:t>Les sept nouvelles merveilles du mond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57160" y="25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Il n’y a pas longtemps plus de 100 millions de personnes dans le monde entier ont choisi les 7 nouvelles merveilles du monde. On a nommé: le Grand Mur de Chine, Taj Mahal en Inde, le Colisée  à  Rome, l’ancienne ville Petra en Iordanie, la ville Machu Picchu au Peru, Chichen Itza  au Mexique et la Statue de Jésus Christ  le Sauveur 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au Br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é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si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5520" y="-360"/>
            <a:ext cx="835812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fr-FR" sz="4400" spc="-1" strike="noStrike">
                <a:solidFill>
                  <a:srgbClr val="04617b"/>
                </a:solidFill>
                <a:latin typeface="Constantia"/>
              </a:rPr>
              <a:t>Le grand mur de Chin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2457360" cy="1440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2000"/>
          </a:bodyPr>
          <a:p>
            <a:pPr marL="4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C’est le plus grand mur jamais fait par l’hom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276720" y="1773360"/>
            <a:ext cx="469584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539892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onstantia"/>
              </a:rPr>
              <a:t>         </a:t>
            </a:r>
            <a:r>
              <a:rPr b="0" lang="en-US" sz="4800" spc="-1" strike="noStrike">
                <a:solidFill>
                  <a:srgbClr val="04617b"/>
                </a:solidFill>
                <a:latin typeface="Constantia"/>
              </a:rPr>
              <a:t>Tag Mah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Ce n’est pas seulement l’exemple de la beauté architecturale, mais aussi  le symbole de l’amour tendre et éterne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3575160" y="1855800"/>
            <a:ext cx="51116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5398920" cy="111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fr-FR" sz="4400" spc="-1" strike="noStrike">
                <a:solidFill>
                  <a:srgbClr val="04617b"/>
                </a:solidFill>
                <a:latin typeface="Constantia"/>
              </a:rPr>
              <a:t>Le Colisée à  Rom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2349360"/>
            <a:ext cx="2514600" cy="41752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L’exemple de l’architecture antiqu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Содержимое 5" descr="new7wonder03.jpg"/>
          <p:cNvPicPr/>
          <p:nvPr/>
        </p:nvPicPr>
        <p:blipFill>
          <a:blip r:embed="rId1"/>
          <a:stretch/>
        </p:blipFill>
        <p:spPr>
          <a:xfrm>
            <a:off x="3575160" y="2271600"/>
            <a:ext cx="51116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4152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4617b"/>
                </a:solidFill>
                <a:latin typeface="Constantia"/>
              </a:rPr>
              <a:t>L’ancienne ville de Petra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2743200" cy="44038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Petra (la ville dans les falaises) est l’exemple de la pensée architecturale et le génie de constru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4597560" y="1919160"/>
            <a:ext cx="30668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59022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4617b"/>
                </a:solidFill>
                <a:latin typeface="Constantia"/>
              </a:rPr>
              <a:t>La statue de Jesus Christ le Sauveur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2743200" cy="43322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La statue aux bras ouverts est le symbole de la bonté, de protection, de l’amou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4284720" y="1773360"/>
            <a:ext cx="3619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496584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onstantia"/>
              </a:rPr>
              <a:t>       </a:t>
            </a:r>
            <a:r>
              <a:rPr b="0" lang="fr-FR" sz="4800" spc="-1" strike="noStrike">
                <a:solidFill>
                  <a:srgbClr val="04617b"/>
                </a:solidFill>
                <a:latin typeface="Constantia"/>
              </a:rPr>
              <a:t>Chichen</a:t>
            </a:r>
            <a:r>
              <a:rPr b="0" lang="en-US" sz="4800" spc="-1" strike="noStrike">
                <a:solidFill>
                  <a:srgbClr val="04617b"/>
                </a:solidFill>
                <a:latin typeface="Constantia"/>
              </a:rPr>
              <a:t> Itza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Chichen Itza c’est le monument de la civilisation complètement et mystérieusement disparu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3575160" y="2046240"/>
            <a:ext cx="511164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554184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onstantia"/>
              </a:rPr>
              <a:t>       </a:t>
            </a:r>
            <a:r>
              <a:rPr b="0" lang="en-US" sz="4800" spc="-1" strike="noStrike">
                <a:solidFill>
                  <a:srgbClr val="04617b"/>
                </a:solidFill>
                <a:latin typeface="Constantia"/>
              </a:rPr>
              <a:t>Machu Picchu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Machu Picchu c’est le lieu magique et mystérieux: la ville cachée dans les nuages. Et le dernier exemple de l’empire disparu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3844800" y="16765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бина</cp:lastModifiedBy>
  <dcterms:modified xsi:type="dcterms:W3CDTF">2013-03-01T19:49:34Z</dcterms:modified>
  <cp:revision>33</cp:revision>
  <dc:subject/>
  <dc:title>New Seven Wonders of the World</dc:title>
</cp:coreProperties>
</file>