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36C-B5E8-40E6-ACB1-7AFF852F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72D-8A99-4B35-B9DD-5F146519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A36-F532-4566-A80E-1D2AFFFB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8A3-2603-4C96-A39D-E382A4B1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D3C-E2CD-407A-9857-4AD91F55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353-06A6-45B3-B487-4C950A16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B34-EA1C-4281-A62C-E4EA745C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2F0-DBB7-442F-8E3A-506D97EC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86B-B37F-488F-B4F9-66F3A837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89B-4F82-45C4-8D69-1BD0D2F0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CC8-DD7D-4B2A-9DA6-358C3CDC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A5F-5739-4DE5-A881-28C9C977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1910-6D72-4EC5-9845-A00F83F43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ctive </a:t>
            </a: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nd Passive Voic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Present Perfect Passive: have + been + V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 have been invited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Past Perfect Passive: had + been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000000"/>
                </a:solidFill>
                <a:latin typeface="Calibri"/>
              </a:rPr>
              <a:t>I had been invited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Future Perfect Passive: will + have + been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000000"/>
                </a:solidFill>
                <a:latin typeface="Calibri"/>
              </a:rPr>
              <a:t>I will have been invited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ctive Voi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Simple Present: V (Vs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do it. He does i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Simple Past: V-ed (II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форма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did i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Simple Future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will +V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will do it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resent Progressive (Continuous): am, is, are +V-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doing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ast Progressive (Continuous) : was, were +V-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doing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uture Progressive (Continuous) : will+ be+V-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be doing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resent Perfect: have, has + V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have done i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st Perfect: had + V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had done i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Future Perfect: will +have 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will have done it by tomorrow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5712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resent Perfect Progressive: have (has) + been +V-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have been doing it for 2 month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ast Perfect Progressive: had + been + V-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had been doing i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Future Perfect Progressive: will+ have + been + V-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will have been doing it for 24 hours by tomorrow morn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71440"/>
            <a:ext cx="822960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assive Voic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e +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Present Simple Passive: am, is, are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 am invited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Past Simple Passive: was, were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 was invited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Future Simple Passive: will +be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 will be invited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Present Progressive Passive: am, is, are +being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am being invite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Past Progressive Passive: was, were + being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was being invite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7:15:47Z</dcterms:created>
  <dc:creator>Master</dc:creator>
  <dc:description/>
  <dc:language>en-US</dc:language>
  <cp:lastModifiedBy>Пользователь</cp:lastModifiedBy>
  <dcterms:modified xsi:type="dcterms:W3CDTF">2013-02-22T16:26:56Z</dcterms:modified>
  <cp:revision>15</cp:revision>
  <dc:subject/>
  <dc:title>Слайд 1</dc:title>
</cp:coreProperties>
</file>