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E8E-E428-4071-9AF4-FCF0103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546-D35C-40D4-965C-6935A61A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B0-7DF1-4C8C-95F4-25BC66C7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A1E-BFBF-4081-AEFB-6C047106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AED-9153-44C1-BD38-0C01BF16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3BE-1945-4830-9624-615BAF67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B95-43ED-479C-823D-756D8C82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B45-185B-495B-8754-A05D7E9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392-D3A6-45B5-9227-A5D2ECE2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626-391F-4AA9-8AD6-8D1834D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9DB-F641-44B7-BEA7-D94F71D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DAC-3B0C-46C1-B2C8-6F6DEAE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7803-83C8-46B3-A50D-8E1336E22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ctive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nd Passive Voic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resent Perfect Passive: have + been + V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have been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ast Perfect Passive: had + been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I had been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Future Perfect Passive: will + have + been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000000"/>
                </a:solidFill>
                <a:latin typeface="Calibri"/>
              </a:rPr>
              <a:t>I will have been invited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ctive Vo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Present: V (V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do it. He does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Past: V-ed (II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форм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did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Simple Future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will +V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will do it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esent Progressive (Continuous): am, is, are 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st Progressive (Continuous) : was, were 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uture Progressive (Continuous) : will+ be+V-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be do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esent Perfect: have, has + V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ve done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st Perfect: had + V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d done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uture Perfect: will +have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will have done it by tomorrow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resent Perfect Progressive: have (has) + been +V-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have been doing it for 2 month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ast Perfect Progressive: had + been + V-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had been doing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Future Perfect Progressive: will+ have + been + V-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will have been doing it for 24 hours by tomorrow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71440"/>
            <a:ext cx="82296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assive Voic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e +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resent Simple Passive: am, is, ar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am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Past Simple Passive: was, wer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was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Future Simple Passive: will +be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 will be invited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Present Progressive Passive: am, is, are +being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am being invit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Past Progressive Passive: was, were + being + 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was being invite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15:47Z</dcterms:created>
  <dc:creator>Master</dc:creator>
  <dc:description/>
  <dc:language>en-US</dc:language>
  <cp:lastModifiedBy>Пользователь</cp:lastModifiedBy>
  <dcterms:modified xsi:type="dcterms:W3CDTF">2013-02-22T16:26:56Z</dcterms:modified>
  <cp:revision>15</cp:revision>
  <dc:subject/>
  <dc:title>Слайд 1</dc:title>
</cp:coreProperties>
</file>