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D07-E347-43A9-A31E-2AE6B2E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051-AEB2-44B8-95C1-DD2D3C42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0B8-12D5-4FA3-8B1B-322FC97F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C9F-415E-4561-835E-DEB31F73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0C3-A7D2-44DF-A040-049C5FB3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83A-E7F0-4EC8-99EF-1C4A9E6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18C8-33A0-45B7-BDBF-7E0A809F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47F9-480D-446E-B6BD-37829EFD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04E-6239-4248-BD1E-B1AA84CB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CB6A-EB14-460C-AB85-A5F6773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369-1EE5-454A-9BD1-2030AD0C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40E-9A6F-4149-B5D2-99BF04DF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E60B-6CCB-4206-80E4-771ABBA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15E4-B30B-4B73-9169-3C5E4F0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74D5-2D76-492F-B1F7-FFD0C2B0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903-55D7-40C3-A764-5BDEA336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B30-6DE0-4818-87FC-5D9732E5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70B-39FC-43E7-8F90-BA6BDDA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2AB-95BF-4E52-898B-A1C54001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A09-77E8-4D65-B47F-F19CDFA6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452-FC02-45F4-886E-2C1A432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EB0-7AFE-4839-B699-088306D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D73-F94C-4513-B2FF-81F4EEA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D51-73A9-4414-9379-243B1423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909C-D4F5-4B3F-BC80-ADB3BF4D6D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1E64-0690-400D-8CC5-B6D7849E79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1844280"/>
            <a:ext cx="6624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Критерии, показатели, выбор методи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4508640"/>
            <a:ext cx="55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</a:rPr>
              <a:t>По материалам работ Е.Н. Степан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Times New Roman"/>
              </a:rPr>
              <a:t>Критерии эффективности </a:t>
            </a:r>
            <a:br>
              <a:rPr sz="3800"/>
            </a:br>
            <a:r>
              <a:rPr b="0" lang="en-US" sz="3800" spc="-1" strike="noStrike">
                <a:solidFill>
                  <a:srgbClr val="0033cc"/>
                </a:solidFill>
                <a:latin typeface="Times New Roman"/>
              </a:rPr>
              <a:t>процесса воспитания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13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ПРОДУКТИВНОСТЬ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витость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формированность коллекти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УДОВЛЕТВОРЕН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процессом и результат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овлетворенность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овлетворенность педаго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620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Развитость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42920" y="1557360"/>
          <a:ext cx="7777080" cy="4583160"/>
        </p:xfrm>
        <a:graphic>
          <a:graphicData uri="http://schemas.openxmlformats.org/drawingml/2006/table">
            <a:tbl>
              <a:tblPr/>
              <a:tblGrid>
                <a:gridCol w="1657440"/>
                <a:gridCol w="2519280"/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-альн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своенность образователь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знавательная активность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Сформированность стиля познаватель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и изучения развития познавательных процессо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Школьный тест умственного развития (ШТУ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Диагностическая 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Статистический анализ текущей и итоговой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066680" y="836640"/>
          <a:ext cx="7620120" cy="5371920"/>
        </p:xfrm>
        <a:graphic>
          <a:graphicData uri="http://schemas.openxmlformats.org/drawingml/2006/table">
            <a:tbl>
              <a:tblPr/>
              <a:tblGrid>
                <a:gridCol w="1764000"/>
                <a:gridCol w="2462040"/>
                <a:gridCol w="339408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равственная и эстет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формированность основных нравственных качест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Социа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звитость чувства прекрас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Проявление эстетических чувств в актах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а С.М. Петровой «Пословицы» для определения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Тест Н.Е. Щурковой «Размышляем о жизненном опыте» для определения нравственной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Методика П.В. Степанова, Д.В. Григорьева, И.В. Кулешовой «Диагностика личностного рос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66680" y="836640"/>
          <a:ext cx="7620120" cy="5038560"/>
        </p:xfrm>
        <a:graphic>
          <a:graphicData uri="http://schemas.openxmlformats.org/drawingml/2006/table">
            <a:tbl>
              <a:tblPr/>
              <a:tblGrid>
                <a:gridCol w="1764000"/>
                <a:gridCol w="2678040"/>
                <a:gridCol w="3178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ость коммуникати-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оммуникаб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Сформированность коммуникати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а выявления коммуникативных скло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066680" y="907920"/>
          <a:ext cx="7620120" cy="4173840"/>
        </p:xfrm>
        <a:graphic>
          <a:graphicData uri="http://schemas.openxmlformats.org/drawingml/2006/table">
            <a:tbl>
              <a:tblPr/>
              <a:tblGrid>
                <a:gridCol w="1764000"/>
                <a:gridCol w="2462040"/>
                <a:gridCol w="3394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остояние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азвитость физических 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игиенические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татистический медицинский анализ состояния здоровья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ыполнение контрольных нормати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66680" y="836640"/>
          <a:ext cx="7620120" cy="5038560"/>
        </p:xfrm>
        <a:graphic>
          <a:graphicData uri="http://schemas.openxmlformats.org/drawingml/2006/table">
            <a:tbl>
              <a:tblPr/>
              <a:tblGrid>
                <a:gridCol w="2065320"/>
                <a:gridCol w="2808360"/>
                <a:gridCol w="27464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влетворен-ность учащихся, педагогов и родителей жизнедеятель-ностью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омфортность и защищенность личности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довлетворенность педагогов процессом и результатами деятельности учащихся, взаимоотношениями в классном сообще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довлетворенность родителей результатами обучения и воспитания ребенка, его положением в классном коллек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а А.А. Андреева «Изучение удовлетворенности учащихся школьной жизнью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ето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.Н. Степанова для исследования удовлетворенности педагогов и родителей жизнедеятельностью в образовательном учрежд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3:47:03Z</dcterms:created>
  <dc:creator>user</dc:creator>
  <dc:description/>
  <dc:language>en-US</dc:language>
  <cp:lastModifiedBy>zadorin_ks</cp:lastModifiedBy>
  <dcterms:modified xsi:type="dcterms:W3CDTF">2008-10-30T04:34:34Z</dcterms:modified>
  <cp:revision>91</cp:revision>
  <dc:subject/>
  <dc:title>Урок - деловая игра «НЕФТЕХИМИЧЕСКАЯ ПРОМЫШЛЕННОСТЬ» </dc:title>
</cp:coreProperties>
</file>