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06F-A5BE-4436-ACF7-2084F5C0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090-F4BE-4448-AADA-AECC794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DB9-89C3-42CC-9606-6CED09CF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059-C91A-4607-B709-1641CF20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D65-9CD0-48AA-8BE9-41CBA016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805A-8B3A-4AAE-95BA-B1CB46AC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B6B1-A522-431A-BA92-0998EAB1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48F6-89D6-4FAC-8120-37ECE97E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C08D-810F-42CE-8EEC-125FF25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E384-9667-41B8-B477-55E1117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92A2-01CD-4E3F-B821-844DE32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C75-D7BF-4D9E-90E9-CA7A0C4F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728-5E86-40C0-BACB-C66D093C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493-EA6F-41DD-8C16-F126F12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6136-A9CB-474B-9220-9538A323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949-6983-4BBE-A035-BE523A66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F41F-E895-433C-B945-6C945507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3E3-C2BD-4802-9CEE-FFD1184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684-949F-40E1-94D7-F3F0B3E2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3D6-15CA-48FB-ACDA-3285213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835-BC09-43F7-BED6-3468D2F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3AA-8A64-4507-90E8-E51FBAA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885-2DB7-4309-8520-B8B7D2D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687-CC99-4296-B062-395756E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1E4-3A3D-495D-A117-D5DFA625A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9622-90A6-44C7-800D-658CE28F2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844280"/>
            <a:ext cx="6624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Критерии, показатели, выбор методи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508640"/>
            <a:ext cx="55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imes New Roman"/>
              </a:rPr>
              <a:t>По материалам работ Е.Н. Степан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Times New Roman"/>
              </a:rPr>
              <a:t>Критерии эффективности </a:t>
            </a:r>
            <a:br>
              <a:rPr sz="3800"/>
            </a:br>
            <a:r>
              <a:rPr b="0" lang="en-US" sz="3800" spc="-1" strike="noStrike">
                <a:solidFill>
                  <a:srgbClr val="0033cc"/>
                </a:solidFill>
                <a:latin typeface="Times New Roman"/>
              </a:rPr>
              <a:t>процесса воспитания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13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ПРОДУКТИВНОСТЬ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витость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формированность коллекти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УДОВЛЕТВОРЕН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процессом и результат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педаг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620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Развитость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42920" y="1557360"/>
          <a:ext cx="7777080" cy="4583160"/>
        </p:xfrm>
        <a:graphic>
          <a:graphicData uri="http://schemas.openxmlformats.org/drawingml/2006/table">
            <a:tbl>
              <a:tblPr/>
              <a:tblGrid>
                <a:gridCol w="1657440"/>
                <a:gridCol w="251928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-альн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своенность образователь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знавательная актив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формированность стиля познаватель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и изучения развития познавательных процессо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Школьный тест умственного развития (ШТУ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Диагностическ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Статистический анализ текущей и итоговой успев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066680" y="836640"/>
          <a:ext cx="7620120" cy="537192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равственная и эстет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формированность основных нравственных качеств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оциальная а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звитость чувства прекрас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оявление эстетических чувств в актах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С.М. Петровой «Пословицы» для определения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Тест Н.Е. Щурковой «Размышляем о жизненном опыте» для определения нравственной направленности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ика П.В. Степанова, Д.В. Григорьева, И.В. Кулешовой «Диагностика личностного рос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1764000"/>
                <a:gridCol w="2678040"/>
                <a:gridCol w="3178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ость коммуникати-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оммуникаб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формированность коммуникативной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выявления коммуникативных скло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етоды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066680" y="907920"/>
          <a:ext cx="7620120" cy="4173840"/>
        </p:xfrm>
        <a:graphic>
          <a:graphicData uri="http://schemas.openxmlformats.org/drawingml/2006/table">
            <a:tbl>
              <a:tblPr/>
              <a:tblGrid>
                <a:gridCol w="1764000"/>
                <a:gridCol w="2462040"/>
                <a:gridCol w="3394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ра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остояние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звитость физических 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игиенические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Статистический медицинский анализ состояния здоровь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полнение контрольных нормати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Методики экспертной оценки педагогов и самооценк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836640"/>
          <a:ext cx="7620120" cy="5038560"/>
        </p:xfrm>
        <a:graphic>
          <a:graphicData uri="http://schemas.openxmlformats.org/drawingml/2006/table">
            <a:tbl>
              <a:tblPr/>
              <a:tblGrid>
                <a:gridCol w="2065320"/>
                <a:gridCol w="2808360"/>
                <a:gridCol w="27464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спекты из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Диагностическ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влетворен-ность учащихся, педагогов и родителей жизнедеятель-ностью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омфортность и защищенность личности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довлетворенность педагогов процессом и результатами деятельности учащихся, взаимоотношениями в классном сообще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довлетворенность родителей результатами обучения и воспитания ребенка, его положением в классном коллекти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Методика А.А. Андреева «Изучение удовлетворенности учащихся школьной жизнью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.Н. Степанова для исследования удовлетворенности педагогов и родителей жизнедеятельностью в образовательном учреж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3:47:03Z</dcterms:created>
  <dc:creator>user</dc:creator>
  <dc:description/>
  <dc:language>en-US</dc:language>
  <cp:lastModifiedBy>zadorin_ks</cp:lastModifiedBy>
  <dcterms:modified xsi:type="dcterms:W3CDTF">2008-10-30T04:34:34Z</dcterms:modified>
  <cp:revision>91</cp:revision>
  <dc:subject/>
  <dc:title>Урок - деловая игра «НЕФТЕХИМИЧЕСКАЯ ПРОМЫШЛЕННОСТЬ» </dc:title>
</cp:coreProperties>
</file>