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89B-A358-4A53-8CE7-0681B06A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B0D-FE3C-488B-BFFB-5DA1FE69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C2E-2EB4-4B28-AB9C-BFA5BB54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CDB-9B7E-4FDC-886A-197463EE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3F99-8FDC-41FF-8F14-7CA8F39B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6883-D6D6-48CB-9F73-4A63AA21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D3D2-F31C-459D-819E-519CCAC7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A366-A6BB-477C-949B-4463AD26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DEE7-1C81-4F62-9884-036A5328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9B9E-DC5B-413D-B548-E236F466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2FB3-4BAB-4255-AC67-85719379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735-EBA6-47B1-B177-C0B1680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61C5-0C6E-4AFC-ABE1-15A951D4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00C6-0270-4363-9A09-B028DFF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F811-88E6-4202-878D-C480CE19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FD7B-413B-46D4-95F1-649125B0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2D70-3C6F-46DF-871E-DCF7DD77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F4257-F9E3-436C-AE3F-9E93E226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8D41-7E8F-4CE7-90B3-E4C43069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281BA-7A38-4014-B10D-8840C5C3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F32E-3DBC-4B49-B961-46B3F43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DCB8-4F96-4741-A4F8-5D5E0C49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64E-6EEA-42C9-B6A9-0DABE7B8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B2F4-C3F2-4D0F-9065-0F986F7C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6ACB-BA71-4EC3-A9A0-E7858F5D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EFE5-A7DE-4E87-8024-3F20E894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598B-4AAB-42FB-8735-4B737632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604D-D08F-49CB-B4C5-CFF52C21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139E-2A45-4ACF-ABCB-1AC3B754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1313-E927-4238-A469-BD3F5A13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02FF-7FB8-4621-89B1-A3EA9DE6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2B5E8-25F4-41E4-B8EB-C8C2A87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583A-12AD-4767-BD7E-0A1563CF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A4B-F94B-4F46-8A7A-01168D6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A3D73-C8E7-424A-BA28-ABF1B4FC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5B876-FF9B-478A-90CB-53D57391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A9D6-B413-4DE2-B553-5089693C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4133-82F0-4CAD-A13D-2F53C0E1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77003-C7F8-4524-BDA4-7D4909C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6D17-3E4B-4B8D-823F-029FC53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C13D-8256-4E26-92DD-B25A2EE7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A8A6-B648-4EEE-B229-781039A9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E29E-96AD-4EB3-927B-631D1E7F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784-D61B-43A3-93BB-B16371C2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CE9-7882-4AF7-970D-5821FD37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AA5-2BFA-495A-9707-0549E2E5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E3A-B324-47A5-B104-C2DF93AE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A3F-EF52-4F5C-B832-19C0204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93C-8DD6-4AA7-B7A7-8775A8ADF2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9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0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1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1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2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2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35D7-B40F-4771-A49B-1417C62F3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FEA2-B32F-45F0-911A-BDC1862339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2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1051-6BD4-4969-8B40-B1EE5A266F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Garamond"/>
              </a:rPr>
              <a:t>Деятельность ДОУ по профилактике безнадзорности, предупреждению правонарушений несовершеннолетних и защите их прав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ffff"/>
                </a:solidFill>
                <a:latin typeface="Garamond"/>
              </a:rPr>
              <a:t>2013 г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рганизация работы в ДОУ по защите прав несовершеннолетних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неблагополучия в семьях, и предоставление информации о данных семь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социального и психолого-педагогического обследования выявленных семей и детей, обследование их материально-бытовых условий прожи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условий для получения дошкольного образования детьми из выявленных сем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 помощи детям, имеющим психолого-педагогические проблемы, а также их родителям с целью профилактики безнадзорности и правонарушений среди несовершеннолетн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едрение в практику работы программ и методик, способствующих формированию законопослушного поведения несовершеннолетн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досуга и вовлечение в кружки, спортивные секции выявленных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межведомственных патронат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рмативно-правовая ба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Конвенция о правах ребё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Конституция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Семейный кодекс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Закон РФ от 24.06.1999 № 120-ФЗ "Об основах системы профилактики безнадзорности и правонарушений несовершеннолетних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Закон РФ от 04.12.1996 № 159-ФЗ "О дополнительных гарантиях по социальной поддержке детей-сирот и детей, оставшихся без попечения родителей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Закон РФ от 24.07.1998 № 124-ФЗ "Об основных гарантиях прав ребёнка в Российской Федерации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Закон Архангельской области от 15.12.09 № 113-9-ОЗ "Об отдельных мерах по защите нравственности и здоровья детей в Архангельской области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Постановление Правительства Архангельской области от 07.12.2010 N 373-пп "Об утверждении Положения о формировании, ведении и использовании единого областного банка данных о несовершеннолетних и семьях, находящихся в социально опасном положении, и Порядка взаимодействия органов и учреждений системы профилактики безнадзорности и правонарушений несовершеннолетних по выявлению, учету и организации индивидуальной профилактической работы в отношении несовершеннолетних и семей, находящихся в социально опасном положении, на территории Архангельской области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овершеннолетн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лицо, не достигшее возраста восемнадцати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знадзо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совершеннолетний, контроль за поведением которого, отсутствует вследствие неисполнения или ненадлежащего исполнения обязанностей по его воспитанию, обучению и (или) содержанию со стороны родителей или законных представителей либо должност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спризо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езнадзорный, не имеющий места жительства и (или)  места пребы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ти, находящиеся в трудной жизненной ситу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дети, оставшиеся без попечения родителей; дети, имеющие недостатки в психическом или физическом развитии; дети-жертвы вооруженных и межнациональных конфликтов, экологических и техногенных катастроф, стихийных бедствий; дети – жертвы насилия; дети находящиеся в специальных учебно-воспитательных учреждениях; дети жизнедеятельность которых объективно нарушена в результате сложившихся обстоятельств и которые не  могут преодолеть данные обстоятельства самостоятельно или с помощью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емья социального риска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новидность семьи, которая не соответствует своему назначению и не выполняет в достаточной степени своих функций, оказывается подвержена негативным воздействиям социальных факторов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акторами ри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условливающими особенности такого рода семей,  я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особенности ее структуры (неполная, малообеспеченные семьи, наличие в семье инвалидов или хронически больных лиц, нуждающихся в постоянном уходе, отбывающих уголовное наказание или недавно освободившихся и находящихся в процессе социальной адаптации, а также входящих в ту или иную группу социального риска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искаженный характер социального взаимодействия между членами семьи (отсутствие общих интересов и целей в общественной жизни и в быту, равнодушие и эмоциональное безразличие к другим членам семьи, моральная безответственность и взаимная ненадежность и недоверие, разобщенность и  отсутствие взаимопонимания и поддержки, грубость и жестокость по отношению к близким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ьи группы социального  рис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семьи, в которых родители не исполняют обязанностей по содержанию, воспитанию своих детей, ведут асоциальный образ жизни (не работают, употребляют наркотики, спиртные напитки), допускают жестокое обращение с детьми (физическое, психологическое, пренебрежение нуждам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ья, находящаяся в социально опасном по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семья, имеющая детей, где родители или иные законные представители несовершеннолетних не исполняют своих обязанностей по их воспитанию, обучению и (или) содержанию и (или) отрицательно влияют на их поведение либо жестоко обращаются с ни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илие над ребенком в семь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любые насильственные действия физического, психологического, сексуального, экономического характера, совершенные лицом или лицами,  которые связаны с жертвой семейными отношениями, включая словесные оскорбления, угрозы, запугивание, принуждение, побои, увечья, сексуальное насилие, а также попытки совершить такие действия. Жестокое обращение с ребенком со стороны родителей и других родственников является формой насилия в сем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окое обращение с деть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все многообразие действий или бездействий со стороны окружающих лиц, которые наносят вред физическому и психическому здоровью ребенка, его развитию и благополучию, а также ущемляют его права или свободы. Жестокое обращение с детьми может проявляться не только в форме физического или психического, сексуального насилия, но и в применении недопустимых способов воспитания, грубом, пренебрежительном, унижающем человеческое достоинство обращении с деть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0400" cy="68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рофилактика безнадзорности и правонарушений несовершеннолетними -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332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а социальных, правовых, педагогических и иных мер, направленных на выявление и устранение причин и условий, способствующих безнадзорности, беспризорности, правонарушениям и антиобщественным действиям несовершеннолетних, осуществляемых в совокупности с индивидуальной профилактической работой с несовершеннолетними и семьями, находящимися в социально опасном полож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видуальная профилактическая рабо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деятельность по своевременному выявлению несовершеннолетних и семей, находящихся в социально опасном положении, а также по их социально-педагогической реабилитации и (или) предупреждению совершения ими правонарушений и антиобщественных действ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Работа дошкольного учреждения по данному направлению строится в соответствии с п.2 ст.14 Закона РФ № 120-ФЗ «Об основах системы профилактики безнадзорности и правонарушений несовершеннолетних»: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Оказание социально-психологической и педагогической помощи несовершеннолетним с ограниченными возможностями здоровья и (или) отклонениями в поведении либо несовершеннолетним, имеющим проблемы в обуч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Выявление несовершеннолетних, находящихся в социально опасном положении, а также не посещающих или систематически пропускающих по неуважительным причинам занятия в ОУ, принятие мер по их воспитанию и получению ими дошко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Выявление семей, находящихся в социально опасном положении, и оказание им помощи в воспитании и обучении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Обеспечение организации в ОУ общедоступных спортивных секций, технических и иных кружков, клубов и привлечение к участию в них несовершеннолет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Осуществление мер по реализации программ и методик, направленных на формирование законопослушного поведения несовершеннолет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398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орядок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остановки неблагополучных семей на внутренний учет учреждения и проведения с данной категорией семей индивидуальной профилактической работы в соответствии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 пп. 7 п. 2 ст. 9 Закона РФ от 24.06.1999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 № 120-ФЗэ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АЛГОРИТМ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выявления детей из неблагополучных семей и постановки их на внутренний учет ДО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Заполнение анкет воспитателями групп с целью выявления воспитанников с отклонениями в развитии, поведении, выявления семей с признаками социального неблагополуч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Издание приказа заведующего ДОУ о постановке детей на внутренний уч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Подготовка воспитателями характеристик на воспитанников детского сада, поставленных на внутренний уч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Рассмотрение их на ПМПК ДОУ с участием воспитателей, специалистов ДОУ и медицинских работников – принятие решения о постановке или снятии с учета детей (согласно граф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Проведение индивидуальной профилактической работы с воспитанниками, поставленными на внутренний учет Д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Данные о количестве детей поставленных на внутренний учет указываются в социальном паспорте ДОУ и передаются в Департамент образования мэрии г.Архангель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ecff"/>
                </a:solidFill>
                <a:latin typeface="Arial"/>
              </a:rPr>
              <a:t>Основная цель:</a:t>
            </a:r>
            <a:br>
              <a:rPr sz="3900"/>
            </a:br>
            <a:endParaRPr b="0" lang="en-US" sz="3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предупреждение безнадзорности, беспризорности, правонарушений воспитанниками, выявление и устранение причин и условий, способствующих этому, а также обеспечение защиты прав и законных интересов несовершеннолет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Для достижения цели также организуются следующие виды рабо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Анализ фактической посещаемости воспитан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особое внимание обращать на пропуски по неуважительным причинам; в том числе рассмотрение вопроса посещаемости на административных совеща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анализ причин не поступления детей в соответствии с приказами департа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фиксация (докладные на имя заведующего ДОУ) наличия фактов телесных повреждений воспитанни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наличия фактов ненадлежащего исполнения родителями своих обязанностей, жестокого обращения с деть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правовое просвещение педагогов и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В целях профилактики жестокого обращения с детьми, информирования родителей (законных представителей) по вопросам решения проблем детей и семей, оказавшихся в трудной жизненной ситуации, в дошкольных образовательных учреждениях рекомендовано дополнительно разместить следующую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Уполномоченный при губернаторе АО по правам ребенка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Смирнова Ольга Леонидовна,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. Архангельск, пр. Троицкий, 49, 28-81-7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Уполномоченный по защите прав детей мэрии г. Архангельска,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Ильина Елена Борисовна,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. Архангельск, пл. Ленина, 5, 60-72-3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БСУ АО «Архангельский социально-реабилитационный центр для несовершеннолетних», г. Архангельск, ул. Воскресенская, 95,  65-85-17, 65-86-84. Наш сайт: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рцн.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Для детей и подростков и их родителей функционируют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общероссийский телефон доверия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– 8-800-2000-1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13-03-01T19:04:5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