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CA7-975F-4B86-A270-512F063E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A93-5DD7-4391-B500-2EA9E7AD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899-B2A5-4F49-AE8F-E29F7B91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34B-071C-4C6E-A5B1-E82C59F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60B-44F9-4D9A-B6A6-D03FFEC0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319-B872-48A5-AABC-56FDB78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1D27-1BF4-4163-8E86-36AEB36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0F8-2804-4B01-A966-0CD0F2A0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BB3A-B11A-408C-84A0-5725E001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D8BE-9E8A-4DA4-942C-3E31EB79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B72-C355-4B7D-9BF3-9923B8E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0A8-6CC6-47AC-AB27-E5750E9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D9F-2BF1-4599-B23F-0AF6CC0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899-192D-459A-AB98-EA808E9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088-BCEE-4EF2-B7D1-65002DE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726A-E71F-4C0D-94C5-BB9DC588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362-49B5-4B7B-BE6F-65DFB568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2D3D-7AB3-4D95-A011-548A3FA2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1AEE-E0AE-4205-9398-2338F551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21C7-444F-4EB8-B2A8-80473D15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CF40-26BB-46D8-B897-AEFEB934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8DF3-226A-4C2D-82B2-F24939A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128-6893-4572-819E-1BC4EB64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7DDE-C593-4A00-964D-9DF29F17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40F8-6BAE-4981-98B1-F54553D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0C84-E7E6-42AB-8BBE-5A19A82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CC77-38CC-4607-94ED-E89848A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1959-EB0A-4AF7-B112-2B3650F3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4237-B2AE-43E5-9569-53B7FBA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8A37-D06A-4651-8F1F-58834B48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D2EB-618E-47FA-A894-CCBDB0B6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E7A7-039E-49BA-B491-154AB98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4124-BAB1-429A-8745-EEE854AD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362-76F4-4453-9732-379E1AFB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3E5D-9C86-4B31-B1F8-1635070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B108-7A81-4095-8436-C13848D9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F0D5-DB81-4467-A0C0-41970B0A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413A5-857B-4A43-B836-4F1421E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3238-04A8-44FF-BC4A-9DA24DC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5935-EA0E-495C-9CE1-4402DE2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024C-A0B0-42AC-8D4E-D9FCAAA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93AB-E325-40AC-A246-8341B354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B1E4-B79B-4C33-98A6-D65E801D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D7B-8CAE-4943-B457-237AE70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3F0-E772-46AD-864A-585848F8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056-0F38-4C6A-9A25-61CC8D0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E16-35DB-4167-BACE-9B4CAE60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19B-CCE4-4BE0-B522-D50C068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B62-6B8D-4B3A-A42A-432A4E235F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ADD7-0B9C-4656-8FB0-E7A4145A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2D3-30FE-40F7-ADC3-9F18ADB6DC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2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F52-2307-43E3-BC24-4E4AD8427D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Garamond"/>
              </a:rPr>
              <a:t>Деятельность ДОУ по профилактике безнадзорности, предупреждению правонарушений несовершеннолетних и защите их прав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ff"/>
                </a:solidFill>
                <a:latin typeface="Garamond"/>
              </a:rPr>
              <a:t>2013 г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рганизация работы в ДОУ по защите прав несовершеннолетних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неблагополучия в семьях, и предоставление информации о данных семь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социального и психолого-педагогического обследования выявленных семей и детей, обследование их материально-бытовых условий прожи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для получения дошкольного образования детьми из выявленных сем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 помощи детям, имеющим психолого-педагогические проблемы, а также их родителям с целью профилактики безнадзорности и правонарушений среди несовершеннолетн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едрение в практику работы программ и методик, способствующих формированию законопослушного поведения несовершеннолетн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досуга и вовлечение в кружки, спортивные секции выявленных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межведомственных патронат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рмативно-правовая ба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Конвенция о правах ребё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Конституция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Семейный кодекс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РФ от 24.06.1999 № 120-ФЗ "Об основах системы профилактики безнадзорности и правонарушений несовершеннолетних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РФ от 04.12.1996 № 159-ФЗ "О дополнительных гарантиях по социальной поддержке детей-сирот и детей, оставшихся без попечения родителей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РФ от 24.07.1998 № 124-ФЗ "Об основных гарантиях прав ребёнка в Российской Федерации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 Закон Архангельской области от 15.12.09 № 113-9-ОЗ "Об отдельных мерах по защите нравственности и здоровья детей в Архангельской области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Постановление Правительства Архангельской области от 07.12.2010 N 373-пп "Об утверждении Положения о формировании, ведении и использовании единого областного банка данных о несовершеннолетних и семьях, находящихся в социально опасном положении, и Порядка взаимодействия органов и учреждений системы профилактики безнадзорности и правонарушений несовершеннолетних по выявлению, учету и организации индивидуальной профилактической работы в отношении несовершеннолетних и семей, находящихся в социально опасном положении, на территории Архангельской области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овершеннолетн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лицо, не достигшее возраста восемнадцати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надзо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совершеннолетний, контроль за поведением которого, отсутствует вследствие неисполнения или ненадлежащего исполнения обязанностей по его воспитанию, обучению и (или) содержанию со стороны родителей или законных представителей либо должност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спризо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езнадзорный, не имеющий места жительства и (или)  места пребы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, находящиеся в трудной жизненной ситу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дети, оставшиеся без попечения родителей; дети, имеющие недостатки в психическом или физическом развитии; дети-жертвы вооруженных и межнациональных конфликтов, экологических и техногенных катастроф, стихийных бедствий; дети – жертвы насилия; дети находящиеся в специальных учебно-воспитательных учреждениях; дети жизнедеятельность которых объективно нарушена в результате сложившихся обстоятельств и которые не  могут преодолеть данные обстоятельства самостоятельно или с помощью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емья социального риска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новидность семьи, которая не соответствует своему назначению и не выполняет в достаточной степени своих функций, оказывается подвержена негативным воздействиям социальных факторов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акторами р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условливающими особенности такого рода семей,  я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особенности ее структуры (неполная, малообеспеченные семьи, наличие в семье инвалидов или хронически больных лиц, нуждающихся в постоянном уходе, отбывающих уголовное наказание или недавно освободившихся и находящихся в процессе социальной адаптации, а также входящих в ту или иную группу социального риска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искаженный характер социального взаимодействия между членами семьи (отсутствие общих интересов и целей в общественной жизни и в быту, равнодушие и эмоциональное безразличие к другим членам семьи, моральная безответственность и взаимная ненадежность и недоверие, разобщенность и  отсутствие взаимопонимания и поддержки, грубость и жестокость по отношению к близким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ьи группы социального  рис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семьи, в которых родители не исполняют обязанностей по содержанию, воспитанию своих детей, ведут асоциальный образ жизни (не работают, употребляют наркотики, спиртные напитки), допускают жестокое обращение с детьми (физическое, психологическое, пренебрежение нужда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ья, находящаяся в социально опасном по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семья, имеющая детей, где родители или иные законные представители несовершеннолетних не исполняют своих обязанностей по их воспитанию, обучению и (или) содержанию и (или) отрицательно влияют на их поведение либо жестоко обращаются с н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илие над ребенком в семь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любые насильственные действия физического, психологического, сексуального, экономического характера, совершенные лицом или лицами,  которые связаны с жертвой семейными отношениями, включая словесные оскорбления, угрозы, запугивание, принуждение, побои, увечья, сексуальное насилие, а также попытки совершить такие действия. Жестокое обращение с ребенком со стороны родителей и других родственников является формой насилия в сем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окое обращение с деть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все многообразие действий или бездействий со стороны окружающих лиц, которые наносят вред физическому и психическому здоровью ребенка, его развитию и благополучию, а также ущемляют его права или свободы. Жестокое обращение с детьми может проявляться не только в форме физического или психического, сексуального насилия, но и в применении недопустимых способов воспитания, грубом, пренебрежительном, унижающем человеческое достоинство обращении с дет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0400" cy="68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филактика безнадзорности и правонарушений несовершеннолетними 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332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 социальных, правовых, педагогических и иных мер, направленных на выявление и устранение причин и условий, способствующих безнадзорности, беспризорности, правонарушениям и антиобщественным действиям несовершеннолетних, осуществляемых в совокупности с индивидуальной профилактической работой с несовершеннолетними и семьями, находящимися в социально опасном полож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видуальная профилактическая рабо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деятельность по своевременному выявлению несовершеннолетних и семей, находящихся в социально опасном положении, а также по их социально-педагогической реабилитации и (или) предупреждению совершения ими правонарушений и антиобщественных действ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Работа дошкольного учреждения по данному направлению строится в соответствии с п.2 ст.14 Закона РФ № 120-ФЗ «Об основах системы профилактики безнадзорности и правонарушений несовершеннолетних»: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казание социально-психологической и педагогической помощи несовершеннолетним с ограниченными возможностями здоровья и (или) отклонениями в поведении либо несовершеннолетним, имеющим проблемы в обуч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Выявление несовершеннолетних, находящихся в социально опасном положении, а также не посещающих или систематически пропускающих по неуважительным причинам занятия в ОУ, принятие мер по их воспитанию и получению ими дошко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Выявление семей, находящихся в социально опасном положении, и оказание им помощи в воспитании и обучении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беспечение организации в ОУ общедоступных спортивных секций, технических и иных кружков, клубов и привлечение к участию в них несовершеннолет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существление мер по реализации программ и методик, направленных на формирование законопослушного поведения несовершеннолет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39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орядок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остановки неблагополучных семей на внутренний учет учреждения и проведения с данной категорией семей индивидуальной профилактической работы в соответствии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 пп. 7 п. 2 ст. 9 Закона РФ от 24.06.1999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№ 120-ФЗэ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АЛГОРИТМ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выявления детей из неблагополучных семей и постановки их на внутренний учет ДО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Заполнение анкет воспитателями групп с целью выявления воспитанников с отклонениями в развитии, поведении, выявления семей с признаками социального неблагополуч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Издание приказа заведующего ДОУ о постановке детей на внутренний уч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Подготовка воспитателями характеристик на воспитанников детского сада, поставленных на внутренний уч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Рассмотрение их на ПМПК ДОУ с участием воспитателей, специалистов ДОУ и медицинских работников – принятие решения о постановке или снятии с учета детей (согласно граф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Проведение индивидуальной профилактической работы с воспитанниками, поставленными на внутренний учет 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Данные о количестве детей поставленных на внутренний учет указываются в социальном паспорте ДОУ и передаются в Департамент образования мэрии г.Архангель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ecff"/>
                </a:solidFill>
                <a:latin typeface="Arial"/>
              </a:rPr>
              <a:t>Основная цель:</a:t>
            </a:r>
            <a:br>
              <a:rPr sz="3900"/>
            </a:br>
            <a:endParaRPr b="0" lang="en-US" sz="3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предупреждение безнадзорности, беспризорности, правонарушений воспитанниками, выявление и устранение причин и условий, способствующих этому, а также обеспечение защиты прав и законных интересов несовершеннолет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Для достижения цели также организуются следующие виды рабо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Анализ фактической посещаемости воспитан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особое внимание обращать на пропуски по неуважительным причинам; в том числе рассмотрение вопроса посещаемости на административных совеща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анализ причин не поступления детей в соответствии с приказами департа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фиксация (докладные на имя заведующего ДОУ) наличия фактов телесных повреждений воспитанни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наличия фактов ненадлежащего исполнения родителями своих обязанностей, жестокого обращения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правовое просвещение педагогов и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В целях профилактики жестокого обращения с детьми, информирования родителей (законных представителей) по вопросам решения проблем детей и семей, оказавшихся в трудной жизненной ситуации, в дошкольных образовательных учреждениях рекомендовано дополнительно разместить следующую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Уполномоченный при губернаторе АО по правам ребенка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Смирнова Ольга Леонидовна,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. Архангельск, пр. Троицкий, 49, 28-81-7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Уполномоченный по защите прав детей мэрии г. Архангельска,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Ильина Елена Борисовна,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. Архангельск, пл. Ленина, 5, 60-72-3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БСУ АО «Архангельский социально-реабилитационный центр для несовершеннолетних», г. Архангельск, ул. Воскресенская, 95,  65-85-17, 65-86-84. Наш сайт: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рцн.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Для детей и подростков и их родителей функционируют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общероссийский телефон доверия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– 8-800-2000-1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3-03-01T19:04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