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AF3-0613-4BA0-BD76-35284DBC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6DE-7B2A-4D67-9C65-FD1313F9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CCE-2E3A-48A1-B407-1E6160DF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298-2867-4357-B0F2-4A390751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E409-C5F5-4D2A-9420-B24394D2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E352-A44C-4B1B-91CC-81BA5CCF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71A-86ED-4888-94F0-DC13B5A3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DBA-B694-4D26-9B66-58C72FAC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287C-A460-4DC5-A07A-EDCBC510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7177-C0E1-4F00-A414-DEA0F145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7F1-6076-4116-8F00-D44181C2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AC6-CE67-490A-8DDD-21C43F47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98B6-5246-472B-A606-FC99997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6157-0661-4DB0-988D-7306992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7B3A-B7DD-401F-8E6A-B27F735E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3CF1-B343-4E9A-A760-2406F279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9A31-CDAC-483C-AAB4-B02C4409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567-8031-4DC4-A52D-65455B8D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82F-64C2-4635-AAFD-C8569A55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5F1-3ECF-490B-B5AD-D42CA08D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F02-56CC-4D19-98A3-5F3FC2BF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8ED-ABFA-45F5-BBC7-344B50F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033-6512-47CF-8539-FDD6B6A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A0D-21E2-4A46-BD98-163FED1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8D9-A9C9-45BF-952F-23FD6EDE89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75E-FE63-49C6-9878-935A8ABCE5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Arial"/>
              </a:rPr>
              <a:t>Диагностические метод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ы для работы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7720" y="382320"/>
            <a:ext cx="74772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Обработка полученных результатов (социоматрица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30320" y="1712880"/>
          <a:ext cx="7332480" cy="4105440"/>
        </p:xfrm>
        <a:graphic>
          <a:graphicData uri="http://schemas.openxmlformats.org/drawingml/2006/table">
            <a:tbl>
              <a:tblPr/>
              <a:tblGrid>
                <a:gridCol w="1808280"/>
                <a:gridCol w="691920"/>
                <a:gridCol w="690480"/>
                <a:gridCol w="692280"/>
                <a:gridCol w="689040"/>
                <a:gridCol w="690480"/>
                <a:gridCol w="689040"/>
                <a:gridCol w="689040"/>
                <a:gridCol w="69192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ю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выборов (рейтинг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5880" y="122400"/>
            <a:ext cx="74851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Интерпретация полученных результатов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ые рейтинги покажут вам в наиболее общем виде картину межличностных отношений в коллективе. Анализируя их можно сделать вывод о наличии в н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ид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авторитетных школьников, имеющих заметно более высокие рейтинги (в нашем случае это школьники Б и 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ядов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ленов коллектива, которые поддерживают в целом неплохие отношения с большинством членов коллектива – они имеют средние рейтинги (в нашем случае это школьники А, Е и Ж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диноч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поддерживает хорошие отношения с очень узким кругом своих одноклассников или только друг с другом – они имеют невысокие рейтинги (в нашем случае это школьники В, Д и З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верже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сть тех, кто не принят в коллективе – они, как правило, имеют нулевой рейтинг или рейтинг в 1-2 б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оанализировать взаимные выборы членов коллектива и выявить совпадения выборов друг друга теми или иными школьниками, то можно получить представление о дружеских отношениях и личных взаимных симпатиях в коллективе. Например, в нашем случае такой вывод можно сделать о школьниках А и Б, Б и Г, В и Д – они всегда называли фамилии друг друга в ответах на все предложенные им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пись </a:t>
            </a:r>
            <a:r>
              <a:rPr b="1" lang="ru-RU" sz="2900" spc="-1" strike="noStrike">
                <a:solidFill>
                  <a:srgbClr val="330066"/>
                </a:solidFill>
                <a:latin typeface="Arial"/>
              </a:rPr>
              <a:t>(А.Н. Лутошкин)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1790640"/>
          <a:ext cx="7775280" cy="4302000"/>
        </p:xfrm>
        <a:graphic>
          <a:graphicData uri="http://schemas.openxmlformats.org/drawingml/2006/table">
            <a:tbl>
              <a:tblPr/>
              <a:tblGrid>
                <a:gridCol w="3166920"/>
                <a:gridCol w="1297080"/>
                <a:gridCol w="331128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е настро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оение коллекти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прич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000" y="1719000"/>
            <a:ext cx="8002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Методика отслеживания эмоционального состояния ребён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жалуйста, не спеши, остановись, подумай, ответь, как прожит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повлияло на твоё настроение сегод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ние здоров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с педагог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е с ребятами в клас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ка в клас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л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хи, конфликты, сплетни в клас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ска по д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л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692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Цветопись </a:t>
            </a: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(А.Н. Луто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Диагностические</a:t>
            </a:r>
            <a:br>
              <a:rPr sz="3700"/>
            </a:b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игры и упражнения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71900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Цветик-семицветик» (направленность желаний, единство ценносте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Забор мнений» (эмоциональное состояние в отряд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пилка хороших поступков» (три хороших поступ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рабль среди скал» (корабль, капитан, скал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Хвасталки» (преодоление застенчивости, радость успехам друг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122400"/>
            <a:ext cx="674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Диагностические мет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циомет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Требования к методик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остота и доступность для педагогов и учащих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епродолжительность процедуры по времен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аличие элементов занимательности (игровые форм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0" y="136440"/>
            <a:ext cx="7131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облюдение этических н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щита интересов и благополучия подростков: принцип добровольности, сообщение целей из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ры предосторожности в исследованиях: принцип «не навред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сихологический диагноз подростка, навешивание ярлы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глашение результатов диагнос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6520" y="124920"/>
            <a:ext cx="740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Ситуации для наблюдения: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 организация жизни в классе, классные и школьные дела и подготовка к ним, обобщение детьми приобретенного опыта и т.д.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703520"/>
          <a:ext cx="7632720" cy="44622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атство собираемых сведений (анализ разнообразной информации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ость услови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о использование технических средст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без соглас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о (результаты зависят от опыта, квалификации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озможно контролировать ситуацию, вмешиваться в ход событий без их искажений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занимает много време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Анкетир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4360" y="1600200"/>
          <a:ext cx="8002440" cy="4791240"/>
        </p:xfrm>
        <a:graphic>
          <a:graphicData uri="http://schemas.openxmlformats.org/drawingml/2006/table">
            <a:tbl>
              <a:tblPr/>
              <a:tblGrid>
                <a:gridCol w="4003560"/>
                <a:gridCol w="39988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Ю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оперативность получения информ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массовости обслед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о малая трудоемкость процедур подготовки, проведения и обрабо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лияния на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раженность субъективного пристрастия к кому-либо из отвечающ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возможности изменять порядок и формулировку вопросов в зависимости от поведения опрашиваемы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верность зависит от уровня доверия и мотивов опрашиваемых (приукрашивание, сознательное зани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Анкетир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нкета 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рогие ребята! Просим вас ответить на предложенные вопросы нашей анке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ня зовут (Ф. И. О.)________________________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не нравится, когда меня называют (указать)____________________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акой Я (написать прилагательные, которые меня характеризуют) ________________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свободное время я увлекаюсь: танцами, литературой, прикладным творчеством, музыкой, пением, спортом, театром, туризмом, рисованием, журналистикой, свой вариант________________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и ожидания от школы (отметить выбранные варианты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) получить новые знания о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) лучше понять и узнать себ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) познакомиться с новыми людь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) беспечно провести врем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) попробовать себя в самостоятельной жизн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е) что-то ещё (указать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своих сверстниках я ценю больше всего (отметь 3 наиболее важных для тебя качества). Честность, взаимоуважение, решительность, взаимопомощь, чувство юмора, общительность, интеллект, внешние данные, сильный характер, аккуратность, достоинство, благородство поступков, инициативность, целеустремленность, ответственнос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Уровень психологической комфортности 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пребывания ребенка в группе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2854440" cy="2579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42920" y="443700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- высокий уровень, максимум комфо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- легки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весьма ощутимый дискомф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- низкий уровень, максимум дискомф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циометр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719000"/>
            <a:ext cx="8002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нкета, которую мы предлагаем тебе заполнить, поможет улучшить отношения в вашем отряде, сделать его дружнее и сплоченнее. Ответь, пожалуйста, на следующие вопросы: их всего тр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едставь, что ваш отряд отправляется в самостоятельное и нелегкое путешествие. Кого бы ты хотел видеть командиром вашей группы?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Если бы вашему отряду пришлось участвовать в дружинном деле, кого бы ты хотел видеть координатором этой подготовки?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Кого из отряда ты бы пригласил к себе на вечеринку, день рождения или просто в гости?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 каждого вопроса напиши по три фамилии тех ребят в отряде, которые соответствуют твоему выбору. Обязательно подпиши свою анкету. Спасибо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1:41:05Z</dcterms:created>
  <dc:creator>zadorin_ks</dc:creator>
  <dc:description/>
  <dc:language>en-US</dc:language>
  <cp:lastModifiedBy>zadorin_ks</cp:lastModifiedBy>
  <dcterms:modified xsi:type="dcterms:W3CDTF">2009-09-24T08:00:10Z</dcterms:modified>
  <cp:revision>11</cp:revision>
  <dc:subject/>
  <dc:title>Диагностические методы</dc:title>
</cp:coreProperties>
</file>