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1B73-7067-450B-87C9-49089F44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3C3A-9DE3-443C-A15E-E296558F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686C-56C7-4BEC-BAC9-02F521675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F880-6E13-4B5E-AA61-D39B08934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B8E7-AC51-4A68-8919-1AF85FD23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7F3E-A2FC-4803-88E1-980C81CB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599D-3255-4AE1-8B9F-60B79372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A9DE-AEA1-472E-81AD-8261F893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B77E-C97D-4F0A-A476-EA19E179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7793-3E15-4288-8295-37B3AA06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8178-3131-4272-8985-2AE41036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F125-CBDB-4FFA-BB57-CA891A5B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4E17-AB58-4C15-91B4-FBE35292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D0A1-6A38-4521-94F3-3B5D6B9D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6C74-3227-47FF-A658-F731D47C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0A1F-DD7C-43A7-8A69-0CF113DB2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434A-FEE3-4998-BB8F-D4E531E65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C5D0-3B00-42E5-9EA6-E3A9F5C7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0D9D-BDF0-4038-9EF0-C32EE40A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6050-E5A0-4668-A262-1A775063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9A44-9CE4-400D-B44D-3B6BE9E1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0DC2-DE37-4A35-A234-58687FAE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26C8-16BE-49E3-9CF3-40911039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4C7F-DE66-49F7-AD29-9E0103C7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E209-943D-490F-B209-754B57B6184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2160-2860-47D1-8829-A7979061ADB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66"/>
                </a:solidFill>
                <a:latin typeface="Arial"/>
              </a:rPr>
              <a:t>Диагностические методы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териалы для работы педаг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77720" y="382320"/>
            <a:ext cx="74772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Обработка полученных результатов (социоматрица)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030320" y="1712880"/>
          <a:ext cx="7332480" cy="4105440"/>
        </p:xfrm>
        <a:graphic>
          <a:graphicData uri="http://schemas.openxmlformats.org/drawingml/2006/table">
            <a:tbl>
              <a:tblPr/>
              <a:tblGrid>
                <a:gridCol w="1808280"/>
                <a:gridCol w="691920"/>
                <a:gridCol w="690480"/>
                <a:gridCol w="692280"/>
                <a:gridCol w="689040"/>
                <a:gridCol w="690480"/>
                <a:gridCol w="689040"/>
                <a:gridCol w="689040"/>
                <a:gridCol w="691920"/>
              </a:tblGrid>
              <a:tr h="100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о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ираю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ирае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.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.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.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.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.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.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..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.................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.................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.................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.................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.................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..................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.................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....................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число выборов (рейтинг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15880" y="122400"/>
            <a:ext cx="748512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rial"/>
              </a:rPr>
              <a:t>Интерпретация полученных результатов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024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ученные рейтинги покажут вам в наиболее общем виде картину межличностных отношений в коллективе. Анализируя их можно сделать вывод о наличии в н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лидер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авторитетных школьников, имеющих заметно более высокие рейтинги (в нашем случае это школьники Б и Г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рядовы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членов коллектива, которые поддерживают в целом неплохие отношения с большинством членов коллектива – они имеют средние рейтинги (в нашем случае это школьники А, Е и Ж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одиноче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то есть тех, кто поддерживает хорошие отношения с очень узким кругом своих одноклассников или только друг с другом – они имеют невысокие рейтинги (в нашем случае это школьники В, Д и З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отверженны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то есть тех, кто не принят в коллективе – они, как правило, имеют нулевой рейтинг или рейтинг в 1-2 бал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проанализировать взаимные выборы членов коллектива и выявить совпадения выборов друг друга теми или иными школьниками, то можно получить представление о дружеских отношениях и личных взаимных симпатиях в коллективе. Например, в нашем случае такой вывод можно сделать о школьниках А и Б, Б и Г, В и Д – они всегда называли фамилии друг друга в ответах на все предложенные им вопро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Цветопись </a:t>
            </a:r>
            <a:r>
              <a:rPr b="1" lang="ru-RU" sz="2900" spc="-1" strike="noStrike">
                <a:solidFill>
                  <a:srgbClr val="330066"/>
                </a:solidFill>
                <a:latin typeface="Arial"/>
              </a:rPr>
              <a:t>(А.Н. Лутошкин)</a:t>
            </a: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84360" y="1790640"/>
          <a:ext cx="7775280" cy="4302000"/>
        </p:xfrm>
        <a:graphic>
          <a:graphicData uri="http://schemas.openxmlformats.org/drawingml/2006/table">
            <a:tbl>
              <a:tblPr/>
              <a:tblGrid>
                <a:gridCol w="3166920"/>
                <a:gridCol w="1297080"/>
                <a:gridCol w="331128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е настроени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троение коллектив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/ причин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4000" y="1719000"/>
            <a:ext cx="80024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Методика отслеживания эмоционального состояния ребёнк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жалуйста, не спеши, остановись, подумай, ответь, как прожит де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 повлияло на твоё настроение сегодн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тояние здоровь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ношения с педагога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ношение с ребятами в класс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го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ука в класс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ало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ухи, конфликты, сплетни в класс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ска по дом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чень лич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42920" y="69228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66"/>
                </a:solidFill>
                <a:latin typeface="Arial"/>
              </a:rPr>
              <a:t>Цветопись </a:t>
            </a:r>
            <a:r>
              <a:rPr b="0" lang="ru-RU" sz="2000" spc="-1" strike="noStrike">
                <a:solidFill>
                  <a:srgbClr val="330066"/>
                </a:solidFill>
                <a:latin typeface="Arial"/>
              </a:rPr>
              <a:t>(А.Н. Лутошк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0066"/>
                </a:solidFill>
                <a:latin typeface="Arial"/>
              </a:rPr>
              <a:t>Диагностические</a:t>
            </a:r>
            <a:br>
              <a:rPr sz="3700"/>
            </a:br>
            <a:r>
              <a:rPr b="1" lang="en-US" sz="3700" spc="-1" strike="noStrike">
                <a:solidFill>
                  <a:srgbClr val="330066"/>
                </a:solidFill>
                <a:latin typeface="Arial"/>
              </a:rPr>
              <a:t>игры и упражнения</a:t>
            </a:r>
            <a:endParaRPr b="1" lang="en-US" sz="3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1719000"/>
            <a:ext cx="807732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Цветик-семицветик» (направленность желаний, единство ценностей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Забор мнений» (эмоциональное состояние в отряд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Копилка хороших поступков» (три хороших поступк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Корабль среди скал» (корабль, капитан, скалы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Хвасталки» (преодоление застенчивости, радость успехам других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920" y="122400"/>
            <a:ext cx="6742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Диагностические метод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58560" y="1719360"/>
            <a:ext cx="7427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Наблюд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Анкетиро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Бесе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Социометр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Требования к методикам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Простота и доступность для педагогов и учащихс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Непродолжительность процедуры по времен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Наличие элементов занимательности (игровые формы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3200" y="136440"/>
            <a:ext cx="71312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Соблюдение этических нор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28036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Защита интересов и благополучия подростков: принцип добровольности, сообщение целей изуч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еры предосторожности в исследованиях: принцип «не навреди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сихологический диагноз подростка, навешивание ярлык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зглашение результатов диагност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6520" y="124920"/>
            <a:ext cx="74041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66"/>
                </a:solidFill>
                <a:latin typeface="Arial"/>
              </a:rPr>
              <a:t>Ситуации для наблюдения:</a:t>
            </a:r>
            <a:r>
              <a:rPr b="0" lang="en-US" sz="1900" spc="-1" strike="noStrike">
                <a:solidFill>
                  <a:srgbClr val="330066"/>
                </a:solidFill>
                <a:latin typeface="Arial"/>
              </a:rPr>
              <a:t> организация жизни в классе, классные и школьные дела и подготовка к ним, обобщение детьми приобретенного опыта и т.д.</a:t>
            </a: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826920" y="1703520"/>
          <a:ext cx="7632720" cy="4462200"/>
        </p:xfrm>
        <a:graphic>
          <a:graphicData uri="http://schemas.openxmlformats.org/drawingml/2006/table">
            <a:tbl>
              <a:tblPr/>
              <a:tblGrid>
                <a:gridCol w="3816360"/>
                <a:gridCol w="381636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ЮС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УС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гатство собираемых сведений (анализ разнообразной информации)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ественность условий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стимо использование технических средств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ся без согласия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ъективно (результаты зависят от опыта, квалификации)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возможно контролировать ситуацию, вмешиваться в ход событий без их искажений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 занимает много времен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Анкетиров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84360" y="1600200"/>
          <a:ext cx="8002440" cy="4791240"/>
        </p:xfrm>
        <a:graphic>
          <a:graphicData uri="http://schemas.openxmlformats.org/drawingml/2006/table">
            <a:tbl>
              <a:tblPr/>
              <a:tblGrid>
                <a:gridCol w="4003560"/>
                <a:gridCol w="399888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Ю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У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ая оперативность получения информац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можность массовости обследова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авнительно малая трудоемкость процедур подготовки, проведения и обработк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вие влияния на опрашиваемых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выраженность субъективного пристрастия к кому-либо из отвечающих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вие возможности изменять порядок и формулировку вопросов в зависимости от поведения опрашиваемых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оверность зависит от уровня доверия и мотивов опрашиваемых (приукрашивание, сознательное занижени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Анкетиров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79200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Анкета 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Дорогие ребята! Просим вас ответить на предложенные вопросы нашей анкет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ня зовут (Ф. И. О.)________________________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не нравится, когда меня называют (указать)____________________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Какой Я (написать прилагательные, которые меня характеризуют) ________________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В свободное время я увлекаюсь: танцами, литературой, прикладным творчеством, музыкой, пением, спортом, театром, туризмом, рисованием, журналистикой, свой вариант________________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ои ожидания от школы (отметить выбранные варианты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а) получить новые знания о 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б) лучше понять и узнать себя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в) познакомиться с новыми людьми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г) беспечно провести время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д) попробовать себя в самостоятельной жизни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е) что-то ещё (указать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В своих сверстниках я ценю больше всего (отметь 3 наиболее важных для тебя качества). Честность, взаимоуважение, решительность, взаимопомощь, чувство юмора, общительность, интеллект, внешние данные, сильный характер, аккуратность, достоинство, благородство поступков, инициативность, целеустремленность, ответственност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Уровень психологической комфортности 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пребывания ребенка в группе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2854440" cy="2579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042920" y="4437000"/>
            <a:ext cx="576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- высокий уровень, максимум комфор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- легкий дискомф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- 50/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- весьма ощутимый дискомф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 - низкий уровень, максимум дискомфо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Социометр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000" y="1719000"/>
            <a:ext cx="80024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росный л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Анкета, которую мы предлагаем тебе заполнить, поможет улучшить отношения в вашем отряде, сделать его дружнее и сплоченнее. Ответь, пожалуйста, на следующие вопросы: их всего тр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Представь, что ваш отряд отправляется в самостоятельное и нелегкое путешествие. Кого бы ты хотел видеть командиром вашей группы?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Если бы вашему отряду пришлось участвовать в дружинном деле, кого бы ты хотел видеть координатором этой подготовки?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Кого из отряда ты бы пригласил к себе на вечеринку, день рождения или просто в гости?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осле каждого вопроса напиши по три фамилии тех ребят в отряде, которые соответствуют твоему выбору. Обязательно подпиши свою анкету. Спасибо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1:41:05Z</dcterms:created>
  <dc:creator>zadorin_ks</dc:creator>
  <dc:description/>
  <dc:language>en-US</dc:language>
  <cp:lastModifiedBy>zadorin_ks</cp:lastModifiedBy>
  <dcterms:modified xsi:type="dcterms:W3CDTF">2009-09-24T08:00:10Z</dcterms:modified>
  <cp:revision>11</cp:revision>
  <dc:subject/>
  <dc:title>Диагностические методы</dc:title>
</cp:coreProperties>
</file>