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6BC-D046-4694-890E-4667B116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65D9-6CF1-4EDD-B72B-161FF536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03B-31AB-4A01-9450-FAC63CAC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2E7-23F6-47F2-8B46-876697D6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6D2-864D-4A3C-A0C9-85406D86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552-F8EB-46F5-BC9C-40E6D13D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884-9B21-4BD5-A330-9DE19F59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D81-1938-43E3-A935-4CF5DE9B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F30-1E98-4E71-A46E-90967325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CCAE-E714-4E94-9F54-63A2108A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A71-9544-4F78-8FE4-22250C8C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33D-31A9-4D86-9B92-D684B258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B133-3FC3-40A1-A2F1-B22C842014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агностика личностного ро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материалам раб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епанова П.В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игорьева Д.В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лешовой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нципы диагностического опросника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содержащиеся в опроснике утверждения должны побуждать подростка демонстрировать свое отношение к миру, к другим людям, к самому себ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формулировки высказываний должны быть понятными для школьников и восприниматься ими однозначн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текст опросника должен быть составлен таким образом, чтобы избежать возможного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онформног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ведения школьников, попыток «угадать» ответ, «правильно» отнестись к тому или иному тезису. Для этого подросткам необходимо предоставить право анонимного заполнения анке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тезисы опросника должны быть сформулированы так, чтобы тот или иной отв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глядел в глазах школьника заведомо общественно одобряем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ципы проведения диагностики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одится в условиях стаби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верие к проводящему диагност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сть выбора аноним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раниченное время на ответ (30 ми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ы-переверты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затель диагностики – не есть результат только деятельности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льзя проводить часто (дважды в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делать с результатами диагностики?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ботать и систематиз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1916280"/>
          <a:ext cx="7920000" cy="4144680"/>
        </p:xfrm>
        <a:graphic>
          <a:graphicData uri="http://schemas.openxmlformats.org/drawingml/2006/table">
            <a:tbl>
              <a:tblPr/>
              <a:tblGrid>
                <a:gridCol w="3960720"/>
                <a:gridCol w="3959280"/>
              </a:tblGrid>
              <a:tr h="90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 8. Характер отношений школьник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иным люд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ойчиво-негати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школь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туативно-негати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 школь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туативно-позити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% школь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ойчиво-позити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 школь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дают результаты диагност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ы как минимум двух опросов дадут представление о динамике личностного роста, об успешности реализуемой вами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ение о наиболее проблемных аспектах воспитанности шк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анализ - цель - планиров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сштабы той или иной проблемы (% соотнош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дний вопрос может дать представление о влиянии именно школы на личностное развитие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етодика изучения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ровня развития детского коллекти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ой у нас коллектив» (А.Н. Лутош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зное описание стадий развития коллект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 ступень. «Песчаная россып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ступень. «Мягкая гл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ступен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Мерцающий мая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ступен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Алый пару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ступен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Горящий факе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ботка полученных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и ответов школьников педагог может определить по пятибалльной шкале (соответствующей пяти ступеням развития коллектива) степень их удовлетворенности своим классным коллективом, узнать, как оценивают школьники его спаянность, единство в достижении общественно значимых ц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циометрическое изучение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ежличностных отношений в детском коллекти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осный 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нкета, которую мы предлагаем тебе заполнить, поможет улучшить отношения между школьниками в вашем коллективе, сделать его дружнее и сплоченнее. Ответь, пожалуйста, на следующие вопросы: их всего тр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Представь, что ваш класс отправляется в самостоятельное и нелегкое путешествие. Кого бы ты хотел видеть командиром вашей группы?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Если бы вашему классу пришлось участвовать в школьной олимпиаде по учебным предметам, кого бы ты хотел видеть капитаном этой команды?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Кого из класса ты бы пригласил к себе на вечеринку, день рождения или просто в гости?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ле каждого вопроса напиши по три фамилии тех своих одноклассников, которые соответствуют твоему выбору. Обязательно подпиши свою анкету. Спасиб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ботка полученных результат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68440" y="264960"/>
            <a:ext cx="1419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765000"/>
            <a:ext cx="144288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47640" y="620640"/>
          <a:ext cx="6767640" cy="5844960"/>
        </p:xfrm>
        <a:graphic>
          <a:graphicData uri="http://schemas.openxmlformats.org/drawingml/2006/table">
            <a:tbl>
              <a:tblPr/>
              <a:tblGrid>
                <a:gridCol w="1670040"/>
                <a:gridCol w="636480"/>
                <a:gridCol w="638280"/>
                <a:gridCol w="638280"/>
                <a:gridCol w="636480"/>
                <a:gridCol w="638280"/>
                <a:gridCol w="635040"/>
                <a:gridCol w="637920"/>
                <a:gridCol w="6368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...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выборов (рейтин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нтерпретация полученных результат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ченные рейтинги покажут вам в наиболее общем виде картину межличностных отношений в коллективе. Анализируя их можно сделать вывод о наличии в н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иде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авторитетных школьников, имеющих заметно более высокие рейтинги (в нашем случае это школьники Б и 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ядов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членов коллектива, которые поддерживают в целом неплохие отношения с большинством членов коллектива – они имеют средние рейтинги (в нашем случае это школьники А, Е и Ж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диноч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 есть тех, кто поддерживает хорошие отношения с очень узким кругом своих одноклассников или только друг с другом – они имеют невысокие рейтинги (в нашем случае это школьники В, Д и 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рженн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 есть тех, кто не принят в коллективе – они, как правило, имеют нулевой рейтинг или рейтинг в 1-2 бал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проанализировать взаимные выборы членов коллектива и выявить совпадения выборов друг друга теми или иными школьниками, то можно получить представление о дружеских отношениях и личных взаимных симпатиях в коллективе. Например, в нашем случае такой вывод можно сделать о школьниках А и Б, Б и Г, В и Д – они всегда называли фамилии друг друга в ответах на все предложенные им вопро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Экспертная оценка использования воспитательного потенциала совместной деятельности школьников и педагог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очники информации (наблюдение за деятельностью педагогов, собеседование, анализ планов или программ организации воспитательного процесс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 воспитательный аспект проводимых дел. Действительно ли они воспитывающие или направлены только на то, чтобы научить чему-то, выполнить работу, победить, заполнить досуг и т.д.? Тенденция сводить воспитательный процесс в основном к классным час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епень участия и самостоятельности школьников в планировании, подготовке, проведении и анализе тех или иных дел (детское самоуправлени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ругие предметы мониторинг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сса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ессиональная позиция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ационные условия, обеспечивающие эффективность процесса воспит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ериально-техническое осна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омплектованность квалифицированными кад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метно-эстет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ятельность детских объединений и органов само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ное обеспечение процесса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920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человек, свободно и ответственно определяющий свое отношение к миру, к людям, к самому се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335736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Личностный рос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витие гуманистических ценностных отношений личности к миру, к людям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 самому се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уманистические ц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907920"/>
          <a:ext cx="8569440" cy="5180040"/>
        </p:xfrm>
        <a:graphic>
          <a:graphicData uri="http://schemas.openxmlformats.org/drawingml/2006/table">
            <a:tbl>
              <a:tblPr/>
              <a:tblGrid>
                <a:gridCol w="1585800"/>
                <a:gridCol w="3311640"/>
                <a:gridCol w="3672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 отно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остное отношение (признаки личностного рос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ценностное отношение (признаки личностного регресс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ажение семейных традиций, гордость за свой 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норирование ответственности за продолжение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е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жданственность, патриот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вательство, иждивен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вь к природе, бережное отношение к ее богатств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ьское отно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отворчество, пациф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итариз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любие, твор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ллигент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культурье, хамство и вандал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знате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еж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549360"/>
          <a:ext cx="8229600" cy="5124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лю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акие же, как Я са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манность, милосерд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ок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ые лю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е такие, как 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ерант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ионализм, рас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- телес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та о своем здоровье, стремление вести здоровый образ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трастие к вредным привычкам и постепенное разрушение органи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- душе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принятие и душевное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кс неполноце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- духо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бода, включающая самостоятельность, самоопределение, самореализацию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ращение личности в «социальную пешк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описания личностного роста необходим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2421000"/>
            <a:ext cx="7570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арактеристика ценностны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а устойчивости данных отнош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ипы отнош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итуативн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тнош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зменчивость и детерминированность конкретной жизненной ситуаци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стойчив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тнош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сознанные, отрефлексированные отношения фиксируются в пози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зыблем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тнош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стоянство, характерное для фанатиков или подвижни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иагностика личностного ро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7931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осный лист для учащихся 9 – 11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ам будет предложен ряд высказываний. Пожалуйста, прочитайте их и определите, насколько вы согласны или не согласны с ними. Оценить степень вашего согласия или несогласия можно в баллах (от «+4» до «–4»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+4» - несомненно, да (очень сильное 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+3» - да, конечно (сильное 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+2» - в общем, да (среднее 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+1» - скорее да, чем нет (слабое 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0» - ни да, ни н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–1» - скорее нет, чем да (слабое не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–2» - в общем, нет (среднее не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–3» - нет, конечно (сильное несоглас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–4» - нет, абсолютно неверно (очень сильное несоглас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тарайтесь быть искренними. Здесь не может быть «правильных» и «неправильных» оценок. Важно лишь, чтобы они отражали ваше личное мнение. Свои оценки вы можете занести в специальный бланк рядом с порядковым номером утверждения анкеты. Спасиб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анк для отв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730120"/>
            <a:ext cx="74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милия, имя (Вы можете указать по желанию)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981000"/>
          <a:ext cx="7703640" cy="4525560"/>
        </p:xfrm>
        <a:graphic>
          <a:graphicData uri="http://schemas.openxmlformats.org/drawingml/2006/table">
            <a:tbl>
              <a:tblPr/>
              <a:tblGrid>
                <a:gridCol w="1083240"/>
                <a:gridCol w="1083600"/>
                <a:gridCol w="1082880"/>
                <a:gridCol w="1083240"/>
                <a:gridCol w="1083600"/>
                <a:gridCol w="1083600"/>
                <a:gridCol w="12034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так, ты выразил свое отношение ко всем 70-и утверждениям, которые были предложены тебе выше. Как тебе кажется: что больше всего повлияло на это твое отно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я семья (родители, братья и сестры, бабушки и дедушки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я школа (значимые для тебя педагоги, школьные друзья, одноклассники, уроки и кружковые занятия, походы, сборы, экспедиции и т.п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и занятия в клубах, кружках и секциях вне шко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я  улица (дворовая компания, уличные друзья и т.д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иги, журналы, телевизор, интерн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-то еще (укажи, что именно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ранжируй перечисленные выше пункты по степени их влияния – что бы ты поставил на первое место, что на второе, на третье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9:34:55Z</dcterms:created>
  <dc:creator>Константин</dc:creator>
  <dc:description/>
  <dc:language>en-US</dc:language>
  <cp:lastModifiedBy>User</cp:lastModifiedBy>
  <dcterms:modified xsi:type="dcterms:W3CDTF">2008-09-12T17:04:19Z</dcterms:modified>
  <cp:revision>26</cp:revision>
  <dc:subject/>
  <dc:title>Диагностика личностного роста</dc:title>
</cp:coreProperties>
</file>