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7E7-43A7-479D-BF50-DB4A7B89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47F-1EAE-4808-A9B5-61F49310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F96-A363-4583-9DA7-65039218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3D6-40B6-4B35-834D-AE962871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DBA-5628-443B-9782-D3EE11E9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7E5-3232-4A7F-B33A-CDA881A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694-0FDF-4837-B6A9-B5415348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CB2-5086-45BF-9CBF-4AC684E1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75A-F0C9-4929-9361-9C84DF01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4FC-63FC-4B55-9F74-533C73D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C11-B396-4634-A879-B8ADD8CD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D54-5BFB-415C-A81A-D2438F8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38B-5BED-4082-8300-85941CC2D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гностика личностного ро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материалам раб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панова П.В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игорьева Д.В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лешовой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ципы диагностического опросник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одержащиеся в опроснике утверждения должны побуждать подростка демонстрировать свое отношение к миру, к другим людям, к самому себ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ормулировки высказываний должны быть понятными для школьников и восприниматься ими однозначн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кст опросника должен быть составлен таким образом, чтобы избежать возможного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нформн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ведения школьников, попыток «угадать» ответ, «правильно» отнестись к тому или иному тезису. Для этого подросткам необходимо предоставить право анонимного заполнения анке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зисы опросника должны быть сформулированы так, чтобы тот или иной отв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глядел в глазах школьника заведомо общественно одобряем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проведения диагностик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ится в условиях стаби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верие к проводящему диагност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выбора анони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аниченное время на ответ (30 ми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-переверт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ель диагностики – не есть результат только деятельност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льзя проводить часто (дважды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делать с результатами диагностики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ботать и системат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916280"/>
          <a:ext cx="7920000" cy="41446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8. Характер отношений школьник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иным люд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-нега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тивно-нега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тивно-пози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-пози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дают результаты диагнос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как минимум двух опросов дадут представление о динамике личностного роста, об успешности реализуемой вами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 о наиболее проблемных аспектах воспитанности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анализ - цель - планир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штабы той или иной проблемы (% соотнош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ний вопрос может дать представление о влиянии именно школы на личностное развитие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тодика изучени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ровня развития детского коллекти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ой у нас коллектив» (А.Н. Луто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ное описание стадий развит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ступень. «Песчаная россы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ступень. «Мягкая гл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Мерцающий 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Алый пар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Горящий фак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ботка полученн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ответов школьников педагог может определить по пятибалльной шкале (соответствующей пяти ступеням развития коллектива) степень их удовлетворенности своим классным коллективом, узнать, как оценивают школьники его спаянность, единство в достижении общественно значимых ц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иометрическое изучени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жличностных отношений в детском коллекти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нкета, которую мы предлагаем тебе заполнить, поможет улучшить отношения между школьниками в вашем коллективе, сделать его дружнее и сплоченнее. Ответь, пожалуйста, на следующие вопросы: их всего тр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редставь, что ваш класс отправляется в самостоятельное и нелегкое путешествие. Кого бы ты хотел видеть командиром вашей группы?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Если бы вашему классу пришлось участвовать в школьной олимпиаде по учебным предметам, кого бы ты хотел видеть капитаном этой команды?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Кого из класса ты бы пригласил к себе на вечеринку, день рождения или просто в гости?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 каждого вопроса напиши по три фамилии тех своих одноклассников, которые соответствуют твоему выбору. Обязательно подпиши свою анкету. Спасиб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ботка полученных результа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68440" y="264960"/>
            <a:ext cx="141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765000"/>
            <a:ext cx="144288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47640" y="620640"/>
          <a:ext cx="6767640" cy="5844960"/>
        </p:xfrm>
        <a:graphic>
          <a:graphicData uri="http://schemas.openxmlformats.org/drawingml/2006/table">
            <a:tbl>
              <a:tblPr/>
              <a:tblGrid>
                <a:gridCol w="1670040"/>
                <a:gridCol w="636480"/>
                <a:gridCol w="638280"/>
                <a:gridCol w="638280"/>
                <a:gridCol w="636480"/>
                <a:gridCol w="638280"/>
                <a:gridCol w="635040"/>
                <a:gridCol w="637920"/>
                <a:gridCol w="6368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выборов (рейтин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терпретация полученных результа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ные рейтинги покажут вам в наиболее общем виде картину межличностных отношений в коллективе. Анализируя их можно сделать вывод о наличии в н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иде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авторитетных школьников, имеющих заметно более высокие рейтинги (в нашем случае это школьники Б и 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ядов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ленов коллектива, которые поддерживают в целом неплохие отношения с большинством членов коллектива – они имеют средние рейтинги (в нашем случае это школьники А, Е и Ж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диноч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есть тех, кто поддерживает хорошие отношения с очень узким кругом своих одноклассников или только друг с другом – они имеют невысокие рейтинги (в нашем случае это школьники В, Д и 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ржен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есть тех, кто не принят в коллективе – они, как правило, имеют нулевой рейтинг или рейтинг в 1-2 б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проанализировать взаимные выборы членов коллектива и выявить совпадения выборов друг друга теми или иными школьниками, то можно получить представление о дружеских отношениях и личных взаимных симпатиях в коллективе. Например, в нашем случае такой вывод можно сделать о школьниках А и Б, Б и Г, В и Д – они всегда называли фамилии друг друга в ответах на все предложенные им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Экспертная оценка использования воспитательного потенциала совместной деятельности школьников и педагог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и информации (наблюдение за деятельностью педагогов, собеседование, анализ планов или программ организации воспитательного процесс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 воспитательный аспект проводимых дел. Действительно ли они воспитывающие или направлены только на то, чтобы научить чему-то, выполнить работу, победить, заполнить досуг и т.д.? Тенденция сводить воспитательный процесс в основном к классным ча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пень участия и самостоятельности школьников в планировании, подготовке, проведении и анализе тех или иных дел (детское самоуправлен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угие предметы мониторинг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а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ессиональная позиция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онные условия, обеспечивающие эффективность процесса воспи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омплектованность квалифицированными кад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но-эстет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ятельность детских объединений и органов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ное обеспечение процесса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20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человек, свободно и ответственно определяющий свое отношение к миру, к людям, к самому се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ичностный рос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тие гуманистических ценностных отношений личности к миру, к людям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самому се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уманистические ц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907920"/>
          <a:ext cx="8569440" cy="5180040"/>
        </p:xfrm>
        <a:graphic>
          <a:graphicData uri="http://schemas.openxmlformats.org/drawingml/2006/table">
            <a:tbl>
              <a:tblPr/>
              <a:tblGrid>
                <a:gridCol w="1585800"/>
                <a:gridCol w="3311640"/>
                <a:gridCol w="3672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 отно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ное отношение (признаки личностного ро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енностное отношение (признаки личностного регрес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е семейных традиций, гордость за свой 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норирование ответственности за продолжение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е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твенность, 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вательство, иждивен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к природе, бережное отношение к ее богатст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ьское от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отворчество, пациф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итар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е, твор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ллигент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культурье, хамство и вандал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зна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е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549360"/>
          <a:ext cx="8229600" cy="5124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лю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акие же, как Я са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манность, милосерд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ок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е лю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 такие, как 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ерант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изм, рас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- телес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та о своем здоровье, стремление вести здоровый образ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растие к вредным привычкам и постепенное разрушение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- душе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принятие и душевное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 неполноц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- дух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а, включающая самостоятельность, самоопределение, самореализацию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ращение личности в «социальную пеш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описания личностного роста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570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истика ценност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устойчивости данных отнош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пы отнош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туатив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тно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менчивость и детерминированность конкретной жизненной ситуаци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стойчив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тно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сознанные, отрефлексированные отношения фиксируются в пози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зыблем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тно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тоянство, характерное для фанатиков или подвиж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ка личностного ро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7931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ный лист для учащихся 9 – 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ам будет предложен ряд высказываний. Пожалуйста, прочитайте их и определите, насколько вы согласны или не согласны с ними. Оценить степень вашего согласия или несогласия можно в баллах (от «+4» до «–4»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+4» - несомненно, да (очень сильн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+3» - да, конечно (сильн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+2» - в общем, да (средне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+1» - скорее да, чем нет (слаб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0» - ни да, ни 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–1» - скорее нет, чем да (слабо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–2» - в общем, нет (средне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–3» - нет, конечно (сильно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–4» - нет, абсолютно неверно (очень сильное несоглас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тарайтесь быть искренними. Здесь не может быть «правильных» и «неправильных» оценок. Важно лишь, чтобы они отражали ваше личное мнение. Свои оценки вы можете занести в специальный бланк рядом с порядковым номером утверждения анкеты. Спасиб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анк для от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0120"/>
            <a:ext cx="74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милия, имя (Вы можете указать по желанию)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981000"/>
          <a:ext cx="7703640" cy="4525560"/>
        </p:xfrm>
        <a:graphic>
          <a:graphicData uri="http://schemas.openxmlformats.org/drawingml/2006/table">
            <a:tbl>
              <a:tblPr/>
              <a:tblGrid>
                <a:gridCol w="1083240"/>
                <a:gridCol w="1083600"/>
                <a:gridCol w="1082880"/>
                <a:gridCol w="1083240"/>
                <a:gridCol w="1083600"/>
                <a:gridCol w="1083600"/>
                <a:gridCol w="12034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так, ты выразил свое отношение ко всем 70-и утверждениям, которые были предложены тебе выше. Как тебе кажется: что больше всего повлияло на это твое отно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семья (родители, братья и сестры, бабушки и дедушки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школа (значимые для тебя педагоги, школьные друзья, одноклассники, уроки и кружковые занятия, походы, сборы, экспедиции и т.п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и занятия в клубах, кружках и секциях вне шк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 улица (дворовая компания, уличные друзья и т.д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и, журналы, телевизор, интер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-то еще (укажи, что именно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ранжируй перечисленные выше пункты по степени их влияния – что бы ты поставил на первое место, что на второе, на треть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9:34:55Z</dcterms:created>
  <dc:creator>Константин</dc:creator>
  <dc:description/>
  <dc:language>en-US</dc:language>
  <cp:lastModifiedBy>User</cp:lastModifiedBy>
  <dcterms:modified xsi:type="dcterms:W3CDTF">2008-09-12T17:04:19Z</dcterms:modified>
  <cp:revision>26</cp:revision>
  <dc:subject/>
  <dc:title>Диагностика личностного роста</dc:title>
</cp:coreProperties>
</file>