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21.gif" ContentType="image/gif"/>
  <Override PartName="/ppt/media/image10.jpeg" ContentType="image/jpeg"/>
  <Override PartName="/ppt/media/image29.wmf" ContentType="image/x-wmf"/>
  <Override PartName="/ppt/media/image19.jpeg" ContentType="image/jpeg"/>
  <Override PartName="/ppt/media/image31.jpeg" ContentType="image/jpeg"/>
  <Override PartName="/ppt/media/image2.png" ContentType="image/png"/>
  <Override PartName="/ppt/media/image32.wmf" ContentType="image/x-wmf"/>
  <Override PartName="/ppt/media/image35.png" ContentType="image/png"/>
  <Override PartName="/ppt/media/image5.png" ContentType="image/png"/>
  <Override PartName="/ppt/media/image33.wmf" ContentType="image/x-wmf"/>
  <Override PartName="/ppt/media/image8.wmf" ContentType="image/x-wmf"/>
  <Override PartName="/ppt/media/image36.wmf" ContentType="image/x-wmf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30.wmf" ContentType="image/x-wmf"/>
  <Override PartName="/ppt/media/image6.jpeg" ContentType="image/jpeg"/>
  <Override PartName="/ppt/media/image42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20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4.wmf" ContentType="image/x-wmf"/>
  <Override PartName="/ppt/media/image16.wmf" ContentType="image/x-wmf"/>
  <Override PartName="/ppt/media/image18.jpeg" ContentType="image/jpeg"/>
  <Override PartName="/ppt/media/image15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06B4-9CA0-47C3-9FBF-D400517EE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185E-B788-4E2A-B8B1-61549CB82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C8D-62BB-4BDA-96D4-2AF9C3311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33-3198-46CF-B0E1-EC25CD99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292-25C2-4D86-B602-B345D931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522-74F8-43B3-B695-73423F5B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C5E-7C63-45B3-83F8-BA6DBA8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669-2F1A-40AA-A6F0-AB993023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0C27-8E7C-4113-B15E-CEE7AEC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F7B4-70FC-4326-AC0B-1395B2A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44A-920F-4D6C-B605-643DC06A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7CA4-537B-48F1-B9CC-F963E10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F5F3-EF27-4821-AFC3-610C7FE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23B-4E70-4734-A73C-566738A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30F-0522-4F7A-9163-60DE08B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19D6-556F-4166-AF36-6A0C83AA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22D-71D2-4B7F-B42B-59B5A0C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8705-1695-47C1-8654-8081F4F3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6458-54E0-469D-B017-24398374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9B38-331A-468B-8A42-91D3D73D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CE6-11E0-4649-A9E7-70BCA804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432-119B-473A-A666-D5D26DD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31F-833E-4917-94A9-4D4A869D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32C-3E46-412B-9F1A-BC4E7438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0BB-D802-4292-BC57-8785357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20D-B851-43D4-81E1-359D7B5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55D-0101-4385-99CC-D71A0F3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EE69-C567-4669-8AAD-68AE50E0C0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0988-0838-465B-9086-EBEE0594CDE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34.xm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6.wmf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0767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Цель урока: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бобщить, систематизировать изученный ранее материал о всем диапазоне электромагнитных вол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0" y="54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Спектр электромагнитных волн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AutoShape 12">
            <a:hlinkClick r:id="" action="ppaction://hlinkshowjump?jump=previousslide"/>
          </p:cNvPr>
          <p:cNvSpPr/>
          <p:nvPr/>
        </p:nvSpPr>
        <p:spPr>
          <a:xfrm>
            <a:off x="8172360" y="6426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19" descr="Рисунок23"/>
          <p:cNvPicPr/>
          <p:nvPr/>
        </p:nvPicPr>
        <p:blipFill>
          <a:blip r:embed="rId1"/>
          <a:stretch/>
        </p:blipFill>
        <p:spPr>
          <a:xfrm>
            <a:off x="1066680" y="2076480"/>
            <a:ext cx="369576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99640" y="414972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Какую волну называют электромагнитн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395280" y="189000"/>
            <a:ext cx="8282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омагнитные 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ы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AutoShape 8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Основные свойства электромагнитных вол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1" name="Object 17"/>
          <p:cNvGraphicFramePr/>
          <p:nvPr/>
        </p:nvGraphicFramePr>
        <p:xfrm>
          <a:off x="785880" y="4965840"/>
          <a:ext cx="3960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965840"/>
                    <a:ext cx="3960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18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AutoShape 19">
            <a:hlinkClick r:id="" action="ppaction://hlinkshowjump?jump=previousslide"/>
          </p:cNvPr>
          <p:cNvSpPr/>
          <p:nvPr/>
        </p:nvSpPr>
        <p:spPr>
          <a:xfrm>
            <a:off x="8172360" y="6426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4788000" y="5084640"/>
            <a:ext cx="39607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ряженность электрического поля и индукция магнитного поля излучающего гармонического  источника в пространстве.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34" descr="Рисунок20"/>
          <p:cNvPicPr/>
          <p:nvPr/>
        </p:nvPicPr>
        <p:blipFill>
          <a:blip r:embed="rId3"/>
          <a:stretch/>
        </p:blipFill>
        <p:spPr>
          <a:xfrm>
            <a:off x="1979640" y="1773360"/>
            <a:ext cx="5329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Длина электромагнитной вол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1" name="Object 44"/>
          <p:cNvGraphicFramePr/>
          <p:nvPr/>
        </p:nvGraphicFramePr>
        <p:xfrm>
          <a:off x="955800" y="2133720"/>
          <a:ext cx="8188200" cy="26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2133720"/>
                    <a:ext cx="818820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AutoShape 67">
            <a:hlinkClick r:id="" action="ppaction://hlinkshowjump?jump=nextslide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3794"/>
                </a:moveTo>
                <a:lnTo>
                  <a:pt x="18794" y="10800"/>
                </a:lnTo>
                <a:lnTo>
                  <a:pt x="47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78" descr="6"/>
          <p:cNvPicPr/>
          <p:nvPr/>
        </p:nvPicPr>
        <p:blipFill>
          <a:blip r:embed="rId3"/>
          <a:stretch/>
        </p:blipFill>
        <p:spPr>
          <a:xfrm>
            <a:off x="971640" y="5013360"/>
            <a:ext cx="684036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8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Задача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561960" y="2138400"/>
          <a:ext cx="7915320" cy="34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138400"/>
                    <a:ext cx="791532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7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9">
            <a:hlinkClick r:id="rId3" action="ppaction://hlinksldjump"/>
          </p:cNvPr>
          <p:cNvSpPr/>
          <p:nvPr/>
        </p:nvSpPr>
        <p:spPr>
          <a:xfrm>
            <a:off x="6156360" y="602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решение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спектр эм волн.JPG"/>
          <p:cNvPicPr/>
          <p:nvPr/>
        </p:nvPicPr>
        <p:blipFill>
          <a:blip r:embed="rId1"/>
          <a:stretch/>
        </p:blipFill>
        <p:spPr>
          <a:xfrm>
            <a:off x="0" y="549360"/>
            <a:ext cx="90010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8684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drawingml/2006/table">
            <a:tbl>
              <a:tblPr/>
              <a:tblGrid>
                <a:gridCol w="1933560"/>
                <a:gridCol w="1039680"/>
                <a:gridCol w="1263960"/>
                <a:gridCol w="1263600"/>
                <a:gridCol w="1190520"/>
                <a:gridCol w="1023840"/>
                <a:gridCol w="14288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Вид электромагнит ной волны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ем и когда откры то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Диапазон длин волн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Диапазон частот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Источники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Свойства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имене ние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диоволны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Инфракрас н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идим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Ультра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фиолетов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нтгенов ски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Гамма-излучени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Шкала электромагнитных вол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Text Box 29">
            <a:hlinkClick r:id="rId1" action="ppaction://hlinksldjump"/>
          </p:cNvPr>
          <p:cNvSpPr/>
          <p:nvPr/>
        </p:nvSpPr>
        <p:spPr>
          <a:xfrm>
            <a:off x="1191240" y="5013360"/>
            <a:ext cx="485280" cy="1582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Радиоволн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1835280" y="5084640"/>
            <a:ext cx="144144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СВЧ излучения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3419640" y="5084640"/>
            <a:ext cx="100800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Инфракрасн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4779360" y="5084640"/>
            <a:ext cx="45468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Видимый свет 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5846040" y="5084640"/>
            <a:ext cx="454680" cy="1392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Ультрафиолетов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6925680" y="5157720"/>
            <a:ext cx="454680" cy="129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Рентгеновск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7596360" y="5157720"/>
            <a:ext cx="136836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Гамма -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AutoShape 39">
            <a:hlinkClick r:id="rId9" action="ppaction://hlinksldjump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AutoShape 4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602640" y="5013360"/>
            <a:ext cx="454680" cy="1844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Низкочастотные излучения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43" descr="Рисунок19"/>
          <p:cNvPicPr/>
          <p:nvPr/>
        </p:nvPicPr>
        <p:blipFill>
          <a:blip r:embed="rId11"/>
          <a:stretch/>
        </p:blipFill>
        <p:spPr>
          <a:xfrm>
            <a:off x="250920" y="1916280"/>
            <a:ext cx="8569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Спектр электромагнитных волн</a:t>
            </a:r>
            <a:br>
              <a:rPr sz="4000"/>
            </a:b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Тест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82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аких случаях происходит излучение электромагнитных вол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Электрон движется равномерно и прямолине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Электрон движется равноускоренно и прямолине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Электрон движется равномерно по окруж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только 1    Б. только 2   В. только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1, 2, 3         Д. 2 и 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Возникает ли электромагнитное излучение при торможении электрон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нет           Б. 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Какие из перечисленных ниже излучений обладают способностью к дифракции на краю препятств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 Радиоволны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. Видимое излуче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Рентгеновско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Все кроме рентгеновског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. Все выше перечисленн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лучения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792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Какие свойства будут обнаруживать электромагнитные волны следующих диапазонов,  падая на тело чело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Радиоволны                          2. Рентгеновского диапаз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Инфракрасного диапазона  4.Ультрафиолетого диапаз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Вызывают покраснение кожи.  Б. Нагревают тк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Почти полностью отражаются  Г. Проходят через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мягкие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Как изменится плотность потока излучения электромагнитных волн при одинаковой  амплитуде их колебаний в вибраторе, если частоту колебаний уменьшить в 2 раз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Не изменится.                   Б. Уменьшится в 2 р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Уменьшится в 4 раза       Г. Уменьшится в 16 р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Какой вид электромагнитных волн имеет наименьшую частот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 Рентгеновско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Б. Ультрафиолет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Видимый све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Инфракрасн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. Радиовол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5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Схематическое изображение прозрачности земной атмосферы для всего диапазона электромагнитных излучений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Picture 13" descr="Рисунок18"/>
          <p:cNvPicPr/>
          <p:nvPr/>
        </p:nvPicPr>
        <p:blipFill>
          <a:blip r:embed="rId1"/>
          <a:stretch/>
        </p:blipFill>
        <p:spPr>
          <a:xfrm>
            <a:off x="2411280" y="1528920"/>
            <a:ext cx="4340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3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5694480" cy="712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58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исуй   лежачую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или знак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∞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оведи оси ОХ и ОУ через центр. Выбери наиболее утолщённую часть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∞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┴ 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ольшей части на ось ОХ, проведи отрезок вдоль оси ОХ от точки этих отрезков до точки пересечения оси ОХ с петлёй, измерь длины отрез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3" name="Прямая со стрелкой 7"/>
          <p:cNvCxnSpPr/>
          <p:nvPr/>
        </p:nvCxnSpPr>
        <p:spPr>
          <a:xfrm flipV="1">
            <a:off x="4572000" y="3357360"/>
            <a:ext cx="2160" cy="30024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>
            <a:off x="2214720" y="4785840"/>
            <a:ext cx="5644080" cy="2520"/>
          </a:xfrm>
          <a:prstGeom prst="straightConnector1">
            <a:avLst/>
          </a:prstGeom>
          <a:ln w="9360">
            <a:solidFill>
              <a:srgbClr val="ffff67"/>
            </a:solidFill>
            <a:miter/>
            <a:tailEnd len="med" type="arrow" w="med"/>
          </a:ln>
        </p:spPr>
      </p:cxnSp>
      <p:sp>
        <p:nvSpPr>
          <p:cNvPr id="125" name="Полилиния 16"/>
          <p:cNvSpPr/>
          <p:nvPr/>
        </p:nvSpPr>
        <p:spPr>
          <a:xfrm rot="16200000">
            <a:off x="3450600" y="1693080"/>
            <a:ext cx="3100320" cy="5857920"/>
          </a:xfrm>
          <a:custGeom>
            <a:avLst/>
            <a:gdLst/>
            <a:ahLst/>
            <a:rect l="l" t="t" r="r" b="b"/>
            <a:pathLst>
              <a:path w="3171825" h="3040856">
                <a:moveTo>
                  <a:pt x="581025" y="388144"/>
                </a:moveTo>
                <a:cubicBezTo>
                  <a:pt x="619125" y="0"/>
                  <a:pt x="3171825" y="121444"/>
                  <a:pt x="3081338" y="416719"/>
                </a:cubicBezTo>
                <a:cubicBezTo>
                  <a:pt x="2990851" y="711994"/>
                  <a:pt x="76200" y="1771650"/>
                  <a:pt x="38100" y="2159794"/>
                </a:cubicBezTo>
                <a:cubicBezTo>
                  <a:pt x="0" y="2547938"/>
                  <a:pt x="2757488" y="3040856"/>
                  <a:pt x="2852738" y="2745581"/>
                </a:cubicBezTo>
                <a:cubicBezTo>
                  <a:pt x="2947988" y="2450306"/>
                  <a:pt x="542925" y="776288"/>
                  <a:pt x="581025" y="388144"/>
                </a:cubicBez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21"/>
          <p:cNvSpPr/>
          <p:nvPr/>
        </p:nvSpPr>
        <p:spPr>
          <a:xfrm flipH="1">
            <a:off x="6215040" y="3859200"/>
            <a:ext cx="1440" cy="9669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23"/>
          <p:cNvSpPr/>
          <p:nvPr/>
        </p:nvSpPr>
        <p:spPr>
          <a:xfrm flipH="1" flipV="1">
            <a:off x="6214680" y="4785840"/>
            <a:ext cx="17640" cy="13496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26"/>
          <p:cNvSpPr/>
          <p:nvPr/>
        </p:nvSpPr>
        <p:spPr>
          <a:xfrm>
            <a:off x="6215040" y="4857840"/>
            <a:ext cx="1000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1835280" y="378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700092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6434280" y="48578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5648400" y="4214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TextBox 32"/>
          <p:cNvSpPr/>
          <p:nvPr/>
        </p:nvSpPr>
        <p:spPr>
          <a:xfrm>
            <a:off x="5572080" y="5357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ff"/>
                </a:solidFill>
                <a:latin typeface="Times New Roman"/>
              </a:rPr>
              <a:t>Заключение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817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я электромагнитного излучения имеют огромное значение для уточнения наших представлений о строении вещества. Исследования инфракрасного, видимого и ультрафиолетового излучений помогли выяснить строение молекул и внешних электронных оболочек атомов; изучение рентгеновского излучения позволило установить строение внутренних электронных оболочек атомов и структуру кристаллов, а излучение гамма – лучей дает много ценных сведений о строении атомных яд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451640" y="6524640"/>
            <a:ext cx="505080" cy="333360"/>
          </a:xfrm>
          <a:custGeom>
            <a:avLst/>
            <a:gdLst>
              <a:gd name="textAreaLeft" fmla="*/ 21600 w 505080"/>
              <a:gd name="textAreaRight" fmla="*/ 483480 w 50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15" y="1400"/>
                </a:lnTo>
                <a:lnTo>
                  <a:pt x="1400" y="140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15" y="20200"/>
                </a:lnTo>
                <a:lnTo>
                  <a:pt x="31315" y="140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5" y="2020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5" h="21600">
                <a:moveTo>
                  <a:pt x="16357" y="3837"/>
                </a:moveTo>
                <a:lnTo>
                  <a:pt x="18934" y="6448"/>
                </a:lnTo>
                <a:lnTo>
                  <a:pt x="18934" y="4707"/>
                </a:lnTo>
                <a:lnTo>
                  <a:pt x="20709" y="4707"/>
                </a:lnTo>
                <a:lnTo>
                  <a:pt x="20709" y="8224"/>
                </a:lnTo>
                <a:lnTo>
                  <a:pt x="23320" y="10800"/>
                </a:lnTo>
                <a:lnTo>
                  <a:pt x="21667" y="10800"/>
                </a:lnTo>
                <a:lnTo>
                  <a:pt x="21667" y="17989"/>
                </a:lnTo>
                <a:lnTo>
                  <a:pt x="11048" y="17989"/>
                </a:lnTo>
                <a:lnTo>
                  <a:pt x="11048" y="10800"/>
                </a:lnTo>
                <a:lnTo>
                  <a:pt x="9394" y="10800"/>
                </a:lnTo>
                <a:close/>
              </a:path>
              <a:path fill="darkenLess" w="32715" h="21600">
                <a:moveTo>
                  <a:pt x="18934" y="6448"/>
                </a:moveTo>
                <a:lnTo>
                  <a:pt x="18934" y="4707"/>
                </a:lnTo>
                <a:lnTo>
                  <a:pt x="20709" y="4707"/>
                </a:lnTo>
                <a:lnTo>
                  <a:pt x="20709" y="8224"/>
                </a:lnTo>
                <a:close/>
              </a:path>
              <a:path fill="darkenLess" w="32715" h="21600">
                <a:moveTo>
                  <a:pt x="15435" y="14299"/>
                </a:moveTo>
                <a:lnTo>
                  <a:pt x="17280" y="14299"/>
                </a:lnTo>
                <a:lnTo>
                  <a:pt x="17280" y="17989"/>
                </a:lnTo>
                <a:lnTo>
                  <a:pt x="21667" y="17989"/>
                </a:lnTo>
                <a:lnTo>
                  <a:pt x="21667" y="10800"/>
                </a:lnTo>
                <a:lnTo>
                  <a:pt x="11048" y="10800"/>
                </a:lnTo>
                <a:lnTo>
                  <a:pt x="11048" y="17989"/>
                </a:lnTo>
                <a:lnTo>
                  <a:pt x="1543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previousslide"/>
          </p:cNvPr>
          <p:cNvSpPr/>
          <p:nvPr/>
        </p:nvSpPr>
        <p:spPr>
          <a:xfrm>
            <a:off x="7956720" y="6524640"/>
            <a:ext cx="502920" cy="333360"/>
          </a:xfrm>
          <a:custGeom>
            <a:avLst/>
            <a:gdLst>
              <a:gd name="textAreaLeft" fmla="*/ 21600 w 502920"/>
              <a:gd name="textAreaRight" fmla="*/ 481320 w 50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75" h="21600">
                <a:moveTo>
                  <a:pt x="0" y="0"/>
                </a:moveTo>
                <a:lnTo>
                  <a:pt x="32575" y="0"/>
                </a:lnTo>
                <a:lnTo>
                  <a:pt x="32575" y="21600"/>
                </a:lnTo>
                <a:lnTo>
                  <a:pt x="0" y="21600"/>
                </a:lnTo>
                <a:close/>
              </a:path>
              <a:path fill="lightenLess" w="32575" h="21600">
                <a:moveTo>
                  <a:pt x="0" y="0"/>
                </a:moveTo>
                <a:lnTo>
                  <a:pt x="32575" y="0"/>
                </a:lnTo>
                <a:lnTo>
                  <a:pt x="31175" y="1400"/>
                </a:lnTo>
                <a:lnTo>
                  <a:pt x="1400" y="1400"/>
                </a:lnTo>
                <a:close/>
              </a:path>
              <a:path fill="darken" w="32575" h="21600">
                <a:moveTo>
                  <a:pt x="32575" y="0"/>
                </a:moveTo>
                <a:lnTo>
                  <a:pt x="32575" y="21600"/>
                </a:lnTo>
                <a:lnTo>
                  <a:pt x="31175" y="20200"/>
                </a:lnTo>
                <a:lnTo>
                  <a:pt x="31175" y="1400"/>
                </a:lnTo>
                <a:close/>
              </a:path>
              <a:path fill="darkenLess" w="32575" h="21600">
                <a:moveTo>
                  <a:pt x="32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5" y="20200"/>
                </a:lnTo>
                <a:close/>
              </a:path>
              <a:path fill="lighten" w="32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5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971640" y="5013360"/>
            <a:ext cx="81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 информации, полученной во всем спектре электромагнитных волн, позволяет составить более полную картину структуры объектов во Вселенной, тем самым расширить границы познания природы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25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, упражнение 44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ить таблицу полность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5" descr="0b0f33b51db5"/>
          <p:cNvPicPr/>
          <p:nvPr/>
        </p:nvPicPr>
        <p:blipFill>
          <a:blip r:embed="rId1"/>
          <a:stretch/>
        </p:blipFill>
        <p:spPr>
          <a:xfrm>
            <a:off x="658800" y="22766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в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узнал(а)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свою деятельность на уроке по 5-ти балльной шка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работу на уроке своего напарника (по 5 б.шкал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урок в це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звестный датский химик Д.Хевелси говори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Мыслящий ум не чувствует себя счастливым, пока ему не удаётся связать воедино разрозненные факты, им наблюдаемые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4" descr="052ahc4"/>
          <p:cNvPicPr/>
          <p:nvPr/>
        </p:nvPicPr>
        <p:blipFill>
          <a:blip r:embed="rId1"/>
          <a:stretch/>
        </p:blipFill>
        <p:spPr>
          <a:xfrm>
            <a:off x="0" y="476280"/>
            <a:ext cx="25560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Рентгеновское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900000" y="613728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00000" y="1922400"/>
          <a:ext cx="39290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22400"/>
                    <a:ext cx="39290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Picture 13" descr="Рисунок12"/>
          <p:cNvPicPr/>
          <p:nvPr/>
        </p:nvPicPr>
        <p:blipFill>
          <a:blip r:embed="rId3"/>
          <a:stretch/>
        </p:blipFill>
        <p:spPr>
          <a:xfrm>
            <a:off x="4915080" y="2251080"/>
            <a:ext cx="36954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Гамма –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8" name="Object 10"/>
          <p:cNvGraphicFramePr/>
          <p:nvPr/>
        </p:nvGraphicFramePr>
        <p:xfrm>
          <a:off x="977760" y="1917720"/>
          <a:ext cx="842652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917720"/>
                    <a:ext cx="84265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AutoShape 13"/>
          <p:cNvSpPr/>
          <p:nvPr/>
        </p:nvSpPr>
        <p:spPr>
          <a:xfrm>
            <a:off x="90000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2"/>
          <p:cNvSpPr/>
          <p:nvPr/>
        </p:nvSpPr>
        <p:spPr>
          <a:xfrm>
            <a:off x="0" y="46368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Сверхвысокочастотное (СВЧ) излучение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(микроволновое излучение)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2" name="Object 1024"/>
          <p:cNvGraphicFramePr/>
          <p:nvPr/>
        </p:nvGraphicFramePr>
        <p:xfrm>
          <a:off x="969840" y="1698480"/>
          <a:ext cx="395604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698480"/>
                    <a:ext cx="39560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AutoShape 16"/>
          <p:cNvSpPr/>
          <p:nvPr/>
        </p:nvSpPr>
        <p:spPr>
          <a:xfrm>
            <a:off x="90000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5" name="Picture 17" descr="Рисунок11"/>
          <p:cNvPicPr/>
          <p:nvPr/>
        </p:nvPicPr>
        <p:blipFill>
          <a:blip r:embed="rId3"/>
          <a:stretch/>
        </p:blipFill>
        <p:spPr>
          <a:xfrm>
            <a:off x="5435640" y="1989000"/>
            <a:ext cx="3187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Инфракрасное излуч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57" name="Object 32"/>
          <p:cNvGraphicFramePr/>
          <p:nvPr/>
        </p:nvGraphicFramePr>
        <p:xfrm>
          <a:off x="260280" y="2271600"/>
          <a:ext cx="5391360" cy="364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271600"/>
                    <a:ext cx="5391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AutoShape 18"/>
          <p:cNvSpPr/>
          <p:nvPr/>
        </p:nvSpPr>
        <p:spPr>
          <a:xfrm>
            <a:off x="8386920" y="6137280"/>
            <a:ext cx="757080" cy="720720"/>
          </a:xfrm>
          <a:custGeom>
            <a:avLst/>
            <a:gdLst>
              <a:gd name="textAreaLeft" fmla="*/ 46440 w 757080"/>
              <a:gd name="textAreaRight" fmla="*/ 710640 w 75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89" h="21600">
                <a:moveTo>
                  <a:pt x="0" y="0"/>
                </a:moveTo>
                <a:lnTo>
                  <a:pt x="22689" y="0"/>
                </a:lnTo>
                <a:lnTo>
                  <a:pt x="22689" y="21600"/>
                </a:lnTo>
                <a:lnTo>
                  <a:pt x="0" y="21600"/>
                </a:lnTo>
                <a:close/>
              </a:path>
              <a:path fill="lightenLess" w="22689" h="21600">
                <a:moveTo>
                  <a:pt x="0" y="0"/>
                </a:moveTo>
                <a:lnTo>
                  <a:pt x="22689" y="0"/>
                </a:lnTo>
                <a:lnTo>
                  <a:pt x="21289" y="1400"/>
                </a:lnTo>
                <a:lnTo>
                  <a:pt x="1400" y="1400"/>
                </a:lnTo>
                <a:close/>
              </a:path>
              <a:path fill="darken" w="22689" h="21600">
                <a:moveTo>
                  <a:pt x="22689" y="0"/>
                </a:moveTo>
                <a:lnTo>
                  <a:pt x="22689" y="21600"/>
                </a:lnTo>
                <a:lnTo>
                  <a:pt x="21289" y="20200"/>
                </a:lnTo>
                <a:lnTo>
                  <a:pt x="21289" y="1400"/>
                </a:lnTo>
                <a:close/>
              </a:path>
              <a:path fill="darkenLess" w="22689" h="21600">
                <a:moveTo>
                  <a:pt x="22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9" y="20200"/>
                </a:lnTo>
                <a:close/>
              </a:path>
              <a:path fill="lighten" w="22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9" h="21600">
                <a:moveTo>
                  <a:pt x="4338" y="7493"/>
                </a:moveTo>
                <a:lnTo>
                  <a:pt x="7846" y="7493"/>
                </a:lnTo>
                <a:lnTo>
                  <a:pt x="7846" y="12828"/>
                </a:lnTo>
                <a:cubicBezTo>
                  <a:pt x="7846" y="13751"/>
                  <a:pt x="8646" y="14482"/>
                  <a:pt x="9682" y="14482"/>
                </a:cubicBezTo>
                <a:lnTo>
                  <a:pt x="11345" y="14482"/>
                </a:lnTo>
                <a:cubicBezTo>
                  <a:pt x="12380" y="14482"/>
                  <a:pt x="13181" y="13751"/>
                  <a:pt x="13181" y="12828"/>
                </a:cubicBezTo>
                <a:lnTo>
                  <a:pt x="13181" y="7493"/>
                </a:lnTo>
                <a:lnTo>
                  <a:pt x="11345" y="7493"/>
                </a:lnTo>
                <a:lnTo>
                  <a:pt x="14852" y="3985"/>
                </a:lnTo>
                <a:lnTo>
                  <a:pt x="18525" y="7493"/>
                </a:lnTo>
                <a:lnTo>
                  <a:pt x="16689" y="7493"/>
                </a:lnTo>
                <a:lnTo>
                  <a:pt x="16689" y="12828"/>
                </a:lnTo>
                <a:cubicBezTo>
                  <a:pt x="16689" y="15596"/>
                  <a:pt x="14112" y="18155"/>
                  <a:pt x="11345" y="18155"/>
                </a:cubicBezTo>
                <a:lnTo>
                  <a:pt x="9682" y="18155"/>
                </a:lnTo>
                <a:cubicBezTo>
                  <a:pt x="6914" y="18155"/>
                  <a:pt x="4338" y="15596"/>
                  <a:pt x="4338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6516720" y="573408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Солнце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1" name="Picture 39" descr="Рисунок10"/>
          <p:cNvPicPr/>
          <p:nvPr/>
        </p:nvPicPr>
        <p:blipFill>
          <a:blip r:embed="rId3"/>
          <a:stretch/>
        </p:blipFill>
        <p:spPr>
          <a:xfrm>
            <a:off x="5219640" y="2492280"/>
            <a:ext cx="3695760" cy="27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Ультрафиолетовое</a:t>
            </a: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63" name="Object 1024"/>
          <p:cNvGraphicFramePr/>
          <p:nvPr/>
        </p:nvGraphicFramePr>
        <p:xfrm>
          <a:off x="1211400" y="2065320"/>
          <a:ext cx="738504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2065320"/>
                    <a:ext cx="7385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7"/>
          <p:cNvSpPr/>
          <p:nvPr/>
        </p:nvSpPr>
        <p:spPr>
          <a:xfrm>
            <a:off x="900000" y="5661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2857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67" name="Object 12"/>
          <p:cNvGraphicFramePr/>
          <p:nvPr/>
        </p:nvGraphicFramePr>
        <p:xfrm>
          <a:off x="1000080" y="1996920"/>
          <a:ext cx="6246720" cy="27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96920"/>
                    <a:ext cx="624672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Picture 13" descr="касьянов стр203 до свч"/>
          <p:cNvPicPr/>
          <p:nvPr/>
        </p:nvPicPr>
        <p:blipFill>
          <a:blip r:embed="rId3"/>
          <a:stretch/>
        </p:blipFill>
        <p:spPr>
          <a:xfrm>
            <a:off x="5967360" y="0"/>
            <a:ext cx="31766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6"/>
          <p:cNvSpPr/>
          <p:nvPr/>
        </p:nvSpPr>
        <p:spPr>
          <a:xfrm>
            <a:off x="1187280" y="7149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Радиоволны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900000" y="5661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3" descr=""/>
          <p:cNvPicPr/>
          <p:nvPr/>
        </p:nvPicPr>
        <p:blipFill>
          <a:blip r:embed="rId1"/>
          <a:stretch/>
        </p:blipFill>
        <p:spPr>
          <a:xfrm>
            <a:off x="85680" y="115920"/>
            <a:ext cx="7290000" cy="712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85480" y="856800"/>
            <a:ext cx="825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- соответствует «аудиалам» (знаток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«визуалы» (теорет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«кинестетики»(экспериментатор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6" name="Прямая со стрелкой 7"/>
          <p:cNvCxnSpPr/>
          <p:nvPr/>
        </p:nvCxnSpPr>
        <p:spPr>
          <a:xfrm flipV="1">
            <a:off x="4572000" y="3071160"/>
            <a:ext cx="2160" cy="3002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2214720" y="4785840"/>
            <a:ext cx="5644080" cy="2520"/>
          </a:xfrm>
          <a:prstGeom prst="straightConnector1">
            <a:avLst/>
          </a:prstGeom>
          <a:ln w="9360">
            <a:solidFill>
              <a:srgbClr val="ffff67"/>
            </a:solidFill>
            <a:miter/>
            <a:tailEnd len="med" type="arrow" w="med"/>
          </a:ln>
        </p:spPr>
      </p:cxnSp>
      <p:sp>
        <p:nvSpPr>
          <p:cNvPr id="138" name="Полилиния 16"/>
          <p:cNvSpPr/>
          <p:nvPr/>
        </p:nvSpPr>
        <p:spPr>
          <a:xfrm rot="16200000">
            <a:off x="3450600" y="1693080"/>
            <a:ext cx="3100320" cy="5857920"/>
          </a:xfrm>
          <a:custGeom>
            <a:avLst/>
            <a:gdLst/>
            <a:ahLst/>
            <a:rect l="l" t="t" r="r" b="b"/>
            <a:pathLst>
              <a:path w="3171825" h="3040856">
                <a:moveTo>
                  <a:pt x="581025" y="388144"/>
                </a:moveTo>
                <a:cubicBezTo>
                  <a:pt x="619125" y="0"/>
                  <a:pt x="3171825" y="121444"/>
                  <a:pt x="3081338" y="416719"/>
                </a:cubicBezTo>
                <a:cubicBezTo>
                  <a:pt x="2990851" y="711994"/>
                  <a:pt x="76200" y="1771650"/>
                  <a:pt x="38100" y="2159794"/>
                </a:cubicBezTo>
                <a:cubicBezTo>
                  <a:pt x="0" y="2547938"/>
                  <a:pt x="2757488" y="3040856"/>
                  <a:pt x="2852738" y="2745581"/>
                </a:cubicBezTo>
                <a:cubicBezTo>
                  <a:pt x="2947988" y="2450306"/>
                  <a:pt x="542925" y="776288"/>
                  <a:pt x="581025" y="388144"/>
                </a:cubicBez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1"/>
          <p:cNvSpPr/>
          <p:nvPr/>
        </p:nvSpPr>
        <p:spPr>
          <a:xfrm flipH="1">
            <a:off x="2857680" y="3214800"/>
            <a:ext cx="1440" cy="15714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23"/>
          <p:cNvSpPr/>
          <p:nvPr/>
        </p:nvSpPr>
        <p:spPr>
          <a:xfrm flipV="1">
            <a:off x="2819520" y="4785840"/>
            <a:ext cx="38160" cy="8175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26"/>
          <p:cNvSpPr/>
          <p:nvPr/>
        </p:nvSpPr>
        <p:spPr>
          <a:xfrm>
            <a:off x="2357280" y="4786200"/>
            <a:ext cx="5004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185724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700092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2362320" y="44290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2933640" y="4000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2857680" y="5000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ffff"/>
                </a:solidFill>
                <a:latin typeface="Times New Roman"/>
              </a:rPr>
              <a:t>Электромагнитной волной</a:t>
            </a:r>
            <a:endParaRPr b="1" lang="en-US" sz="5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8244000" y="5877000"/>
            <a:ext cx="755640" cy="7207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46" h="21600">
                <a:moveTo>
                  <a:pt x="0" y="0"/>
                </a:moveTo>
                <a:lnTo>
                  <a:pt x="22646" y="0"/>
                </a:lnTo>
                <a:lnTo>
                  <a:pt x="22646" y="21600"/>
                </a:lnTo>
                <a:lnTo>
                  <a:pt x="0" y="21600"/>
                </a:lnTo>
                <a:close/>
              </a:path>
              <a:path fill="lightenLess" w="22646" h="21600">
                <a:moveTo>
                  <a:pt x="0" y="0"/>
                </a:moveTo>
                <a:lnTo>
                  <a:pt x="22646" y="0"/>
                </a:lnTo>
                <a:lnTo>
                  <a:pt x="21246" y="1400"/>
                </a:lnTo>
                <a:lnTo>
                  <a:pt x="1400" y="1400"/>
                </a:lnTo>
                <a:close/>
              </a:path>
              <a:path fill="darken" w="22646" h="21600">
                <a:moveTo>
                  <a:pt x="22646" y="0"/>
                </a:moveTo>
                <a:lnTo>
                  <a:pt x="22646" y="21600"/>
                </a:lnTo>
                <a:lnTo>
                  <a:pt x="21246" y="20200"/>
                </a:lnTo>
                <a:lnTo>
                  <a:pt x="21246" y="1400"/>
                </a:lnTo>
                <a:close/>
              </a:path>
              <a:path fill="darkenLess" w="22646" h="21600">
                <a:moveTo>
                  <a:pt x="22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6" y="20200"/>
                </a:lnTo>
                <a:close/>
              </a:path>
              <a:path fill="lighten" w="22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6" h="21600">
                <a:moveTo>
                  <a:pt x="4317" y="7493"/>
                </a:moveTo>
                <a:lnTo>
                  <a:pt x="7824" y="7493"/>
                </a:lnTo>
                <a:lnTo>
                  <a:pt x="7824" y="12828"/>
                </a:lnTo>
                <a:cubicBezTo>
                  <a:pt x="7824" y="13751"/>
                  <a:pt x="8625" y="14482"/>
                  <a:pt x="9661" y="14482"/>
                </a:cubicBezTo>
                <a:lnTo>
                  <a:pt x="11323" y="14482"/>
                </a:lnTo>
                <a:cubicBezTo>
                  <a:pt x="12359" y="14482"/>
                  <a:pt x="13159" y="13751"/>
                  <a:pt x="13159" y="12828"/>
                </a:cubicBezTo>
                <a:lnTo>
                  <a:pt x="13159" y="7493"/>
                </a:lnTo>
                <a:lnTo>
                  <a:pt x="11323" y="7493"/>
                </a:lnTo>
                <a:lnTo>
                  <a:pt x="14831" y="3985"/>
                </a:lnTo>
                <a:lnTo>
                  <a:pt x="18504" y="7493"/>
                </a:lnTo>
                <a:lnTo>
                  <a:pt x="16667" y="7493"/>
                </a:lnTo>
                <a:lnTo>
                  <a:pt x="16667" y="12828"/>
                </a:lnTo>
                <a:cubicBezTo>
                  <a:pt x="16667" y="15596"/>
                  <a:pt x="14091" y="18155"/>
                  <a:pt x="11323" y="18155"/>
                </a:cubicBezTo>
                <a:lnTo>
                  <a:pt x="9661" y="18155"/>
                </a:lnTo>
                <a:cubicBezTo>
                  <a:pt x="6893" y="18155"/>
                  <a:pt x="4317" y="15596"/>
                  <a:pt x="431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29829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зывается процесс распространения электромагнитного поля в пространстве с течением времени.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Формула</a:t>
            </a:r>
            <a:r>
              <a:rPr b="1" i="1" lang="ru-RU" sz="72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скорости электромагнитной волны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76" name="Object 15"/>
          <p:cNvGraphicFramePr/>
          <p:nvPr/>
        </p:nvGraphicFramePr>
        <p:xfrm>
          <a:off x="1258920" y="2952720"/>
          <a:ext cx="6978600" cy="336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2720"/>
                    <a:ext cx="697860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195640" y="2205000"/>
          <a:ext cx="4535280" cy="1311480"/>
        </p:xfrm>
        <a:graphic>
          <a:graphicData uri="http://schemas.openxmlformats.org/drawingml/2006/table">
            <a:tbl>
              <a:tblPr/>
              <a:tblGrid>
                <a:gridCol w="45352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66ccff"/>
                          </a:solidFill>
                          <a:latin typeface="Tahoma"/>
                        </a:rPr>
                        <a:t>с = λ ∙ </a:t>
                      </a:r>
                      <a:r>
                        <a:rPr b="1" lang="el-GR" sz="80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1" lang="en-US" sz="8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AutoShape 46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Решен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04760" y="1052640"/>
          <a:ext cx="425772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052640"/>
                    <a:ext cx="4257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Picture 7" descr="задача 1 формула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588000" y="1484280"/>
            <a:ext cx="1314720" cy="1047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задача 1 ф с числами"/>
          <p:cNvPicPr/>
          <p:nvPr/>
        </p:nvPicPr>
        <p:blipFill>
          <a:blip r:embed="rId4"/>
          <a:stretch/>
        </p:blipFill>
        <p:spPr>
          <a:xfrm>
            <a:off x="4067280" y="2637000"/>
            <a:ext cx="4535280" cy="7603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493236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356000" y="162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= λ · ν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87" name="Object 9"/>
          <p:cNvGraphicFramePr/>
          <p:nvPr/>
        </p:nvGraphicFramePr>
        <p:xfrm>
          <a:off x="4159080" y="5634000"/>
          <a:ext cx="4719960" cy="442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5634000"/>
                    <a:ext cx="4719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AutoShape 20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0" name="Picture 6" descr="задача 2 формула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4716360" y="3357720"/>
            <a:ext cx="1295640" cy="1083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ACDSee BMP Image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067280" y="4437000"/>
            <a:ext cx="4392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ahoma"/>
              </a:rPr>
              <a:t>Видимый св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3" name="Picture 6" descr="видимый свет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48243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>
            <a:off x="900000" y="6137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3794" y="8711"/>
                </a:moveTo>
                <a:lnTo>
                  <a:pt x="7301" y="8711"/>
                </a:lnTo>
                <a:lnTo>
                  <a:pt x="7301" y="14046"/>
                </a:lnTo>
                <a:cubicBezTo>
                  <a:pt x="7301" y="14969"/>
                  <a:pt x="8102" y="15700"/>
                  <a:pt x="9138" y="15700"/>
                </a:cubicBezTo>
                <a:lnTo>
                  <a:pt x="10800" y="15700"/>
                </a:lnTo>
                <a:cubicBezTo>
                  <a:pt x="11836" y="15700"/>
                  <a:pt x="12636" y="14969"/>
                  <a:pt x="12636" y="14046"/>
                </a:cubicBezTo>
                <a:lnTo>
                  <a:pt x="12636" y="8711"/>
                </a:lnTo>
                <a:lnTo>
                  <a:pt x="10800" y="8711"/>
                </a:lnTo>
                <a:lnTo>
                  <a:pt x="14308" y="5203"/>
                </a:lnTo>
                <a:lnTo>
                  <a:pt x="17981" y="8711"/>
                </a:lnTo>
                <a:lnTo>
                  <a:pt x="16144" y="8711"/>
                </a:lnTo>
                <a:lnTo>
                  <a:pt x="16144" y="14046"/>
                </a:lnTo>
                <a:cubicBezTo>
                  <a:pt x="16144" y="16814"/>
                  <a:pt x="13568" y="19373"/>
                  <a:pt x="10800" y="19373"/>
                </a:cubicBezTo>
                <a:lnTo>
                  <a:pt x="9138" y="19373"/>
                </a:lnTo>
                <a:cubicBezTo>
                  <a:pt x="6370" y="19373"/>
                  <a:pt x="3794" y="16814"/>
                  <a:pt x="3794" y="1404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5" name="Object 10"/>
          <p:cNvGraphicFramePr/>
          <p:nvPr/>
        </p:nvGraphicFramePr>
        <p:xfrm>
          <a:off x="988920" y="1922400"/>
          <a:ext cx="612000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922400"/>
                    <a:ext cx="612000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ffff"/>
                </a:solidFill>
                <a:latin typeface="Times New Roman"/>
              </a:rPr>
              <a:t>Низкочастотное (НЧ) излучени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8" name="Object 4"/>
          <p:cNvGraphicFramePr/>
          <p:nvPr/>
        </p:nvGraphicFramePr>
        <p:xfrm>
          <a:off x="1066680" y="3330720"/>
          <a:ext cx="3695760" cy="141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30720"/>
                    <a:ext cx="36957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2"/>
          <p:cNvGraphicFramePr/>
          <p:nvPr/>
        </p:nvGraphicFramePr>
        <p:xfrm>
          <a:off x="1076400" y="1922400"/>
          <a:ext cx="7904160" cy="436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1922400"/>
                    <a:ext cx="7904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AutoShape 13"/>
          <p:cNvSpPr/>
          <p:nvPr/>
        </p:nvSpPr>
        <p:spPr>
          <a:xfrm>
            <a:off x="971640" y="5877000"/>
            <a:ext cx="755640" cy="7207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46" h="21600">
                <a:moveTo>
                  <a:pt x="0" y="0"/>
                </a:moveTo>
                <a:lnTo>
                  <a:pt x="22646" y="0"/>
                </a:lnTo>
                <a:lnTo>
                  <a:pt x="22646" y="21600"/>
                </a:lnTo>
                <a:lnTo>
                  <a:pt x="0" y="21600"/>
                </a:lnTo>
                <a:close/>
              </a:path>
              <a:path fill="lightenLess" w="22646" h="21600">
                <a:moveTo>
                  <a:pt x="0" y="0"/>
                </a:moveTo>
                <a:lnTo>
                  <a:pt x="22646" y="0"/>
                </a:lnTo>
                <a:lnTo>
                  <a:pt x="21246" y="1400"/>
                </a:lnTo>
                <a:lnTo>
                  <a:pt x="1400" y="1400"/>
                </a:lnTo>
                <a:close/>
              </a:path>
              <a:path fill="darken" w="22646" h="21600">
                <a:moveTo>
                  <a:pt x="22646" y="0"/>
                </a:moveTo>
                <a:lnTo>
                  <a:pt x="22646" y="21600"/>
                </a:lnTo>
                <a:lnTo>
                  <a:pt x="21246" y="20200"/>
                </a:lnTo>
                <a:lnTo>
                  <a:pt x="21246" y="1400"/>
                </a:lnTo>
                <a:close/>
              </a:path>
              <a:path fill="darkenLess" w="22646" h="21600">
                <a:moveTo>
                  <a:pt x="22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6" y="20200"/>
                </a:lnTo>
                <a:close/>
              </a:path>
              <a:path fill="lighten" w="22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6" h="21600">
                <a:moveTo>
                  <a:pt x="4317" y="7493"/>
                </a:moveTo>
                <a:lnTo>
                  <a:pt x="7824" y="7493"/>
                </a:lnTo>
                <a:lnTo>
                  <a:pt x="7824" y="12828"/>
                </a:lnTo>
                <a:cubicBezTo>
                  <a:pt x="7824" y="13751"/>
                  <a:pt x="8625" y="14482"/>
                  <a:pt x="9661" y="14482"/>
                </a:cubicBezTo>
                <a:lnTo>
                  <a:pt x="11323" y="14482"/>
                </a:lnTo>
                <a:cubicBezTo>
                  <a:pt x="12359" y="14482"/>
                  <a:pt x="13159" y="13751"/>
                  <a:pt x="13159" y="12828"/>
                </a:cubicBezTo>
                <a:lnTo>
                  <a:pt x="13159" y="7493"/>
                </a:lnTo>
                <a:lnTo>
                  <a:pt x="11323" y="7493"/>
                </a:lnTo>
                <a:lnTo>
                  <a:pt x="14831" y="3985"/>
                </a:lnTo>
                <a:lnTo>
                  <a:pt x="18504" y="7493"/>
                </a:lnTo>
                <a:lnTo>
                  <a:pt x="16667" y="7493"/>
                </a:lnTo>
                <a:lnTo>
                  <a:pt x="16667" y="12828"/>
                </a:lnTo>
                <a:cubicBezTo>
                  <a:pt x="16667" y="15596"/>
                  <a:pt x="14091" y="18155"/>
                  <a:pt x="11323" y="18155"/>
                </a:cubicBezTo>
                <a:lnTo>
                  <a:pt x="9661" y="18155"/>
                </a:lnTo>
                <a:cubicBezTo>
                  <a:pt x="6893" y="18155"/>
                  <a:pt x="4317" y="15596"/>
                  <a:pt x="431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4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меют анализиро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большая работоспособ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меют самостоятельно выполнять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Аудиалы, визу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85840" y="45007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642960" y="278604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спериментаторы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428760" y="364320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окий уровень познавательной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умение работать с формулам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делать вывод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кинестетик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5108400" y="3929040"/>
            <a:ext cx="40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Теоретики»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4357800" y="47149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ысокий уровень познавательной активност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долгосрочная память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ысокая скорость чтения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изуал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3" name="Заголовок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93560" y="-133200"/>
            <a:ext cx="8242560" cy="87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1440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1. Что такое ЭМП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2. Что служит источником ЭМП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3. Опишите механизм порождения ЭМП электрическим зарядом, постоянным магнит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Какие бывают волн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2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9"/>
          <p:cNvSpPr txBox="1"/>
          <p:nvPr/>
        </p:nvSpPr>
        <p:spPr>
          <a:xfrm>
            <a:off x="611280" y="476280"/>
            <a:ext cx="77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омагнитные волны-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М В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20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4" descr="C:\Documents and Settings\Владимир\Мои документы\Яна\Рисунок1.gif"/>
          <p:cNvPicPr/>
          <p:nvPr/>
        </p:nvPicPr>
        <p:blipFill>
          <a:blip r:embed="rId2"/>
          <a:stretch/>
        </p:blipFill>
        <p:spPr>
          <a:xfrm>
            <a:off x="1187280" y="1928880"/>
            <a:ext cx="7086600" cy="4929120"/>
          </a:xfrm>
          <a:prstGeom prst="rect">
            <a:avLst/>
          </a:prstGeom>
          <a:ln w="57240">
            <a:solidFill>
              <a:srgbClr val="0077b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План урока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900000" y="1635120"/>
            <a:ext cx="8244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Электромагнитные волны, их характеристика и основные свойства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Решение задачи на применение соотношения волнового движения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Общий обзор шкалы электромагнитных волн. Деление электромагнитного спектра на диапазоны по способу генерации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ffff"/>
                </a:solidFill>
                <a:latin typeface="Times New Roman"/>
              </a:rPr>
              <a:t>Историческая справк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52600" y="1230480"/>
          <a:ext cx="7319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230480"/>
                    <a:ext cx="7319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AutoShape 9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Рисунок 7" descr="Maksvella.jpg"/>
          <p:cNvPicPr/>
          <p:nvPr/>
        </p:nvPicPr>
        <p:blipFill>
          <a:blip r:embed="rId3"/>
          <a:stretch/>
        </p:blipFill>
        <p:spPr>
          <a:xfrm>
            <a:off x="0" y="981000"/>
            <a:ext cx="154620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Администратор\Мои документы\Дрофа\Pictures\Gerz.jpg"/>
          <p:cNvPicPr/>
          <p:nvPr/>
        </p:nvPicPr>
        <p:blipFill>
          <a:blip r:embed="rId4"/>
          <a:stretch/>
        </p:blipFill>
        <p:spPr>
          <a:xfrm>
            <a:off x="8028000" y="4221000"/>
            <a:ext cx="134460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Documents and Settings\Администратор\Мои документы\Физика\Для 10 клсса\Начало электродинамики 10 кл БухМякиш\MICHAEL FARADAY.jpg"/>
          <p:cNvPicPr/>
          <p:nvPr/>
        </p:nvPicPr>
        <p:blipFill>
          <a:blip r:embed="rId5"/>
          <a:stretch/>
        </p:blipFill>
        <p:spPr>
          <a:xfrm>
            <a:off x="7885080" y="1052640"/>
            <a:ext cx="1224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бота  в групп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Теоретики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 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Жизненная мудрость. Определите ключевую фраз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ллюстрируйте основную мысль текста в виде рисунка, схем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вод. Сделайте из прочитанного текста  выводы, значимые для вашей жизн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Экспериментатор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» -  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судить информацию об ЭМВ. Выберите из текста ту информацию, которая для вас является новой. Составить конспект вашей группы Объясните, прочитав текст, рисунок 14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Знатоки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 воздействуют на живые организмы ЭМВ?  Выберите из текста такую информацию, которая является для вас неожиданной, так как противоречит вашим ожиданием и первоначальным представления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2:02:02Z</dcterms:created>
  <dc:creator>DIMON</dc:creator>
  <dc:description/>
  <dc:language>en-US</dc:language>
  <cp:lastModifiedBy>Раиса</cp:lastModifiedBy>
  <dcterms:modified xsi:type="dcterms:W3CDTF">2013-03-01T03:27:53Z</dcterms:modified>
  <cp:revision>443</cp:revision>
  <dc:subject/>
  <dc:title>Спектр электромагнитных волн. </dc:title>
</cp:coreProperties>
</file>