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4E7-37EB-4437-9055-DE6CE642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2E63-4684-477E-B2F5-E99FA563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98C-222D-4491-AF02-5DDF249C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F43-6FDB-4FD9-8FB3-901A3D0D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C4D6-1120-4775-9843-608B8DE0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5D75-511A-4351-B1ED-57DE9BE0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BDFF-AE3F-40A0-8AB4-4E4A0D59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3680-AEDF-4312-AC4D-1F1EF7BE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8A23-5398-4D90-802E-E97A585A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9A93-EE3D-46D4-8632-806A4021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45E2-7FF1-439D-B4B1-3FFD2773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7E3-054C-4A31-9D5D-B38120EC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C3AF-6D51-4611-868C-92BF7AD0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9370-40EF-4AB0-98F7-2681F54A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F6A2-7B14-4774-B111-73831F26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0E4B-8634-4952-BC76-B6C05B02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6D57-D9BE-4E3A-A10A-309FC64A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D2C-44CB-4EB8-99D3-96BC725D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C28-B204-4A3C-8FF5-012BA38C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8B55-EDD3-4500-AF51-F9C9328A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E56-528F-4FB0-8A67-B63B6D59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3200-1D1D-47EE-8638-F8CE973C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EBB-8CC8-4821-9A5C-2C7DF512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FD1-E9B5-40F2-899E-78684DF3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E64D-5CAB-4223-BBF2-4FC72C0570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FB0E-B3F2-4B94-B9E7-D860803C0F8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Фёдор Михайлович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Достоевский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Жизнь и творчество</a:t>
            </a:r>
            <a:br>
              <a:rPr sz="32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(урок литературы в 10 классе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готовил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йцева Ирина Николаевн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КОУ «Становская средняя общеобразовательная школ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имского района Курской обла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013 г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Литературное наследие Ф.М.Достоевског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Бедные люди» (роман, 184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Белые ночи» (рома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Неточка Незванова» (рома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Господин Прохачин» (повесть, 184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Хозяйка» (повесть, 184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Двойник» (повест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аписки из Мёртвого дом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Униженные и оскорблённые» (роман 186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аписки из подполья» (186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реступление и наказание» (роман, 186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Идиот» (роман, 186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»Бесы» (роман, 187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одросток» (роман, 187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Братья Карамазовы» (роман, 187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Литературное наследие Ф.М.Достоевског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933720"/>
            <a:ext cx="3260880" cy="2171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84720" y="1268280"/>
            <a:ext cx="1438560" cy="2171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84360" y="1197000"/>
            <a:ext cx="3844800" cy="2171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1390680" cy="2171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63480" y="3371760"/>
            <a:ext cx="38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Преступление и наказани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00560" y="610884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Идио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Семья ф.М.Достоевског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1846080" cy="2603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43280" y="1011240"/>
            <a:ext cx="2449800" cy="2428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39640" y="4076640"/>
            <a:ext cx="1898640" cy="2532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859280" y="3933720"/>
            <a:ext cx="2173320" cy="2459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03480" y="1427040"/>
            <a:ext cx="261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на Григорьевна Сниткина (Достоевская) – жена, помощница, по-настоящему близкий и преданный дру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72200" y="1427040"/>
            <a:ext cx="182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е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ёдор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юбов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3803760"/>
            <a:ext cx="239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этом доме в Петербурге жила семья Достоевск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ейчас музей-квартира писа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27840" y="3803760"/>
            <a:ext cx="189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00920" y="3876840"/>
            <a:ext cx="19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 братом Михаилом, скончавшимся в 1864 г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Ф.М.Достоевский. Высказывания и афоризмы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к – вот тайна, которой я занимаюсь всю жиз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сский человек без православия – дрянь, а не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асота спасёт ми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 всему-то подлец-человек привыка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бода не в том, чтобы сдерживать себя, а в том, чтобы владеть соб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не хочу и не могу верить, чтобы зло было нормальным состоянием люд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радание есть главнейший и, может быть, единственный закон бытия всего человеч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стыдно не знать – стыдно не учи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6000" y="260280"/>
            <a:ext cx="8928000" cy="6356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Достоевский в мировой литератур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76720" y="1341000"/>
            <a:ext cx="5410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Человек не родится для счастья. Человек заслуживает своё счастье, и всегда страданием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Ф.М.Достоев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русской литературе заметное воздействие Достоевского испытали писатели: Ф.Сологуб, Л.Андреев, А.Блок, В.Маяковск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зарубежных писателей Достоевский являлся величайшим авторитетом в области художественного исследования психической жизни, особенно подсознания: Т.Манн, С.Цвейг, Ф.Кафка, А.Камю, Т.Драйзер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. Фолкнер и д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676600" cy="3571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0920" y="5084640"/>
            <a:ext cx="275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гила Ф.М.Достоевского на Тихвинском кладбище Александро-Невской лав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ФЁДОР МИХАЙЛОВИЧ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ДОСТОЕВСКИЙ</a:t>
            </a:r>
            <a:br>
              <a:rPr sz="1600"/>
            </a:br>
            <a:r>
              <a:rPr b="1" i="1" lang="en-US" sz="1600" spc="-1" strike="noStrike">
                <a:solidFill>
                  <a:srgbClr val="ffffcc"/>
                </a:solidFill>
                <a:latin typeface="Tahoma"/>
              </a:rPr>
              <a:t>1821 - 1881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16000" y="3933720"/>
            <a:ext cx="3529080" cy="2648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ворчество Ф.М.Достоевского – одно из вершинных явлений мировой культу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«Он не только признаёт законность тех интересов, которые волнуют современное общество, но даже вступает в область предвидений, которые составляют цель … отдалённых исканий человечеств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М.Е. Салтыков-Щедр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463840" cy="3106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Ф.М.Достоевский. Ранние годы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2862000" cy="2185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одился 30 октября (11 ноября)  в многодетной семье, в Москве, в семье штаб-лекаря Мариинской больницы для бедн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95640" y="2987640"/>
            <a:ext cx="2952720" cy="210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79480" y="5248440"/>
            <a:ext cx="69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узей-квартира Ф.М.Достоевского в Москве. В этом доме родился классик и провёл первые 15 лет своей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строен архитектором И.Жиляр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тиль – поздний русский классициз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3213000"/>
            <a:ext cx="51944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1838 году братья Достоевские по желанию отца поступают в Главное инженерное училище в Петербурге. После Москвы Петербург представлялся Достоевскому особенно угрюмым и холодным, казённая обстановка училища – чуждой и угнетающ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августе 1841 г. Достоевский получил офицерский чин и право жить вне училища, на частной кварти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5040360" cy="3240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848200" y="568440"/>
            <a:ext cx="3044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чилище находилось в Михайловском зам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тербург властно вошёл в жизнь писателя.  Город париев и бедняков. Здесь он поселит своих будущи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24360" y="2852640"/>
            <a:ext cx="288000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оман «Бедные люди» (1846 год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«Честь и слава молодому поэту, муза которого любит людей на чердаках и в подвалах и говорит о них обитателям раззолоченных палат: «Ведь это тоже люди, ваши братья!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В.Г. Белин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Достоевский сделал предметом изображения «не действительность героя, а его самосознание», используя эпистолярную форм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Эпистолярная форма романа – это роман в письма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27640" y="1160640"/>
            <a:ext cx="4537080" cy="3563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92560" y="4889520"/>
            <a:ext cx="47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кар Девуш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вара Добросёл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7840" y="5819760"/>
            <a:ext cx="851688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Герой Достоевского – «мечтатель», оторванный от реальной жизни чудак, живущий в мире романтических грё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ружок Петрашевского. Приговор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начале 1847 года Ф.М.Достоевский начинает посещать кружок Петрашевск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 апреля 1849 года читает запрещённое тогда письмо Белинского к Гоголю 1847 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авительство посылает к Петрашевскому провокатора, и в ночь с 22 на 23 апреля 1849 г. Достоевский в числе прочих участников собрания был арестован и посажен в Петропавловскую креп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 месяцев следств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ражданская каз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говор: 4 года каторжных работ, потом рядов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836640"/>
            <a:ext cx="2721240" cy="4495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416560" y="546084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.М.Достоевский в период ссылки и каторжных раб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«Записки из Мёртвого дома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Я узнал народ русский так хорошо, как, может быть, не многие знают его», - писал Фёдор Михайлович брату Михаил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года провёл Достоевский в Омском острог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1854  по 1859 г. – в 7-м линейном батальоне в Семипалатинске, откуда выходит в чине подпоруч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1859 года получает разрешение жить в Петербург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7432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Журнальная деятельность Ф.М.Достоевског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845-1847 член группы «школа сентиментального натурализма» в ж. «Отечественные записк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дание собственного журнала в соавторстве с братом Михаил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урнал «Время» (1861-186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урнал «Эпоха» (1864-186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1873 г. Достоевский ответственный редактор журнала «Граждани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97040"/>
            <a:ext cx="4038480" cy="4300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9:09:30Z</dcterms:created>
  <dc:creator>PC</dc:creator>
  <dc:description/>
  <dc:language>en-US</dc:language>
  <cp:lastModifiedBy>PC</cp:lastModifiedBy>
  <dcterms:modified xsi:type="dcterms:W3CDTF">2013-02-17T14:57:39Z</dcterms:modified>
  <cp:revision>5</cp:revision>
  <dc:subject/>
  <dc:title>ФЁДОР МИХАЙЛОВИЧ ДОСТОЕВСКИЙ 1821 - 1881</dc:title>
</cp:coreProperties>
</file>