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1F3-F2A8-4F9B-B663-981F5C8A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4AF-76D5-48D7-B938-1777D0F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0CC-E1E4-4808-B1E4-25FF17E2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0E9-557A-4F4B-A95D-27429EF2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81A2-449B-41AA-AA84-1FC42A7F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E8D-AFF6-40E5-B870-4E4E24C8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2915-C064-4306-A3DD-9FB1FAA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9A5C-3FFA-442F-9AF2-84A1212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2F62-54E5-4D96-8B77-8779E4E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3D1-833B-4BA8-AF34-11779EA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0CB-44CA-45DA-9A34-F03BEC6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C9D-0E86-435B-9124-B9DE1FE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FD2-1286-446A-84AF-DBE6276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74A-5444-40AD-BDF8-D457DC5C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5D4B-0F51-482E-BB19-A2357B2A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4D5-ECBD-4FDF-8F5B-CCB943A3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9AF7-007E-4E53-AF3D-9605F24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FBA-E181-4399-8963-D1B2EF1F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FFC-CCBD-4DFE-84C3-2F55B25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08A-8EBC-4662-AEA1-6501BDE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AA2-2B3A-4956-BAC7-5C789876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004-129F-4F55-98E1-692825F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736-7CE4-403D-AB27-368642D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32E-E887-477D-BC1A-CF66CDD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85E3-C2E6-4F6D-9762-54BA8DA11D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A32-5A68-4298-85E4-45E149BA51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ёдор Михайлович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остоевски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br>
              <a:rPr sz="32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(урок литературы в 10 классе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готови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йцева Ирина Николаев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КОУ «Становская средня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мского района Кур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013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итературное наследие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едные люди» (роман, 18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елые ночи» (ром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еточка Незванова» (ром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Господин Прохачин» (повесть, 18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Хозяйка» (повесть, 184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Двойник» (пове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писки из Мёртвого дом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Униженные и оскорблённые» (роман 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писки из подполья» (18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еступление и наказание» (роман, 186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диот» (роман, 186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»Бесы» (роман, 18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дросток» (роман, 187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ратья Карамазовы» (роман, 187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итературное наследие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3260880" cy="2171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1438560" cy="21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4480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390680" cy="2171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63480" y="3371760"/>
            <a:ext cx="38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Преступление и наказа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00560" y="610884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Идио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емья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846080" cy="260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1011240"/>
            <a:ext cx="2449800" cy="242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1898640" cy="2532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2173320" cy="245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03480" y="142704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на Григорьевна Сниткина (Достоевская) – жена, помощница, по-настоящему близкий и преданный дру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72200" y="1427040"/>
            <a:ext cx="18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ёдор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3803760"/>
            <a:ext cx="239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том доме в Петербурге жила семья Достоев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йчас музей-квартира пис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27840" y="38037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00920" y="387684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братом Михаилом, скончавшимся в 1864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.М.Достоевский. Высказывания и афоризм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 – вот тайна, которой я занимаюсь всю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ий человек без православия – дрянь, а не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ота спасёт ми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 всему-то подлец-человек привык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бода не в том, чтобы сдерживать себя, а в том, чтобы владеть соб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не хочу и не могу верить, чтобы зло было нормальным состоянием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радание есть главнейший и, может быть, единственный закон бытия всего челове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стыдно не знать – стыдно не учи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6000" y="260280"/>
            <a:ext cx="8928000" cy="635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Достоевский в мировой литератур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6720" y="1341000"/>
            <a:ext cx="5410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Человек не родится для счастья. Человек заслуживает своё счастье, и всегда страданием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усской литературе заметное воздействие Достоевского испытали писатели: Ф.Сологуб, Л.Андреев, А.Блок, В.Маяков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зарубежных писателей Достоевский являлся величайшим авторитетом в области художественного исследования психической жизни, особенно подсознания: Т.Манн, С.Цвейг, Ф.Кафка, А.Камю, Т.Драйзе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. Фолкнер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676600" cy="3571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5084640"/>
            <a:ext cx="275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гила Ф.М.Достоевского на Тихвинском кладбище Александро-Невской лав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ФЁДОР МИХАЙЛОВИЧ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ДОСТОЕВСКИЙ</a:t>
            </a:r>
            <a:br>
              <a:rPr sz="1600"/>
            </a:b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1821 - 1881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393372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ворчество Ф.М.Достоевского – одно из вершинных явлений мировой куль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«Он не только признаёт законность тех интересов, которые волнуют современное общество, но даже вступает в область предвидений, которые составляют цель … отдалённых исканий человечеств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М.Е. Салтыков-Щедр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463840" cy="310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.М.Достоевский. Ранние год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86200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одился 30 октября (11 ноября)  в многодетной семье, в Москве, в семье штаб-лекаря Мариинской больницы для бед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95640" y="2987640"/>
            <a:ext cx="2952720" cy="210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9480" y="5248440"/>
            <a:ext cx="69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зей-квартира Ф.М.Достоевского в Москве. В этом доме родился классик и провёл первые 15 лет свое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роен архитектором И.Жиляр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иль – поздний русский классиц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213000"/>
            <a:ext cx="5194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1838 году братья Достоевские по желанию отца поступают в Главное инженерное училище в Петербурге. После Москвы Петербург представлялся Достоевскому особенно угрюмым и холодным, казённая обстановка училища – чуждой и угнетающ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августе 1841 г. Достоевский получил офицерский чин и право жить вне училища, на частной кварти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48200" y="568440"/>
            <a:ext cx="3044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илище находилось в Михайловском зам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тербург властно вошёл в жизнь писателя.  Город париев и бедняков. Здесь он поселит своих будущ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2880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 «Бедные люди» (1846 год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«Честь и слава молодому поэту, муза которого любит людей на чердаках и в подвалах и говорит о них обитателям раззолоченных палат: «Ведь это тоже люди, ваши братья!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В.Г. Бели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остоевский сделал предметом изображения «не действительность героя, а его самосознание», используя эпистолярную фор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пистолярная форма романа – это роман в письм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160640"/>
            <a:ext cx="4537080" cy="356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92560" y="488952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ар Дев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вара Добросё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5819760"/>
            <a:ext cx="85168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Герой Достоевского – «мечтатель», оторванный от реальной жизни чудак, живущий в мире романтических грё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ужок Петрашевского. Приговор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ачале 1847 года Ф.М.Достоевский начинает посещать кружок Петрашев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 апреля 1849 года читает запрещённое тогда письмо Белинского к Гоголю 1847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вительство посылает к Петрашевскому провокатора, и в ночь с 22 на 23 апреля 1849 г. Достоевский в числе прочих участников собрания был арестован и посажен в Петропавловскую креп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 месяцев следств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ажданская ка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говор: 4 года каторжных работ, потом рядов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721240" cy="449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16560" y="54608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М.Достоевский в период ссылки и каторжны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Записки из Мёртвого дома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узнал народ русский так хорошо, как, может быть, не многие знают его», - писал Фёдор Михайлович брату Михаи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года провёл Достоевский в Омском остро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54  по 1859 г. – в 7-м линейном батальоне в Семипалатинске, откуда выходит в чине подпоруч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59 года получает разрешение жить в Петербур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3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Журнальная деятельность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45-1847 член группы «школа сентиментального натурализма» в ж. «Отечественные запис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дание собственного журнала в соавторстве с братом Михаи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урнал «Время» (1861-18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урнал «Эпоха» (1864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73 г. Достоевский ответственный редактор журнала «Граждани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97040"/>
            <a:ext cx="4038480" cy="430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9:09:30Z</dcterms:created>
  <dc:creator>PC</dc:creator>
  <dc:description/>
  <dc:language>en-US</dc:language>
  <cp:lastModifiedBy>PC</cp:lastModifiedBy>
  <dcterms:modified xsi:type="dcterms:W3CDTF">2013-02-17T14:57:39Z</dcterms:modified>
  <cp:revision>5</cp:revision>
  <dc:subject/>
  <dc:title>ФЁДОР МИХАЙЛОВИЧ ДОСТОЕВСКИЙ 1821 - 1881</dc:title>
</cp:coreProperties>
</file>