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0FBE-D9A5-443F-A8CF-A8459924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B1B2-A5AD-4535-9E96-FA56CC53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59DB-940F-455F-AA35-6FCA68CEB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6148-02BD-4C98-889C-74D6AFD2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13C4-9980-4C92-9245-0A69C0C7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DEFC-E8D0-4998-8692-0E24A5E8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6C72-E951-4A11-A52D-318C0293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0472-A6B3-4A03-B1E1-3C8E2EAF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EC40-1FE0-4B3E-8A82-18CBD49E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A53F-0EE4-4513-8934-CDDFBA7F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A6AB-A1E9-46A6-A07D-62F2A925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9667-DBA4-4D1C-9799-A59714B5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45AD-6E13-49EC-9A28-8FA2B363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6BBF-5C58-4987-84DE-71180BB8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E628-03FA-4326-9842-1952E637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4CE4-6280-48AD-9C4F-CCF5F57C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D127-2F8A-4B3A-9B09-469DFDA5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0129-ACEA-48EF-BE11-9D5A450B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3DA1-EB6A-4D2F-911D-40D7B45B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053F-7B83-4A26-B128-0D26B3DB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033B-2DA3-42C3-845E-985EC2DC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267-8351-4D44-B70C-9D912226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BD28-0074-4FCB-8001-584AE3B7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66E5-D68F-4C4E-A25D-F362A1AE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0A4A-DF88-4C6B-951E-BC60B17D2D2F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D32B-0317-4763-BD24-3FD47B7F8BC0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399600" cy="10494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85480" y="1499760"/>
            <a:ext cx="8643960" cy="46436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«СОПОСТАВИТЕЛЬНОЕ ИЗУЧЕНИЕ ЯЗЫКОВ, ЛИТЕРАТУР И КУЛЬТУР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Валерия Семис-ооловна Дамба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(МОУ СОШ с Эрзин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47fd8"/>
                </a:solidFill>
                <a:latin typeface="Calibri"/>
              </a:rPr>
              <a:t>Переводчики рубаи: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Артык Ховалыг-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эт, журналист, редактор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водчик произведений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 Ахматовой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.Хайям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Борис </a:t>
            </a: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Казырыкпай-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эт, критик, литературовед, переводчик произведений зарубежной литературы, в т.ч. О.Хайям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6840" y="500040"/>
            <a:ext cx="4040280" cy="714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eece1"/>
                </a:solidFill>
                <a:latin typeface="Constantia"/>
              </a:rPr>
              <a:t>Форм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4720" y="500040"/>
            <a:ext cx="4041720" cy="714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eece1"/>
                </a:solidFill>
                <a:latin typeface="Constantia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1571760"/>
            <a:ext cx="40402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1100"/>
              </a:spcBef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стиль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жанр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композиция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ритм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4720" y="1571760"/>
            <a:ext cx="4041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1100"/>
              </a:spcBef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тема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идея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проблема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конфликт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0" y="1785960"/>
            <a:ext cx="914400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47fd8"/>
                </a:solidFill>
                <a:latin typeface="Constantia"/>
              </a:rPr>
              <a:t>Общаясь с дураком, не оберешься ср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ама</a:t>
            </a:r>
            <a:r>
              <a:rPr b="0" lang="ru-RU" sz="3200" spc="-1" strike="noStrike">
                <a:solidFill>
                  <a:srgbClr val="347fd8"/>
                </a:solidFill>
                <a:latin typeface="Constantia"/>
              </a:rPr>
              <a:t>,</a:t>
            </a:r>
            <a:br>
              <a:rPr sz="3200"/>
            </a:br>
            <a:r>
              <a:rPr b="0" lang="ru-RU" sz="3200" spc="-1" strike="noStrike">
                <a:solidFill>
                  <a:srgbClr val="347fd8"/>
                </a:solidFill>
                <a:latin typeface="Constantia"/>
              </a:rPr>
              <a:t>Поэтому совет ты выслушай Хай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яма</a:t>
            </a:r>
            <a:r>
              <a:rPr b="0" lang="ru-RU" sz="3200" spc="-1" strike="noStrike">
                <a:solidFill>
                  <a:srgbClr val="347fd8"/>
                </a:solidFill>
                <a:latin typeface="Constantia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00b0f0"/>
                </a:solidFill>
                <a:latin typeface="Constantia"/>
              </a:rPr>
              <a:t>Яд, мудрецом тебе предложенный, прими</a:t>
            </a:r>
            <a:r>
              <a:rPr b="0" lang="ru-RU" sz="3200" spc="-1" strike="noStrike">
                <a:solidFill>
                  <a:srgbClr val="347fd8"/>
                </a:solidFill>
                <a:latin typeface="Constantia"/>
              </a:rPr>
              <a:t>,</a:t>
            </a:r>
            <a:br>
              <a:rPr sz="3200"/>
            </a:br>
            <a:r>
              <a:rPr b="0" lang="ru-RU" sz="3200" spc="-1" strike="noStrike">
                <a:solidFill>
                  <a:srgbClr val="347fd8"/>
                </a:solidFill>
                <a:latin typeface="Constantia"/>
              </a:rPr>
              <a:t>Из рук же дурака не принимай бальз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ама</a:t>
            </a:r>
            <a:r>
              <a:rPr b="0" lang="ru-RU" sz="3200" spc="-1" strike="noStrike">
                <a:solidFill>
                  <a:srgbClr val="347fd8"/>
                </a:solidFill>
                <a:latin typeface="Constantia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347fd8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0" y="1642680"/>
            <a:ext cx="91440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Ме</a:t>
            </a:r>
            <a:r>
              <a:rPr b="0" lang="ru-RU" sz="3600" spc="-1" strike="noStrike">
                <a:solidFill>
                  <a:srgbClr val="347fd8"/>
                </a:solidFill>
                <a:latin typeface="Constantia"/>
              </a:rPr>
              <a:t>рген кижи хоран берзе, ойталава,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Ме</a:t>
            </a:r>
            <a:r>
              <a:rPr b="0" lang="ru-RU" sz="3600" spc="-1" strike="noStrike">
                <a:solidFill>
                  <a:srgbClr val="347fd8"/>
                </a:solidFill>
                <a:latin typeface="Constantia"/>
              </a:rPr>
              <a:t>легей сээ дашка сунза, ону тутпа –</a:t>
            </a:r>
            <a:br>
              <a:rPr sz="3600"/>
            </a:br>
            <a:r>
              <a:rPr b="0" lang="ru-RU" sz="3600" spc="-1" strike="noStrike">
                <a:solidFill>
                  <a:srgbClr val="00b0f0"/>
                </a:solidFill>
                <a:latin typeface="Constantia"/>
              </a:rPr>
              <a:t>Хайямнын бо ийи чагыы сенээ ур-ле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Ме</a:t>
            </a:r>
            <a:r>
              <a:rPr b="0" lang="ru-RU" sz="3600" spc="-1" strike="noStrike">
                <a:solidFill>
                  <a:srgbClr val="347fd8"/>
                </a:solidFill>
                <a:latin typeface="Constantia"/>
              </a:rPr>
              <a:t>дерелдиг чурттаарынын оруу болзун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214200"/>
            <a:ext cx="404028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onstantia"/>
              </a:rPr>
              <a:t>Рубаи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4720" y="214200"/>
            <a:ext cx="404172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onstantia"/>
              </a:rPr>
              <a:t>пословицы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071720"/>
            <a:ext cx="40402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Жанр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 малый поэтический жанр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Стиль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 афористическая мудрость,наставления, советы, критический взгляд на жизн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Ритм стиха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 рифмуются 3 строки, 1-свободна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4720" y="1071720"/>
            <a:ext cx="404172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7000"/>
          </a:bodyPr>
          <a:p>
            <a:pPr marL="264600" indent="-26460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Жанр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 устный жанр УНТ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Стиль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 мудрость народа, содержащая в себе советы, наставления, наблюдения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Ритм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 краткость, параллельные синтаксические конструкц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eece1"/>
                </a:solidFill>
                <a:latin typeface="Calibri"/>
              </a:rPr>
              <a:t>лингвокультурология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научная дисциплина, пограничная между лингвистикой и культурой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eece1"/>
                </a:solidFill>
                <a:latin typeface="Calibri"/>
              </a:rPr>
              <a:t>Объект 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заимосвязь и взаимодействие культуры и языка в процессе его изучения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eece1"/>
                </a:solidFill>
                <a:latin typeface="Calibri"/>
              </a:rPr>
              <a:t>Предмет исследования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орудия труда, предметы домашней утвари, привычки, образ жизни людей, обычаи и  традиции, религия, мораль, философия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eece1"/>
                </a:solidFill>
                <a:latin typeface="Calibri"/>
              </a:rPr>
              <a:t>примеры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семья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бычаи и традиции русской и тувинской семей, записать слова-обращения к членам семьи, составить  сопоставительный ряд названий родственных связей в русском и тувинском языках. На дом задавалось написать сочинение «Любимая традиция моей семьи», «Как мы проводим семейный праздник», «Самый уважаемый в  нашей родне»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Человек, имеющий обширный материал, знания о своем родном языке, родной культуре, нации, этносе, может понять, принять другую культуру, историю и непременно заинтересуется другим народом, особенностями его культурного и национального  наследия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eeece1"/>
                </a:solidFill>
                <a:latin typeface="Calibri"/>
              </a:rPr>
              <a:t>Актуальность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условлена проблемами  преподавания русского языка и литературы в поликультурной среде: как заинтересовать детей к изучению языков, как помочь им постигать художественный мир другого народа, другой эпох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eeece1"/>
                </a:solidFill>
                <a:latin typeface="Calibri"/>
              </a:rPr>
              <a:t>Практическая направленность</a:t>
            </a:r>
            <a:r>
              <a:rPr b="0" lang="ru-RU" sz="45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стоит в том, что  необходимо  и педагогически целесообразно  обновление содержания уроков языка и литературы и воспитании  учащихся в контексте мировой литературы и культуры. И, наконец, возможность применения любым учителем  на практике своей работы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eeece1"/>
                </a:solidFill>
                <a:latin typeface="Calibri"/>
              </a:rPr>
              <a:t>цель</a:t>
            </a:r>
            <a:endParaRPr b="0" lang="en-US" sz="45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формирование у детей знаний, умений и навыков, обеспечивающих владение языком как средством общен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облюдение основных современных педагогических принципов обучения (принцип личностноориентированного обучения, культурноориентированный и деятельноориентированный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остепенный переход от учебно-познавательной деятельности детей к самостоятельной деятельности, появляется потребность в творческом поиске точек соприкосновения языков и их различий, т.е. их уникальности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eeece1"/>
                </a:solidFill>
                <a:latin typeface="Calibri"/>
              </a:rPr>
              <a:t>Ожидаемые </a:t>
            </a:r>
            <a:r>
              <a:rPr b="1" lang="ru-RU" sz="4500" spc="-1" strike="noStrike">
                <a:solidFill>
                  <a:srgbClr val="eeece1"/>
                </a:solidFill>
                <a:latin typeface="Calibri"/>
              </a:rPr>
              <a:t>результаты:</a:t>
            </a:r>
            <a:br>
              <a:rPr sz="4500"/>
            </a:br>
            <a:endParaRPr b="0" lang="en-US" sz="45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степенный переход от учебно-познавательной деятельности детей к самостоятельной деятельности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является потребность в творческом поиске точек соприкосновения языков и их различий, т.е. их уникальности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eeece1"/>
                </a:solidFill>
                <a:latin typeface="Calibri"/>
              </a:rPr>
              <a:t>дерево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растение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материал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обое слово - дрова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eece1"/>
                </a:solidFill>
                <a:latin typeface="Calibri"/>
              </a:rPr>
              <a:t>по-тувински 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ыяш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растение, и материал, и дро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овосочетания: «узуун ыяш, ыяш стол,одаар ыяш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eece1"/>
                </a:solidFill>
                <a:latin typeface="Calibri"/>
              </a:rPr>
              <a:t>Прилагательные-синонимы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вердый, жесткий, жестокий, свиреп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тувинском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вердый, жесткий-«кадыг»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естокий, свирепый-«каржы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450720" y="-115920"/>
            <a:ext cx="8321760" cy="1049400"/>
          </a:xfrm>
          <a:prstGeom prst="rect">
            <a:avLst/>
          </a:prstGeom>
          <a:ln w="0">
            <a:noFill/>
          </a:ln>
        </p:spPr>
      </p:pic>
      <p:sp>
        <p:nvSpPr>
          <p:cNvPr id="112" name="Стрелка вниз 2"/>
          <p:cNvSpPr/>
          <p:nvPr/>
        </p:nvSpPr>
        <p:spPr>
          <a:xfrm>
            <a:off x="1066680" y="1371600"/>
            <a:ext cx="304920" cy="7621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304920" y="236232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onstantia"/>
              </a:rPr>
              <a:t>по темам (сквозным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Стрелка вниз 5"/>
          <p:cNvSpPr/>
          <p:nvPr/>
        </p:nvSpPr>
        <p:spPr>
          <a:xfrm>
            <a:off x="3957480" y="1371600"/>
            <a:ext cx="304920" cy="7621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3000240" y="2362320"/>
            <a:ext cx="307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onstantia"/>
              </a:rPr>
              <a:t>по вечны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onstantia"/>
              </a:rPr>
              <a:t>вопроса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Стрелка вниз 7"/>
          <p:cNvSpPr/>
          <p:nvPr/>
        </p:nvSpPr>
        <p:spPr>
          <a:xfrm>
            <a:off x="7315200" y="1371600"/>
            <a:ext cx="304920" cy="7621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6357960" y="2362320"/>
            <a:ext cx="264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d0a10"/>
                </a:solidFill>
                <a:latin typeface="Constantia"/>
              </a:rPr>
              <a:t>типу героев, образов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Стрелка вниз 10"/>
          <p:cNvSpPr/>
          <p:nvPr/>
        </p:nvSpPr>
        <p:spPr>
          <a:xfrm>
            <a:off x="2514600" y="1905120"/>
            <a:ext cx="304920" cy="1904760"/>
          </a:xfrm>
          <a:prstGeom prst="downArrow">
            <a:avLst>
              <a:gd name="adj1" fmla="val 50000"/>
              <a:gd name="adj2" fmla="val 4997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Стрелка вниз 11"/>
          <p:cNvSpPr/>
          <p:nvPr/>
        </p:nvSpPr>
        <p:spPr>
          <a:xfrm>
            <a:off x="6019920" y="1905120"/>
            <a:ext cx="304560" cy="1904760"/>
          </a:xfrm>
          <a:prstGeom prst="downArrow">
            <a:avLst>
              <a:gd name="adj1" fmla="val 50000"/>
              <a:gd name="adj2" fmla="val 500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1388880" y="4191120"/>
            <a:ext cx="30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onstantia"/>
              </a:rPr>
              <a:t>с русск  лит-ро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Прямоугольник 15"/>
          <p:cNvSpPr/>
          <p:nvPr/>
        </p:nvSpPr>
        <p:spPr>
          <a:xfrm>
            <a:off x="5257800" y="4200480"/>
            <a:ext cx="25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onstantia"/>
              </a:rPr>
              <a:t>с тувинск  лит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Стрелка вниз 16"/>
          <p:cNvSpPr/>
          <p:nvPr/>
        </p:nvSpPr>
        <p:spPr>
          <a:xfrm>
            <a:off x="4267080" y="3581280"/>
            <a:ext cx="304920" cy="190512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TextBox 17"/>
          <p:cNvSpPr/>
          <p:nvPr/>
        </p:nvSpPr>
        <p:spPr>
          <a:xfrm>
            <a:off x="3000240" y="5715000"/>
            <a:ext cx="44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a10"/>
                </a:solidFill>
                <a:latin typeface="Constantia"/>
              </a:rPr>
              <a:t>с лит народов России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uian da</cp:lastModifiedBy>
  <dcterms:modified xsi:type="dcterms:W3CDTF">2011-12-13T12:22:31Z</dcterms:modified>
  <cp:revision>19</cp:revision>
  <dc:subject/>
  <dc:title>Республиканская научно-практическая конференция «Русский язык: проблемы теории и практики преподавания»</dc:title>
</cp:coreProperties>
</file>