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100-193F-46A9-84ED-FD07A0C6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97B-8A7F-4FDC-B87F-17A1F665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3F8-DE3E-40CA-952A-80CF9B37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DC4-73C6-4836-99A5-06B1821B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9412-457D-4529-AC65-C4852F62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EC57-B666-4093-8090-A49AD9C6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502D-F3AF-44CE-B3CE-8D6D1DB8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1678-7F45-4551-A5D0-88D7D3C8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48FE-FF67-4A10-A173-CC84581A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2B73-D7EF-484C-9F48-E0133D9F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4058-276C-498F-93E6-57CAB236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91A-1AD4-4197-890C-FBF0EC49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2EB7-EC29-4D1D-8058-A8817ECD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6AA5-BB94-4CBB-BC19-FB39E766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6D3D-09E9-46FE-973D-A9490F24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FEBD-51F0-4F7D-8E4B-1DCA795D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DCC9-8B6D-4D80-B67C-46CF4656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D20-A909-495E-9932-21441726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0E2-5F10-4FB9-A2A0-BA051BD4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445-EF7B-4D61-8BD5-EBD24974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AC8-DE51-4EFB-BC5C-12429F3A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933-1436-48CA-963E-A1751DDF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344-0F97-47D1-88CD-DC559CFA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0BF-D4C3-4595-8804-E585E9BC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1956-7779-4A6B-BF16-A13065539525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2275-D6D0-4FD5-BA17-60BA09F5B0DA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399600" cy="10494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85480" y="1499760"/>
            <a:ext cx="8643960" cy="46436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«СОПОСТАВИТЕЛЬНОЕ ИЗУЧЕНИЕ ЯЗЫКОВ, ЛИТЕРАТУР И КУЛЬТУР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Валерия Семис-ооловна Дамба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(МОУ СОШ с Эрзин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47fd8"/>
                </a:solidFill>
                <a:latin typeface="Calibri"/>
              </a:rPr>
              <a:t>Переводчики рубаи: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Артык Ховалыг-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эт, журналист, редактор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чик произведений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 Ахматовой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.Хайям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Борис 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Казырыкпай-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эт, критик, литературовед, переводчик произведений зарубежной литературы, в т.ч. О.Хайям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500040"/>
            <a:ext cx="4040280" cy="71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eece1"/>
                </a:solidFill>
                <a:latin typeface="Constantia"/>
              </a:rPr>
              <a:t>Форм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4720" y="500040"/>
            <a:ext cx="4041720" cy="71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eece1"/>
                </a:solidFill>
                <a:latin typeface="Constantia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571760"/>
            <a:ext cx="40402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стиль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жанр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композиция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ритм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4720" y="1571760"/>
            <a:ext cx="4041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тем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идея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проблем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0" y="1785960"/>
            <a:ext cx="91440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47fd8"/>
                </a:solidFill>
                <a:latin typeface="Constantia"/>
              </a:rPr>
              <a:t>Общаясь с дураком, не оберешься ср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ама</a:t>
            </a:r>
            <a:r>
              <a:rPr b="0" lang="ru-RU" sz="3200" spc="-1" strike="noStrike">
                <a:solidFill>
                  <a:srgbClr val="347fd8"/>
                </a:solidFill>
                <a:latin typeface="Constantia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347fd8"/>
                </a:solidFill>
                <a:latin typeface="Constantia"/>
              </a:rPr>
              <a:t>Поэтому совет ты выслушай Хай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яма</a:t>
            </a:r>
            <a:r>
              <a:rPr b="0" lang="ru-RU" sz="3200" spc="-1" strike="noStrike">
                <a:solidFill>
                  <a:srgbClr val="347fd8"/>
                </a:solidFill>
                <a:latin typeface="Constanti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b0f0"/>
                </a:solidFill>
                <a:latin typeface="Constantia"/>
              </a:rPr>
              <a:t>Яд, мудрецом тебе предложенный, прими</a:t>
            </a:r>
            <a:r>
              <a:rPr b="0" lang="ru-RU" sz="3200" spc="-1" strike="noStrike">
                <a:solidFill>
                  <a:srgbClr val="347fd8"/>
                </a:solidFill>
                <a:latin typeface="Constantia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347fd8"/>
                </a:solidFill>
                <a:latin typeface="Constantia"/>
              </a:rPr>
              <a:t>Из рук же дурака не принимай бальз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ама</a:t>
            </a:r>
            <a:r>
              <a:rPr b="0" lang="ru-RU" sz="3200" spc="-1" strike="noStrike">
                <a:solidFill>
                  <a:srgbClr val="347fd8"/>
                </a:solidFill>
                <a:latin typeface="Constantia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347fd8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0" y="1642680"/>
            <a:ext cx="91440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Ме</a:t>
            </a:r>
            <a:r>
              <a:rPr b="0" lang="ru-RU" sz="3600" spc="-1" strike="noStrike">
                <a:solidFill>
                  <a:srgbClr val="347fd8"/>
                </a:solidFill>
                <a:latin typeface="Constantia"/>
              </a:rPr>
              <a:t>рген кижи хоран берзе, ойталава,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Ме</a:t>
            </a:r>
            <a:r>
              <a:rPr b="0" lang="ru-RU" sz="3600" spc="-1" strike="noStrike">
                <a:solidFill>
                  <a:srgbClr val="347fd8"/>
                </a:solidFill>
                <a:latin typeface="Constantia"/>
              </a:rPr>
              <a:t>легей сээ дашка сунза, ону тутпа –</a:t>
            </a:r>
            <a:br>
              <a:rPr sz="3600"/>
            </a:br>
            <a:r>
              <a:rPr b="0" lang="ru-RU" sz="3600" spc="-1" strike="noStrike">
                <a:solidFill>
                  <a:srgbClr val="00b0f0"/>
                </a:solidFill>
                <a:latin typeface="Constantia"/>
              </a:rPr>
              <a:t>Хайямнын бо ийи чагыы сенээ ур-ле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Ме</a:t>
            </a:r>
            <a:r>
              <a:rPr b="0" lang="ru-RU" sz="3600" spc="-1" strike="noStrike">
                <a:solidFill>
                  <a:srgbClr val="347fd8"/>
                </a:solidFill>
                <a:latin typeface="Constantia"/>
              </a:rPr>
              <a:t>дерелдиг чурттаарынын оруу болзун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21420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onstantia"/>
              </a:rPr>
              <a:t>Руба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4720" y="21420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onstantia"/>
              </a:rPr>
              <a:t>пословиц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071720"/>
            <a:ext cx="40402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Жанр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 малый поэтический жанр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Стиль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 афористическая мудрость,наставления, советы, критический взгляд на жизн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Ритм стих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 рифмуются 3 строки, 1-свобод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4720" y="1071720"/>
            <a:ext cx="404172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Жанр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 устный жанр УНТ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Стиль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 мудрость народа, содержащая в себе советы, наставления, наблюдени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Ритм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 краткость, параллельные синтаксические конструк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лингвокультурология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научная дисциплина, пограничная между лингвистикой и культуро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Объект 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заимосвязь и взаимодействие культуры и языка в процессе его изучени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Предмет исследования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орудия труда, предметы домашней утвари, привычки, образ жизни людей, обычаи и  традиции, религия, мораль, философ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примеры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семья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бычаи и традиции русской и тувинской семей, записать слова-обращения к членам семьи, составить  сопоставительный ряд названий родственных связей в русском и тувинском языках. На дом задавалось написать сочинение «Любимая традиция моей семьи», «Как мы проводим семейный праздник», «Самый уважаемый в  нашей родне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еловек, имеющий обширный материал, знания о своем родном языке, родной культуре, нации, этносе, может понять, принять другую культуру, историю и непременно заинтересуется другим народом, особенностями его культурного и национального  наследия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eeece1"/>
                </a:solidFill>
                <a:latin typeface="Calibri"/>
              </a:rPr>
              <a:t>Актуальность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условлена проблемами  преподавания русского языка и литературы в поликультурной среде: как заинтересовать детей к изучению языков, как помочь им постигать художественный мир другого народа, другой эпох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eeece1"/>
                </a:solidFill>
                <a:latin typeface="Calibri"/>
              </a:rPr>
              <a:t>Практическая направленность</a:t>
            </a:r>
            <a:r>
              <a:rPr b="0" lang="ru-RU" sz="45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стоит в том, что  необходимо  и педагогически целесообразно  обновление содержания уроков языка и литературы и воспитании  учащихся в контексте мировой литературы и культуры. И, наконец, возможность применения любым учителем  на практике своей работы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eeece1"/>
                </a:solidFill>
                <a:latin typeface="Calibri"/>
              </a:rPr>
              <a:t>цель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формирование у детей знаний, умений и навыков, обеспечивающих владение языком как средством общ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облюдение основных современных педагогических принципов обучения (принцип личностноориентированного обучения, культурноориентированный и деятельноориентированный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степенный переход от учебно-познавательной деятельности детей к самостоятельной деятельности, появляется потребность в творческом поиске точек соприкосновения языков и их различий, т.е. их уникальност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eeece1"/>
                </a:solidFill>
                <a:latin typeface="Calibri"/>
              </a:rPr>
              <a:t>Ожидаемые </a:t>
            </a:r>
            <a:r>
              <a:rPr b="1" lang="ru-RU" sz="4500" spc="-1" strike="noStrike">
                <a:solidFill>
                  <a:srgbClr val="eeece1"/>
                </a:solidFill>
                <a:latin typeface="Calibri"/>
              </a:rPr>
              <a:t>результаты:</a:t>
            </a:r>
            <a:br>
              <a:rPr sz="4500"/>
            </a:b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тепенный переход от учебно-познавательной деятельности детей к самостоятельной деятельности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является потребность в творческом поиске точек соприкосновения языков и их различий, т.е. их уникальност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eeece1"/>
                </a:solidFill>
                <a:latin typeface="Calibri"/>
              </a:rPr>
              <a:t>дерево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растение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материал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обое слово - дрова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по-тувински 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ыяш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растение, и материал, и дро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овосочетания: «узуун ыяш, ыяш стол,одаар ыяш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Прилагательные-синонимы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вердый, жесткий, жестокий, свиреп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тувинском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вердый, жесткий-«кадыг»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естокий, свирепый-«каржы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321760" cy="1049400"/>
          </a:xfrm>
          <a:prstGeom prst="rect">
            <a:avLst/>
          </a:prstGeom>
          <a:ln w="0">
            <a:noFill/>
          </a:ln>
        </p:spPr>
      </p:pic>
      <p:sp>
        <p:nvSpPr>
          <p:cNvPr id="112" name="Стрелка вниз 2"/>
          <p:cNvSpPr/>
          <p:nvPr/>
        </p:nvSpPr>
        <p:spPr>
          <a:xfrm>
            <a:off x="1066680" y="137160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304920" y="23623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onstantia"/>
              </a:rPr>
              <a:t>по темам (сквозным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Стрелка вниз 5"/>
          <p:cNvSpPr/>
          <p:nvPr/>
        </p:nvSpPr>
        <p:spPr>
          <a:xfrm>
            <a:off x="3957480" y="137160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3000240" y="236232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onstantia"/>
              </a:rPr>
              <a:t>по вечны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onstantia"/>
              </a:rPr>
              <a:t>вопроса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Стрелка вниз 7"/>
          <p:cNvSpPr/>
          <p:nvPr/>
        </p:nvSpPr>
        <p:spPr>
          <a:xfrm>
            <a:off x="7315200" y="137160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6357960" y="2362320"/>
            <a:ext cx="26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d0a10"/>
                </a:solidFill>
                <a:latin typeface="Constantia"/>
              </a:rPr>
              <a:t>типу героев, образ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Стрелка вниз 10"/>
          <p:cNvSpPr/>
          <p:nvPr/>
        </p:nvSpPr>
        <p:spPr>
          <a:xfrm>
            <a:off x="2514600" y="1905120"/>
            <a:ext cx="304920" cy="190476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Стрелка вниз 11"/>
          <p:cNvSpPr/>
          <p:nvPr/>
        </p:nvSpPr>
        <p:spPr>
          <a:xfrm>
            <a:off x="6019920" y="1905120"/>
            <a:ext cx="304560" cy="19047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1388880" y="4191120"/>
            <a:ext cx="30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onstantia"/>
              </a:rPr>
              <a:t>с русск  лит-ро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Прямоугольник 15"/>
          <p:cNvSpPr/>
          <p:nvPr/>
        </p:nvSpPr>
        <p:spPr>
          <a:xfrm>
            <a:off x="5257800" y="4200480"/>
            <a:ext cx="25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onstantia"/>
              </a:rPr>
              <a:t>с тувинск  лит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Стрелка вниз 16"/>
          <p:cNvSpPr/>
          <p:nvPr/>
        </p:nvSpPr>
        <p:spPr>
          <a:xfrm>
            <a:off x="4267080" y="3581280"/>
            <a:ext cx="304920" cy="190512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TextBox 17"/>
          <p:cNvSpPr/>
          <p:nvPr/>
        </p:nvSpPr>
        <p:spPr>
          <a:xfrm>
            <a:off x="3000240" y="5715000"/>
            <a:ext cx="44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onstantia"/>
              </a:rPr>
              <a:t>с лит народов Росси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uian da</cp:lastModifiedBy>
  <dcterms:modified xsi:type="dcterms:W3CDTF">2011-12-13T12:22:31Z</dcterms:modified>
  <cp:revision>19</cp:revision>
  <dc:subject/>
  <dc:title>Республиканская научно-практическая конференция «Русский язык: проблемы теории и практики преподавания»</dc:title>
</cp:coreProperties>
</file>