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8DB9-FBEB-40E7-A243-B764E31C04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BD17-1CF9-414E-8837-5C6D9AE6D5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586-607D-44AD-B505-9962E4B6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27E-3DCF-44D9-BEBA-32562D50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393-711C-4969-B18C-9933D819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766-4A7E-49C6-84F0-FB1EA091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E971-8C79-4A53-B165-B72C11DC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4CF0-4698-4F1A-A9AD-91167631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7F7C-7E8D-4798-8967-9781B973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5A7B-DE05-403A-93E5-45EC86CF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BD5C-F0B0-4F6B-A434-37D143C4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9B7C-EEAC-49C2-B949-1D60E89E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48F6-D429-47BB-AD80-7445009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7AB-E3F0-444F-A03E-5CDAC6BF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CAFB-0C44-4C89-8CF6-3475A54D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C239-D84D-4095-A358-4B88441F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0291-6B08-43C9-8A5F-02F43EBF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9452-9041-4618-B28C-F3EAC98E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3573-B041-4B39-8CCD-A94DA749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FE7-C92A-4868-8F52-FBB1FC47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23D-CE12-438C-B5C9-7AEC0BEE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D0A-EE02-4F77-A74D-EAF414E4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1E3-3B77-4D08-94BF-7A45F0E2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EEE-57FD-41E8-8B3F-F2016F79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232-E36D-4B6D-A656-7E2E5C8D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D33-DB6D-40BD-AC89-63EA593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C1AA-C49F-4441-99B1-C6BEE6D55871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403A-AE2A-42A9-B42F-83FCB21F2519}" type="slidenum">
              <a:rPr b="0" lang="ru-RU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400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4031"/>
                </a:solidFill>
                <a:latin typeface="Verdana"/>
              </a:rPr>
              <a:t>Реферат  на тему: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643a"/>
                </a:solidFill>
                <a:latin typeface="Verdana"/>
              </a:rPr>
              <a:t>Почему нельзя рвать цветы?   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643a"/>
                </a:solidFill>
                <a:latin typeface="Verdana"/>
              </a:rPr>
              <a:t>Или как нам сохранить природу?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4031"/>
                </a:solidFill>
                <a:latin typeface="Verdana"/>
              </a:rPr>
              <a:t>Выполнил</a:t>
            </a:r>
            <a:r>
              <a:rPr b="0" lang="en-US" sz="2000" spc="-1" strike="noStrike">
                <a:solidFill>
                  <a:srgbClr val="104031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104031"/>
                </a:solidFill>
                <a:latin typeface="Verdana"/>
              </a:rPr>
              <a:t>Исламов Рустам сош№4 3а класса</a:t>
            </a: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4031"/>
                </a:solidFill>
                <a:latin typeface="Verdana"/>
              </a:rPr>
              <a:t>Руководитель: Хамидуллина Айгуль Радиковна, учитель  СОШ№4</a:t>
            </a: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Не все, к чему мы привыкли является правильным. Эта нетленная мысль иллюстрируется рассказом о </a:t>
            </a:r>
            <a:r>
              <a:rPr b="0" i="1" lang="en-US" sz="2800" spc="-1" strike="noStrike" u="sng">
                <a:solidFill>
                  <a:srgbClr val="104031"/>
                </a:solidFill>
                <a:uFillTx/>
                <a:latin typeface="Verdana"/>
              </a:rPr>
              <a:t>&lt;&lt; </a:t>
            </a:r>
            <a:r>
              <a:rPr b="0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живых </a:t>
            </a:r>
            <a:r>
              <a:rPr b="0" i="1" lang="en-US" sz="2800" spc="-1" strike="noStrike" u="sng">
                <a:solidFill>
                  <a:srgbClr val="104031"/>
                </a:solidFill>
                <a:uFillTx/>
                <a:latin typeface="Verdana"/>
              </a:rPr>
              <a:t>&gt;&gt; </a:t>
            </a:r>
            <a:r>
              <a:rPr b="0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цветах которые мы часто дарим друг другу, и которые становятся совсем не безобидными, когда срезаны и пытаются выжить… </a:t>
            </a:r>
            <a:r>
              <a:rPr b="0" i="1" lang="en-US" sz="2800" spc="-1" strike="noStrike" u="sng">
                <a:solidFill>
                  <a:srgbClr val="104031"/>
                </a:solidFill>
                <a:uFillTx/>
                <a:latin typeface="Verdana"/>
              </a:rPr>
              <a:t>&lt;&lt; </a:t>
            </a:r>
            <a:r>
              <a:rPr b="0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Я сорвал цветок, и он завял. Я поймал мотылька, и он умер у меня на ладони. И тогда я понял – прикоснуться к Красоте можно только сердцем…</a:t>
            </a:r>
            <a:r>
              <a:rPr b="0" i="1" lang="en-US" sz="2800" spc="-1" strike="noStrike" u="sng">
                <a:solidFill>
                  <a:srgbClr val="104031"/>
                </a:solidFill>
                <a:uFillTx/>
                <a:latin typeface="Verdana"/>
              </a:rPr>
              <a:t>&gt;&gt;</a:t>
            </a:r>
            <a:endParaRPr b="0" lang="en-US" sz="2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85520" y="1600200"/>
            <a:ext cx="790092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174760"/>
            <a:ext cx="83296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4031"/>
                </a:solidFill>
                <a:latin typeface="Verdana"/>
              </a:rPr>
              <a:t>     </a:t>
            </a:r>
            <a:r>
              <a:rPr b="0" i="1" lang="ru-RU" sz="2800" spc="-1" strike="noStrike">
                <a:solidFill>
                  <a:srgbClr val="104031"/>
                </a:solidFill>
                <a:latin typeface="Verdana"/>
              </a:rPr>
              <a:t>Оказывается, наши предки, Словяно – Арии, достоверно                      знали о том, что </a:t>
            </a:r>
            <a:r>
              <a:rPr b="1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сорванный цветок старается выжить</a:t>
            </a:r>
            <a:r>
              <a:rPr b="0" i="1" lang="ru-RU" sz="2800" spc="-1" strike="noStrike">
                <a:solidFill>
                  <a:srgbClr val="104031"/>
                </a:solidFill>
                <a:latin typeface="Verdana"/>
              </a:rPr>
              <a:t>, а, оставаясь без корней и питания, начинает активно поглощать жизненную энергию из окружающей среды, тем самым превращаясь в самого настоящего </a:t>
            </a:r>
            <a:r>
              <a:rPr b="1" i="1" lang="ru-RU" sz="2800" spc="-1" strike="noStrike" u="sng">
                <a:solidFill>
                  <a:srgbClr val="104031"/>
                </a:solidFill>
                <a:uFillTx/>
                <a:latin typeface="Verdana"/>
              </a:rPr>
              <a:t>вампира</a:t>
            </a:r>
            <a:r>
              <a:rPr b="0" i="1" lang="ru-RU" sz="2800" spc="-1" strike="noStrike">
                <a:solidFill>
                  <a:srgbClr val="104031"/>
                </a:solidFill>
                <a:latin typeface="Verdana"/>
              </a:rPr>
              <a:t>. А его жертвами становятся все</a:t>
            </a:r>
            <a:r>
              <a:rPr b="0" i="1" lang="en-US" sz="2800" spc="-1" strike="noStrike">
                <a:solidFill>
                  <a:srgbClr val="104031"/>
                </a:solidFill>
                <a:latin typeface="Verdana"/>
              </a:rPr>
              <a:t>: </a:t>
            </a:r>
            <a:r>
              <a:rPr b="0" i="1" lang="ru-RU" sz="2800" spc="-1" strike="noStrike">
                <a:solidFill>
                  <a:srgbClr val="104031"/>
                </a:solidFill>
                <a:latin typeface="Verdana"/>
              </a:rPr>
              <a:t>и люди, и животные, и другие растения. </a:t>
            </a:r>
            <a:endParaRPr b="0" lang="en-US" sz="28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000080" y="15717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но поэтому знахари, никогда не сушат сорванные  цветки, травы и коренья в жилых помещениях. В детстве мы тоже часто собирали всякие лекарственные травы и цветы, но сушили их всегда на чердаке в темном и сухом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357120" y="214200"/>
            <a:ext cx="848700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214200" y="142920"/>
            <a:ext cx="4214880" cy="315756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7" descr="3de70d0e20.jpg"/>
          <p:cNvPicPr/>
          <p:nvPr/>
        </p:nvPicPr>
        <p:blipFill>
          <a:blip r:embed="rId2"/>
          <a:stretch/>
        </p:blipFill>
        <p:spPr>
          <a:xfrm>
            <a:off x="4500720" y="142920"/>
            <a:ext cx="4508280" cy="314316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7" descr="3de70d0e20.jpg"/>
          <p:cNvPicPr/>
          <p:nvPr/>
        </p:nvPicPr>
        <p:blipFill>
          <a:blip r:embed="rId3"/>
          <a:stretch/>
        </p:blipFill>
        <p:spPr>
          <a:xfrm>
            <a:off x="214200" y="3429000"/>
            <a:ext cx="4214880" cy="315756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7" descr="3de70d0e20.jpg"/>
          <p:cNvPicPr/>
          <p:nvPr/>
        </p:nvPicPr>
        <p:blipFill>
          <a:blip r:embed="rId4"/>
          <a:stretch/>
        </p:blipFill>
        <p:spPr>
          <a:xfrm>
            <a:off x="4500720" y="3429000"/>
            <a:ext cx="4500360" cy="315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214200" y="2643120"/>
            <a:ext cx="4214880" cy="364356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7" descr="3de70d0e20.jpg"/>
          <p:cNvPicPr/>
          <p:nvPr/>
        </p:nvPicPr>
        <p:blipFill>
          <a:blip r:embed="rId2"/>
          <a:stretch/>
        </p:blipFill>
        <p:spPr>
          <a:xfrm>
            <a:off x="4572000" y="2643120"/>
            <a:ext cx="4214880" cy="3643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500040" y="1643040"/>
            <a:ext cx="81439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4031"/>
                </a:solidFill>
                <a:latin typeface="Verdana"/>
              </a:rPr>
              <a:t>Вкусные ягоды, красивые цветы и чистая вода всегда помогают нам сохранять здоровье и радость.</a:t>
            </a:r>
            <a:endParaRPr b="0" lang="en-US" sz="18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57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7" descr="3de70d0e20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5" descr="8a503f9099.jpg"/>
          <p:cNvPicPr/>
          <p:nvPr/>
        </p:nvPicPr>
        <p:blipFill>
          <a:blip r:embed="rId1"/>
          <a:stretch/>
        </p:blipFill>
        <p:spPr>
          <a:xfrm>
            <a:off x="428760" y="2571840"/>
            <a:ext cx="4357440" cy="4143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28760" y="15001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4031"/>
                </a:solidFill>
                <a:latin typeface="Verdana"/>
              </a:rPr>
              <a:t>Для человека природа — среда жизни и источник существования. Человек нуждается в определенном составе и давлении атмосферного воздуха, чистой природной воде, растениях и животных, земной температуре.</a:t>
            </a:r>
            <a:endParaRPr b="0" lang="en-US" sz="16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23" name="Содержимое 5" descr="8a503f9099.jpg"/>
          <p:cNvPicPr/>
          <p:nvPr/>
        </p:nvPicPr>
        <p:blipFill>
          <a:blip r:embed="rId3"/>
          <a:stretch/>
        </p:blipFill>
        <p:spPr>
          <a:xfrm>
            <a:off x="4857840" y="2571840"/>
            <a:ext cx="3786120" cy="41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1071720" y="2214720"/>
            <a:ext cx="764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ы живем в прекрасном мире, который окутан природою. Леса, поляны, реки, моря, озера, горы, богатый разнообразный животный и растительный мир. Природу мы должны благодарить, беречь и самое главное защищ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одержимое 5" descr="8a503f9099.jpg"/>
          <p:cNvPicPr/>
          <p:nvPr/>
        </p:nvPicPr>
        <p:blipFill>
          <a:blip r:embed="rId1"/>
          <a:stretch/>
        </p:blipFill>
        <p:spPr>
          <a:xfrm>
            <a:off x="857160" y="2428920"/>
            <a:ext cx="7786800" cy="4286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28760" y="15001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SzPct val="2195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4031"/>
                </a:solidFill>
                <a:latin typeface="Verdana"/>
              </a:rPr>
              <a:t>Давайте постараемся не забывать о той ценности, которую дарит нам природа и внести посильный вклад в сохранение ее чистоты. Охрана природы и окружающей среды должна быть делом рук каждого человека, проживающего на нашей планете. Берегите природу!.</a:t>
            </a:r>
            <a:endParaRPr b="0" lang="en-US" sz="15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одержимое 5" descr="8a503f9099.jpg"/>
          <p:cNvPicPr/>
          <p:nvPr/>
        </p:nvPicPr>
        <p:blipFill>
          <a:blip r:embed="rId1"/>
          <a:stretch/>
        </p:blipFill>
        <p:spPr>
          <a:xfrm>
            <a:off x="214200" y="142920"/>
            <a:ext cx="8686800" cy="650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5" descr="8a503f9099.jpg"/>
          <p:cNvPicPr/>
          <p:nvPr/>
        </p:nvPicPr>
        <p:blipFill>
          <a:blip r:embed="rId1"/>
          <a:stretch/>
        </p:blipFill>
        <p:spPr>
          <a:xfrm>
            <a:off x="214200" y="142920"/>
            <a:ext cx="8786880" cy="657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2286000" y="14446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т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ной, когда цветов мало, нетрудно отыскать ярко-жёлтые звёздочки чистяка. Вот они смотрят из зелёных розеток листьев. Подойди поближе, приглядись. На лепестках цветов маленькие чешуйки вроде карманчиков. В этих карманчиках — сладкий нектар. Летите сюда, пчёлы, не пожалеете! А коз и приглашать не надо: пока другой травы мало, с удовольствием едят они сочные листья чистяка. Словно знают: скоро созреет чистяк, станет ядовитым, будет тогда «козья трава» несъедоб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286000" y="75096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топол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ы не веришь, что у растения могут быть ножи или кинжалы, копья или пики, взгляни на чертополох. Вот он стоит у забора, весь ощетинился. Стебель в колючках. Листья в колючках. Даже цветы — и те жёсткие и колючие. Грозно поднял он свою лилово-пурпурную голову. «А ну, попробуй сунься!» Не грозись, чертополох, успокойся, никому не нужны твои ножи и кинжалы, твои колючки да иглы. Не нужны? А вот и неправда. По иглам чертополоха можно узнать, какая будет погода. Если они не очень жёсткие и торчат вверх — значит, будет дождь. Если жёсткие, колючие и торчат в стороны — жди хорошей пог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, тогда пусть лучше будут колюч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286000" y="1720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па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ко пылают на солнце ярко-жёлтые шапки купальниц. В Сибири эти цветы недаром называют жарками. Лепестки купальницы сомкнуты, сжаты в кулачок, а сам цветок как бубенчик, только что не звенит. Откройся, купавка, покажи, что в кулачке. Дрогнули жёлтые лепестки, разомкнулись, а там, на дне, где тычинки, крошечное оранжевое солнышко. Купавка, купавка, до чего ж ты красива! Жаль только, что ядови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2286000" y="89064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возд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воздику чаще можно увидеть на клумбах в садах и парках или в оранжереях, где её специально выращивают. Но откуда же пришла гвоздика в сады и оранжереи? Конечно же, из леса. Людям понравился этот цветок, они стали заботливо ухаживать за ним и вывели много новых сортов. Садовая гвоздика, конечно, и крупнее, и ярче. И всё-таки тот, кто по-настоящему любит цветы, никогда не пройдёт мимо лесной гвоздички. Обязательно остановится и полюбуется яркой звёздочкой, сверкающей в зелени лесной травы. Пусть она меньше и скромнее своих садовых сестёр — всё равно хорош этот цвето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2286000" y="11667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вш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больших, круглых, как блюдца, листьев, покоятся на воде белые кувшинки — водяные лилии. Кувшинки так любят солнце, что весь день «не сводят с него глаз». Утром солнце на востоке — и лилии смотрят на восток. В полдень оно на юге — и лилии, все как одна, поворачивают головки на юг. Закроет солнце тучка — сомкнут лилии лепестки, загрустят. А сядет солнышко, уйдёт за горизонт — и кувшинок как не бывало. На воде одни зелёные блюдца. Куда же делись цветы? В воду спрятались. Так и будут спать под водой, пока солнце не выгля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2286000" y="33660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ыпается он на рассвете, когда многие цветы ещё спят. Раскрывает навстречу солнцу свои голубые лепестки — и вот уже весь цветок, будто кусочек неба. Красив цикорий, а для букета не очень-то годится: стебель у него крупный, грубый, жёсткий. Ну что ж, может, и не стоит рвать цикорий. Пусть его голубые цветы до осени украшают пустыри и обочины дорог. Пусть помогают нам узнавать время и погоду (цикорий «засыпает» после полудня, а если цветы его закрыты с утра, — жди дождя). И пусть собирают цикорий те люди, кому это растение нужно для дела: ведь из корней его изготовляют порошок, который добавляется в кофе. Растение это даже специально выращивают. Представляешь, как красиво выглядят плантации цикория? Всё сплошь — лазоревое м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2286000" y="13050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нды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ни деревьев среди густой листвы притаился цветок. Рядом — ещё, чуть подальше — ещё. И у каждого два больших овальных листа, а между ними на высокой тоненькой ножке несколько белых колокольчиков, будто из фарфора сделанных. Это ландыш. Его сразу узнаешь и по листьям, и по цветам, и по запаху, который невозможно спутать ни с каким другим. Вот за этот запах и за красоту люди очень любят ландыш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ландыш не только красивый цветок, это полезное растение: из него делают очень нужное людям лекар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28800" y="2274840"/>
            <a:ext cx="707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глав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звание глав и параграф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исок  используемых 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звания приложений и соответствующие номера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04031"/>
                </a:solidFill>
                <a:latin typeface="Verdana"/>
              </a:rPr>
              <a:t>Давайте сохраним жизнь на земле!!!</a:t>
            </a:r>
            <a:endParaRPr b="0" lang="en-US" sz="44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57160" y="192888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Verdana"/>
              </a:rPr>
              <a:t>Спасибо за внимание!!!</a:t>
            </a:r>
            <a:endParaRPr b="0" lang="en-US" sz="5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857160" y="1571760"/>
            <a:ext cx="7715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и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аздники мы привыкли дарить друг другу подарки, тем самым мы дарим радость и хорошее настроение. Что бы близкий человек получил истинное удовольствие от вашего подарка, понадобится хорошая фантазия, сообразительность и остроум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есть один подарок, который можно дарить всем, эт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ечно цв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6" descr="504c295efb.jpg"/>
          <p:cNvPicPr/>
          <p:nvPr/>
        </p:nvPicPr>
        <p:blipFill>
          <a:blip r:embed="rId1"/>
          <a:stretch/>
        </p:blipFill>
        <p:spPr>
          <a:xfrm>
            <a:off x="4786200" y="1143000"/>
            <a:ext cx="4143600" cy="55720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7" descr="3de70d0e20.jpg"/>
          <p:cNvPicPr/>
          <p:nvPr/>
        </p:nvPicPr>
        <p:blipFill>
          <a:blip r:embed="rId2"/>
          <a:stretch/>
        </p:blipFill>
        <p:spPr>
          <a:xfrm>
            <a:off x="500040" y="1143000"/>
            <a:ext cx="414324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857160" y="2000160"/>
            <a:ext cx="7572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ве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служат прекрасным дополнением любому подарку, как взрослым, так и детям. У всех народов, во все времена для каждого торжественного события были предназначены определенные цветы. И каждый являлся определенным симв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928800" y="1785960"/>
            <a:ext cx="7500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в Японии хризантемы и гортензии являются символом скорби. У европейских народов, белая акация считается свадебным подарком, т. к символизирует, светлую любовь. Символом юность невесты и ее глубоким целомудрием является Белая лилия. В древней Германии, символом дикой страсти и безграничной любви был ландыш. Если вы приглашены на свадьбу, старайтесь не дарить красные розы и гвоздики, потому что Красный цвет - это символ жгучей стр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дарок женщине лучше всего подойдут розовые цветы. Молоденькой девушке, принято дарить бутоны красных или розовых роз, для ребенка подойдет разноцветный букетик, а мужчине – красные тюльпаны, гвоздики или нарциссы. Пожилые люди всегда будут рады комнатному раст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642960" y="1785960"/>
            <a:ext cx="7929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ставляем букет, нужно следовать правилам: головки цветов должны располагаться в разных плоскостях, шипы, колючки, и другие острые части растения, ни в коем случае не размещать снаружи, крупные соцветия нельзя обращать друг к другу и вниз. В букете должно быть обязательно нечетное количество цветов. Если вы подарите один красиво упакованный цветок, это будет служить примером хорошего вкуса, и совсем не обязательно дарить «миллион алых роз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500040" y="1595520"/>
            <a:ext cx="8286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тем, как вручать цветы – завернутые в бумагу, снимите с них обертку. А если букет обернут в прозрачный красивый целлофан, то разворачивать обертку не над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е в подарок цветы, желательно поставить в вазу, на видное место. Для огромных букетов с длинными цветами нужна большая ваза. В низкие широкие вазы, предпочтительней ставить цветы с короткими стеблями. Букетики из подснежников и фиалок можно поставить в очень маленькую вазочку. Прозрачная ваза отлично смотрится почти со всеми цветами. В ее центре помещают высокие цветы, а по краям лучше всего располагать более мелкие и темные ц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00:42Z</dcterms:created>
  <dc:creator/>
  <dc:description/>
  <cp:keywords/>
  <dc:language>en-US</dc:language>
  <cp:lastModifiedBy/>
  <dcterms:modified xsi:type="dcterms:W3CDTF">2013-02-27T08:48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99990</vt:lpwstr>
  </property>
</Properties>
</file>