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C0E-D97D-411E-B6D2-6A14492F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41C-AB87-4DA0-BE90-1464965D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C0168-5739-4B56-A206-A1A5F3D8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8BDFB-6354-4D35-BA32-48F56DED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6B1BB-7242-42AC-A44A-94CE9EA3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3FE1D-80DC-4B9E-93B1-47F40804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5162F-464E-4E56-A930-859CBF6F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1F5E3-7991-477E-ADDA-234DA84A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174B7-34DD-489B-91E0-2C55B9F9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394DF-E44B-4DD3-92A9-3ABBBB88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19DA6-5939-4C35-BFAE-6E03AA8F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9E8CE-98B3-4E12-89A9-E5391BB2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DEB-78F1-4DD4-82B2-87AB4A76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F03AA-50F5-4946-8442-CC3C50B7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6C89F-86E3-4557-BA8D-85AFF58F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0E0A9-436E-427A-98DE-ABAD0AEE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B1DE7-C446-4C90-86C1-2D2A1610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365E6-BA59-4FB3-96BA-C72926E0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8A8D9-28E4-4E5A-A7A6-3FD35B36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B16E5-7DC7-4C1E-8A7A-BC47499F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5AC2C-C9E8-4F61-9E49-D739E335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91D2D-CB49-411C-B0B8-518684CC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D90B8-CDD0-4A06-A04B-F51BA8CA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B24-9AAE-4666-944E-3FEDEEA3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DC655-5404-4851-B8E1-10135F4D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260C0-680E-4D0C-99EC-BD1361AA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67402-2DF3-4466-A1CE-90CD57A7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BFB92-408F-40EA-8832-8A05C489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067E9-5A8D-48F2-89C7-7B461964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5AEFB-2953-4B80-A93E-292DFDE9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AC591-130E-4E6D-9292-4C8F4762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57871-750B-4F3B-B055-B760779F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A6FEE-93FA-4056-95FB-8D6A2A52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E6899-4C0E-413A-A14A-1E7DE870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C639-F88A-45B9-AC89-5383D6E3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3282E-9F09-49ED-9A57-F1525044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3531E-178B-4E80-87CF-20A8F654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2ABF4-70B6-403C-AC01-DA5235C8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74AD1-61BA-4EFD-A04C-E790E029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64BDE-192E-4C9B-8B89-6984E0A7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F4A2E-F760-4A32-94A0-B755F2C4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480D1-BBBE-4A1B-B335-62713201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094B5-9EFD-42D1-99F5-EFB419A6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4C1D7-BDF4-423B-9245-E358D710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35914-76AE-4FD5-B29A-4C99D61B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86BA-EB16-4F86-8D04-E198211C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B626D-F0E7-4A23-AA13-A81801C3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05298-226B-4763-8F33-CC95A634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EA6A3-96B0-4A71-9DB5-1FF783D4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050AC-7AD2-4D0B-BFF3-A1C7A901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958C1-C0A7-450E-A010-ADFABAF1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EB6DD-D1F4-4B0E-B5AF-3E5D5DEB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BEB15-D630-47AD-905E-1AA43A93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86D60-EB39-4172-8214-A0E442FC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4CC6A-1B2F-4DCD-BFC2-0C28BC09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AEDEE6-2F79-434B-B2DD-E867485F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637F-F028-4989-B877-BF97F1F1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D1258-A5E4-4613-8BE4-8377E475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29D93-BEA1-4183-98DF-05231C1D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8B2C8-1026-4D38-9DFF-277944A2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FC216-66F4-474A-87D0-5847E0FA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B6B7AA-849B-4AB2-90EC-38A22DC3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A26F9-73BF-4C85-A5A2-3F85A7BD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34E191-B328-4E23-8EB5-8FCBAC79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746EBD-31F9-412E-94C6-87E6C65E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356ABE-25AD-4FB5-A097-71537908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EE40EA-0B4D-4E39-9D27-FF719707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76B4-A553-4E1A-BC28-99FFB560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92F463-10D9-4302-AF7B-495FA0AA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97FD0-F358-4745-A034-27BAAB4B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457CB-A28C-4CE9-9825-B50A25B6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80E77-00D9-4091-95B6-3F42A3E5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0A19A1-C4B2-4F5C-B6A1-4047AA10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2E0F3F-7DAB-4309-9560-96CF7EE4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3CF9E-E58F-4261-BB88-9C9D43EB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0F563-9C4C-4FFC-BDCF-3A09882E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E26170-CED4-4DA2-8A2A-FA2D5B37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F5F668-D700-440F-B031-C5E97ED2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841B-5FD9-47E2-B69A-AAAFC79F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277D53-172F-4F0F-A177-217BDC29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1BB3AC-136B-4FDF-85E0-708551E9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CE43EB-8446-4651-9058-2ACEA633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A7F762-9E36-4FB5-8996-4FC5F4A4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BC4DDA-BC4E-4DAE-8112-BFEBE58C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117677-DCB0-44A4-833E-4A3653DC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CD0926-D8F3-4063-9A76-DAE2C184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019939-8857-4872-A078-8DEDBD12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EE954F-DC9D-4F24-A0DA-0C802CDC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DEB11E-1889-41D5-9EF0-A1E7E37B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E3B8-751A-4F34-96AC-F5FE248D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BDCDE2-E1C2-425C-9DE1-53564A54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C43032-1B91-4BBF-9A38-3EE514FC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1BD891-6837-4309-9F44-57DFFB93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F840B02-24EA-4C7A-83A2-9EB5591C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DFE5EC1-CD5C-4943-AEA4-6C565AF8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DEF13A-F858-4214-A04F-6C15C063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107E24-CBEA-4030-ABF0-ED12FA63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226AE0-B019-4A73-A0DF-5F6D038E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13C17E2-0A2D-4B0A-857D-83AE43C3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6F4DAC9-C42B-4C22-BE2A-91FE2AF4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023B-9BEC-46D7-A556-697FBC7D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2E29D4-31D3-4F3D-892A-AA818900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BCF64BE-9DEE-425C-8C64-92FDBD93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0C8ED1-A1AF-4F09-87EC-5C7BD004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586641-735B-44DA-8C92-E86F73A8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61D654-1986-494A-BD24-E3CE6D8A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483673-D83B-4C4C-9F9B-39E56ADE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872B32-75C6-499C-A4AC-677077CD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B51EEE-27B2-48D2-B318-4E14ED0E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1D3C8F-31F4-4AEE-A0EA-6A8AD0A9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4DEC7A-31E9-4EAB-9B9D-E0137244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293-F874-43BB-BEDD-B6EB3C60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D745-6548-40FA-973A-0B5D2F62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11B3EA-0E91-4A0A-A7FA-857854D3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2FE712-3045-45B1-9F84-D9BE7F3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19B439-332E-49BF-A8B6-4DBE4D47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D73A5-790F-47E9-830D-26647A63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C80059-97E5-425A-9B21-904081E6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F03CEE-3C5C-41D2-9AAB-E756E894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1420CA-6762-48AF-BC9A-C4E472B9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923A87-B668-49D5-9A21-857AA8B8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8729E2-9C1E-4525-BD8C-2FA1BE1F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694926-685D-4B8A-A409-15F4E06F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401D-E6B1-4A6D-AF30-F480A645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B33CE8-B525-4A11-80CF-C970F5E5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C65C3D-D89C-48DF-A872-3D6CF049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9731C6-887E-48A8-AB8E-99479028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8E5F30-734E-4E1B-9882-E21FEB17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5F88BC-58A3-4326-A370-F5FA9427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C410A0-1430-49B4-A003-B7EE153A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FDB646-E40F-416F-B7D8-56118647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F9146C-991B-4ED7-9B05-CDADF0E6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FC8E78-3169-4530-9C5C-CEA6192F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904A21-3702-4AEB-BE20-4331506F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B35F-BDEE-452D-A871-14EF9131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3CC0D4-88B4-42FF-9DEA-B18ED3C7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EF9FDD-7551-4F7D-B3F1-E3F31694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B25A8F-A337-4D84-AB49-5BC655D3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11F1D4-EF2E-4F7E-9654-99616D8D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3CEFE6-4613-44D3-9DE8-4B09E470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EA6D3C-56D0-4A57-8EC5-6AC54D1A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8B9AC3-4491-40F7-B99C-9E73A450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F5B89A-CDCE-4B63-A841-0985DC37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7B84D4-7E7E-49DE-95C2-7C3EBEB4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74C5EB-5CD9-472A-8894-387B942A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92C4-409E-4361-99DE-0E053F01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3FE328-93E8-47AF-BE02-D33161A8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60A021-39DA-4F43-9BF7-5B957F0B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FAC67D-9DCC-4983-87D5-6DA53D7A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5657AF-B87B-4E55-A86F-D8555CCD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816EE3-8BBB-4F83-8FEA-9B94CAFD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ECBD1A-7031-419C-9815-D65129BB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4B5DE6-8644-4C09-A20D-A808C468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9C0F79-858B-459C-AA09-67A7E989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DECCBB-E863-405E-A2F0-B456E4CB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A214C3-1D24-44BD-A764-79A22DA6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602D-5C54-4C7D-A2EB-966F5537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05555F-5E54-4556-8391-E72C6454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CECE2D-BF16-4E9B-B478-7CA93260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44B0C2-B0A7-4EB0-9613-7069E168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BA2798-9FDF-4600-A331-D65790C3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0DE036-AA2C-4F87-A714-59F8F3B4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2F0B28-790C-4CEB-BEAA-C7118EE0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068D27-7BA6-42EF-A201-D8C933B5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2284B3-48A6-46E5-A0C1-BA65A28D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0123F1-71DB-4E77-A22F-FA0C729C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163AD4-AB72-4D47-85C9-B62C4819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09A95-C75A-46A9-B5CA-8B961AD1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C8AEED-C74F-4FEF-9BDF-01602484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4607E6-54E2-4992-B02C-7E49680D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A1486B-028D-4B56-8913-AA40CF0F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B4F1A2-5749-419A-B25B-36A634B2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B67858-00CE-4301-9945-CC4AA10D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FA829A-72BC-403B-83FC-B0D0A4B7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B543A8-F215-4B21-912B-556B1B82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B83D96-25D7-4229-9FE9-D9C5EB59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D79870-E916-42F2-AD30-D9BE7809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46887C-AC01-481C-B537-DD8E0E77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F2962-F2CF-49F8-BF13-8A421BE8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FC10C6-E629-4D0A-9949-7A5A15C3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A87540-0611-4FD0-9905-526FC529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CF6EDD-89D2-46C1-A540-03E00B5C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71DB94-DDBF-4EF5-899B-8C470D73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6956EF-74CE-4C6D-97A5-0868DDC3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163108-59C6-4306-ACAC-C1533F42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A998AE-3393-4644-AF72-58C21F59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E2AAD9-6B57-48D9-AB03-7216BD39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D7E97F-5552-4B35-BB7C-00EB9AA4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EC1304-7A69-464F-82D8-C754282E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8AB06-4214-460E-A256-6A626495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3E275F-DC12-436E-A737-71E51EF7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4BEA39-8054-4646-A871-93BBCFB5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767BA4-3FEB-4FD1-9901-23BF71EB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23CCD7-673D-47C7-98D1-221BA6A3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AD2E6A-8A3D-4054-B2D9-96EFBF30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5700A3-194F-45C2-805C-2DB5382E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8F30AD-104A-49F5-B896-9BAD9418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259C37-B4D0-45C1-83AA-4A66A554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5BBEB0-F70A-4174-8752-43858D5D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6C90ED-9C82-4E26-B728-3CD9776F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5BE4B-FE9A-4EB7-B50D-7BCD68CE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0D1009-203E-4D2D-B524-5CA8EE01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FF690B-AE96-499E-99E1-12E4252E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1D5814-1097-4EB1-90D1-871FB8C8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6B353C-3FBB-40A7-8983-5B833D15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BFAD2E-D7E7-479D-A771-8EE59E73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48BAE5-2A03-49F5-B142-7D8D41DA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F2DCAE-A82C-4707-BCE1-9AFB30F0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F47E32-242B-4743-B2E0-A5B871A6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E07B10-35A7-43CC-AE72-B8A1220E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C7685-7BF8-41E4-AD9B-C3713BC8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F1D-B234-44D4-8B04-ECDF046F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D9AE4-318A-4D39-B16F-ECE68BC5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A8EF8-0BFA-4F1C-8639-395AF168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F060F-BBE9-42BF-BDD4-4BFDF7CF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E8BB5-55E1-44B4-AC27-2647FDF4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E51CC-DAB2-4C2A-B67C-BE211A80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847E5-A409-4B14-8597-9A1256E2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D825F-7A71-45B2-8C7A-AA7D7537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388C8-7A89-443F-9E8A-2C6F7E6F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844F3-C497-49D0-BC45-204931B0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C3639-CE3E-49E8-AC2E-53391494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5CB-CEC2-436E-A18A-26C1C45F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41B57-D655-4848-969B-B2B9189C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1F6FB-1EE7-474B-82AD-D1CBBAE1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0A4A6-6A1E-4207-ACED-22D50D3C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D07FB-B804-4CB1-B6FD-4E747A38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B1C02-E2EC-4BDD-9785-2AD89A10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DF9ED-0488-4667-B479-B367FB6A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1ADE7-DED6-44CB-886E-878829C2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910BE-FEDC-43AE-96E4-304060C7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DA135-3D22-42D6-B449-6F68383D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EC019-EA16-45E5-AF3A-65B1ABF1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6E7-EDD8-4987-8C54-FBC6CE6D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A3F80-2E48-4181-B9E8-CF6A14FA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22F54-1846-413D-A267-6D5BF22B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C5195-7471-410C-8A20-46ED0E48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D1130-15EA-451D-BCB9-95FF1D49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75843-7CF5-4669-816D-58BC6101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97024-8290-41B8-A7CC-8A8F8F54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3A4D1-25BF-495C-80E0-1E02C6B3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4BF83-7BE8-4FD8-8D5B-65C0ED64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A5861-6F63-42AE-AB64-EA393282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61C30-0174-42AB-9921-FA107F98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8F7-0F1E-4A1F-8CC9-5794F74E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CE8A3-5E92-477E-9C91-FB7FA412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EAD08-B57F-4885-BC11-AE4CEF66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538A2-D967-4219-94B8-5BC6FAE4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D6A41-189C-44A9-9242-486E7C66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EB5EE-5A6D-4462-A204-5EC91003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579C3-4ABA-4D64-973C-749C6758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54D56-1607-4A0B-97E9-3B5F5063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B37BB-8C96-41F2-BCA5-C7D04C69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73299-BDB8-426C-B4CD-AA5F50F3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A2A6B-A5EA-434D-BAA3-F6A09CC8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501-FA4C-4328-9AF4-E2BBB120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A4D46-4718-471C-8FC7-169217E9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5747A-3518-4F3B-B602-D8E0D38A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9E636-0B13-48A4-A5EA-468D6E93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2E3EF-9047-40D6-AFF3-B3364983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1F196-6603-4F11-8A2D-5D8A3D01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ADAB3-B5FA-486A-929F-20C27839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DE580-31DB-4994-8DEC-84A05386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5C4B9-6DCF-4D3B-A1F4-B2C5B8ED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42FA1-B4FE-403A-A3C4-C5767738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3FEA4-98B0-44DA-AD74-16F1136A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F4A-8D61-4E0C-87D9-969B09D5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35572-DFEA-4920-95A2-189BD98D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90023-FA7B-4EF3-9AB7-1444A0CB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E3DFA-CDA5-4701-8B1B-109AE8CB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A2BA4-E834-468F-A68F-DB429AF4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2284A-5D63-4142-AEAF-9D9FB30E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13035-0073-4962-A6DD-13432685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EB0DE-426C-43C1-8F54-18B76301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26422-95AC-4760-81A7-E054FE59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7396E-4E02-4AE8-B25A-8F0ACF5D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C73CC-91AD-4D65-9B47-AE31B734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10C-037F-497B-B42A-15F2840F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B40A9-F98A-4899-B4AE-5785FBE8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60531-7296-4B7B-BD2E-B2C31462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8E6DB-0179-4730-9AFD-AF22FF8D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25EBF-4768-4C5F-A4DD-E054740D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18BAD-EC76-466A-A5FD-A8188149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ADAAC-9446-44A5-B4FB-12F5D0B1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4E172-ACEC-4CC6-A99E-55B793CB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394BA-10EB-4BB7-A73F-048BA43E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61F88-8545-4196-93AD-8CD82466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A2180-62F3-4F13-B620-A313F40C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ABBF-47A7-4A1F-8BAE-D8678CDB8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9CC7-1E11-48C8-8141-84372ABD0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7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7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7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8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8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58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2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2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4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85F1-E6F0-46DC-89C7-BF00EBA601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2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2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3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AA12-1DB7-44F3-B0ED-0AAB0D8192D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1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09A5-D5D6-46F2-B3EF-FC5DF92F24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05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57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1D91-250A-47AF-9EFD-CB0E9703C7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54A8-F4E0-4C4E-92C3-33908FF13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1E2A-5C14-4D2E-AF00-6DFC0108C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6D4D-DC87-48F9-9A1B-C22E748D149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ftr" idx="5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735F-8808-40FA-A0F0-36A4513C707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5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5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5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2525-0D63-4759-912C-75F2D4B8BB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C68A-3E8F-469F-9A24-2FF637F82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1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1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1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32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dt" idx="5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 type="ftr" idx="5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 type="sldNum" idx="6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9F30-191B-444D-B217-08447C2514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4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365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66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369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6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6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6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E3E7-6D23-4536-B448-89CE33C6C18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2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13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41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1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18" name="PlaceHolder 1"/>
          <p:cNvSpPr>
            <a:spLocks noGrp="1"/>
          </p:cNvSpPr>
          <p:nvPr>
            <p:ph type="dt" idx="6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ftr" idx="6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 type="sldNum" idx="6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DEDC-2728-4826-AB39-834852F4953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45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46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6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6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46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47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47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7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7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7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8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8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8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8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8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8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8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9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9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49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9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0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50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0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50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0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50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0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51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1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51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1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51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1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51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2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52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2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52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2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2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3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3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3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3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53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grpSp>
              <p:nvGrpSpPr>
                <p:cNvPr id="153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53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4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54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4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54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5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5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55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5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55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5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56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6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56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6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56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6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6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57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4D0F-A0F0-4754-A9A1-1E1EF317502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63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63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63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63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64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64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64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64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64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4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4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64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4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5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65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5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5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65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5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5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65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5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5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66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6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6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66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6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6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66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6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6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66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7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7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67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7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7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67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7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7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67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7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8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68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8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8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68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8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8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68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8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8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69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9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9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69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9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9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69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9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9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69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0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0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70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0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0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70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0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170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70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71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1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1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71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1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1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71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1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1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71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2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2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72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2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2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72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2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2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72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2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3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73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3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3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73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3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3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73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3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3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74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4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74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74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74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75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5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75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8ECC-51E4-4925-89C8-5829EF731A0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0E47-A113-4879-B56E-621C8218E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DB72-151E-4291-B711-212762A3F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0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0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D2E5-DA2B-454E-8536-FA8781925C0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5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F9E1-4432-4B92-9460-2521A9C550A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2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C6CE-4F09-4A35-A687-A5B2BD1A1F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C0DF-2526-4CB1-944E-78F1ABE1BF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E0E3-8CAC-460E-B43C-60BE2167A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50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1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51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Обобщающий урок по теме: «Классификация растений»</a:t>
            </a:r>
            <a:br>
              <a:rPr sz="4800"/>
            </a:br>
            <a:r>
              <a:rPr b="1" lang="en-US" sz="4800" spc="-1" strike="noStrike">
                <a:solidFill>
                  <a:srgbClr val="ff3300"/>
                </a:solidFill>
                <a:latin typeface="Arial Black"/>
              </a:rPr>
              <a:t>ИГРА-СОСТЯЗАНИ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«ПЯТЫЙ ЛИШНИЙ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СЕМЕЙСТВО СЛОЖНОЦВЕТ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Arial"/>
              </a:rPr>
              <a:t>ОДУВАНЧИК ЛЕКАРСТВЕН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Arial"/>
              </a:rPr>
              <a:t>НИВЯНИК ОБЫКНОВЕН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Arial"/>
              </a:rPr>
              <a:t>ВАСИЛЕК СИ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Arial"/>
              </a:rPr>
              <a:t>БОДЯК ПОЛЕВ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Arial"/>
              </a:rPr>
              <a:t>ТИМОФЕЕВКА ЛУГОВ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СЕМЕЙСТВО «РОЗОЦВЕТНЫЕ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РЯБИНА ОБЫКНОВЕН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ЗЕМЛЯНИКА ЛЕС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ШИПОВНИК КОРИЧ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ЧЕРЕМУХА ОБЫКНОВЕН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ОДУВАНЧИК ЛЕКАРСТВЕН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ccff"/>
                </a:solidFill>
                <a:latin typeface="Tahoma"/>
              </a:rPr>
              <a:t>КОНКУРС №4</a:t>
            </a:r>
            <a:br>
              <a:rPr sz="6600"/>
            </a:br>
            <a:r>
              <a:rPr b="1" i="1" lang="en-US" sz="6600" spc="-1" strike="noStrike">
                <a:solidFill>
                  <a:srgbClr val="00ccff"/>
                </a:solidFill>
                <a:latin typeface="Tahoma"/>
              </a:rPr>
              <a:t>«КТО БОЛЬШЕ?»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29" name="" descr=""/>
          <p:cNvPicPr/>
          <p:nvPr/>
        </p:nvPicPr>
        <p:blipFill>
          <a:blip r:embed="rId2"/>
          <a:stretch/>
        </p:blipFill>
        <p:spPr>
          <a:xfrm>
            <a:off x="2627280" y="350028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4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ccff"/>
                </a:solidFill>
                <a:latin typeface="Tahoma"/>
              </a:rPr>
              <a:t>КОНКУРС №5</a:t>
            </a:r>
            <a:br>
              <a:rPr sz="6600"/>
            </a:br>
            <a:r>
              <a:rPr b="1" i="1" lang="en-US" sz="6600" spc="-1" strike="noStrike">
                <a:solidFill>
                  <a:srgbClr val="00ccff"/>
                </a:solidFill>
                <a:latin typeface="Tahoma"/>
              </a:rPr>
              <a:t>«ЗЕЛЕНАЯ АПТЕЧКА»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31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396072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КОНКУРС №6 «УЗНАЙ ПО ФОРМУЛАМ ЦВЕТКА СЕМЕЙСТВО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) *Ч4Л4Т4+2П1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(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рестоцветные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*Ч(5)Л(5)Т5П1 (пасленовы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2)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↑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О2+2Т3П1 (злаковы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*Ч0Л(5)Т(5)П1 (сложноцветны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) </a:t>
            </a: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*Ч5Л5ТмПм (розоцветны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↑</a:t>
            </a:r>
            <a:r>
              <a:rPr b="1" lang="ru-RU" sz="32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Ч(5)Л1+2+(2)Т9П1(бобовы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КОНКУРС №7</a:t>
            </a:r>
            <a:br>
              <a:rPr sz="8000"/>
            </a:b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«ВИКТОРИНА»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5" name="plant"/>
          <p:cNvSpPr/>
          <p:nvPr/>
        </p:nvSpPr>
        <p:spPr>
          <a:xfrm>
            <a:off x="4643280" y="2924280"/>
            <a:ext cx="3024360" cy="2448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6" name=""/>
          <p:cNvSpPr txBox="1"/>
          <p:nvPr/>
        </p:nvSpPr>
        <p:spPr>
          <a:xfrm rot="19590000">
            <a:off x="1763640" y="3789000"/>
            <a:ext cx="3314880" cy="255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КУРС №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«ВИКТОРИНА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Конкурс КАПИТАН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8" name=""/>
          <p:cNvSpPr txBox="1"/>
          <p:nvPr/>
        </p:nvSpPr>
        <p:spPr>
          <a:xfrm>
            <a:off x="1619280" y="692280"/>
            <a:ext cx="6265800" cy="22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ЗАКЛЮЧИТЕЛЬН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Расшифруйте название растений и исключите лишнее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00"/>
                </a:solidFill>
                <a:latin typeface="Arial"/>
              </a:rPr>
              <a:t>а) ацчвеиче;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а) жипам;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а) нселап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00"/>
                </a:solidFill>
                <a:latin typeface="Arial"/>
              </a:rPr>
              <a:t>б) схараи;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б) кдбяо;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б) црепе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00"/>
                </a:solidFill>
                <a:latin typeface="Arial"/>
              </a:rPr>
              <a:t>в) льсафо;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в) клевсиа;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в) яцакаи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00"/>
                </a:solidFill>
                <a:latin typeface="Arial"/>
              </a:rPr>
              <a:t>г) книндо;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г) ргохо;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г) клажабна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00"/>
                </a:solidFill>
                <a:latin typeface="Arial"/>
              </a:rPr>
              <a:t>д) кшпиниво.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д) нвиняки.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д) рмдун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 команда      2 команда     3 команд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 коман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а) ацчвеиче; 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чечевиц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б) схараи;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арах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в) льсафо;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фасо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г) книндо;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) донни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д) кшпиниво.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д) шиповник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 коман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а) жипам;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пиж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б) кдбяо;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бодя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в) клевсиа;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василе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г) ргохо;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) горо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д) нвиняки.</a:t>
            </a: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) нивян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1115640" y="349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КОНКУРС №1 «НАЙДИ ОШИБКУ»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3 коман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) нселап;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а) пасл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) црепе;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б) пере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) яцакаи;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ка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) клажабна;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) баклаж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) рмдуна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) дурм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"/>
          <p:cNvSpPr txBox="1"/>
          <p:nvPr/>
        </p:nvSpPr>
        <p:spPr>
          <a:xfrm>
            <a:off x="324000" y="2565360"/>
            <a:ext cx="842472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ЗДРАВЛЯЕМ ПОБЕДИТЕЛЕЙ!!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 КОМАН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АРСТВО: РАСТ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ИП: ПОКРЫТОСЕМЕ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АСС: ОДНОДОЛЬ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Д: ШИПОВН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МЕЙСТВО: РОЗОЦВЕТ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: ШИПОВНИК КОРИЧ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 КОМАН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АРСТВО: РАСТ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ИП: ГОЛОСЕМЕ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АСС: ОДНОДОЛЬ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МЕЙСТВО:ЛИЛЕЙ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Д: ТЮЛЬПАН ЛЕС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:ТЮЛЬП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3 КОМАН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АРСТВО: РАСТ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ИП: ПОКРЫТОСЕМЕ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АСС: ДВУДОЛЬ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МЕЙСТВО:ЗЛАКОВ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:КАПУСТА ДИ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Д:КАПУС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Конкурс №2.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«ЗНАЕТЕ ЛИ ВЫ ОТЛИЧИТЕЛЬНЫЕ ПРИЗНАКИ КЛАССА ОДНО- И ДВУДОЛЬНЫХ»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4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СЕТЧАТОЕ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КРЕСТОЦВЕТНЫЕ, РОЗОЦВЕТНЫЕ,ПАСЛЕНОВЫЕ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МОЧКОВАТАЯ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ОДНА СЕМЯДОЛЯ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ЗЛАКОВЫЕ, ЛИЛЕЙНЫЕ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ДВЕ СЕМЯДОЛИ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ПАРАЛЛЕЛЬНОЕ ИЛИ ДУГОВОЕ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СТЕРЖНЕВАЯ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ПРОСТОЙ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ДВОЙНОЙ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КАМБИЙ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ahoma"/>
              </a:rPr>
              <a:t>КОНКУРС №3. «ПЯТЫЙ ЛИШНИЙ»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ОНКУРС №3. «ПЯТЫЙ ЛИШНИЙ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СЕМЕЙСТВО «БОБОВЫ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ЛЕВЕР ЛУГОВ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ОРОХ ПОСЕВН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ЕМЛЯНИКА ЛЕСН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КАЦИЯ ЖЕЛТ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АСОЛЬ ОБЫКНОВЕНН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СЕМЕЙСТВО «КРЕСТОЦВЕТНЫ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ПАСТУШЬЯ СУМ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РЕДЬКА ДИК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ПШЕНИ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ЯРУТКА ПОЛЕВ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КОЛЬРАБ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«ПЯТЫЙ ЛИШНИЙ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СЕМЕЙСТВО «ЗЛАКОВЫ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ПШЕНИЦА МЯГК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ПЫРЕЙ ПОЛЗУЧ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КУКУРУ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ЛИЛИЯ КУДРЕВАТ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МЯТЛИК ОДНОЛЕТ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СЕМЕЙСТВО «ЛИЛЕЙНЫ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cc"/>
                </a:solidFill>
                <a:latin typeface="Arial"/>
              </a:rPr>
              <a:t>ТЮЛЬПАН ЛЕСН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cc"/>
                </a:solidFill>
                <a:latin typeface="Arial"/>
              </a:rPr>
              <a:t>ЧЕРЕМШ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cc"/>
                </a:solidFill>
                <a:latin typeface="Arial"/>
              </a:rPr>
              <a:t>ЛИЛИЯ КУДРЕВАТ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cc"/>
                </a:solidFill>
                <a:latin typeface="Arial"/>
              </a:rPr>
              <a:t>ЛУК БАТУ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cc"/>
                </a:solidFill>
                <a:latin typeface="Arial"/>
              </a:rPr>
              <a:t>ВАСИЛЕК СИ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1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1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1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18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3" dur="500"/>
                                        <p:tgtEl>
                                          <p:spTgt spid="18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"/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"/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400" fill="hold"/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00" fill="hold"/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"/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"/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400" fill="hold"/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"/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400" fill="hold"/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/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"/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07:28:44Z</dcterms:created>
  <dc:creator>**FeDoRcHuK**</dc:creator>
  <dc:description/>
  <dc:language>en-US</dc:language>
  <cp:lastModifiedBy>**FeDoRcHuK**</cp:lastModifiedBy>
  <dcterms:modified xsi:type="dcterms:W3CDTF">2006-05-14T20:14:59Z</dcterms:modified>
  <cp:revision>8</cp:revision>
  <dc:subject/>
  <dc:title>Обобщающий урок по теме: «Классификация растений» ИГРА-СОСТЯЗА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