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928-1999-447A-9BFA-ED43862C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76A-7044-4C1F-9164-14FA34E4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9BC6E-4A73-43CF-822A-C501CDF5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BA4F2-44C5-44CE-BC7C-766F1EB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36073-19C2-415F-ABAD-A847E624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C4098-0AC1-4D7B-AB8E-4177707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D3267-C087-4A85-B3F3-6F7D54C7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527E6-E265-454E-AD32-953E4B2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8D2A3-95C5-403F-A508-9842D51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1E0BC-AE38-4883-8E31-D57F1D1A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51D6E-B489-4535-8AA2-4313E1E7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BABDA-0C85-4498-896E-0638EE04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157-0C6A-4A82-90D6-4D9C9682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927BB-721B-4569-B728-C8B2596D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BD7A7-326F-46F1-8675-3306D33F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AEBDE-7419-46F8-BA46-9767DED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82AF2-BF8F-413E-8C99-444BB927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BFEE9-A121-4FBE-B9AA-0C2E94B5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E50B7-0092-4017-81AE-C4AC178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C4463-D100-4D4F-B752-A82035E7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6AD54-19AF-4E1B-9E47-2AE6481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B0A4A-7650-4852-A1E5-1BE41C36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ED8A7-F764-4E7E-9B65-EE75DD3A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770-B770-45EE-A3C6-C8F8B3A0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0D46C-8215-46ED-9C78-ACB94B40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324E7-9AA5-4D73-A66B-DF10F116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C508B-9AE0-428A-A5F5-5ECEC5F3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5C98A-B117-4738-9560-92378030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FF660-1C74-4D43-98EC-6A8A97F5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AB2F1-F2EC-4F8B-83B9-65E67F77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C6AE6-FC23-4619-AF17-0561C3EB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1CB2F-D284-43A7-A27D-3ACC9D5D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795F5-614C-4E90-8A79-08D7D11E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81082-6A68-4D60-AD18-29729020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8FF1-01B4-483E-8215-2B81117C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4C701-0AD2-4D49-B9F4-F6B3B1E0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50B62-637F-465D-BB67-0A083B46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A6F5D-F502-45DC-942D-75650BDD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39340-01A6-4102-9DAD-641FD076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DE824-EA2B-4F58-A938-6F0FC4A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B58C6-8A54-4140-9933-20F3D990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27A45-3880-4D15-BA12-71467D1C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82356-7471-4E4D-8A77-7DE7869B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55308-C073-4565-A4E4-A573FA26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C47E3-AA32-4CF0-A870-79B681AE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09CF-E25A-4C96-A7EA-C48B8CEC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965DB-C8EE-4CDF-B975-FD4E9194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74E99-6AE4-404C-AD0D-049EEB8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53E1D-E89F-46ED-BE7B-A28E6740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DD10E-2EDA-47D1-88DA-6B7AED46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9EC3C-5498-46E2-B5DE-F422174A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F5BEF-D8EB-47F4-B4C3-EFB6A49C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4713C-E716-44AB-A67F-F634DD36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8B30F-3A22-48DB-B46B-B1F17618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469D2-3444-415E-AF9D-C9CFD2AE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3711B-C519-4FCB-8511-F31F3C00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F6FC-D413-409A-A368-1C390267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76384-1BB3-421B-8BE9-10E10DB4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9403D-19C5-4A2E-8C9E-F649D1F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08E6E-DA95-4169-81C6-C7ADD44F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069EF-FDB8-4A1A-B5A9-6238AA07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DAE7F-B309-478E-8E49-455A47F5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758E5-F5CF-4AFF-ACFA-B9ACD78C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A0992-1FE8-4DFB-878F-36C741E8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ACFB0-0EC8-483A-A0F7-C1B19152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619E4-BF94-4DDA-9D0D-584C2BB4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941A9-281B-4B04-A35B-F0655C90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C297-531A-4A0D-920A-DB36E93D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86E40-4069-4980-9EE2-6B85B305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5EA05-AF9C-4260-9018-DC63D057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2ABC8-76D5-4A72-AD82-CFB58D3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5D4FE-8816-493A-A9DA-6FADC077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E7372-D1DF-41A6-A611-27170B3E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29B35-7513-4D0F-BE90-8CE643D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58902-9763-4792-8D6E-F6A7F052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22C33-57EB-4196-B398-9361ADED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43D8F-75FE-4428-B9C4-883AE0C6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CD0FC-034C-4874-B931-CBC5384F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3535-E65E-4F78-ABB8-A26D6C81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BF625-24CC-4794-BEE4-59F7B350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62FC5-6E03-42FD-AEB5-3B9B6B36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829BB-2DCA-4B44-B415-1C5D8F5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5E443-F130-4269-AC84-A7F21D4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572A9-DF8D-461B-A320-79B507D8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1513F-E723-496E-9851-8293ADB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E8EC0-206F-45C3-ABB9-FC2AB31E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63905-0CF5-4B02-B5F7-D3A9CE1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9868F-F8FC-4235-96D2-593080C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9C1DD-291A-42B0-B9B4-918A1E04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6F92-630D-41ED-8556-B358E8A0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D760D-1776-45F5-99A4-241766A1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CEE69C-E17E-4DD8-907F-8BBBCBA6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C05308-35C0-4080-9A81-09B74C0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8EBE80-143C-4279-9029-4E688E3C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DD2228-8EB2-4E6B-8DCE-6EE3960B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8F68B6-C1CD-4A8E-8081-A512B530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7F83DA-4048-42D8-AD44-70AF6BE0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1DDE39-BE75-4A6F-9EB0-DCCE7833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9B2912-898B-46C1-8D25-9F5726AD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27D97E-799F-49FF-984A-6F2A79C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B78A-7FAE-4702-83BB-DDEF8523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BEDB08-9579-46D1-B3AA-011446A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E378B4-930D-4FC0-A040-6F0B35AB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E65542-8F1A-47BF-B645-C26ED56E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8CFF6-A8E4-4FE5-AD3A-E2B6DA8A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8F3DE-EC8B-4472-92F3-B7314DAD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1A474-D84B-4C51-92E4-ED7BA7FE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7ABAFA-32F2-4D36-AB8F-C8D7C3D2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9A473-531F-4535-AB4D-EF15D672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6F521-FDAB-4E8E-BD66-BA1D87EF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EFEC8-D97C-4F55-9492-1B7B1CA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4CE-3A9E-4886-BC19-A0BF8005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5ED-602F-4338-9D7D-1BA7EDC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64909-3C03-4F5F-A639-D5BABA9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75A00-A4E6-42A3-9CFF-83FCA5C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F0D1B-E344-4DA5-8989-3C301168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BCEDB-F90B-43DB-898F-E9BF10A3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B2338-8381-478E-87D0-EA775A2E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246B7-8FC3-418C-A1D1-D7938AA1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FD72F-854E-4D45-A40C-BCF49489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A14CB-418C-4CFB-9250-9F958D2B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581D3-3271-4B9A-BB50-1383BF4B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8A600-3F83-4CF8-BF10-875A463A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5337-CA4A-4851-826B-C280F58F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1A4E4-2BE6-4144-8B28-A28475F6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5AE33-462D-44CA-9F8F-65BDCDAD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9ED55-3324-458A-A022-36F80DA2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CD502-E3B0-4D64-8FC9-A9062E5E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9BCCDB-3164-4BBD-A573-6C1AAE8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474F9-936B-4474-B5DE-DBDBCBBB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9A28F-3265-43C9-B523-4F2A8672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A6B28-8111-4756-AD3A-FEDB6EBC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0BF5C-13B9-4E8D-800E-17885928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B04CE-EAEB-4167-8EE6-CDAE3EFB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FFBE-3BE3-445B-A561-942E8E9F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0D5C0-0A91-439F-AC04-09F871B2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EFEF5-5681-4285-B0F1-5A5F196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12941-CE1C-4FEE-B0C6-7C3B96F1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76BC4-A0BF-48AD-BC80-73C3A4E2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AF9C2-FCC0-49D9-B3BF-EDEF9CB1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69CF7-9878-4CFB-8397-78D70994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28FEE-03F8-4433-8AAD-0A0B401B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0A0E77-9DB5-433A-8871-BA1C9F84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F6C35-0BFB-43EC-A576-3A3E375F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64C1FB-C570-40FD-AE9C-708DEA3C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E74C-3C63-4FA0-A87F-894CB1D1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1D243D-22C9-494E-96C3-8BA180E4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6FC8D-1717-43D6-95E8-40E026B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05A45-D45C-49E8-9458-84013559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0FBC1-DACC-4180-9119-66E1718A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D3AC9-2F3D-4FAE-BEF5-192ABE4C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BB9FD-9586-4782-8F6F-7232B949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CA4EB-21F5-4EE7-9E5C-5BCC7AA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80B37-12AD-49F6-A635-5E4CD71D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94853-E997-4B45-AA23-0E7E3A33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599DCA-B335-45A9-871F-F1BC1008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1091-C922-49B4-87E5-A84AF37D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B4538-2304-475F-A895-6C03562D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1A6D7A-87D3-4692-B875-CE0B6171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C5519-1749-4250-81AC-0BC526F9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F66BDA-68DE-4C6E-98E4-4A005153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1628D6-314E-4C13-8A0C-BD12157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115E11-508F-4F10-ADAA-F93A4322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4A057-5B69-4C00-92E4-FD00D639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1DCF8-E95B-480A-B94C-8511F33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90326-5FB5-4F3F-A332-97AC2B80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4A50C-4340-4D97-9662-433B5C07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253B-8A85-4D21-A8D1-57549893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08076C-510E-4A23-AA13-74032F2C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94D0A-C4E4-42BD-ACE4-6D21D4B1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B3432-2AA1-4616-80A7-F859D3BD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821148-95F7-4D70-B733-E98BEA29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2C8D26-C1FE-4EF1-BE61-A97796F9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9094D4-21C7-4AF0-8E3F-3A7D2AD8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1A8423-07A3-480C-88B1-72B81DA5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D57F8-C3B4-47A5-9842-327CA6FA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00812-E95A-4A7A-BECD-FB449FF2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91357-4AB0-4439-87D9-DA39C51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FA7A-69D3-4E0B-99B7-FB494DA7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0F9F8A-E22B-4DE2-BC6C-C3B1907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9766FD-067A-4A7A-8D99-B8109D7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417582-5AA9-4CEE-AB16-F8E04E92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526C75-8B80-47D3-A94D-FE9ECC33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5905B0-E9FE-4B65-9968-B20E692C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58BCD9-38DD-4CF4-A6AA-401E90F5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C4D24A-4CA2-44EA-ADFB-C43C5D2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9AE3E9-B8D0-4107-940A-032D511C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E94AEF-A637-48B9-B5AE-540A4FAB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1A36B6-26EE-4ECC-89F6-74DA7AF2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E3CE-DEEA-4151-B8F0-FD09D57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050E71-3432-4EA6-9992-08B2024A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BB7553-83E4-472C-971F-56E6E580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821C85-A84E-4B03-84FB-5E33E6A1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BA5B6-CE35-498D-AB98-7B46B48B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FE445-41A6-47C9-A993-5F9FC299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600975-BC9D-4842-A21C-76D5481B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DFD231-EA8E-46BE-AD9F-66DB8BB3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292269-F7E4-4F37-A9FA-8044D199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39F6B9-C018-40F6-AA51-ED247E88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B09084-EA85-4FB1-BD77-09BAAAD1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822B-1FC1-4F8C-A39F-E27AE70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638073-FA8F-47EB-AC18-83E40048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1C83DE-4918-41EF-A372-76778F40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32E54C-CFBF-4073-9D25-0059DB95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70A7B7-4F53-4077-B136-317A16FB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E1EDE5-2452-42E1-B34D-55700CA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BD6BCF-9E3A-401B-B4AA-361FDBF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B96A7D-33C0-485E-8173-AEB28977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2CBE32-3315-4588-9C6C-B04B20A9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CE2D47-2A84-4B56-BB56-B4B25714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E14E-AC1B-489D-929D-A9CCD5C6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D6A-686C-45ED-89A9-5D79EAA2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E954-6419-463B-AC56-0ACE95E6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E3B8-91B8-4C44-8D0F-CBBD6033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CB6E-81D5-4D2F-B742-3054BAA5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F5C4-3199-4C46-8DB7-C36DAC92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6FD1-8FBF-4ED6-BAA6-E8992E6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7A06-C6DC-4CC2-A629-2E35F31C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EC16-1CA2-4F1A-9201-60363E95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E9E76-E8E7-49A7-84B4-6610C274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CEE7-A2F4-4466-BE33-FD3F9BE2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FF317-03A4-4FB4-9529-C3F0E59C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7BA-D35E-4FA8-897E-C75D5A6C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04DD-8415-41F8-9602-8F1A720B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6BAB-EE4C-4312-B701-92DFC195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E33D-C30C-4AC9-A5CF-FA00257A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040E-47DF-434F-8D81-61092617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2913-FF5E-4712-A82A-E896AFCE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97E3-F7DB-4F08-9D11-226A764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BDCE-C669-4A0F-AA6D-8798FF9F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9CF6A-0259-4857-8F31-D419C0EF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B8184-17A6-43C3-B1E3-F9A43FE4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11E21-4DC0-47A1-A2BE-A87B681A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109-7C51-4C0D-A458-15A28F87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BE1A-C3F4-4378-AE84-117EB2C9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AEB4B-0441-4C85-958E-1EDC0CF1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2A31A-2448-4849-8D0E-83DDB941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DCF68-CA82-4D71-964A-A3A49B40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E881E-935B-4124-B6E1-622AEC78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F1382-0285-4409-8FA5-3807AA5E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9E89-691F-40B5-B9C2-C5EE1EEE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879E6-F1D9-454E-9125-F4FC75A8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B133C-CF9C-4AB5-9139-F7F56CBE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C75F2-468D-4F27-B36C-43C7059B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B3B-CCF2-41D1-BA36-EB64ED7D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D0966-7A82-4253-9E37-9BF64DF6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9216-783E-4FE9-BEA8-7CD29257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F8A6-D80A-446E-9999-B5E9486E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53906-581A-4E36-8754-07882D82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E706-D8DA-413B-BFA9-88C3F2D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3FDA-1CA5-4D35-B272-4E1BF8B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7E65B-2E9D-428E-BAC6-1CBB5CC8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B7C50-800B-4A22-8972-732BAB40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5C942-A611-4358-B191-DF920CDC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47F74-EB1F-4A41-AF61-4FAD9D91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50A-C0B5-4BA6-927A-008BB0E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7F6E5-476F-4F32-9670-BE86465A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3216-4ED5-4E1A-BCBB-8C1EE7F4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695B6-4C9B-4A01-8F7C-9CB55331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6DA58-D3FA-49CF-8D7C-4931D0ED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9AAA-1B2B-4BA5-8E4D-8FFCEEAE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586AE-B8F5-47B7-B8C6-7FC7D96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D9104-0338-4BBD-A5A6-D941F61A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0875-3C75-4448-9BA1-82D94CE2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7329E-993C-4990-BA83-EFD3D552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1A09F-ADAD-4DAE-A7D4-5D3C123E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104-C30C-4706-9F67-13E9CF0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44CB0-F695-4B84-8080-66D4DC3D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C155-9AA0-4AF4-A6DA-87A097F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640CF-23F0-4947-AA8B-3C53486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21DC6-4144-4694-A3A0-1E2A8BBD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A3C6E-5715-46DB-848C-0AD63E27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62328-8A44-4D73-A497-F6CB832F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9284D-BB17-4BA1-B527-873EB8C9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D429-3403-4E8B-AFAD-A7A87911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EB685-D0FB-4E9D-B13C-75A8407E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7AA3-7BC0-4841-AA24-2C948E13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F93-40FE-4B30-826B-96583FB9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3044C-2620-49F9-A476-D6F59882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A7325-FA70-4CA8-AA84-1F9F729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33513-E618-4526-914D-8C9FAA01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EC92A-9B1C-4DD2-BD0F-62413564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2D645-EC55-4B95-A711-56D943E4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F416E-84E8-4BD9-87CA-8BB68360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A2F3-E479-45F1-8EDB-6C1B686A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91090-2948-45D0-B406-E1AE5544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59E1F-9A71-44D6-80E6-5F17F6A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850A9-D23D-45D4-841C-73182264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A156-CE9B-4545-A3E4-AAB50DD66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DF5-37B5-4AFF-91AF-62068FF99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7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8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8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8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2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2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4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5200-56E4-4413-872B-2B90A2A2E2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2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3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1D42-5D8D-4050-9C9C-B01E8CD18D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1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D294-AD06-472F-A689-5C65DC519C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5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57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C28-AF9D-4C82-9B32-B642D7334E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4644-3809-4B32-A5F8-61E48F48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F64-649D-440B-9B2C-1F9AB3254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36E-E8EE-40D1-BA2F-DE19480A76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ftr" idx="5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CDE9-6858-4037-8571-1EB60BC89E2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0D13-03E2-4546-8976-96CF27EF69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F70F-A19E-444D-B5EB-A6B54977C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1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dt" idx="5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ftr" idx="5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sldNum" idx="6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D9CA-5052-41B1-AFC8-961389699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6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6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6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6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6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FCEC-01D2-498A-A070-522EB4EBEEE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1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1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18" name="PlaceHolder 1"/>
          <p:cNvSpPr>
            <a:spLocks noGrp="1"/>
          </p:cNvSpPr>
          <p:nvPr>
            <p:ph type="dt" idx="6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ftr" idx="6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sldNum" idx="6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5E66-75E9-4E73-906A-308EED89FA1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45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6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6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6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46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7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7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7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8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8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8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8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8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9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9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9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0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1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1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1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1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1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1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1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2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2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2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2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3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3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3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3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3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153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53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54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6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6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7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88F-BCFC-4E40-8E1C-15D5B4F31CA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63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3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63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64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64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64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64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4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64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4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5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65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65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5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66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6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66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6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66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6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6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66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7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7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67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7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67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7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67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7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8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68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8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68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8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8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69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9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9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69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9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69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69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69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69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0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70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0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70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70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70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71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1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1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71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1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1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71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1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71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2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72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2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72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2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72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2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3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73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3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73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3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3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73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73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74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74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74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74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5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5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75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9BEB-70C3-4D54-911E-A3AD88074DD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3D94-7967-4E28-8C34-74D645F19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AF55-8552-4226-9803-6360F37A2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83F0-AD21-4584-B0EC-B75340D659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1B0C-8DE6-4A92-93AE-EF92E74838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2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AC18-9429-4439-A43F-6A1D4DA6F2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1AA4-89C8-4FAB-97FB-BD3579FC31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BA8D-A9A7-45AC-98CC-4E91A40A0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1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Обобщающий урок по теме: «Классификация растений»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Arial Black"/>
              </a:rPr>
              <a:t>ИГРА-СОСТЯЗАНИ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ПЯТЫЙ ЛИШНИЙ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СЕМЕЙСТВО СЛОЖНОЦВЕТ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ОДУВАНЧИК ЛЕКАРСТВЕ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НИВЯНИК ОБЫКНОВЕ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ВАСИЛЕК СИ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БОДЯК ПОЛЕВ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ТИМОФЕЕВКА ЛУГОВ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СЕМЕЙСТВО «РОЗОЦВЕТНЫ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РЯБИНА ОБЫКНОВЕН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ЗЕМЛЯНИКА ЛЕС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ШИПОВНИК КОРИЧ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ЧЕРЕМУХА ОБЫКНОВЕН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ОДУВАНЧИК ЛЕКАРСТВЕ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ccff"/>
                </a:solidFill>
                <a:latin typeface="Tahoma"/>
              </a:rPr>
              <a:t>КОНКУРС №4</a:t>
            </a:r>
            <a:br>
              <a:rPr sz="6600"/>
            </a:br>
            <a:r>
              <a:rPr b="1" i="1" lang="en-US" sz="6600" spc="-1" strike="noStrike">
                <a:solidFill>
                  <a:srgbClr val="00ccff"/>
                </a:solidFill>
                <a:latin typeface="Tahoma"/>
              </a:rPr>
              <a:t>«КТО БОЛЬШЕ?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29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ccff"/>
                </a:solidFill>
                <a:latin typeface="Tahoma"/>
              </a:rPr>
              <a:t>КОНКУРС №5</a:t>
            </a:r>
            <a:br>
              <a:rPr sz="6600"/>
            </a:br>
            <a:r>
              <a:rPr b="1" i="1" lang="en-US" sz="6600" spc="-1" strike="noStrike">
                <a:solidFill>
                  <a:srgbClr val="00ccff"/>
                </a:solidFill>
                <a:latin typeface="Tahoma"/>
              </a:rPr>
              <a:t>«ЗЕЛЕНАЯ АПТЕЧКА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9607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КОНКУРС №6 «УЗНАЙ ПО ФОРМУЛАМ ЦВЕТКА СЕМЕЙСТВО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) *Ч4Л4Т4+2П1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(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рестоцветные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Ч(5)Л(5)Т5П1 (пасленов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2)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↑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О2+2Т3П1 (злаков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*Ч0Л(5)Т(5)П1 (сложноцветн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*Ч5Л5ТмПм (розоцветн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↑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Ч(5)Л1+2+(2)Т9П1(бобов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КОНКУРС №7</a:t>
            </a:r>
            <a:br>
              <a:rPr sz="8000"/>
            </a:b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«ВИКТОРИНА»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5" name="plant"/>
          <p:cNvSpPr/>
          <p:nvPr/>
        </p:nvSpPr>
        <p:spPr>
          <a:xfrm>
            <a:off x="4643280" y="2924280"/>
            <a:ext cx="3024360" cy="2448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6" name=""/>
          <p:cNvSpPr txBox="1"/>
          <p:nvPr/>
        </p:nvSpPr>
        <p:spPr>
          <a:xfrm rot="19590000">
            <a:off x="1763640" y="3789000"/>
            <a:ext cx="3314880" cy="25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КУРС №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«ВИКТОРИНА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Конкурс КАПИТАН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"/>
          <p:cNvSpPr txBox="1"/>
          <p:nvPr/>
        </p:nvSpPr>
        <p:spPr>
          <a:xfrm>
            <a:off x="1619280" y="692280"/>
            <a:ext cx="6265800" cy="22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КЛЮЧИТЕЛЬ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Расшифруйте название растений и исключите лишнее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а) ацчвеиче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а) жипам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а) нселап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б) схараи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б) кдбяо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б) црепе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в) льсафо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в) клевсиа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в) яцака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г) книндо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г) ргохо;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г) клажабн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Arial"/>
              </a:rPr>
              <a:t>д) кшпиниво.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д) нвиняки.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д) рмдун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 команда      2 команда     3 коман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 коман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а) ацчвеиче; 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чечев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б) схараи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арах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в) льсафо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фасо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г) книндо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) дон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) кшпиниво.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д) шиповник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 коман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а) жипам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пиж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б) кдбяо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бодя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в) клевсиа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васил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г) ргохо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) горо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д) нвиняки.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) нивя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115640" y="349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КОНКУРС №1 «НАЙДИ ОШИБКУ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 коман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) нселап;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а) пасл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) црепе;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б) пере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) яцакаи;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к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) клажабна;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) баклаж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) рмдуна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) дурм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 txBox="1"/>
          <p:nvPr/>
        </p:nvSpPr>
        <p:spPr>
          <a:xfrm>
            <a:off x="324000" y="2565360"/>
            <a:ext cx="842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ЗДРАВЛЯЕМ ПОБЕДИТЕЛЕЙ!!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КОМАН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: РАСТ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: ПОКРЫТОС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АСС: ОДНОДО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: ШИПОВ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ЕЙСТВО: РОЗОЦВЕТ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: ШИПОВНИК КОРИЧ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 КОМАН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: РАСТ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: ГОЛОС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АСС: ОДНОДО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ЕЙСТВО:ЛИЛЕЙ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: ТЮЛЬПАН ЛЕС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:ТЮЛЬП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 КОМАН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АРСТВО: РАСТ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: ПОКРЫТОС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ЛАСС: ДВУДО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ЕЙСТВО:ЗЛАКОВ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:КАПУСТА ДИ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:КАПУ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Конкурс №2.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«ЗНАЕТЕ ЛИ ВЫ ОТЛИЧИТЕЛЬНЫЕ ПРИЗНАКИ КЛАССА ОДНО- И ДВУДОЛЬНЫХ»</a:t>
            </a:r>
            <a:endParaRPr b="1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СЕТЧАТОЕ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КРЕСТОЦВЕТНЫЕ, РОЗОЦВЕТНЫЕ,ПАСЛЕНОВЫЕ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МОЧКОВАТА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ОДНА СЕМЯДОЛ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ЗЛАКОВЫЕ, ЛИЛЕЙНЫЕ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ДВЕ СЕМЯДОЛИ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ПАРАЛЛЕЛЬНОЕ ИЛИ ДУГОВОЕ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СТЕРЖНЕВА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ПРОСТОЙ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ДВОЙНОЙ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-54288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КАМБИЙ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542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КОНКУРС №3. «ПЯТЫЙ ЛИШНИЙ»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НКУРС №3. «ПЯТЫЙ ЛИШНИЙ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СЕМЕЙСТВО «БОБОВ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ЕВЕР ЛУГОВ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РОХ ПОСЕВ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ЕМЛЯНИКА ЛЕС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КАЦИЯ ЖЕЛТ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АСОЛЬ ОБЫКНОВЕН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СЕМЕЙСТВО «КРЕСТОЦВЕТН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ПАСТУШЬЯ СУМ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РЕДЬКА ДИК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ПШЕ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ЯРУТКА ПОЛЕ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КОЛЬРАБ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ПЯТЫЙ ЛИШНИЙ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СЕМЕЙСТВО «ЗЛАКОВ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ПШЕНИЦА МЯГК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ПЫРЕЙ ПОЛЗУЧ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КУКУРУ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ЛИЛИЯ КУДРЕВАТ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МЯТЛИК ОДНОЛЕТ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СЕМЕЙСТВО «ЛИЛЕЙНЫ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ТЮЛЬПАН ЛЕС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ЧЕРЕМШ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ЛИЛИЯ КУДРЕВАТ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ЛУК БАТУ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cc"/>
                </a:solidFill>
                <a:latin typeface="Arial"/>
              </a:rPr>
              <a:t>ВАСИЛЕК СИ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"/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"/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7:28:44Z</dcterms:created>
  <dc:creator>**FeDoRcHuK**</dc:creator>
  <dc:description/>
  <dc:language>en-US</dc:language>
  <cp:lastModifiedBy>**FeDoRcHuK**</cp:lastModifiedBy>
  <dcterms:modified xsi:type="dcterms:W3CDTF">2006-05-14T20:14:59Z</dcterms:modified>
  <cp:revision>8</cp:revision>
  <dc:subject/>
  <dc:title>Обобщающий урок по теме: «Классификация растений» ИГРА-СОСТЯЗ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