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006-BEFA-49D0-A4B4-40C48852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725-0DFE-4E30-B5B6-EA2F323B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EA7-5D1C-49AA-AE24-31BE06B4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C32-8CFD-485B-BF39-5A2CA359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F29-434C-4F3D-BDCD-F98EE02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98B-93C4-411F-9AFA-C96A80F3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76F-1670-40EA-B5D0-CE835D4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428-D78F-41A7-8896-EEB784E5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2D9-7E21-4F2A-B730-43B370D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85E-0A9A-42D2-AE60-315C8B14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9D1-568B-4F6B-9183-E7069205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D9F-AD08-4D39-B456-7C2E0BE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1613-E107-4D8B-83D0-5AEE500C7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 «Почва»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 ученицей 4 «Б» класса Татосян Вик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572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4745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9"/>
          <p:cNvSpPr/>
          <p:nvPr/>
        </p:nvSpPr>
        <p:spPr>
          <a:xfrm>
            <a:off x="1403280" y="1628640"/>
            <a:ext cx="6624720" cy="27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ерегно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835280" y="7034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826920" y="2205000"/>
            <a:ext cx="7704360" cy="27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Главное свой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очв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9"/>
          <p:cNvSpPr/>
          <p:nvPr/>
        </p:nvSpPr>
        <p:spPr>
          <a:xfrm>
            <a:off x="395280" y="1557360"/>
            <a:ext cx="8352000" cy="30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амая плодородн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9"/>
          <p:cNvSpPr/>
          <p:nvPr/>
        </p:nvSpPr>
        <p:spPr>
          <a:xfrm>
            <a:off x="250920" y="1989000"/>
            <a:ext cx="871380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х излишнее приме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водит к избытку со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250920" y="1916280"/>
            <a:ext cx="8642160" cy="31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з него зим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лают ва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ля защиты поч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9"/>
          <p:cNvSpPr/>
          <p:nvPr/>
        </p:nvSpPr>
        <p:spPr>
          <a:xfrm>
            <a:off x="0" y="1916280"/>
            <a:ext cx="9144000" cy="25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олотные поч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держат толстый слой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9"/>
          <p:cNvSpPr/>
          <p:nvPr/>
        </p:nvSpPr>
        <p:spPr>
          <a:xfrm>
            <a:off x="179280" y="2276640"/>
            <a:ext cx="8785440" cy="24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Учёный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зучающий почв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9"/>
          <p:cNvSpPr/>
          <p:nvPr/>
        </p:nvSpPr>
        <p:spPr>
          <a:xfrm>
            <a:off x="0" y="1341360"/>
            <a:ext cx="9144000" cy="410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Если в стакан во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ожить кусочек почвы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з него пойдут пузырь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-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14:32Z</dcterms:created>
  <dc:creator>user</dc:creator>
  <dc:description/>
  <dc:language>en-US</dc:language>
  <cp:lastModifiedBy>user</cp:lastModifiedBy>
  <dcterms:modified xsi:type="dcterms:W3CDTF">2013-03-01T10:25:06Z</dcterms:modified>
  <cp:revision>3</cp:revision>
  <dc:subject/>
  <dc:title>Слайд 1</dc:title>
</cp:coreProperties>
</file>