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40BB-9130-4618-9179-B255A126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A71-7F6E-4E1C-B1D0-C4210B21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45B8-3EF3-4456-884F-F889C484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9C38-0172-47AC-BF50-9A1769F4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66B-0502-4E52-A8BB-468F3903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36A-97D8-4075-AD16-6DA59CBF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BB2-2DEC-43A9-8DC5-4AF36965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B3D1-2D99-4AA4-B648-01959C6C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940-BA54-44CD-9E27-47CC463C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B288-65D6-4496-974A-D388AD70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9CFC-E295-4095-90CC-05B05D23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B87-FD4B-4E31-98E1-CF0F8EEB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9143-9BDD-4297-88E0-75B27FB63E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50920" y="260280"/>
            <a:ext cx="86407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нгвистический рыцарский турнир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686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Конкурс грамотного пись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С…езд, счаст…е, об…явление, л…ётся, обез…яна, с…ела, в…ётся, под…ез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0003-003-Molodets"/>
          <p:cNvPicPr/>
          <p:nvPr/>
        </p:nvPicPr>
        <p:blipFill>
          <a:blip r:embed="rId1"/>
          <a:stretch/>
        </p:blipFill>
        <p:spPr>
          <a:xfrm>
            <a:off x="2124000" y="278136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Расставь удар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Тор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атало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арва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расиве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дефи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балова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щавел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хво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звон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век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договор кладовая,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твор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d9620c865461"/>
          <p:cNvPicPr/>
          <p:nvPr/>
        </p:nvPicPr>
        <p:blipFill>
          <a:blip r:embed="rId1"/>
          <a:stretch/>
        </p:blipFill>
        <p:spPr>
          <a:xfrm>
            <a:off x="5580000" y="2781360"/>
            <a:ext cx="30178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Arial"/>
              </a:rPr>
              <a:t>Составим буриме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олнц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конц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ветл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Тепл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0003-003-Slova-neprijateli-sporjat-ves-den"/>
          <p:cNvPicPr/>
          <p:nvPr/>
        </p:nvPicPr>
        <p:blipFill>
          <a:blip r:embed="rId1"/>
          <a:stretch/>
        </p:blipFill>
        <p:spPr>
          <a:xfrm>
            <a:off x="6516720" y="2492280"/>
            <a:ext cx="24764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0013-013-Zanimatelnyj-russkij-jazy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Разминка «ДОСКАЖИ СЛОВЕЧКО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Грамматическая арифмети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АБАН – АН +Л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РЬ – Ь + ИДОЛ – Л +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ВА+РАК – АК + ТИ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Т+ЁЛКА-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ЕДР – ДР+РОСИНКА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АР+ТО+ФЕЛЬДШЕР-ДШ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АР + согласный 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АР+ знак препин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АР+ горное село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онкурс капитанов «НАБОРЩ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900000" y="1484280"/>
            <a:ext cx="6912000" cy="17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АМОТЕЙ</a:t>
            </a:r>
            <a:endParaRPr b="0" i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Picture 5" descr="book"/>
          <p:cNvPicPr/>
          <p:nvPr/>
        </p:nvPicPr>
        <p:blipFill>
          <a:blip r:embed="rId2"/>
          <a:stretch/>
        </p:blipFill>
        <p:spPr>
          <a:xfrm>
            <a:off x="2843280" y="3598920"/>
            <a:ext cx="26701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768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курс «ОТГАДАЙ  РЕБУС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loie"/>
          <p:cNvPicPr/>
          <p:nvPr/>
        </p:nvPicPr>
        <p:blipFill>
          <a:blip r:embed="rId1"/>
          <a:stretch/>
        </p:blipFill>
        <p:spPr>
          <a:xfrm>
            <a:off x="0" y="1268280"/>
            <a:ext cx="2727360" cy="352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lip_image003"/>
          <p:cNvPicPr/>
          <p:nvPr/>
        </p:nvPicPr>
        <p:blipFill>
          <a:blip r:embed="rId2"/>
          <a:stretch/>
        </p:blipFill>
        <p:spPr>
          <a:xfrm>
            <a:off x="6284880" y="1197000"/>
            <a:ext cx="2859120" cy="374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lip_image005"/>
          <p:cNvPicPr/>
          <p:nvPr/>
        </p:nvPicPr>
        <p:blipFill>
          <a:blip r:embed="rId3"/>
          <a:stretch/>
        </p:blipFill>
        <p:spPr>
          <a:xfrm>
            <a:off x="3132000" y="3328920"/>
            <a:ext cx="2784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73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онкурс «СОБЕРИ ПОСЛОВИЦ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1) Не имей сто рублей, а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2) За двумя зайцами погонишьс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3) Куй железо,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4) Не суйся в воду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5) Всяк свою работу делай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6) Май холодный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kniga800x600"/>
          <p:cNvPicPr/>
          <p:nvPr/>
        </p:nvPicPr>
        <p:blipFill>
          <a:blip r:embed="rId2"/>
          <a:stretch/>
        </p:blipFill>
        <p:spPr>
          <a:xfrm>
            <a:off x="6948360" y="333360"/>
            <a:ext cx="20908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Конкурс для болельщиков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92360" y="2492280"/>
            <a:ext cx="57592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Хлев, щель, столб, зубр, коса, укол, удочка, т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Конкурс «ГОЛОВОЛОМ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ери спрята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шли ребята в зоопарк. Возле входа-поленья. И объявление: «Музомор Жареный». Рысью прибежал охранник.  Ребята за ним., но по пути заслон. Послышалось рычание. «Принести грабли!» - скомандовал охранник. Принесли самые новые. «Велика банка, - почему-то сказал охранник. И добавил: - Зоопарк закры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курс «НАЗОВИ ОДНИМ СЛОВ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               </a:t>
            </a: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БЮЛЛЕТ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КОЛЛ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               </a:t>
            </a: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ТРОЛЛЕЙ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ХОКК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               </a:t>
            </a: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КРО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КОРРЕСПОНД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              </a:t>
            </a: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ТЕНН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ДРЕССИР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               </a:t>
            </a: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ИЛЛЮСТ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0004-004-Razrjady-chastits"/>
          <p:cNvPicPr/>
          <p:nvPr/>
        </p:nvPicPr>
        <p:blipFill>
          <a:blip r:embed="rId2"/>
          <a:stretch/>
        </p:blipFill>
        <p:spPr>
          <a:xfrm>
            <a:off x="6372360" y="2781360"/>
            <a:ext cx="23238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6:26:38Z</dcterms:created>
  <dc:creator>Ксюня</dc:creator>
  <dc:description/>
  <dc:language>en-US</dc:language>
  <cp:lastModifiedBy>Ученик</cp:lastModifiedBy>
  <dcterms:modified xsi:type="dcterms:W3CDTF">2012-02-11T05:23:07Z</dcterms:modified>
  <cp:revision>14</cp:revision>
  <dc:subject/>
  <dc:title>Слайд 1</dc:title>
</cp:coreProperties>
</file>