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348-C07D-42FB-8175-2BA29A4E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BE7-2999-4E2C-B443-7134C990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8BB-920B-4C76-B345-82687CBA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372-D5C8-4EEB-B7DA-C63B7E95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798-CD37-483E-94D4-FDB833E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47F-7070-4744-974E-4E7895A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7B4-F7FC-45E3-B031-6EAE21D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CF3-21C8-4A10-B59E-A8B4E8B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455-E8D7-4240-BD46-33F53E4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6FE-F7EB-450A-9DE8-19B098B0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7D6-8114-450D-9B3D-93ADCF5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CF3-4AEC-402F-9735-585D1A3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AE4-F33C-4CDA-BBED-BC6F328C6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260280"/>
            <a:ext cx="8640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нгвистический рыцарский турни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Конкурс грамотного пис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С…езд, счаст…е, об…явление, л…ётся, обез…яна, с…ела, в…ётся, под…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0003-003-Molodets"/>
          <p:cNvPicPr/>
          <p:nvPr/>
        </p:nvPicPr>
        <p:blipFill>
          <a:blip r:embed="rId1"/>
          <a:stretch/>
        </p:blipFill>
        <p:spPr>
          <a:xfrm>
            <a:off x="2124000" y="278136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Расставь уда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р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ал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арва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расив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ефи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ало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щав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хво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звон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век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оговор кладовая,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в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9620c865461"/>
          <p:cNvPicPr/>
          <p:nvPr/>
        </p:nvPicPr>
        <p:blipFill>
          <a:blip r:embed="rId1"/>
          <a:stretch/>
        </p:blipFill>
        <p:spPr>
          <a:xfrm>
            <a:off x="5580000" y="2781360"/>
            <a:ext cx="3017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Составим бурим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ко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вет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Теп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003-003-Slova-neprijateli-sporjat-ves-den"/>
          <p:cNvPicPr/>
          <p:nvPr/>
        </p:nvPicPr>
        <p:blipFill>
          <a:blip r:embed="rId1"/>
          <a:stretch/>
        </p:blipFill>
        <p:spPr>
          <a:xfrm>
            <a:off x="6516720" y="2492280"/>
            <a:ext cx="2476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013-013-Zanimatelnyj-russkij-jazy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Разминка «ДОСКАЖИ СЛОВЕЧК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рамматическая арифмет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БАН – АН +Л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РЬ – Ь + ИДОЛ – Л +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ВА+РАК – АК + Т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Т+ЁЛКА-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ЕДР – ДР+РОСИНКА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+ТО+ФЕЛЬДШЕР-ДШ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 + согласный 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+ знак препи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Р+ горное село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онкурс капитанов «НАБОРЩ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00000" y="1484280"/>
            <a:ext cx="69120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МОТЕЙ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5" descr="book"/>
          <p:cNvPicPr/>
          <p:nvPr/>
        </p:nvPicPr>
        <p:blipFill>
          <a:blip r:embed="rId2"/>
          <a:stretch/>
        </p:blipFill>
        <p:spPr>
          <a:xfrm>
            <a:off x="2843280" y="3598920"/>
            <a:ext cx="26701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курс «ОТГАДАЙ  РЕБУС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ie"/>
          <p:cNvPicPr/>
          <p:nvPr/>
        </p:nvPicPr>
        <p:blipFill>
          <a:blip r:embed="rId1"/>
          <a:stretch/>
        </p:blipFill>
        <p:spPr>
          <a:xfrm>
            <a:off x="0" y="1268280"/>
            <a:ext cx="2727360" cy="35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lip_image003"/>
          <p:cNvPicPr/>
          <p:nvPr/>
        </p:nvPicPr>
        <p:blipFill>
          <a:blip r:embed="rId2"/>
          <a:stretch/>
        </p:blipFill>
        <p:spPr>
          <a:xfrm>
            <a:off x="6284880" y="1197000"/>
            <a:ext cx="2859120" cy="37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lip_image005"/>
          <p:cNvPicPr/>
          <p:nvPr/>
        </p:nvPicPr>
        <p:blipFill>
          <a:blip r:embed="rId3"/>
          <a:stretch/>
        </p:blipFill>
        <p:spPr>
          <a:xfrm>
            <a:off x="3132000" y="3328920"/>
            <a:ext cx="2784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онкурс «СОБЕРИ ПОСЛОВИЦ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1) Не имей сто рублей, а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2) За двумя зайцами погонишь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3) Куй железо,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4) Не суйся в воду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5) Всяк свою работу делай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6) Май холодный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niga800x600"/>
          <p:cNvPicPr/>
          <p:nvPr/>
        </p:nvPicPr>
        <p:blipFill>
          <a:blip r:embed="rId2"/>
          <a:stretch/>
        </p:blipFill>
        <p:spPr>
          <a:xfrm>
            <a:off x="6948360" y="333360"/>
            <a:ext cx="2090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Конкурс для болельщико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360" y="2492280"/>
            <a:ext cx="5759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Хлев, щель, столб, зубр, коса, укол, удочка, 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онкурс «ГОЛОВОЛОМ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спрят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шли ребята в зоопарк. Возле входа-поленья. И объявление: «Музомор Жареный». Рысью прибежал охранник.  Ребята за ним., но по пути заслон. Послышалось рычание. «Принести грабли!» - скомандовал охранник. Принесли самые новые. «Велика банка, - почему-то сказал охранник. И добавил: - Зоопарк закры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курс «НАЗОВИ ОДНИМ СЛОВ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 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БЮЛЛЕ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ОЛЛ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 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ТРОЛЛЕЙ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ХОКК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РО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ОРРЕСПОНД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ТЕН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ДРЕСС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ИЛЛЮ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004-004-Razrjady-chastits"/>
          <p:cNvPicPr/>
          <p:nvPr/>
        </p:nvPicPr>
        <p:blipFill>
          <a:blip r:embed="rId2"/>
          <a:stretch/>
        </p:blipFill>
        <p:spPr>
          <a:xfrm>
            <a:off x="6372360" y="2781360"/>
            <a:ext cx="232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26:38Z</dcterms:created>
  <dc:creator>Ксюня</dc:creator>
  <dc:description/>
  <dc:language>en-US</dc:language>
  <cp:lastModifiedBy>Ученик</cp:lastModifiedBy>
  <dcterms:modified xsi:type="dcterms:W3CDTF">2012-02-11T05:23:07Z</dcterms:modified>
  <cp:revision>14</cp:revision>
  <dc:subject/>
  <dc:title>Слайд 1</dc:title>
</cp:coreProperties>
</file>