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2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C4B9A-AECC-49ED-A8FD-B1B71970E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A3CB1-8C9D-4203-89E0-616886940349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AE81BA4A-A5DA-4642-865E-97CF421B7B2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F4CD34-8779-400F-8599-0DD6AAA01ED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1F7FFBEA-BBAD-440B-AFFC-19F70BF6D1C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B3A31C-DD67-4366-9495-9F644464A405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6CAA0E94-73C9-4222-8AE2-0D6283C88E92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CE60B7-E757-427E-81A4-2BEA2D720512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4E22B78F-24AF-41EF-987F-1A1E2F03BE4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F7D57F-9448-49D1-94CB-990149A4BFA6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ACFADDA0-45A1-4A74-86F0-A2F0CB18AE8A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959F2-DB7D-48E3-9D3B-7B978B1810F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6211BFC4-0339-4AB7-8844-BACF62D4D596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1CE9C8-3FBD-428E-9770-05168F7980E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4E26EB35-C2F8-4A11-87F4-D2B1E930766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13B50-B8AF-4276-8C33-976136FCBBE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E696D00C-7085-4162-8963-C37CFD066DE0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FF53B9-1D94-4E0A-9315-C19669E2262C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BA83C860-B17D-43C8-AFE8-CB955AE8DB19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602BD7-536F-4DBC-BA7F-6AFDD44CE52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0AB2183F-9348-48B3-BF0C-7E45D7AD59CA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178C6F-9616-4E08-B07B-087E1C0485C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97FF2557-6D18-4C4F-ACDD-D020BED99D29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273-3B36-4854-9E36-28BB5B53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4E6-5C51-471D-9632-BED76769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9E5-1375-4F17-ADE9-F3520C1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0BD-6E9A-4E18-B1F5-B0E2ECA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FBC3-3DB5-445B-BDA3-8343FD8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DB0-57BA-47BD-9E1C-4880FCF9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4B8-0351-4C95-B72B-590594F0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AE0D-EEAF-45E9-8EE1-48170DB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37D-4716-4D30-98EC-CAF87FD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8EF8-864C-4E30-BDDE-1BCE2B7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6122-B914-4497-836A-5DBF444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849-DC49-45E4-9513-D1F4BC3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B58-D6EF-44FA-B284-C4CB582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BB0B-4B01-462F-BB6D-184D19A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2B3-F499-45D5-86C2-C3AB9B8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58B2-B6CE-4902-965B-8529D3DA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98F-11CE-48A9-9523-7993BC7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7123-814F-4A1A-AC7D-D3C9356D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C9AF-2459-4CD0-80A2-CF79B4E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31A4-715F-4B7A-BACD-0CEBB28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FDEC-ECE7-495E-91A6-E77D4743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25BD-5C85-47BE-B143-63167F0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43C-A742-4859-B9D3-D4C858E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AA96-5F20-415B-8B36-AF9C994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6C81-AB97-4003-A667-4E6FAA5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433F-58E4-4075-B7D7-1E703D30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5767-280A-45B4-93A7-0D09A97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5C42-5B6F-475A-B37F-305A89A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ADB7-EEBB-4BB2-AB21-459CBF14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D18D-E727-4718-808C-74519488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9D51-8416-479C-B161-99BC54CA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8CDB-FBE4-4D78-B25F-01A512B7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A691-16F0-4240-AB68-33FEA85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EDA-F3FD-4E45-B678-8F04C6DC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DC6F-D720-4AF1-BC98-CBA19016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2070-BD0A-4E84-9572-4B85D41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8F5F-6EC4-4475-B9BB-522539A6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9540-8380-49AC-ABA4-5E3613F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C4E3-6553-4D6D-8289-68A5043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D927-6923-4338-969C-D5F4A4D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4564-88E9-4EE3-9770-0F3A46E2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28FA-569C-41F6-BCBF-EAAE0D20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5FE6-E238-4DC2-A423-FAC8AD58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D5CF-ED40-45B1-AA68-132C8F9B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6AE-DB61-417D-BA67-7D7D23B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4B6B-B4A2-4ABC-B65B-833A5BF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DDAD-3837-4E28-A3FC-2836B76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7A4C6-5B73-495C-9631-D6AD0AD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A015-7FF2-4478-A6B7-9C0ABD8E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2BAB-0FDF-40F0-BC96-B8806A4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CE4F-EB37-43DA-956B-383ECB7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61C6-B92D-4B72-A4E9-F0932CE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9358-D287-4B97-B6E3-36A27F8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8070-4028-4B5C-BA4E-C990E18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9F103-4FD7-4FF7-9A55-DA2EAF1D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175-79B6-4A3E-BDF2-3908028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7DC2-B089-40AA-9CBF-A440DF92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55EE-9747-4F44-95C9-74BADCC5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8FE4-0594-4A1C-A681-B008085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019D-9631-4ABF-B93B-80A5CFB6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5364-E4F5-47BE-A34E-C00AB05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38EB-767D-44DB-B714-13CFCD9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57E7-4D0E-4CF3-AD94-F4A2D72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ED98-3256-48EC-8B85-F22783C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8BAD-E97D-466F-B9CC-373D197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04AE-CD09-45D4-8A05-A59AD88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096-FA9C-46D1-85F2-FB4F51D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8904-6F9A-4C7E-B0CE-57B462B4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E5CF-3213-42EB-A97E-B485A2DD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5797-D224-4F86-A5F8-ABD96A52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593B6-563A-4D49-8179-0F5B86D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C3B9-7C31-4501-B3D9-AF37F9C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2087-7620-4A46-A796-7E15F99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D0E0-BA22-4C52-BCF9-69C1FF44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1672A-4C8D-4615-9878-2531832B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0B88-EF25-4942-A19B-88C0D2DF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7C45-2B2B-4284-A50D-5348F3E5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1AC-46F0-475E-9CB6-05ED63C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7F82-41BD-48C9-BA30-81399E1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B00E-BCD3-4685-A1D7-695A4DE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A32D-61CD-48EE-9A8A-02DE8C74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A205-A68A-4B37-AFCE-EF4BF0FF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C03D1-7CCA-4E40-922A-2B55EAEF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159-561A-4DDB-98E1-4C923A0A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306000"/>
            <a:ext cx="822816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DABE63-0C97-42CD-A46D-809C01ADB2C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DD5135CA-63E3-441A-BC96-AED514C46604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600" y="333216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 fontScale="42000"/>
          </a:bodyPr>
          <a:p>
            <a:pPr marL="14400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9673837-D763-4B73-BA17-C96C44CCD14C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C79FBCC3-B5AE-4390-94D9-FF79C2ACD9C3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AFA7AF2-F201-4B74-9958-0D1B3C4D271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04DE20C9-61CF-428A-98B6-DFB963FC0295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09C6D34-E6F5-4721-9B0A-58F7E35C11D6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C8BBF7A4-DEF4-4193-B13B-7485F42263D7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30067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672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9040" bIns="45000" anchor="t">
            <a:normAutofit fontScale="65000"/>
          </a:bodyPr>
          <a:p>
            <a:pPr marL="22284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28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524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A70323-4E76-48AD-B366-DA002E954724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4015C196-5BD5-4529-B654-38D7C57DBF2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280" bIns="45000" anchor="t">
            <a:normAutofit fontScale="77000"/>
          </a:bodyPr>
          <a:p>
            <a:pPr marL="2638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28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524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D6FEE69-644A-4C37-86D8-7D6B9587D3E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B396E393-3A64-4816-9CEA-BC22BACBC54E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ctr">
            <a:normAutofit fontScale="16000"/>
          </a:bodyPr>
          <a:p>
            <a:pPr marL="5472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"/>
          <p:cNvSpPr/>
          <p:nvPr/>
        </p:nvSpPr>
        <p:spPr>
          <a:xfrm>
            <a:off x="464508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ctr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362320"/>
            <a:ext cx="40402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5080" y="2362320"/>
            <a:ext cx="4041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963E2CD-468A-470C-BCC5-7EACD968ED9B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4D91153A-B565-4811-92D6-10170E80998D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Lucida Sans"/>
              </a:rPr>
              <a:t>Маленькие  герои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Lucida Sans"/>
              </a:rPr>
              <a:t>большой  войны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92000" y="2276640"/>
            <a:ext cx="7667640" cy="4370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-25560" y="0"/>
            <a:ext cx="9169560" cy="680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252360" y="692280"/>
            <a:ext cx="8539200" cy="576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4427640" cy="649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46840" y="765000"/>
            <a:ext cx="4097160" cy="609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227160" y="981000"/>
            <a:ext cx="8700840" cy="581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105440" y="115920"/>
            <a:ext cx="4930560" cy="6553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0" y="1600200"/>
            <a:ext cx="399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Кузьм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Таис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Василье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Book Antiqua"/>
              </a:rPr>
              <a:t>убежала на фронт в 16 лет</a:t>
            </a: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Lucida Sans"/>
              </a:rPr>
              <a:t>А. Твардовский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-169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7720" bIns="45000" anchor="t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Book Antiqua"/>
              </a:rPr>
              <a:t>«Рассказ танкист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254560" y="1700280"/>
            <a:ext cx="3781440" cy="5041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165240" y="0"/>
            <a:ext cx="8777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15840" y="620640"/>
            <a:ext cx="9004320" cy="576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173160" y="692280"/>
            <a:ext cx="8743680" cy="605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93760"/>
            <a:ext cx="9144000" cy="628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7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Lucida Sans"/>
              </a:rPr>
              <a:t>Год  1941. Июнь…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88000" cy="5487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Нина  Куковеров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1339920"/>
            <a:ext cx="28764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2781360"/>
            <a:ext cx="4303800" cy="38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итя  Коробко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"/>
          <p:cNvSpPr/>
          <p:nvPr/>
        </p:nvSpPr>
        <p:spPr>
          <a:xfrm>
            <a:off x="647640" y="1413000"/>
            <a:ext cx="3205080" cy="42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29240" y="2349360"/>
            <a:ext cx="3389400" cy="450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Шура  Кобер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628640"/>
            <a:ext cx="3110040" cy="43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5080" y="2276640"/>
            <a:ext cx="4691160" cy="309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итя  Хоменко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1557360"/>
            <a:ext cx="3095640" cy="434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64120" y="2205000"/>
            <a:ext cx="478152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Маркс Кротов  и Альберт Купш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1135080"/>
            <a:ext cx="3543480" cy="49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52960" y="1700280"/>
            <a:ext cx="3440160" cy="460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Памятник Марксу Кротову  и Альберту Купш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1433520" y="1600200"/>
            <a:ext cx="6276960" cy="470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Боря Кулешин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484280"/>
            <a:ext cx="2879640" cy="415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42040" y="1600200"/>
            <a:ext cx="3046320" cy="51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олодя  Щербацевич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1484280"/>
            <a:ext cx="28958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40280" y="1600200"/>
            <a:ext cx="3452760" cy="45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олодя  Казначее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1413000"/>
            <a:ext cx="2663640" cy="403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2492280"/>
            <a:ext cx="4248360" cy="407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52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Зина  Портно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5229360"/>
            <a:ext cx="4039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исвоено звание Героя Советск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508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197000"/>
            <a:ext cx="2857680" cy="38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51400" y="2349360"/>
            <a:ext cx="4230720" cy="410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13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Lucida Sans"/>
              </a:rPr>
              <a:t>22 июня  1941 года</a:t>
            </a:r>
            <a:endParaRPr b="0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28720" y="1106640"/>
            <a:ext cx="7488360" cy="56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52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"/>
              </a:rPr>
              <a:t>За мужество и отвагу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40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Более 3,5 млн. детей и подростков были награждены орденами и меда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7 тыс. удостоен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звания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076720" y="2932200"/>
            <a:ext cx="3924360" cy="38098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898640" y="44280"/>
            <a:ext cx="5410080" cy="6785280"/>
          </a:xfrm>
          <a:prstGeom prst="rect">
            <a:avLst/>
          </a:prstGeom>
          <a:ln w="190440">
            <a:solidFill>
              <a:srgbClr val="644646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58920"/>
            <a:ext cx="9144000" cy="618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715000" cy="4143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884840" y="1413000"/>
            <a:ext cx="4116240" cy="5308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25440" y="4078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fill="hold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32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Lucida Sans"/>
              </a:rPr>
              <a:t>4 года –</a:t>
            </a: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108000" y="1557360"/>
            <a:ext cx="90360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27 млн. погибших  и  пропавших  безвести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1710 разрушенных  город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более  70 тыс. сожжённых  сёл  и  деревен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84 тыс. разрушенных  шк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32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Lucida Sans"/>
              </a:rPr>
              <a:t>4</a:t>
            </a:r>
            <a:r>
              <a:rPr b="1" lang="ru-RU" sz="9600" spc="-1" strike="noStrike">
                <a:solidFill>
                  <a:srgbClr val="0000cc"/>
                </a:solidFill>
                <a:latin typeface="Lucida Sans"/>
              </a:rPr>
              <a:t> года -</a:t>
            </a:r>
            <a:endParaRPr b="0" lang="en-US" sz="9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ЭТО  </a:t>
            </a:r>
            <a:r>
              <a:rPr b="1" lang="ru-RU" sz="8000" spc="-1" strike="noStrike">
                <a:solidFill>
                  <a:srgbClr val="ff0000"/>
                </a:solidFill>
                <a:latin typeface="Book Antiqua"/>
              </a:rPr>
              <a:t>1418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ДНЕЙ  И  НОЧ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0" bIns="45000" anchor="t">
            <a:noAutofit/>
          </a:bodyPr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«Дет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     </a:t>
            </a: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и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война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64000" y="933480"/>
            <a:ext cx="5437080" cy="39337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272880"/>
            <a:ext cx="814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ucida Sans"/>
              </a:rPr>
              <a:t>ГРОЗНЫЙ 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852640"/>
            <a:ext cx="317808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 Antiqua"/>
              </a:rPr>
              <a:t>ПАМЯТНИК ДЕТЯМ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1197000"/>
            <a:ext cx="4051080" cy="539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549360"/>
            <a:ext cx="7927920" cy="594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