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22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3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24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C4E2E-6ECD-41F6-8EF8-9294CD31C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9154E5-A1F0-4D0A-B263-63E44DA732BE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C9199883-1D8C-416C-8082-5CDE7BA60057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477480-9F71-46D1-AF99-1BDC3072D0C0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B1A76341-77F1-419C-BB07-77717D6C2A13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9C9EAE-8D90-4F85-89C4-A1452F4E4335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F1828678-DB9C-43C8-84E3-FBC7C5332A23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5997EF-3BA5-4591-AE81-95DD3AF8EEE3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37C02C6A-B4EB-40AF-9FDB-A4532D94850D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ED671B-E6CF-494B-9BB7-EB9167A7EE39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905B7A1B-B0D9-4238-BDCB-1E66E9F8BEC6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C98B48-AB1D-4F49-824C-A78B21C17688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D2F0306E-665C-4FAB-B3A3-1109030FB14A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C31C78-9C82-4AE2-8A1C-184932B6BA23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5E22AB85-8A31-4C70-BCA6-8AB7FE6CCE41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4E28E6-617B-496E-90BC-C2FC28780B24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AD91D9AB-6108-44F7-B59F-42E763899813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B93865-3563-4F57-99AD-7AC1FCF652E0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5FFA2FF8-5C9A-4BFC-AED1-1C267104B583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FF3F29-673C-4560-861A-6EBBDD54B693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83CBE46B-1735-4A12-83BF-91987292179A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2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1D5DE0-51AD-4928-9B26-3D77E00E8942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E787DB30-8309-4A6A-8A4D-E6C592825434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83F-F5C6-41DF-90E6-51554F5F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AFE-F879-4130-BDEE-B64DF020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BFD-A0E1-4A20-B388-6BB5DCC8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62D-982D-44EF-83AC-3922E84C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7484-04CF-42D5-8018-9A245F7B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B062-8FE8-45B4-A472-605B5ED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2A39-C120-4EFF-B17B-A5A550D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5690-1FCD-4F25-B6A4-5F61BBAA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EC92-1576-445A-9646-E30501AD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A7D0-D517-4DF4-8B56-D4BA66AA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DEB7-73D2-4FAC-82B9-91B326D0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6E5-D88B-4AF5-B42A-F5013B87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A1FF-F6BD-4973-9611-CC99BFE9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63AF-DB7D-4915-A7A7-EB925D88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F93E-A197-4650-90F2-34E7F739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E2A5-6341-4379-9D99-F5F5D1C9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F14F-5FB9-47A3-AF1E-259637A9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2CB9-3143-481A-822C-E558B016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62F7-5CDD-4A67-84FF-2797A5A2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273A4-12E2-4112-AC01-65AC4BE9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7C6C-72D9-4744-A99C-91EA236A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6C00-41E6-4816-88C2-7414A5BC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EFC-F6B6-4776-9DF9-D9E6CB16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34E2-9470-4AEA-9580-3272F068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BC5C-10C9-4127-8B29-A9267B5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D7B5-3C30-4AEE-92EB-4F78139A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7178-8EF0-4503-AF0A-AF9A1C0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01A7-3370-4F91-B5DF-AD71254C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0041-14B9-44A9-90D1-E79D78C2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5165-1A36-4E5C-A075-80956979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AB92-D8A3-4957-8B8D-FFC28109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460A-37C9-4642-B3B3-88120F9A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B592-A6D8-4C39-AF63-33A76378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6E4-DC57-4509-B944-861D7DED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6A35B-81D9-45E0-A1EB-CB24D7D0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3E835-57FB-4722-A491-B7EA9D03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5DDC-CF7F-4763-A90E-658ACAA6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9DD5-C6A3-43F0-8821-AE658A4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3E5D8-DD29-4551-B259-8912192D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D7A9-C9F3-44FE-A1EE-A3376065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80CB5-EFA9-4AF7-874A-F52CF44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8EFE3-038C-4DAB-BEB7-2DDFC731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B257-A1F2-440A-B5C1-5F0DEBEF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D2B74-6C14-4012-AEFB-E77A5522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1AC-407C-4E30-972A-E0D94179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EEA15-DB19-4618-9399-1E80E61E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4411-F696-46BA-B7B6-78F83165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17F96-0E32-43D5-AFEB-8AFB487A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5EC8E-757F-46AB-A540-5CBF45BB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F1FDE-7FC7-429B-A843-26B90E08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A1B8-050C-42AC-8431-A9F4AB0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7571-82C4-4C58-ACBA-9860316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36040-4012-4348-96F6-99F3720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EB652-67A2-4CAC-9BBE-CD2EE2E1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BAD03-0B61-4992-BFFF-B3A13A77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B86-36B6-4D27-AFB5-898DABAD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DE898-2C83-48D4-8D47-7829666E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74B8-BF3F-44FC-8CF9-DC3D5AA0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83F32-6CF8-447B-B88B-824096C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C3B50-CE4F-46EE-8AF0-76D2FDFF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6B720-D602-4B46-89D9-AD385D72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6D8E5-C330-4698-AD57-ABC1B595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92680-43B6-4C2F-8D47-133C16D8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40D9D-E275-45FA-B302-DA52A1E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E003-AC86-4922-AF6A-BCCD14D9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F395-B148-4D3C-BFAD-092E05E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CC2-A4FD-4B03-826F-5E8B776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7342-C04C-4BAB-8E38-F50A872D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F22A4-DCDD-4223-81EB-0EAE2A1B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FD1CA-0039-4E31-B7BD-25F1F46C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87D8A-E952-4333-91F1-83E92794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2BE33-F612-4ADA-AF89-68D32068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571FF-289C-40AE-BCD8-E03CA882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EEBD6-D735-4FF4-A6D4-066BA6EF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D379-E7A4-41A8-9C64-79F03D02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6DFEB-F071-4F13-B142-B6E4310D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A4E52-F9CC-4613-B218-2907D8B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2F3-04A8-4798-9298-E3B546F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F83CB-F472-4905-9DBF-D560EFC0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D22B2-574E-4EEC-B081-B00393F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B7544-A184-4781-AD03-DFA8F83A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579AB-82DD-47A2-9C2F-2ED9C8A8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EF8D3-583B-429C-8ABC-AA19E4B5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5E1-713F-40DB-B845-3F60ACB8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306000"/>
            <a:ext cx="822816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B0A082C-F4A0-4985-A912-6D8559848BDE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D09C83DD-EBCE-4418-9247-1F32FA206C52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371600" y="333216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 fontScale="42000"/>
          </a:bodyPr>
          <a:p>
            <a:pPr marL="14400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44000" indent="-14400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19807C7-46DA-4D45-9798-2601F4032540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7198C208-4F49-4C8C-A242-A2EE437C1079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0905BA9-FA41-4DF4-949A-4CB29C62780B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7894B1F8-9C65-4C61-B3F6-7541DA2B7861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B957648-C474-4AC1-97E1-2DA30ED253B2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1FC4E3F8-81C2-4D15-9B37-B38E6D870E60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30067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672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9040" bIns="45000" anchor="t">
            <a:normAutofit fontScale="65000"/>
          </a:bodyPr>
          <a:p>
            <a:pPr marL="22284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22840" indent="-2228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280" bIns="45000" anchor="t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524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E397B34-3CED-48A3-B591-3F3009590069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E6CEE5C6-D932-471B-94E7-30DA262E86A2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1280" bIns="45000" anchor="t">
            <a:normAutofit fontScale="77000"/>
          </a:bodyPr>
          <a:p>
            <a:pPr marL="2638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63880" indent="-2638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280" bIns="45000" anchor="t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524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0521810-F24F-4158-822C-1C0D0BB532E5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19854CDF-CBAE-494C-80DE-00A6BB8CC257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84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5000" anchor="ctr">
            <a:normAutofit fontScale="16000"/>
          </a:bodyPr>
          <a:p>
            <a:pPr marL="5472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54720" indent="-5472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"/>
          <p:cNvSpPr/>
          <p:nvPr/>
        </p:nvSpPr>
        <p:spPr>
          <a:xfrm>
            <a:off x="464508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ctr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362320"/>
            <a:ext cx="404028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t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5080" y="2362320"/>
            <a:ext cx="40417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t">
            <a:noAutofit/>
          </a:bodyPr>
          <a:p>
            <a:pPr marL="431640" indent="-32364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2000"/>
              </a:lnSpc>
              <a:spcAft>
                <a:spcPts val="850"/>
              </a:spcAft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2000"/>
              </a:lnSpc>
              <a:spcAft>
                <a:spcPts val="575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503F9AC-DB9A-47F2-B4F1-255E8B281662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fld id="{5950D87F-4CC4-49E0-A30B-3695111EF3E5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6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Lucida Sans"/>
              </a:rPr>
              <a:t>Маленькие  герои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Lucida Sans"/>
              </a:rPr>
              <a:t>большой  войны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92000" y="2276640"/>
            <a:ext cx="7667640" cy="4370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-25560" y="0"/>
            <a:ext cx="9169560" cy="680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4" name=""/>
          <p:cNvSpPr/>
          <p:nvPr/>
        </p:nvSpPr>
        <p:spPr>
          <a:xfrm>
            <a:off x="252360" y="692280"/>
            <a:ext cx="8539200" cy="576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78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4427640" cy="649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46840" y="765000"/>
            <a:ext cx="4097160" cy="609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"/>
          <p:cNvSpPr/>
          <p:nvPr/>
        </p:nvSpPr>
        <p:spPr>
          <a:xfrm>
            <a:off x="227160" y="981000"/>
            <a:ext cx="8700840" cy="581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105440" y="115920"/>
            <a:ext cx="4930560" cy="6553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0" y="1600200"/>
            <a:ext cx="399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Book Antiqua"/>
              </a:rPr>
              <a:t>Кузьм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Book Antiqua"/>
              </a:rPr>
              <a:t>Таис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Book Antiqua"/>
              </a:rPr>
              <a:t>Василье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Book Antiqua"/>
              </a:rPr>
              <a:t>убежала на фронт в 16 лет</a:t>
            </a:r>
            <a:r>
              <a:rPr b="1" lang="ru-RU" sz="4800" spc="-1" strike="noStrike">
                <a:solidFill>
                  <a:srgbClr val="0000cc"/>
                </a:solidFill>
                <a:latin typeface="Book Antiq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8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Lucida Sans"/>
              </a:rPr>
              <a:t>А. Твардовский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3" name=""/>
          <p:cNvSpPr/>
          <p:nvPr/>
        </p:nvSpPr>
        <p:spPr>
          <a:xfrm>
            <a:off x="-1692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7720" bIns="45000" anchor="t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Book Antiqua"/>
              </a:rPr>
              <a:t>«Рассказ танкист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254560" y="1700280"/>
            <a:ext cx="3781440" cy="50418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"/>
          <p:cNvSpPr/>
          <p:nvPr/>
        </p:nvSpPr>
        <p:spPr>
          <a:xfrm>
            <a:off x="165240" y="0"/>
            <a:ext cx="8777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8" name=""/>
          <p:cNvSpPr/>
          <p:nvPr/>
        </p:nvSpPr>
        <p:spPr>
          <a:xfrm>
            <a:off x="15840" y="620640"/>
            <a:ext cx="9004320" cy="576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0" name=""/>
          <p:cNvSpPr/>
          <p:nvPr/>
        </p:nvSpPr>
        <p:spPr>
          <a:xfrm>
            <a:off x="173160" y="692280"/>
            <a:ext cx="8743680" cy="6053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293760"/>
            <a:ext cx="9144000" cy="628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77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8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Lucida Sans"/>
              </a:rPr>
              <a:t>Год  1941. Июнь…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88000" cy="54878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Нина  Куковерова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4" name=""/>
          <p:cNvSpPr/>
          <p:nvPr/>
        </p:nvSpPr>
        <p:spPr>
          <a:xfrm>
            <a:off x="395280" y="1339920"/>
            <a:ext cx="2876400" cy="403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2781360"/>
            <a:ext cx="4303800" cy="381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Витя  Коробков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7" name=""/>
          <p:cNvSpPr/>
          <p:nvPr/>
        </p:nvSpPr>
        <p:spPr>
          <a:xfrm>
            <a:off x="647640" y="1413000"/>
            <a:ext cx="3205080" cy="42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29240" y="2349360"/>
            <a:ext cx="3389400" cy="450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Шура  Кобер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1628640"/>
            <a:ext cx="3110040" cy="43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75080" y="2276640"/>
            <a:ext cx="4691160" cy="309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Витя  Хоменко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1557360"/>
            <a:ext cx="3095640" cy="4340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64120" y="2205000"/>
            <a:ext cx="478152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Маркс Кротов  и Альберт Купша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"/>
          <p:cNvSpPr/>
          <p:nvPr/>
        </p:nvSpPr>
        <p:spPr>
          <a:xfrm>
            <a:off x="539640" y="1135080"/>
            <a:ext cx="3543480" cy="499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52960" y="1700280"/>
            <a:ext cx="3440160" cy="4608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Памятник Марксу Кротову  и Альберту Купша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"/>
          <p:cNvSpPr/>
          <p:nvPr/>
        </p:nvSpPr>
        <p:spPr>
          <a:xfrm>
            <a:off x="1433520" y="1600200"/>
            <a:ext cx="6276960" cy="470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Боря Кулешин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1484280"/>
            <a:ext cx="2879640" cy="415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42040" y="1600200"/>
            <a:ext cx="3046320" cy="51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Володя  Щербацевич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1484280"/>
            <a:ext cx="2895840" cy="41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40280" y="1600200"/>
            <a:ext cx="3452760" cy="45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5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Володя  Казначеев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1413000"/>
            <a:ext cx="2663640" cy="403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3280" y="2492280"/>
            <a:ext cx="4248360" cy="407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52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Lucida Sans"/>
              </a:rPr>
              <a:t>Зина  Портно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5229360"/>
            <a:ext cx="4039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исвоено звание Героя Советского Сою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508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1197000"/>
            <a:ext cx="2857680" cy="38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51400" y="2349360"/>
            <a:ext cx="4230720" cy="410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136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Lucida Sans"/>
              </a:rPr>
              <a:t>22 июня  1941 года</a:t>
            </a:r>
            <a:endParaRPr b="0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828720" y="1106640"/>
            <a:ext cx="7488360" cy="56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524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Lucida Sans"/>
              </a:rPr>
              <a:t>За мужество и отвагу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40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Более 3,5 млн. детей и подростков были награждены орденами и меда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7 тыс. удостоен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звания Ге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Советского Сою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5076720" y="2932200"/>
            <a:ext cx="3924360" cy="38098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898640" y="44280"/>
            <a:ext cx="5410080" cy="6785280"/>
          </a:xfrm>
          <a:prstGeom prst="rect">
            <a:avLst/>
          </a:prstGeom>
          <a:ln w="190440">
            <a:solidFill>
              <a:srgbClr val="644646"/>
            </a:solidFill>
            <a:miter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58920"/>
            <a:ext cx="9144000" cy="6183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5715000" cy="4143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884840" y="1413000"/>
            <a:ext cx="4116240" cy="53085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325440" y="4078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fill="hold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3220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3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Lucida Sans"/>
              </a:rPr>
              <a:t>4 года –</a:t>
            </a:r>
            <a:r>
              <a:rPr b="1" lang="ru-RU" sz="4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"/>
          <p:cNvSpPr/>
          <p:nvPr/>
        </p:nvSpPr>
        <p:spPr>
          <a:xfrm>
            <a:off x="108000" y="1557360"/>
            <a:ext cx="903600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27 млн. погибших  и  пропавших  безвести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1710 разрушенных  городов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более  70 тыс. сожжённых  сёл  и  деревень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84 тыс. разрушенных  шко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324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Lucida Sans"/>
              </a:rPr>
              <a:t>4</a:t>
            </a:r>
            <a:r>
              <a:rPr b="1" lang="ru-RU" sz="9600" spc="-1" strike="noStrike">
                <a:solidFill>
                  <a:srgbClr val="0000cc"/>
                </a:solidFill>
                <a:latin typeface="Lucida Sans"/>
              </a:rPr>
              <a:t> года -</a:t>
            </a:r>
            <a:endParaRPr b="0" lang="en-US" sz="9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Book Antiqua"/>
              </a:rPr>
              <a:t>ЭТО  </a:t>
            </a:r>
            <a:r>
              <a:rPr b="1" lang="ru-RU" sz="8000" spc="-1" strike="noStrike">
                <a:solidFill>
                  <a:srgbClr val="ff0000"/>
                </a:solidFill>
                <a:latin typeface="Book Antiqua"/>
              </a:rPr>
              <a:t>1418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6000" spc="-1" strike="noStrike">
                <a:solidFill>
                  <a:srgbClr val="0000cc"/>
                </a:solidFill>
                <a:latin typeface="Book Antiqua"/>
              </a:rPr>
              <a:t>ДНЕЙ  И  НОЧ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0" bIns="45000" anchor="t">
            <a:noAutofit/>
          </a:bodyPr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«Дет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     </a:t>
            </a: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и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8800" spc="-1" strike="noStrike">
                <a:solidFill>
                  <a:srgbClr val="0000cc"/>
                </a:solidFill>
                <a:latin typeface="Book Antiqua"/>
              </a:rPr>
              <a:t>война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564000" y="933480"/>
            <a:ext cx="5437080" cy="393372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272880"/>
            <a:ext cx="814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Lucida Sans"/>
              </a:rPr>
              <a:t>ГРОЗНЫЙ 19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2852640"/>
            <a:ext cx="317808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 Antiqua"/>
              </a:rPr>
              <a:t>ПАМЯТНИК ДЕТЯМ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00720" y="1197000"/>
            <a:ext cx="4051080" cy="5397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"/>
          <p:cNvSpPr/>
          <p:nvPr/>
        </p:nvSpPr>
        <p:spPr>
          <a:xfrm>
            <a:off x="684360" y="549360"/>
            <a:ext cx="7927920" cy="594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етвер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3640" indent="-21600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ят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