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9.png" ContentType="image/pn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.jpeg" ContentType="image/jpe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683-1611-405A-A2EB-07826265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12B-743C-4BE4-A51C-CDBF7401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EE7-8DF2-49E2-8577-222B500D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285-E4BD-44C1-B455-577B2005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76C-45E4-4BDC-832C-BD1280EE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B42-0AE4-4C10-B6AC-964D325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672-F558-4467-9BAF-4EF82677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AB3-BA63-4EF7-A790-2538291F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D7B-52F9-41D0-8E49-5DD8D635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B3B-B136-4111-9A5F-D5422AB7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2F2-C5CF-452D-9F08-0A0FBDE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C07-6339-4B35-9CB8-03BB580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83B-EA9A-4030-B711-AED010708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ou140.chel-edu.ru/images/5432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ed-gifs.eu/kids-winnie-windel/0041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8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Нам дан во владение самый богатый, меткий, могучий и поистине волшебный русский язык»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.Г.Паустов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http://forums.drom.ru/attachment.php?attachmentid=1632145&amp;d=1321632922"/>
          <p:cNvPicPr/>
          <p:nvPr/>
        </p:nvPicPr>
        <p:blipFill>
          <a:blip r:embed="rId1"/>
          <a:stretch/>
        </p:blipFill>
        <p:spPr>
          <a:xfrm>
            <a:off x="1600200" y="2590920"/>
            <a:ext cx="594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380880" y="43524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Оказывается, личные местоимения могут изменяться по падежам, причём изменять личные местоимения по падежам , не изменяя их корни, нельзя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им на примере изменения местоимения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.п.(Кто? Что?)-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.п.(Кого? Чего?)-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.п.(Кому? Чему?)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.п. (Кого? Что?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.п.(Кем? Чем?)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. п.(О ком? О чём?)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обо 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делайте вывод о склонении местоимений-существ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80880" y="5446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ые местоимения 3 лица единственного числа: он, она, оно, подобно существительным, изменяются по ро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вают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ужского, среднего и женского р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их помощью можно определить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род имён существитель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133720" y="319464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ол- он мой (м.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нига-она моя (ж.р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но-оно моё( ср.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619640" y="304920"/>
            <a:ext cx="57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помни и говори прави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3"/>
          <p:cNvSpPr/>
          <p:nvPr/>
        </p:nvSpPr>
        <p:spPr>
          <a:xfrm>
            <a:off x="2666880" y="1371600"/>
            <a:ext cx="6248520" cy="3276720"/>
          </a:xfrm>
          <a:prstGeom prst="cloudCallout">
            <a:avLst>
              <a:gd name="adj1" fmla="val -58402"/>
              <a:gd name="adj2" fmla="val 564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ная, я грущу по ВАС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дписался просто А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" descr="http://im5-tub-ru.yandex.net/i?id=4381521-18-72&amp;n=21"/>
          <p:cNvPicPr/>
          <p:nvPr/>
        </p:nvPicPr>
        <p:blipFill>
          <a:blip r:embed="rId1"/>
          <a:stretch/>
        </p:blipFill>
        <p:spPr>
          <a:xfrm>
            <a:off x="152280" y="2209680"/>
            <a:ext cx="2438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600" y="26640"/>
            <a:ext cx="891540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ючевые слова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: Родина, люблю, горжус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ряд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ставляет предложение со слов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Родина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употребив 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стоимения 1 лиц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ложени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 цели высказывания повествователь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ряд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употребив 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стоимение 2 лица, предложение по цели высказывания вопроситель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ряд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мените существительное Родина личным местоимени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Предложение по интонации восклица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5" descr="http://im2-tub-ru.yandex.net/i?id=51106784-18-72&amp;n=21"/>
          <p:cNvPicPr/>
          <p:nvPr/>
        </p:nvPicPr>
        <p:blipFill>
          <a:blip r:embed="rId1"/>
          <a:stretch/>
        </p:blipFill>
        <p:spPr>
          <a:xfrm>
            <a:off x="4800600" y="5257800"/>
            <a:ext cx="171468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http://im6-tub-ru.yandex.net/i?id=41274310-14-72&amp;n=21"/>
          <p:cNvPicPr/>
          <p:nvPr/>
        </p:nvPicPr>
        <p:blipFill>
          <a:blip r:embed="rId2"/>
          <a:stretch/>
        </p:blipFill>
        <p:spPr>
          <a:xfrm>
            <a:off x="2590920" y="5638680"/>
            <a:ext cx="1428480" cy="990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http://im5-tub-ru.yandex.net/i?id=462461996-09-72&amp;n=21"/>
          <p:cNvPicPr/>
          <p:nvPr/>
        </p:nvPicPr>
        <p:blipFill>
          <a:blip r:embed="rId3"/>
          <a:stretch/>
        </p:blipFill>
        <p:spPr>
          <a:xfrm>
            <a:off x="457200" y="563868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http://im5-tub-ru.yandex.net/i?id=175558497-30-72&amp;n=21"/>
          <p:cNvPicPr/>
          <p:nvPr/>
        </p:nvPicPr>
        <p:blipFill>
          <a:blip r:embed="rId4"/>
          <a:stretch/>
        </p:blipFill>
        <p:spPr>
          <a:xfrm>
            <a:off x="7162920" y="5105520"/>
            <a:ext cx="1600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фия Ротару - Родина Моя - Я, Ты, Он, Она... (1978).mp4" descr=""/>
          <p:cNvPicPr/>
          <p:nvPr/>
        </p:nvPicPr>
        <p:blipFill>
          <a:blip r:embed="rId1"/>
          <a:stretch/>
        </p:blipFill>
        <p:spPr>
          <a:xfrm>
            <a:off x="685800" y="51444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6"/>
          <p:cNvSpPr/>
          <p:nvPr/>
        </p:nvSpPr>
        <p:spPr>
          <a:xfrm>
            <a:off x="762120" y="380880"/>
            <a:ext cx="7696080" cy="6098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http://www.segment.ru/data/images/1post.jpg"/>
          <p:cNvPicPr/>
          <p:nvPr/>
        </p:nvPicPr>
        <p:blipFill>
          <a:blip r:embed="rId1"/>
          <a:stretch/>
        </p:blipFill>
        <p:spPr>
          <a:xfrm>
            <a:off x="7467480" y="4894200"/>
            <a:ext cx="1482840" cy="17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748520" y="1219320"/>
            <a:ext cx="519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етьте на шуточные вопрос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6720" y="1905120"/>
            <a:ext cx="80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аком местоимении два звука, но одна букв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56560" y="3124080"/>
            <a:ext cx="66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Какие два местоимения портят дорог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87080" y="4267080"/>
            <a:ext cx="76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олько личных местоимений в слове семь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990720" y="251460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999720" y="373392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Я – 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9144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емь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альтернативный процесс 10"/>
          <p:cNvSpPr/>
          <p:nvPr/>
        </p:nvSpPr>
        <p:spPr>
          <a:xfrm>
            <a:off x="2666880" y="548640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2"/>
          <p:cNvSpPr/>
          <p:nvPr/>
        </p:nvSpPr>
        <p:spPr>
          <a:xfrm>
            <a:off x="838080" y="304920"/>
            <a:ext cx="7543800" cy="5331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поминаем то, что зн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57200" y="914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ушайте стихотворение. Отгадайте зага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33520" y="16002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Утром – как заведено –        А стемнеет – ОН придё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омкнёшь ресницы           Тоненький, смущённый,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И к тебе идёт ОНО               Он на цыпочках войдё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озовой жар-птицей…         Долькою лимонной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рок прошёл – плывёт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В пелене тум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руглолица и груст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удто Несмея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же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Н, ОНО, 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52880" y="5410080"/>
            <a:ext cx="74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, она, о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языковой точки з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09840" y="586728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буйте сформулировать тему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im7-tub-ru.yandex.net/i?id=243234220-71-72"/>
          <p:cNvPicPr/>
          <p:nvPr/>
        </p:nvPicPr>
        <p:blipFill>
          <a:blip r:embed="rId1"/>
          <a:stretch/>
        </p:blipFill>
        <p:spPr>
          <a:xfrm>
            <a:off x="6705720" y="2971800"/>
            <a:ext cx="2209680" cy="17971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533520" y="304920"/>
            <a:ext cx="81532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имение как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371600" y="304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лючевые слов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676520" y="114300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Разря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Местоимения-существитель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Лич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ova-2"/>
          <p:cNvPicPr/>
          <p:nvPr/>
        </p:nvPicPr>
        <p:blipFill>
          <a:blip r:embed="rId1"/>
          <a:stretch/>
        </p:blipFill>
        <p:spPr>
          <a:xfrm>
            <a:off x="838080" y="3962520"/>
            <a:ext cx="21304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143000" y="609480"/>
            <a:ext cx="7653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Цель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57200" y="175248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Знакомство с разрядами местоим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С разрядами местоимений-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С личными местоимениями существительными, их особенностями и роли в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8088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стоим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казывают на предметы, признаки, количество, но не называют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3359160" y="1371600"/>
            <a:ext cx="349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ряды местоим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тяж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артинка 94 из 1640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828800"/>
            <a:ext cx="2362320" cy="2747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3520" y="5181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воим морфологическим признакам часть местоимений сходна с именами существительными, часть – с именами прилаг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914400" y="457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зря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стоимений – 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762120" y="187488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ч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я, ты, он, она, оно, мы, вы, о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зврат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еб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проси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то, 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ужат для выражения вопро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носи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то, 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ужат для связи частей предлож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определен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екто, нечто, кто-то,          что-нибуд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икто, ни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http://www.animated-gifs.eu/kids-winnie-windel/004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4191120"/>
            <a:ext cx="12574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838080" y="380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имения-сущест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609480" y="228600"/>
            <a:ext cx="8305920" cy="1143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имения-сущест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914400" y="1523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стоимения – существите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ют на вопросы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указывают на лицо или предмет, но не называют его: (кто?)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я, ты, он, никто, нек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(что?)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но, ничто, неч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1905120" y="3782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очните тему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57200" y="4724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умайте, чем отличаются имена существительные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имений-существ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Картинка 68 из 207981"/>
          <p:cNvPicPr/>
          <p:nvPr/>
        </p:nvPicPr>
        <p:blipFill>
          <a:blip r:embed="rId1"/>
          <a:stretch/>
        </p:blipFill>
        <p:spPr>
          <a:xfrm>
            <a:off x="7238880" y="3124080"/>
            <a:ext cx="1684440" cy="173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images.gifmania.ru/Animated-Gifs-Animated-Letters/Animations-Punctuation-Marks/Images-Question-mark/question-mark94.gif"/>
          <p:cNvPicPr/>
          <p:nvPr/>
        </p:nvPicPr>
        <p:blipFill>
          <a:blip r:embed="rId2"/>
          <a:stretch/>
        </p:blipFill>
        <p:spPr>
          <a:xfrm>
            <a:off x="0" y="4572000"/>
            <a:ext cx="1403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2438280" y="15228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аботайте в па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, ты, он, она, вместе цела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- друж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е «мы»-сто тысяч «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752480" cy="1898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981080" y="1371600"/>
            <a:ext cx="73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личные местоимения, укажите       лицо,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3429000" y="2209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они так назыв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00240" y="24382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рфологические признаки личных местои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9"/>
          <p:cNvCxnSpPr/>
          <p:nvPr/>
        </p:nvCxnSpPr>
        <p:spPr>
          <a:xfrm flipH="1">
            <a:off x="1752120" y="3351600"/>
            <a:ext cx="289656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1"/>
          <p:cNvCxnSpPr/>
          <p:nvPr/>
        </p:nvCxnSpPr>
        <p:spPr>
          <a:xfrm>
            <a:off x="4570920" y="3352680"/>
            <a:ext cx="2972520" cy="30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17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                                           Не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19"/>
          <p:cNvCxnSpPr/>
          <p:nvPr/>
        </p:nvCxnSpPr>
        <p:spPr>
          <a:xfrm flipH="1">
            <a:off x="1828440" y="419112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21"/>
          <p:cNvCxnSpPr/>
          <p:nvPr/>
        </p:nvCxnSpPr>
        <p:spPr>
          <a:xfrm flipH="1">
            <a:off x="7543440" y="419112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2"/>
          <p:cNvSpPr/>
          <p:nvPr/>
        </p:nvSpPr>
        <p:spPr>
          <a:xfrm>
            <a:off x="762120" y="46483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6324480" y="4648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альтернативный процесс 26"/>
          <p:cNvSpPr/>
          <p:nvPr/>
        </p:nvSpPr>
        <p:spPr>
          <a:xfrm>
            <a:off x="3200400" y="601992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7"/>
          <p:cNvSpPr/>
          <p:nvPr/>
        </p:nvSpPr>
        <p:spPr>
          <a:xfrm>
            <a:off x="762120" y="46483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лицо (1,2,3-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http://www.animated-gifs.eu/kids-winnie-windel/0041.gif"/>
          <p:cNvPicPr/>
          <p:nvPr/>
        </p:nvPicPr>
        <p:blipFill>
          <a:blip r:embed="rId1"/>
          <a:stretch/>
        </p:blipFill>
        <p:spPr>
          <a:xfrm>
            <a:off x="7010280" y="2666880"/>
            <a:ext cx="1257480" cy="1876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1371600" y="973800"/>
            <a:ext cx="5638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и МНЕ, что с НЕЮ 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ИХ на бер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ловили. Но, ув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вать - не м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АМ ЕЁ, ОНА НАМ 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ИМ, обратно,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 НЕЮ, к НАМ опять для 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Ы с НИМ - к НЕЙ от ВА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МНЕ известно, что 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любит больше ТЕХ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ЭТО тайной быть дол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С и ВАС от ВСЕ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4:54Z</dcterms:created>
  <dc:creator>Нина</dc:creator>
  <dc:description/>
  <dc:language>en-US</dc:language>
  <cp:lastModifiedBy>лилия</cp:lastModifiedBy>
  <dcterms:modified xsi:type="dcterms:W3CDTF">2013-02-20T15:39:03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