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6.wmf" ContentType="image/x-wmf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34A7-DE3D-4366-AE64-8D3313BFB6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05FC-7E1D-48BB-BD94-C6B46AEFBB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D63B-6BB4-4BA5-BD6B-311B1E6F36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6F2B-9DC2-4DD0-9970-05EC4C4FC1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5EEB-8EE9-4482-B611-6164448EBC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8A50-12BB-4A18-AF0A-2A1F330A50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8A69-12A4-4548-812C-F719F28299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CF4-B215-48CB-A5B9-B8F642A0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94A-1C42-4F13-ADED-50734087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C3F-978F-4D2B-B843-345B0D39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90D-2053-4707-85D5-4476A3EB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C6E-374F-4862-8337-708F3BA4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A5D-EF6E-433C-B5E8-9F0EA47A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D3A-2C30-4F24-9F2C-93AFC718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578-A5E0-4AD8-B351-4C3C78CA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62B-D739-44A8-85E6-633C3EA3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7B2-B8E6-43CE-848F-5E67B85C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57A-F584-4C14-9062-3A5EFF9B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C8A-061E-4B70-BD32-B6E29E9E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5BD3-668B-434A-BDD2-AB80DB5ABB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4000" y="692280"/>
            <a:ext cx="5256000" cy="35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33cc"/>
                </a:solidFill>
                <a:latin typeface="Comic Sans MS"/>
              </a:rPr>
              <a:t>Мониторинг воспитательной деятельности педагога-воспитател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34920" y="4292280"/>
            <a:ext cx="651348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материалам раб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.В. Степанова, И.В. Степан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.В. Григорь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MCj04136020000[1]"/>
          <p:cNvPicPr/>
          <p:nvPr/>
        </p:nvPicPr>
        <p:blipFill>
          <a:blip r:embed="rId1"/>
          <a:stretch/>
        </p:blipFill>
        <p:spPr>
          <a:xfrm>
            <a:off x="1332000" y="141300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Стереотип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6920" y="1628280"/>
            <a:ext cx="7705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я процесса воспитания в классе оценивается хорошо, есл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ный руководитель грамотно заполняет всю необходимую документацию: классный журнал, дневник классного руководителя, план воспитательной работы, анализ ее проведения за год и т.п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классе имеются органы ученического самоуправл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водится определенное количество классных часов по заранее определенным темам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тко и последовательно выполняется план воспитательной работ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561440" cy="13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днако означает ли все это, что в классе действительно хорошо организован процесс воспитани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1752480"/>
            <a:ext cx="76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ожет ли являться стандартно написанная бумажка показателем качества воспитания?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озможно ли по наличию в школе всевозможных президентов, министров и парламентов сделать вывод о том, что совместная деятельность детей протекает в режиме самоуправления, при котором ими самостоятельно ставятся цели, самостоятельно планируются, организуются и проводятся дела, самостоятельно анализируется проделанная работа?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Эти так называемые органы самоуправления становятся либо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игрой детей во взрослых начальников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либо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инструментом исполнения воли педагогов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(«министерство образования» следит за успеваемостью и проверяет наличие дневников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87280" y="1752120"/>
            <a:ext cx="76327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педантичное следование плану воспитательной работы и наличие нужных галочек напротив всех запланированных мероприятий свидетельствовать о качестве организации воспитательного процесс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выполнения плана позволяет узнать лиш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еденных дел: классных часов, благотворительных акций, бесед, встреч с интересными людьми, выходов в театр, экскурсий и т.д.,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и ли все эти дела действительно воспитывающими – этого ни из планов, ни из прилагаемых к нему сценариев, увы, никак не узн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Стереотип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8920" y="1557000"/>
            <a:ext cx="741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итерием результативности процесса воспитания считается уровень воспитанности школьников, а его показателем,– демонстрируемый большинством учащих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сок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уровень воспитан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что, если ребенок никогда не сможет достичь того уровня воспитанности, который устанавливается как стандартный и желательный для всех? Не сможет не по своей вине, а, к примеру, в силу сложных семейных обстоятельств или особенностей своего физического и интеллектуального развития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ет ли кто-либо моральное прав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ть детей с совершенно разной личной судьбой и разной социальной ситуацией развития в соответствии с единым стандартом, сравнивая их с этим стандартом, сравнивая их друг с друго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0" y="33336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считать результатом воспитания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2484360" y="1125360"/>
            <a:ext cx="368280" cy="1130400"/>
          </a:xfrm>
          <a:prstGeom prst="downArrow">
            <a:avLst>
              <a:gd name="adj1" fmla="val 50000"/>
              <a:gd name="adj2" fmla="val 15226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"/>
          <p:cNvSpPr/>
          <p:nvPr/>
        </p:nvSpPr>
        <p:spPr>
          <a:xfrm>
            <a:off x="1042920" y="2421000"/>
            <a:ext cx="3097440" cy="288288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587600" y="3068640"/>
            <a:ext cx="2193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сесторонне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гармонич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азвит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лич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979640" y="2565360"/>
            <a:ext cx="107964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33"/>
                </a:solidFill>
                <a:latin typeface="Times New Roman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6516720" y="1052640"/>
            <a:ext cx="368280" cy="1130040"/>
          </a:xfrm>
          <a:prstGeom prst="downArrow">
            <a:avLst>
              <a:gd name="adj1" fmla="val 50000"/>
              <a:gd name="adj2" fmla="val 15343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9"/>
          <p:cNvSpPr/>
          <p:nvPr/>
        </p:nvSpPr>
        <p:spPr>
          <a:xfrm>
            <a:off x="5219640" y="2421000"/>
            <a:ext cx="3024360" cy="280836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5580000" y="2852640"/>
            <a:ext cx="2438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личность с четко определенными полезными качеств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6227280" y="2565360"/>
            <a:ext cx="113760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33"/>
                </a:solidFill>
                <a:latin typeface="Times New Roman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2">
            <a:hlinkClick r:id="" action="ppaction://hlinkshowjump?jump=lastslide"/>
          </p:cNvPr>
          <p:cNvSpPr/>
          <p:nvPr/>
        </p:nvSpPr>
        <p:spPr>
          <a:xfrm>
            <a:off x="8710560" y="649764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1298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76" h="21600">
                <a:moveTo>
                  <a:pt x="14093" y="14281"/>
                </a:moveTo>
                <a:lnTo>
                  <a:pt x="14093" y="12323"/>
                </a:lnTo>
                <a:cubicBezTo>
                  <a:pt x="14093" y="11496"/>
                  <a:pt x="14424" y="10800"/>
                  <a:pt x="15025" y="10800"/>
                </a:cubicBezTo>
                <a:cubicBezTo>
                  <a:pt x="16156" y="10800"/>
                  <a:pt x="17053" y="9434"/>
                  <a:pt x="17053" y="7849"/>
                </a:cubicBezTo>
                <a:cubicBezTo>
                  <a:pt x="17053" y="5534"/>
                  <a:pt x="15199" y="3794"/>
                  <a:pt x="12988" y="3794"/>
                </a:cubicBezTo>
                <a:cubicBezTo>
                  <a:pt x="10777" y="3794"/>
                  <a:pt x="9106" y="5534"/>
                  <a:pt x="9106" y="7849"/>
                </a:cubicBezTo>
                <a:lnTo>
                  <a:pt x="10960" y="7849"/>
                </a:lnTo>
                <a:cubicBezTo>
                  <a:pt x="10960" y="6709"/>
                  <a:pt x="11883" y="5821"/>
                  <a:pt x="12988" y="5821"/>
                </a:cubicBezTo>
                <a:cubicBezTo>
                  <a:pt x="14093" y="5821"/>
                  <a:pt x="15025" y="6709"/>
                  <a:pt x="15025" y="7849"/>
                </a:cubicBezTo>
                <a:cubicBezTo>
                  <a:pt x="15025" y="8589"/>
                  <a:pt x="14555" y="9320"/>
                  <a:pt x="14093" y="9320"/>
                </a:cubicBezTo>
                <a:cubicBezTo>
                  <a:pt x="12988" y="9320"/>
                  <a:pt x="11883" y="10800"/>
                  <a:pt x="11883" y="12323"/>
                </a:cubicBezTo>
                <a:lnTo>
                  <a:pt x="11883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250920" y="5373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ю (и результатом) гуманистического воспитания не может быть соответствие ребенка тем или иным параметрам воспита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75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7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3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395280" y="333360"/>
          <a:ext cx="689040" cy="11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33360"/>
                    <a:ext cx="68904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3"/>
          <p:cNvSpPr/>
          <p:nvPr/>
        </p:nvSpPr>
        <p:spPr>
          <a:xfrm>
            <a:off x="1759680" y="404640"/>
            <a:ext cx="5532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 такое личностный рос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3995640" y="1197000"/>
            <a:ext cx="749520" cy="720720"/>
          </a:xfrm>
          <a:prstGeom prst="downArrow">
            <a:avLst>
              <a:gd name="adj1" fmla="val 75009"/>
              <a:gd name="adj2" fmla="val 37505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28760" y="2276640"/>
            <a:ext cx="8464320" cy="33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ичностный рост ребенка</a:t>
            </a:r>
            <a:r>
              <a:rPr b="1" lang="ru-RU" sz="2800" spc="-1" strike="noStrike" u="sng">
                <a:solidFill>
                  <a:srgbClr val="a50021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это процесс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обретения им знаний о социальных норма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я его позитивных отношений к базовым общественным ценностям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копления им опыта ценностно окрашенного социального действ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7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5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5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50920" y="404640"/>
          <a:ext cx="8713800" cy="6264360"/>
        </p:xfrm>
        <a:graphic>
          <a:graphicData uri="http://schemas.openxmlformats.org/drawingml/2006/table">
            <a:tbl>
              <a:tblPr/>
              <a:tblGrid>
                <a:gridCol w="1800000"/>
                <a:gridCol w="3529080"/>
                <a:gridCol w="338472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Ц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Позитивное от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Негативное от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Оте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Зем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Тр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Другие лю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такие же, ка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Я са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Иные лю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не такие, как 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Я – телесное, мое здоров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Я – душевное, мой внутр. 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79280" y="189000"/>
          <a:ext cx="8785440" cy="6432480"/>
        </p:xfrm>
        <a:graphic>
          <a:graphicData uri="http://schemas.openxmlformats.org/drawingml/2006/table">
            <a:tbl>
              <a:tblPr/>
              <a:tblGrid>
                <a:gridCol w="1801800"/>
                <a:gridCol w="3613320"/>
                <a:gridCol w="3370320"/>
              </a:tblGrid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ТИВНОЕ ОТНОШ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АТИВНОЕ ОТНОШ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 Т Н О Ш Е Н И Е   К   М И Р У</a:t>
                      </a: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те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твенность, патриот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ывательство, социальное иждивен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Зем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овь к природе, бережное отношение к ее богатств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ское отношение к природе и ее богатств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иятие насилия, пацифиз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литар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Тр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лю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Куль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ллиген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культурье, хамство, вандал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озна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еж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 Т Н О Ш Е Н И Е   К   О К Р У Ж А Ю Щ И М   Л Ю Д Я М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Другие люд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акие же, как 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манность, милосерд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о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Иные люд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 такие, как 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еран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енофобия, национализм, рас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 Т Н О Ш Е Н И Е   К   С Е Б Е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Я-телесно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е здоров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та о своем здоровье, стремление вести здоровый образ жи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растие к вредным привычк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Я-душевное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й внутр. ми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принятие и душевное здоров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 неполноц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50920" y="333360"/>
            <a:ext cx="84978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понимания личностного роста недостаточно охарактеризовать только направленность отношений ли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24000" y="1773360"/>
            <a:ext cx="8135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обходимо охарактеризовать также и устойчивость этих отношен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 rot="5400000">
            <a:off x="1116000" y="2924280"/>
            <a:ext cx="503280" cy="503280"/>
          </a:xfrm>
          <a:custGeom>
            <a:avLst/>
            <a:gdLst>
              <a:gd name="textAreaLeft" fmla="*/ 78480 w 503280"/>
              <a:gd name="textAreaRight" fmla="*/ 440640 w 503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00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5"/>
          <p:cNvSpPr/>
          <p:nvPr/>
        </p:nvSpPr>
        <p:spPr>
          <a:xfrm rot="5400000">
            <a:off x="3058560" y="2924280"/>
            <a:ext cx="503280" cy="502920"/>
          </a:xfrm>
          <a:custGeom>
            <a:avLst/>
            <a:gdLst>
              <a:gd name="textAreaLeft" fmla="*/ 78480 w 503280"/>
              <a:gd name="textAreaRight" fmla="*/ 440640 w 503280"/>
              <a:gd name="textAreaTop" fmla="*/ 125640 h 502920"/>
              <a:gd name="textAreaBottom" fmla="*/ 377280 h 502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00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"/>
          <p:cNvSpPr/>
          <p:nvPr/>
        </p:nvSpPr>
        <p:spPr>
          <a:xfrm rot="5400000">
            <a:off x="5148360" y="2924280"/>
            <a:ext cx="503280" cy="503280"/>
          </a:xfrm>
          <a:custGeom>
            <a:avLst/>
            <a:gdLst>
              <a:gd name="textAreaLeft" fmla="*/ 78480 w 503280"/>
              <a:gd name="textAreaRight" fmla="*/ 440640 w 503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00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 rot="16200000">
            <a:off x="4001760" y="457524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ситуативно-позитив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 rot="16200000">
            <a:off x="5940360" y="4581360"/>
            <a:ext cx="264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устойчиво-позитив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 rot="16200000">
            <a:off x="2129400" y="4429800"/>
            <a:ext cx="23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ситуативно-негатив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0"/>
          <p:cNvSpPr/>
          <p:nvPr/>
        </p:nvSpPr>
        <p:spPr>
          <a:xfrm rot="5400000">
            <a:off x="7093080" y="2924280"/>
            <a:ext cx="503280" cy="503280"/>
          </a:xfrm>
          <a:custGeom>
            <a:avLst/>
            <a:gdLst>
              <a:gd name="textAreaLeft" fmla="*/ 78480 w 503280"/>
              <a:gd name="textAreaRight" fmla="*/ 440640 w 503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00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 rot="16200000">
            <a:off x="76320" y="446652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устойчиво-негатив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агностика личностного рос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7931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осный лист для учащихся 9 – 11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м будет предложен ряд высказываний. Пожалуйста, прочитайте их и определите, насколько вы согласны или не согласны с ними. Оценить степень вашего согласия или несогласия можно в баллах (от «+4» до «–4»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+4» - несомненно, да (очень сильное 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+3» - да, конечно (сильное 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+2» - в общем, да (среднее 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+1» - скорее да, чем нет (слабое 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0» - ни да, ни н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–1» - скорее нет, чем да (слабое не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–2» - в общем, нет (среднее не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–3» - нет, конечно (сильное не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–4» - нет, абсолютно неверно (очень сильное несоглас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старайтесь быть искренними. Здесь не может быть «правильных» и «неправильных» оценок. Важно лишь, чтобы они отражали ваше личное мнение. Свои оценки вы можете занести в специальный бланк рядом с порядковым номером утверждения анкеты. Спасиб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одолжите тези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7280" y="1699920"/>
            <a:ext cx="7632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ая школа –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колу я хожу, чтобы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бы я был директором школы, то непременн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е главное в жизни нашего класса –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е кажется, что взрослые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е всего меня огорчае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ей школе много внимания уделяю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м значимым в школе для меня является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ледующий год я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116000" y="5013360"/>
            <a:ext cx="763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1332000" y="3141720"/>
            <a:ext cx="6840360" cy="2735280"/>
          </a:xfrm>
          <a:prstGeom prst="cloudCallout">
            <a:avLst>
              <a:gd name="adj1" fmla="val -34615"/>
              <a:gd name="adj2" fmla="val 70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циальная ориентация или индивидуалистическая пози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imes New Roman"/>
              </a:rPr>
              <a:t>Моральное предпочтение или вещественно-предметная ориен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Агрессивность или доброжелатель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анк для отв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08"/>
          <p:cNvSpPr/>
          <p:nvPr/>
        </p:nvSpPr>
        <p:spPr>
          <a:xfrm>
            <a:off x="755640" y="5763960"/>
            <a:ext cx="77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амилия, имя (Вы можете указать по желанию)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4360" y="981000"/>
          <a:ext cx="7704000" cy="4525920"/>
        </p:xfrm>
        <a:graphic>
          <a:graphicData uri="http://schemas.openxmlformats.org/drawingml/2006/table">
            <a:tbl>
              <a:tblPr/>
              <a:tblGrid>
                <a:gridCol w="1082520"/>
                <a:gridCol w="1084320"/>
                <a:gridCol w="1082520"/>
                <a:gridCol w="1084320"/>
                <a:gridCol w="1082880"/>
                <a:gridCol w="1083960"/>
                <a:gridCol w="120348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так, ты выразил свое отношение ко всем 70-и утверждениям, которые были предложены тебе выше. Как тебе кажется: что больше всего повлияло на это твое отно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я семья (родители, братья и сестры, бабушки и дедушки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я школа (значимые для тебя педагоги, школьные друзья, одноклассники, уроки и кружковые занятия, походы, сборы, экспедиции и т.п.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и занятия в клубах, кружках и секциях вне шко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я  улица (дворовая компания, уличные друзья и т.д.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иги, журналы, телевизор, интерн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-то еще (укажи, что именно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ранжируй перечисленные выше пункты по степени их влияния – что бы ты поставил на первое место, что на второе, на третье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ы диагностического опросник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содержащиеся в опроснике утверждения должны побуждать подростка демонстрировать свое отношение к миру, к другим людям, к самому себ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формулировки высказываний должны быть понятными для школьников и восприниматься ими однозначн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текст опросника должен быть составлен таким образом, чтобы избежать возможного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онформног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ведения школьников, попыток «угадать» ответ, «правильно» отнестись к тому или иному тезису. Для этого подросткам необходимо предоставить право анонимного заполнения анке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тезисы опросника должны быть сформулированы так, чтобы тот или иной ответ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глядел в глазах школьника заведомо общественно одобряем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ы проведения диагностики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одится в условиях стаби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верие к проводящему диагност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ыбора аноним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аниченное время на ответ (30 ми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-переверты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ель диагностики – не есть результат только деятельности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 проводить часто (дважды в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делать с результатами диагностики?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ботать и систематиз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8360" y="1916280"/>
          <a:ext cx="7920000" cy="4073400"/>
        </p:xfrm>
        <a:graphic>
          <a:graphicData uri="http://schemas.openxmlformats.org/drawingml/2006/table">
            <a:tbl>
              <a:tblPr/>
              <a:tblGrid>
                <a:gridCol w="3960720"/>
                <a:gridCol w="3959280"/>
              </a:tblGrid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ица 8. Характер отношений школьник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иным люд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ойчиво-негати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 школь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тивно-негати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% школь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тивно-позити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% школь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ойчиво-позити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 школь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дают результаты диагности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как минимум двух опросов дадут представление о динамике личностного роста, об успешности реализуемой вами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ие о наиболее проблемных аспектах воспитанности шк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нализ - цель - планиров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штабы той или иной проблемы (% соотнош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ий вопрос может дать представление о влиянии именно школы на личностный рост воспита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 1-й диагно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907920"/>
          <a:ext cx="8569080" cy="5457960"/>
        </p:xfrm>
        <a:graphic>
          <a:graphicData uri="http://schemas.openxmlformats.org/drawingml/2006/table">
            <a:tbl>
              <a:tblPr/>
              <a:tblGrid>
                <a:gridCol w="2111400"/>
                <a:gridCol w="533160"/>
                <a:gridCol w="533520"/>
                <a:gridCol w="533520"/>
                <a:gridCol w="533160"/>
                <a:gridCol w="534960"/>
                <a:gridCol w="533520"/>
                <a:gridCol w="533520"/>
                <a:gridCol w="533160"/>
                <a:gridCol w="534960"/>
                <a:gridCol w="533520"/>
                <a:gridCol w="533520"/>
                <a:gridCol w="587160"/>
              </a:tblGrid>
              <a:tr h="108108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№ 8. Характер отношений школьни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иным людям, к людям иной культуры, иной национальности, вер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% школьников)                         </a:t>
                      </a: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04-2005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арак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тнош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-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-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-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-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-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о-негатив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о-негатив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о-позитив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о-позитив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1" name="Oval 93"/>
          <p:cNvSpPr/>
          <p:nvPr/>
        </p:nvSpPr>
        <p:spPr>
          <a:xfrm>
            <a:off x="4572000" y="2349360"/>
            <a:ext cx="1152360" cy="719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385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0" dur="385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2" dur="38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4" dur="38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497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явив имеющиеся на сегодняшний день проблемы личностного роста школьников в каждом классе (группе), можно определить как цель воспитательной работы каждого воспитател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и цель воспитания в учреждении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Например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395280" y="3284640"/>
            <a:ext cx="8280360" cy="2881080"/>
          </a:xfrm>
          <a:prstGeom prst="wedgeRectCallout">
            <a:avLst>
              <a:gd name="adj1" fmla="val 11541"/>
              <a:gd name="adj2" fmla="val -76611"/>
            </a:avLst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Цель учреждения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: личностный рост воспитанник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воспитателя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: личностный рост воспитанников, а в особенности: развитие их ценностного отношения к людям иной национальности, веры, культур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 2-й диагно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907920"/>
          <a:ext cx="8569080" cy="5473800"/>
        </p:xfrm>
        <a:graphic>
          <a:graphicData uri="http://schemas.openxmlformats.org/drawingml/2006/table">
            <a:tbl>
              <a:tblPr/>
              <a:tblGrid>
                <a:gridCol w="2111400"/>
                <a:gridCol w="533160"/>
                <a:gridCol w="533520"/>
                <a:gridCol w="533520"/>
                <a:gridCol w="533160"/>
                <a:gridCol w="534960"/>
                <a:gridCol w="533520"/>
                <a:gridCol w="533520"/>
                <a:gridCol w="533160"/>
                <a:gridCol w="534960"/>
                <a:gridCol w="533520"/>
                <a:gridCol w="533520"/>
                <a:gridCol w="587160"/>
              </a:tblGrid>
              <a:tr h="102420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№ 8. Характер отношений школьни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иным людям, к людям иной культуры, иной национальности, вер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% школьников)                          </a:t>
                      </a: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06-2007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арак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тнош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-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-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-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-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-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-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о-негатив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о-негатив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о-позитив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о-позитив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Oval 93"/>
          <p:cNvSpPr/>
          <p:nvPr/>
        </p:nvSpPr>
        <p:spPr>
          <a:xfrm>
            <a:off x="6659640" y="2276640"/>
            <a:ext cx="1152360" cy="718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94"/>
          <p:cNvSpPr/>
          <p:nvPr/>
        </p:nvSpPr>
        <p:spPr>
          <a:xfrm>
            <a:off x="2771640" y="2276640"/>
            <a:ext cx="865440" cy="718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7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9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705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55692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Критерии оценки процесса воспитания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85880" y="1643040"/>
            <a:ext cx="7929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чностный рост школь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ровень развития классного коллектив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ожение каждого ребенка в этом коллекти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формированность позиции воспитателя у педагог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воспитательного потенциала различных видов совместной 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Истор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116000" y="2133720"/>
            <a:ext cx="4176720" cy="381636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«Вече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 любви к хлебу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5076720" y="2131920"/>
            <a:ext cx="3851280" cy="28098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3366ff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внимание к реальным проблемам школы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то именно необходимо изучать в процессе мониторинга воспита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76000" y="1752480"/>
            <a:ext cx="721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Детский коллектив – одно из важнейших условий развития личности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акой у нас коллектив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А.Н. Лутошкин), (уровни развития коллектива, социометрия, собеседова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етодика изучения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ровня развития детского коллекти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акой у нас коллектив» (А.Н. Лутошк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азное описание стадий развития коллект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 ступень. «Песчаная россып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ступень. «Мягкая гл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ступен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Мерцающий мая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ступен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Алый пару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ступен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Горящий факе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ботка полученных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и ответов школьников педагог может определить по пятибалльной шкале (соответствующей пяти ступеням развития коллектива) степень их удовлетворенности своим классным коллективом, узнать, как оценивают школьники его спаянность, единство в достижении общественно значимых ц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циометрическое изучение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ежличностных отношений в детском коллекти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осный 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кета, которую мы предлагаем тебе заполнить, поможет улучшить отношения между школьниками в вашем коллективе, сделать его дружнее и сплоченнее. Ответь, пожалуйста, на следующие вопросы: их всего тр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редставь, что ваш класс отправляется в самостоятельное и нелегкое путешествие. Кого бы ты хотел видеть командиром вашей группы?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Если бы вашему классу пришлось участвовать в школьной олимпиаде по учебным предметам, кого бы ты хотел видеть капитаном этой команды?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Кого из класса ты бы пригласил к себе на вечеринку, день рождения или просто в гости?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ле каждого вопроса напиши по три фамилии тех своих одноклассников, которые соответствуют твоему выбору. Обязательно подпиши свою анкету. Спасиб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ботка полученных результа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468440" y="264960"/>
            <a:ext cx="1419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1619280" y="765000"/>
            <a:ext cx="144288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47640" y="620640"/>
          <a:ext cx="6767640" cy="5848560"/>
        </p:xfrm>
        <a:graphic>
          <a:graphicData uri="http://schemas.openxmlformats.org/drawingml/2006/table">
            <a:tbl>
              <a:tblPr/>
              <a:tblGrid>
                <a:gridCol w="1670400"/>
                <a:gridCol w="636480"/>
                <a:gridCol w="638280"/>
                <a:gridCol w="637920"/>
                <a:gridCol w="636840"/>
                <a:gridCol w="637920"/>
                <a:gridCol w="635040"/>
                <a:gridCol w="638280"/>
                <a:gridCol w="63648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выборов (рейтин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терпретация полученных результа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ые рейтинги покажут вам в наиболее общем виде картину межличностных отношений в коллективе. Анализируя их можно сделать вывод о наличии в н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де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авторитетных школьников, имеющих заметно более высокие рейтинги (в нашем случае это школьники Б и 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ядов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ленов коллектива, которые поддерживают в целом неплохие отношения с большинством членов коллектива – они имеют средние рейтинги (в нашем случае это школьники А, Е и Ж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диноч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есть тех, кто поддерживает хорошие отношения с очень узким кругом своих одноклассников или только друг с другом – они имеют невысокие рейтинги (в нашем случае это школьники В, Д и 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рже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есть тех, кто не принят в коллективе – они, как правило, имеют нулевой рейтинг или рейтинг в 1-2 бал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анализировать взаимные выборы членов коллектива и выявить совпадения выборов друг друга теми или иными школьниками, то можно получить представление о дружеских отношениях и личных взаимных симпатиях в коллективе. Например, в нашем случае такой вывод можно сделать о школьниках А и Б, Б и Г, В и Д – они всегда называли фамилии друг друга в ответах на все предложенные им вопро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то именно необходимо изучать в процессе мониторинга воспита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332000" y="1752480"/>
            <a:ext cx="74167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Профессиональную позицию педаго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иагностика профессиональной позиции педагога как воспитате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ика изучения профессиональных ориентиров педагогического коллектива в сфере воспит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то именно необходимо изучать в процессе мониторинга воспита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332000" y="1752480"/>
            <a:ext cx="735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Использование воспитательного потенциала совместной деятельности школьников и педаг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спертная оце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привлечение специалис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2629080" y="622440"/>
            <a:ext cx="4248000" cy="1511280"/>
          </a:xfrm>
          <a:prstGeom prst="downArrowCallout">
            <a:avLst>
              <a:gd name="adj1" fmla="val 70278"/>
              <a:gd name="adj2" fmla="val 70272"/>
              <a:gd name="adj3" fmla="val 16667"/>
              <a:gd name="adj4" fmla="val 6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неурочная деятель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школь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116000" y="2492280"/>
            <a:ext cx="7416720" cy="28814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онятие, объединяюще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се виды деятельности школьнико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(кроме учебной)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 которых возможно и целесообразн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шение задач их воспитания и социализа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иды внеурочной деятельност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ва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но-ценностное общ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угово-развлекательная деятельность (досуговое обще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ественное творч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творчество (социально значимая волонтерская деятель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ая (производственная)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ртивно-оздорови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ристско-краеведческ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331640" y="2781360"/>
            <a:ext cx="719604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то, что стало непосредственным итогом участия школьника в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пример, школьник приобрел некое знание, пережил и прочувствовал нечто как ценность, приобрел опыт действи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1042920" y="1773360"/>
            <a:ext cx="2881440" cy="1295280"/>
          </a:xfrm>
          <a:prstGeom prst="rightArrow">
            <a:avLst>
              <a:gd name="adj1" fmla="val 50000"/>
              <a:gd name="adj2" fmla="val 5561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Результа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ужно ли это?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(актуальность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66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овременном обществе никакая профессиональная деятельность не может считаться таковой, если отсутствует 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простой и четкий механизм отслеживания эффективност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эт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Cj04136300000[1]"/>
          <p:cNvPicPr/>
          <p:nvPr/>
        </p:nvPicPr>
        <p:blipFill>
          <a:blip r:embed="rId1"/>
          <a:stretch/>
        </p:blipFill>
        <p:spPr>
          <a:xfrm>
            <a:off x="6675480" y="3716280"/>
            <a:ext cx="18972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Organization Chart 2"/>
          <p:cNvGrpSpPr/>
          <p:nvPr/>
        </p:nvGrpSpPr>
        <p:grpSpPr>
          <a:xfrm>
            <a:off x="912960" y="243000"/>
            <a:ext cx="7702920" cy="5831640"/>
            <a:chOff x="912960" y="243000"/>
            <a:chExt cx="7702920" cy="5831640"/>
          </a:xfrm>
        </p:grpSpPr>
        <p:cxnSp>
          <p:nvCxnSpPr>
            <p:cNvPr id="163" name="_s2052"/>
            <p:cNvCxnSpPr>
              <a:stCxn id="164" idx="2"/>
              <a:endCxn id="165" idx="3"/>
            </p:cNvCxnSpPr>
            <p:nvPr/>
          </p:nvCxnSpPr>
          <p:spPr>
            <a:xfrm rot="10800000">
              <a:off x="3163680" y="1302480"/>
              <a:ext cx="830160" cy="43002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6" name="_s2053"/>
            <p:cNvCxnSpPr>
              <a:stCxn id="167" idx="2"/>
              <a:endCxn id="165" idx="3"/>
            </p:cNvCxnSpPr>
            <p:nvPr/>
          </p:nvCxnSpPr>
          <p:spPr>
            <a:xfrm rot="10800000">
              <a:off x="3163680" y="1302480"/>
              <a:ext cx="830160" cy="27097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8" name="_s2054"/>
            <p:cNvCxnSpPr>
              <a:stCxn id="169" idx="2"/>
              <a:endCxn id="165" idx="3"/>
            </p:cNvCxnSpPr>
            <p:nvPr/>
          </p:nvCxnSpPr>
          <p:spPr>
            <a:xfrm rot="10800000">
              <a:off x="3163680" y="1302480"/>
              <a:ext cx="830160" cy="11192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65" name="_s2055"/>
            <p:cNvSpPr/>
            <p:nvPr/>
          </p:nvSpPr>
          <p:spPr>
            <a:xfrm>
              <a:off x="912960" y="243000"/>
              <a:ext cx="4621680" cy="1060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Личностный рост ребенк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это процесс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_s2056"/>
            <p:cNvSpPr/>
            <p:nvPr/>
          </p:nvSpPr>
          <p:spPr>
            <a:xfrm>
              <a:off x="3994200" y="1833480"/>
              <a:ext cx="4621680" cy="1060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иобретения им знаний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 социальных норма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_s2057"/>
            <p:cNvSpPr/>
            <p:nvPr/>
          </p:nvSpPr>
          <p:spPr>
            <a:xfrm>
              <a:off x="3994200" y="3423960"/>
              <a:ext cx="4621680" cy="1060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азвития его позитивных отношений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 базовым общественным ценностя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_s2058"/>
            <p:cNvSpPr/>
            <p:nvPr/>
          </p:nvSpPr>
          <p:spPr>
            <a:xfrm>
              <a:off x="3994200" y="5014440"/>
              <a:ext cx="4621680" cy="1060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акопления им опыта ценностно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крашенного социального действ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1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Образовательные результаты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7280" y="1752480"/>
            <a:ext cx="749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ервый уровень результат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приобретение школьником социальных знаний (об общественных нормах, об устройстве общества, о социально одобряемых и неодобряемых формах поведения в обществе и т.п.), понимания социальной реальности и повседневной жиз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обходимое услов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взаимодействие ученика со своими учителями (в основном и дополнительном образовании) как значимыми для него носителями социального знания и повседневного опы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торой уровень результат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формирование позитивных отношений школьника к базовым ценностям общества (человек, семья, Отечество, природа, мир, знания, труд, культура), ценностного отношения к социальной реальности в цел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обходимое услов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равноправное взаимодействие школьника с другими школьниками на уровне класса, школы, то есть в защищенной, дружественной ему просоциальной среде. Именно в такой близкой социальной среде ребенок получает (или не получает) первое практическое подтверждение приобретенных социальных знаний, начинает их ценить (или отвергает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Образовательные результаты 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Образовательные результаты 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85520" y="1856880"/>
            <a:ext cx="78771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ретий уровень результат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получение школьником опыта самостоятельного социального действ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обходимое услов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взаимодействие школьника с социальными субъектами  за пределами школы, в открытой общественной сред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лько в самостоятельном социальном действии, «действии для людей и на людях», молодой человек действительно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тановит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а не просто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узнаёт о том, как ст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деятелем, гражданином, свободным человек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Organization Chart 2"/>
          <p:cNvGrpSpPr/>
          <p:nvPr/>
        </p:nvGrpSpPr>
        <p:grpSpPr>
          <a:xfrm>
            <a:off x="1116000" y="549360"/>
            <a:ext cx="7507080" cy="5532840"/>
            <a:chOff x="1116000" y="549360"/>
            <a:chExt cx="7507080" cy="5532840"/>
          </a:xfrm>
        </p:grpSpPr>
        <p:cxnSp>
          <p:nvCxnSpPr>
            <p:cNvPr id="177" name="_s3076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7151760" y="4351320"/>
              <a:ext cx="692280" cy="2880"/>
            </a:xfrm>
            <a:prstGeom prst="bentConnector3">
              <a:avLst>
                <a:gd name="adj1" fmla="val 156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0" name="_s3077"/>
            <p:cNvCxnSpPr>
              <a:stCxn id="181" idx="0"/>
              <a:endCxn id="182" idx="2"/>
            </p:cNvCxnSpPr>
            <p:nvPr/>
          </p:nvCxnSpPr>
          <p:spPr>
            <a:xfrm flipV="1" rot="16200000">
              <a:off x="4524120" y="4351320"/>
              <a:ext cx="692280" cy="2880"/>
            </a:xfrm>
            <a:prstGeom prst="bentConnector3">
              <a:avLst>
                <a:gd name="adj1" fmla="val 156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3" name="_s3078"/>
            <p:cNvCxnSpPr>
              <a:stCxn id="184" idx="0"/>
              <a:endCxn id="185" idx="2"/>
            </p:cNvCxnSpPr>
            <p:nvPr/>
          </p:nvCxnSpPr>
          <p:spPr>
            <a:xfrm flipV="1" rot="16200000">
              <a:off x="1896840" y="4351320"/>
              <a:ext cx="692280" cy="2880"/>
            </a:xfrm>
            <a:prstGeom prst="bentConnector3">
              <a:avLst>
                <a:gd name="adj1" fmla="val 156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6" name="_s3079"/>
            <p:cNvCxnSpPr>
              <a:stCxn id="179" idx="0"/>
              <a:endCxn id="187" idx="2"/>
            </p:cNvCxnSpPr>
            <p:nvPr/>
          </p:nvCxnSpPr>
          <p:spPr>
            <a:xfrm flipV="1" rot="16200000">
              <a:off x="5837040" y="964080"/>
              <a:ext cx="692280" cy="2627640"/>
            </a:xfrm>
            <a:prstGeom prst="bentConnector3">
              <a:avLst>
                <a:gd name="adj1" fmla="val 1566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8" name="_s3080"/>
            <p:cNvCxnSpPr>
              <a:stCxn id="182" idx="0"/>
              <a:endCxn id="187" idx="2"/>
            </p:cNvCxnSpPr>
            <p:nvPr/>
          </p:nvCxnSpPr>
          <p:spPr>
            <a:xfrm flipV="1">
              <a:off x="4869000" y="1931760"/>
              <a:ext cx="1080" cy="6922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9" name="_s3081"/>
            <p:cNvCxnSpPr>
              <a:stCxn id="185" idx="0"/>
              <a:endCxn id="187" idx="2"/>
            </p:cNvCxnSpPr>
            <p:nvPr/>
          </p:nvCxnSpPr>
          <p:spPr>
            <a:xfrm flipH="1" flipV="1" rot="5400000">
              <a:off x="3209760" y="964080"/>
              <a:ext cx="692280" cy="2627640"/>
            </a:xfrm>
            <a:prstGeom prst="bentConnector3">
              <a:avLst>
                <a:gd name="adj1" fmla="val 1566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87" name="_s3082"/>
            <p:cNvSpPr/>
            <p:nvPr/>
          </p:nvSpPr>
          <p:spPr>
            <a:xfrm>
              <a:off x="3743280" y="549360"/>
              <a:ext cx="2252160" cy="1383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Уровни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результато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_s3083"/>
            <p:cNvSpPr/>
            <p:nvPr/>
          </p:nvSpPr>
          <p:spPr>
            <a:xfrm>
              <a:off x="1116000" y="2624040"/>
              <a:ext cx="2252160" cy="1383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-й уровен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_s3084"/>
            <p:cNvSpPr/>
            <p:nvPr/>
          </p:nvSpPr>
          <p:spPr>
            <a:xfrm>
              <a:off x="3743280" y="2624040"/>
              <a:ext cx="2252160" cy="13831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2-й уровен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3085"/>
            <p:cNvSpPr/>
            <p:nvPr/>
          </p:nvSpPr>
          <p:spPr>
            <a:xfrm>
              <a:off x="6370920" y="2624040"/>
              <a:ext cx="2252160" cy="13831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3-й уровен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_s3086"/>
            <p:cNvSpPr/>
            <p:nvPr/>
          </p:nvSpPr>
          <p:spPr>
            <a:xfrm>
              <a:off x="1118160" y="4699080"/>
              <a:ext cx="2249640" cy="13831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школьник  знает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 понимает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щественную жизн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_s3087"/>
            <p:cNvSpPr/>
            <p:nvPr/>
          </p:nvSpPr>
          <p:spPr>
            <a:xfrm>
              <a:off x="3745800" y="4699080"/>
              <a:ext cx="2249640" cy="13831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школьник ценит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щественную жизн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_s3088"/>
            <p:cNvSpPr/>
            <p:nvPr/>
          </p:nvSpPr>
          <p:spPr>
            <a:xfrm>
              <a:off x="6373080" y="4699080"/>
              <a:ext cx="2249640" cy="13831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школьник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амостоятельно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ействует в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щественной жизн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50021"/>
                </a:solidFill>
                <a:uFillTx/>
                <a:latin typeface="Arial"/>
              </a:rPr>
              <a:t>Познава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50920" y="4653000"/>
            <a:ext cx="8569080" cy="1557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Ориентация на результаты первого уровня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накомство школьников с основными социальными нормами, которые нужны человеку для полноценного проживания его повседневной жиз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50920" y="2852640"/>
            <a:ext cx="8569080" cy="11912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Ориентация на результаты второго уровня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центирование внимания на ценностном аспекте получаемых знан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50920" y="907920"/>
            <a:ext cx="8497800" cy="5577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                      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Например: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овы правила общения с пожилыми людь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 вести себя с человеком в инвалидной коляск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Что можно и чего нельзя делать в храм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Запретные слова, жесты и действия в многонациональной школ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ие права есть у человека, попавшего в больниц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к безопасно для природы утилизировать бытовые отходы и т.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50920" y="304920"/>
            <a:ext cx="8642160" cy="6558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П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римеры из предметных областей знания: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спользование животных для опытов: научная необходимость или жестокость людей? (биолог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Этический аспект клонирования (биолог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ожет ли наука быть безнравственной? (физи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войственное значение открытия способа расщепления атомного ядра (физи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Является ли экономический рост в мире безусловным благом для людей? (экономи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ужно ли малым народам стремиться сохранять свой язык и культуру? (географ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уманитарные последствия Великих географических открытий (географ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огласны ли вы со словами И.Карамазова «Если Бога нет, значит все позволено»? (литератур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еформы Петра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– шаг к цивилизованному обществу или насилие над страной? (истор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пасна ли для общества агрессия в кино и на телевидении? (искусство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Экологические последствия открытия дешевых способов изготовления синтетических материалов (хим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250920" y="1052640"/>
            <a:ext cx="8497800" cy="11912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Ориентация на результаты третьего уровня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взаимодействия школьника с другими социальными субъек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250920" y="333360"/>
            <a:ext cx="8642160" cy="61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                                                 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Например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аседания кружка любителей литературы  совместно с  воспитанниками детских домов или обитателей домов престарел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еятельность предметных факультативов может стать социально ориентированной, если его члены возьмут индивидуальное шефство над неуспевающими школьниками более младших клас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роведение одаренными детьми специальных «вечерних курсов» для школьников тех школ, которые имеют ограниченные возможности в преподавании отдельных предме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риентация работы членов НОУ на исследование злободневных проблем окружающего микросоциум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улучшить качество питьевой воды в школе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Исчезающие животные нашего региона: стратегии спас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пособы преодоления агрессии в шко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Химический состав популярных напитков и проблемы здоровь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пособы энергосбережения в школе и формы энергосберегающего поведения учеников и учителей и т.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Arial"/>
              </a:rPr>
              <a:t>Выделение трех уровней результатов внеурочной деятельности позволяет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56800" y="1628280"/>
            <a:ext cx="782964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абатывать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разовательные программ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неурочной деятельности с четким и внятным представлением о результат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бирать таки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неурочной деятельности, которые гарантируют достижение результата определенного уровн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траивать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огику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ерехода от результатов одного уровня к другом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иагностиров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езультативность и эффективность внеурочной деятель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ценив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честв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ограмм внеурочной деятельности (по тому, на достижение какого результата они претендуют, соответствует ли избранные формы предполагаемым результатам и т.д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Обращаем внимание на следующе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6000" y="1483920"/>
            <a:ext cx="7547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сколько разнообразны те виды совместной деятельности, которые используются в воспитательных целях, и насколько оправдано это разнообраз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сят ли воспитывающий характер проводимые дела? Какие ценности несут они детям? Какие их личностные качества развивают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ть ли тенденция сводить воспитательный процесс в основном к классным часам или каким-либо другим «словесным формам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а степень участия и самостоятельности школьников в планировании, подготовке, проведении и анализе тех или иных дел (детское самоуправление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кспертная оценка использования воспитательного потенциала совместной деятельности школьников и педагог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точники информации (наблюдение за деятельностью педагогов, собеседование, анализ планов или программ организации воспитательного процесс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 воспитательный аспект проводимых дел. Действительно ли они воспитывающие или направлены только на то, чтобы научить чему-то, выполнить работу, победить, заполнить досуг и т.д.? Тенденция сводить воспитательный процесс в основном к классным час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епень участия и самостоятельности школьников в планировании, подготовке, проведении и анализе тех или иных дел (детское самоуправлени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то именно необходимо изучать в процессе мониторинга воспита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Организационные условия, обеспечивающие эффективность процесса воспит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ьно-техническое осна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ический соста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но-эстетическая сре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детских объединений и органов само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ное обеспечение процесса воспит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Кому это нужно?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(профессиональный заказчик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08160" y="1752120"/>
            <a:ext cx="761184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осуществляет контроль и ресурсное обеспечение процесса воспитания в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осуществляет методическую поддержку процесса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непосредственно осуществляет процесс воспита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979640" y="4869000"/>
            <a:ext cx="583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ОБХОДИМ САМИ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ЕДАГОГ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Организация воспитывающей предметно-эстетической среды шко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6920" y="1988640"/>
            <a:ext cx="76201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устройство школьного двора: его озеленение, наличие спортивных и игровых площадо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иодическая переориентация интерьера школьных помещений, которая может служить средством разрушения стереотипа и негативных установок на учебные и внеучебные занят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личие в школе достаточного свободного пространства, имеющего как зоны активного отдыха, так и зоны тихого отдыха, зоны для малышей, для подростков и старшеклассн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ветовое оформление школьных помещений и т.п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87640" y="1557360"/>
            <a:ext cx="4019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ериодическую переориентацию интерьера школьных помещений, которая может служить средством разрушения стереотипа и негативных установок на учебные и внеучебные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P1130061"/>
          <p:cNvPicPr/>
          <p:nvPr/>
        </p:nvPicPr>
        <p:blipFill>
          <a:blip r:embed="rId1"/>
          <a:stretch/>
        </p:blipFill>
        <p:spPr>
          <a:xfrm>
            <a:off x="1116000" y="1628640"/>
            <a:ext cx="3527280" cy="26337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9"/>
          <p:cNvSpPr/>
          <p:nvPr/>
        </p:nvSpPr>
        <p:spPr>
          <a:xfrm>
            <a:off x="1066680" y="525600"/>
            <a:ext cx="762012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Обратите вниман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0" descr="P1130114"/>
          <p:cNvPicPr/>
          <p:nvPr/>
        </p:nvPicPr>
        <p:blipFill>
          <a:blip r:embed="rId2"/>
          <a:stretch/>
        </p:blipFill>
        <p:spPr>
          <a:xfrm>
            <a:off x="4859280" y="3608280"/>
            <a:ext cx="3949920" cy="29624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2"/>
          <p:cNvSpPr/>
          <p:nvPr/>
        </p:nvSpPr>
        <p:spPr>
          <a:xfrm>
            <a:off x="1258920" y="4653000"/>
            <a:ext cx="3313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цветовое оформление школьных помещений и т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Обратите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P1130071"/>
          <p:cNvPicPr/>
          <p:nvPr/>
        </p:nvPicPr>
        <p:blipFill>
          <a:blip r:embed="rId1"/>
          <a:stretch/>
        </p:blipFill>
        <p:spPr>
          <a:xfrm>
            <a:off x="3836880" y="3429000"/>
            <a:ext cx="4191120" cy="31399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2124000" y="1413000"/>
            <a:ext cx="446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обустройство школьного двора: его озеленение, наличие спортивных и игровых площад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7" descr="P1130125"/>
          <p:cNvPicPr/>
          <p:nvPr/>
        </p:nvPicPr>
        <p:blipFill>
          <a:blip r:embed="rId2"/>
          <a:stretch/>
        </p:blipFill>
        <p:spPr>
          <a:xfrm>
            <a:off x="1015920" y="2943360"/>
            <a:ext cx="2692440" cy="3581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P1130072"/>
          <p:cNvPicPr/>
          <p:nvPr/>
        </p:nvPicPr>
        <p:blipFill>
          <a:blip r:embed="rId3"/>
          <a:stretch/>
        </p:blipFill>
        <p:spPr>
          <a:xfrm>
            <a:off x="6894360" y="1917720"/>
            <a:ext cx="18367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11640" y="1557000"/>
            <a:ext cx="44640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наличие в школе достаточного свободного пространства, имеющего как зоны активного отдыха, так и зоны тихого отдыха, зоны для малышей, для подростков и старшекласс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P1130105"/>
          <p:cNvPicPr/>
          <p:nvPr/>
        </p:nvPicPr>
        <p:blipFill>
          <a:blip r:embed="rId1"/>
          <a:stretch/>
        </p:blipFill>
        <p:spPr>
          <a:xfrm>
            <a:off x="1116000" y="2565360"/>
            <a:ext cx="2924280" cy="3898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1130174"/>
          <p:cNvPicPr/>
          <p:nvPr/>
        </p:nvPicPr>
        <p:blipFill>
          <a:blip r:embed="rId2"/>
          <a:srcRect l="0" t="5064" r="-2778" b="8766"/>
          <a:stretch/>
        </p:blipFill>
        <p:spPr>
          <a:xfrm>
            <a:off x="4140360" y="3500280"/>
            <a:ext cx="4752720" cy="29592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1042920" y="549360"/>
            <a:ext cx="762012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Обратите вниман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На наш взгля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557360"/>
            <a:ext cx="7489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оспита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– это не работ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деятельност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то не выполнение обязанносте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реализация моей позиц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(сознание + деятельность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торая выбирается мной самим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де деятельность выступает одним из способов реализации моих базовых ценност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М. Лютер: «На том стою и не могу инач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Следовательно с этих позиц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50720" y="1752480"/>
            <a:ext cx="739764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ысл диагностики – обнаруживать и решать собственные профессиональные проблемы: где мы недоработали; какую помощь необходимо оказать ребенку, родителям, педагогам, шко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казателем результативности воспитания рассматривается не степень приближения ребенка к единому для всех стандарту, а отслеживание динамики изменений – каким был, каким ст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педагогов реализующих собственную позицию воспитателя важне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47640" y="2236320"/>
            <a:ext cx="6840720" cy="37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ировать собственную деятельность, а не отчитываться о ней перед кем-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о определять цель, задачи, формы, способы своей деятельности и планировать ее так, как это удобнее самим, а не так, как этого требует кто-то ещ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Воспитание –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0360" y="1599840"/>
            <a:ext cx="7632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Управление процессом развития личности через создание благоприятных для этого условий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Х.Й. Лийметс, Л.И. Новикова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В.А. Караковский, Н.Л. Селиванова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ценивать процесс воспитания необходимо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 динамике личностного развития школьников (цель и главный результат воспитания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 тем условиям, которые созданы для этого развития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6000" y="55692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Критерии оценки процесса воспитания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7561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чностный рост школь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ровень развития классного коллектив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ожение каждого ребенка в этом коллекти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формированность позиции воспитателя у педагог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воспитательного потенциала различных видов совместной 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2200" y="326880"/>
            <a:ext cx="8067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то именно необходимо изучать в процессе мониторинга воспита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64920" y="1623960"/>
            <a:ext cx="777708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Личность самого воспитанника – главный показатель эффективности процесса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гуманистических ценностных отношений личности к миру, к людям, к себе (опросник, наблюдение в обычной жизни, в критической ситуац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чем это нужно?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(цель мониторинг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32000" y="1752120"/>
            <a:ext cx="7488000" cy="16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Чтобы сравнивать, в какой школе процесс воспитания организован лучше, а в какой хуж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Чтобы делать «оргвыводы» в отношении тех или иных педагогов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258920" y="4869000"/>
            <a:ext cx="734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Выяснить, насколько организованный процесс воспитания способствует позитивным изменениям в личности ребенка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3635280" y="1484280"/>
            <a:ext cx="2160720" cy="2089080"/>
          </a:xfrm>
          <a:custGeom>
            <a:avLst/>
            <a:gdLst>
              <a:gd name="textAreaLeft" fmla="*/ 316440 w 2160720"/>
              <a:gd name="textAreaRight" fmla="*/ 1844280 w 2160720"/>
              <a:gd name="textAreaTop" fmla="*/ 305640 h 2089080"/>
              <a:gd name="textAreaBottom" fmla="*/ 178344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556000" y="3357720"/>
            <a:ext cx="1079280" cy="1368360"/>
          </a:xfrm>
          <a:prstGeom prst="downArrow">
            <a:avLst>
              <a:gd name="adj1" fmla="val 50000"/>
              <a:gd name="adj2" fmla="val 316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то именно необходимо изучать в процессе мониторинга воспита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Детский коллектив – одно из важнейших условий развития личности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акой у нас коллектив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А.Н. Лутошкин), (уровни развития коллектива, социометрия, собеседова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то именно необходимо изучать в процессе мониторинга воспита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32000" y="1752480"/>
            <a:ext cx="74167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Профессиональную позицию педаго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иагностика профессиональной позиции педагога как воспитате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ика изучения профессиональных ориентиров педагогического коллектива в сфере воспит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то именно необходимо изучать в процессе мониторинга воспита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794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Использование воспитательного потенциала совместной деятельности школьников и педаг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спертная оце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привлечение специалис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то именно необходимо изучать в процессе мониторинга воспита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Организационные условия, обеспечивающие эффективность процесса воспит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ьно-техническое осна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ический соста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но-эстетическая сре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детских объединений и органов само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ное обеспечение процесса воспит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620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042920" y="1752480"/>
          <a:ext cx="7777080" cy="4329360"/>
        </p:xfrm>
        <a:graphic>
          <a:graphicData uri="http://schemas.openxmlformats.org/drawingml/2006/table">
            <a:tbl>
              <a:tblPr/>
              <a:tblGrid>
                <a:gridCol w="2305080"/>
                <a:gridCol w="3417840"/>
                <a:gridCol w="587520"/>
                <a:gridCol w="806400"/>
                <a:gridCol w="660240"/>
              </a:tblGrid>
              <a:tr h="159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показателей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ровень реализации способ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ированность системы воспитательных мероприятий (В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рганизация ВМ по программно-целевому принцип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рганизация мероприятий воспитательными центр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рганизация системы ключевых 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Другое (дать краткое описа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042920" y="884160"/>
          <a:ext cx="7620120" cy="6307200"/>
        </p:xfrm>
        <a:graphic>
          <a:graphicData uri="http://schemas.openxmlformats.org/drawingml/2006/table">
            <a:tbl>
              <a:tblPr/>
              <a:tblGrid>
                <a:gridCol w="1992240"/>
                <a:gridCol w="3600720"/>
                <a:gridCol w="576000"/>
                <a:gridCol w="803520"/>
                <a:gridCol w="647640"/>
              </a:tblGrid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уализирован-ность воспитательного потенциала учебного проц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Использование ценностного содержания предметного з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спользование воспитательного потенциала учебного взаимодействия школь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Использование личностно-ориентированных обучающих технолог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Использование воспитательного потенциала межпредметной интегр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Использование воспитательного потенциала учебных экскурсий и экспедиц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Другое (дать краткое описани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066680" y="380880"/>
          <a:ext cx="7620120" cy="6578640"/>
        </p:xfrm>
        <a:graphic>
          <a:graphicData uri="http://schemas.openxmlformats.org/drawingml/2006/table">
            <a:tbl>
              <a:tblPr/>
              <a:tblGrid>
                <a:gridCol w="1920960"/>
                <a:gridCol w="3672000"/>
                <a:gridCol w="576360"/>
                <a:gridCol w="803160"/>
                <a:gridCol w="647640"/>
              </a:tblGrid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ность условий самоопределения педагогов в позиции воспит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етодическая работа по проблемам воспитания (МО клас. рук., педсоветы, открытые акции, мастер-классы и т.д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сследовательская и экспериментальная работа педагогов как воспит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учение педагогов как воспитателей в системе повышения квалифик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Участие педагогов в акциях, конкурсах, проектах разного уровн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овместная деятельность педагогов как воспитателей (творческие группы, самоуправляемые объединения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Другое (дать краткое описани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066680" y="836640"/>
          <a:ext cx="7620120" cy="5460840"/>
        </p:xfrm>
        <a:graphic>
          <a:graphicData uri="http://schemas.openxmlformats.org/drawingml/2006/table">
            <a:tbl>
              <a:tblPr/>
              <a:tblGrid>
                <a:gridCol w="1920960"/>
                <a:gridCol w="3672000"/>
                <a:gridCol w="576360"/>
                <a:gridCol w="803160"/>
                <a:gridCol w="647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уализирован-ность процесса коллективообра-зования в клас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Включение класса в подготовку и реализацию школьных дел, акций, событ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рганизация КТД в класс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Работа с лидерским активом класс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рганизация группового соревнования и кооперации в класс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рганизация самоуправления и поручений в класс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Формирование субкультуры  класс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Другое (дать краткое описани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1042920" y="1052640"/>
          <a:ext cx="7620120" cy="4657680"/>
        </p:xfrm>
        <a:graphic>
          <a:graphicData uri="http://schemas.openxmlformats.org/drawingml/2006/table">
            <a:tbl>
              <a:tblPr/>
              <a:tblGrid>
                <a:gridCol w="1920960"/>
                <a:gridCol w="3672000"/>
                <a:gridCol w="576000"/>
                <a:gridCol w="803520"/>
                <a:gridCol w="647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ирован-ность института детского само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рецедентная организация детского самоуправл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рганизация системы органов самоуправл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Деятельность детских клуб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Деятельность детских общественных объединений (организаций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Другое (дать краткое описани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1042920" y="765000"/>
          <a:ext cx="7620120" cy="5975640"/>
        </p:xfrm>
        <a:graphic>
          <a:graphicData uri="http://schemas.openxmlformats.org/drawingml/2006/table">
            <a:tbl>
              <a:tblPr/>
              <a:tblGrid>
                <a:gridCol w="1920960"/>
                <a:gridCol w="3672000"/>
                <a:gridCol w="576000"/>
                <a:gridCol w="803520"/>
                <a:gridCol w="647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ирован-ность института детско-взрослого со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рецедентная организация детско-взрослого соуправл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рганизация детско-взрослых социальных прое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овместная деятельность детей и взрослых в управляющем Сове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Другое (дать краткое описани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уализирован-ность воспитательного потенциала дополните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Автономное функционирование кружков, секций, клубов по интерес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истема дополнительного образования в школ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чем это нужно?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(цель мониторинг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622520"/>
            <a:ext cx="769932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яснить, насколько организованный процесс воспитания способствуе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Arial"/>
              </a:rPr>
              <a:t>позитивным изменениям в личности ребенка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258920" y="3429000"/>
            <a:ext cx="7427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обнаружения и решения наиболее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Arial"/>
              </a:rPr>
              <a:t>острых проблем организаци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процесса воспита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258920" y="5157720"/>
            <a:ext cx="7427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анализа, обобщения и распространения </a:t>
            </a:r>
            <a:r>
              <a:rPr b="1" lang="ru-RU" sz="2600" spc="-1" strike="noStrike" u="sng">
                <a:solidFill>
                  <a:srgbClr val="0000ff"/>
                </a:solidFill>
                <a:uFillTx/>
                <a:latin typeface="Arial"/>
              </a:rPr>
              <a:t>позитивного опыта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600" spc="-1" strike="noStrike" u="sng">
                <a:solidFill>
                  <a:srgbClr val="0000ff"/>
                </a:solidFill>
                <a:uFillTx/>
                <a:latin typeface="Arial"/>
              </a:rPr>
              <a:t>воспита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1042920" y="1052640"/>
          <a:ext cx="7620120" cy="4725720"/>
        </p:xfrm>
        <a:graphic>
          <a:graphicData uri="http://schemas.openxmlformats.org/drawingml/2006/table">
            <a:tbl>
              <a:tblPr/>
              <a:tblGrid>
                <a:gridCol w="1920960"/>
                <a:gridCol w="3672000"/>
                <a:gridCol w="576000"/>
                <a:gridCol w="803520"/>
                <a:gridCol w="647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уализирован-ность воспитательного потенциала окружающей сре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оциальное партнерство с семьей в сфере воспит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ое партнерство с другими образовательными учреждениями в сфере воспит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оциальное партнерство с другими общественными институтами в сфере воспит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8000" y="1844280"/>
            <a:ext cx="662472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Критерии, показатели, выбор метод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042920" y="4508640"/>
            <a:ext cx="554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По материалам работ Е.Н. Степано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cc"/>
                </a:solidFill>
                <a:latin typeface="Arial"/>
              </a:rPr>
              <a:t>Критерии эффективности </a:t>
            </a:r>
            <a:br>
              <a:rPr sz="3800"/>
            </a:br>
            <a:r>
              <a:rPr b="0" lang="ru-RU" sz="3800" spc="-1" strike="noStrike">
                <a:solidFill>
                  <a:srgbClr val="0033cc"/>
                </a:solidFill>
                <a:latin typeface="Arial"/>
              </a:rPr>
              <a:t>процесса воспит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47280" y="2133720"/>
            <a:ext cx="713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РОДУКТИВНОСТЬ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ость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нность коллект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УДОВЛЕТВОРЕН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роцессом и результат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Развитость л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58560" y="1557360"/>
            <a:ext cx="74278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Интеллекту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военность образовательно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ие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ормированность индивидуального стиля познав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Нравст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ность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равственные отношения (каче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ая 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Физ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ие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ние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гиенические нав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62012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Развитость л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042920" y="1557360"/>
          <a:ext cx="7777080" cy="4852800"/>
        </p:xfrm>
        <a:graphic>
          <a:graphicData uri="http://schemas.openxmlformats.org/drawingml/2006/table">
            <a:tbl>
              <a:tblPr/>
              <a:tblGrid>
                <a:gridCol w="1657440"/>
                <a:gridCol w="2519280"/>
                <a:gridCol w="3600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спекты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иагностическ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ллекту-альная развит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своенность образовательной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ознавательная активность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формированность стиля познавательной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етодики изучения развития познавательных процессов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Школьный тест умственного развития (ШТУ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Методы экспертной оценки педагогов и самооценки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Диагностическая контро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татистический анализ текущей и итоговой успевае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1066680" y="836640"/>
          <a:ext cx="7620120" cy="5365800"/>
        </p:xfrm>
        <a:graphic>
          <a:graphicData uri="http://schemas.openxmlformats.org/drawingml/2006/table">
            <a:tbl>
              <a:tblPr/>
              <a:tblGrid>
                <a:gridCol w="1764000"/>
                <a:gridCol w="2462040"/>
                <a:gridCol w="339408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спекты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иагностическ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равственная и эстетическая развит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формированность основных нравственных качеств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актив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Развитость чувства прекрас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роявление эстетических чувств в актах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етодика С.М. Петровой «Пословицы» для определения направленности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Тест Н.Е. Щурковой «Размышляем о жизненном опыте» для определения нравственной направленности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Методика П.В. Степанова, Д.В. Григорьева, И.В. Кулешовой «Диагностика личностного рост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етодики экспертной оценки педагогов и самооценки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066680" y="836640"/>
          <a:ext cx="7620120" cy="5038560"/>
        </p:xfrm>
        <a:graphic>
          <a:graphicData uri="http://schemas.openxmlformats.org/drawingml/2006/table">
            <a:tbl>
              <a:tblPr/>
              <a:tblGrid>
                <a:gridCol w="1764000"/>
                <a:gridCol w="2678040"/>
                <a:gridCol w="31780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спекты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иагностическ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ость коммуникати-в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оммуникаб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формированность коммуникативной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етодика выявления коммуникативных склон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Методы экспертной оценки педагогов и самооценки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457200" y="836640"/>
          <a:ext cx="8229600" cy="4451400"/>
        </p:xfrm>
        <a:graphic>
          <a:graphicData uri="http://schemas.openxmlformats.org/drawingml/2006/table">
            <a:tbl>
              <a:tblPr/>
              <a:tblGrid>
                <a:gridCol w="1905120"/>
                <a:gridCol w="2658960"/>
                <a:gridCol w="366552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спекты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иагностическ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ая развит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остояние здоров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азвитость физических кач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Гигиенические навы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татистический медицинский анализ состояния здоровья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ыполнение контрольных норматив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Методики экспертной оценки педагогов и самооценки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066680" y="836640"/>
          <a:ext cx="7620120" cy="5656320"/>
        </p:xfrm>
        <a:graphic>
          <a:graphicData uri="http://schemas.openxmlformats.org/drawingml/2006/table">
            <a:tbl>
              <a:tblPr/>
              <a:tblGrid>
                <a:gridCol w="2065320"/>
                <a:gridCol w="2808360"/>
                <a:gridCol w="274644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спекты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иагностическ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ен-ность учащихся, педагогов и родителей жизнедеятель-ностью в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омфортность и защищенность личности учащего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Удовлетворенность педагогов процессом и результатами деятельности учащихся, взаимоотношениями в классном сообщест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Удовлетворенность родителей результатами обучения и воспитания ребенка, его положением в классном коллекти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етодика А.А. Андреева «Изучение удовлетворенности учащихся школьной жизнью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Методи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Н. Степанова для исследования удовлетворенности педагогов и родителей жизнедеятельностью в образовательном учрежд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еучебная деятельность шк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, объединяющее все виды деятельности школьников (кроме учебной), в которых возможно и целесообразно решение задач их воспитания и социал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531720"/>
            <a:ext cx="57294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Актуальные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1400" y="1773360"/>
            <a:ext cx="76816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мы приукрашиваем результаты диагност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пишем анализ, а получается отч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, планируя работу, некоторые меняют только титульный лис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циклограмма не гарантирует положительного результа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, чем больше формализуем воспитательный процесс, тем меньше эффектив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MCj04377970000[1]"/>
          <p:cNvPicPr/>
          <p:nvPr/>
        </p:nvPicPr>
        <p:blipFill>
          <a:blip r:embed="rId1"/>
          <a:stretch/>
        </p:blipFill>
        <p:spPr>
          <a:xfrm>
            <a:off x="6948360" y="333360"/>
            <a:ext cx="1565280" cy="14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3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3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3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3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Для реализации в школе доступны следующие виды внеучебной деятельности: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ва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но-ценностное общ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угово-развлекательная деятельность (досуговое обще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ественное творч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творчество (социально значимая волонтерская деятель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ая (производственная)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ртивно-оздорови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ристско-краевед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екте Базисного учебного плана общеобразовательных учреждений Российской Федерации выделены основны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учебной деятельно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ивно-оздоровитель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удожественно-эстетическ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о-познавательн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енно-патриотическ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ственно полезная деятель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ная деяте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870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успеха в организации внеучебной деятельности школьников принципиальное значение имеет различение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 результатов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эффектов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этой деятельнос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0581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езультат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то, что стало непосредственным итогом участия школьника в деятельности (например, школьник приобрел некое знание, пережил и прочувствовал нечто как ценность, приобрел опыт действ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Эффек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последствие результата; то, к чему привело достижение результата. Например, приобретенное знание, пережитые чувства и отношения, совершённые действия развили человека как личность, способствовали формированию его компетентности, идент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разовательные результат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неучебной деятельности школьников могут быть трех уровн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уровень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обретение школьником социальных знаний (об общественных нормах, об устройстве общества, о социально одобряемых и неодобряемых формах поведения в обществе и т.п.), понимания социальной реальности и повседневно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остижения данного уровня результатов особое значение имеет взаимодействие ученика со своими учителями (в основном и дополнительном образовании) как значимыми для него носителями социального знания и повседневного оп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74692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ой уровень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формирование позитивных отношений школьника к базовым ценностям общества (человек, семья, Отечество, природа, мир, знания, труд, культура), ценностного отношения к социальной реальности в ц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остижения данного уровня результатов особое значение имеет равноправное взаимодействие школьника с другими школьниками на уровне класса, школы, то есть в защищенной, дружественной ему просоциальной среде. Именно в такой близкой социальной среде ребенок получает (или не получает) первое практическое подтверждение приобретенных социальных знаний, начинает их ценить (или отвергае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тий уровень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лучение школьником опыта самостоятельного социального 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остижения данного уровня результатов особое значение имеет взаимодействие школьника с социальными субъектами  за пределами школы, в открытой общественной ср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в самостоятельном социальном действии, «действии для людей и на людях» (М.К. Мамардашвили), которые вовсе не обязательно положительно настроены к действующему, молодой человек действительн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нови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 не прос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знаёт о том, как ст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деятелем, гражданином, свободным челове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ем лаконичную формулировку трех уровней результатов внеучебной деятельности школьни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й уровень – школьник  знает и понимает общественную жиз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й уровень – школьник ценит общественную жиз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й уровень – школьник самостоятельно действует в общественной жиз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ижение всех трех уровней результатов внеучебной деятельности увеличивает вероятность появлени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овательных эффек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этой деятельности (эффектов воспитания и социализации де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в част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я коммуникативной, этической, социальной, гражданской компетентности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я у детей социокультурной идентичности: страновой (российской), этнической, культурной, гендерно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В. Григорьев, В.П. Степа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298600" y="2414160"/>
            <a:ext cx="388800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Желае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успехов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BALLON00"/>
          <p:cNvPicPr/>
          <p:nvPr/>
        </p:nvPicPr>
        <p:blipFill>
          <a:blip r:embed="rId1"/>
          <a:stretch/>
        </p:blipFill>
        <p:spPr>
          <a:xfrm>
            <a:off x="1042920" y="404640"/>
            <a:ext cx="1886040" cy="5931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BALLON00"/>
          <p:cNvPicPr/>
          <p:nvPr/>
        </p:nvPicPr>
        <p:blipFill>
          <a:blip r:embed="rId2"/>
          <a:stretch/>
        </p:blipFill>
        <p:spPr>
          <a:xfrm>
            <a:off x="6732720" y="476280"/>
            <a:ext cx="1885680" cy="59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09840" y="274320"/>
            <a:ext cx="615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Стереотип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87160" y="1623600"/>
            <a:ext cx="801036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казателем хорошей организации процесса воспитания является высокая активность школьников в общественной жизни, их хорошие выступления на всевозможных творческих конкурсах, выставках, фестивалях, викторинах, олимпиадах, соревнованиях и т.п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187280" y="4365720"/>
            <a:ext cx="7417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т подход плох уже потому, что даже само участие детей в подобных конкурсах иногд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ожет иметь весьма сомнительную воспитательную ценн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3:47:03Z</dcterms:created>
  <dc:creator>user</dc:creator>
  <dc:description/>
  <dc:language>en-US</dc:language>
  <cp:lastModifiedBy>shilkov_da</cp:lastModifiedBy>
  <dcterms:modified xsi:type="dcterms:W3CDTF">2010-02-11T05:47:04Z</dcterms:modified>
  <cp:revision>110</cp:revision>
  <dc:subject/>
  <dc:title>Урок - деловая игра «НЕФТЕХИМИЧЕСКАЯ ПРОМЫШЛЕННОСТЬ» </dc:title>
</cp:coreProperties>
</file>