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A351-C1E8-4A1C-AA0B-0D0DE9603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4C30-BD69-43E3-999F-F4854AB2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922C-8FC9-449A-B65D-0BCBBC597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6762-20AC-48D3-804C-F10CC9C26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7BA1F-8819-47E1-A176-0F446CEE1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B5CE2-8488-479F-BBBA-5F4166CE5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C4A74-1371-4921-B1D7-190BEACB3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6C08A-FD83-41C2-93C6-4FDD4E57C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11CF2-E278-44AE-B47F-691F3FBBB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0E4EE-966A-48BC-AAAD-2E3DD450F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4891B-A337-48D4-B0BB-52EC0699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A2EB-7A22-4392-B5D2-6700F56FF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D61AB-417F-4A96-9112-F36E6132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3CD96-C028-47EE-B53C-A4C74BB4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87304-246B-4386-A0A7-92B422DA8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D566E-BF96-4BDD-8955-064DE604D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366C8-9043-4696-9A50-82DDD3F0A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617A-9A9E-4D76-BB21-902C72F39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8A2B-41F5-4E8E-9A0C-3DA9FCB43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235D-B16B-4135-A62B-3E0E51B81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CBEB-942D-412F-931F-7DD7780AF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5885-FA2B-433D-AB21-9A5E5CF0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6C1F-19F9-4DB9-8687-F341268F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74BF-FFA6-4BBE-875C-12573E88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EF555-9AF5-4A9A-8118-43BC328A351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43017-9C21-4961-ADD1-B451403F829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Диагностика личности и коллектива в Детском </a:t>
            </a:r>
            <a:br>
              <a:rPr sz="3600"/>
            </a:b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оздоровительном лагере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тодики диагностики лич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коллектива как показатель результативности воспитательн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5438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33"/>
                </a:solidFill>
                <a:latin typeface="Times New Roman"/>
              </a:rPr>
              <a:t>Причина</a:t>
            </a: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: как мы понимаем «воспитание», учитываем ли специфику данного процесса.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оспитани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– это не работ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 деятельнос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Это не выполнение обязанносте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 реализация моей пози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сознание + деятельность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торая выбирается нами сами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33"/>
                </a:solidFill>
                <a:latin typeface="Times New Roman"/>
              </a:rPr>
              <a:t>Более важными критериями </a:t>
            </a:r>
            <a:br>
              <a:rPr sz="3000"/>
            </a:br>
            <a:r>
              <a:rPr b="1" lang="en-US" sz="3000" spc="-1" strike="noStrike">
                <a:solidFill>
                  <a:srgbClr val="330033"/>
                </a:solidFill>
                <a:latin typeface="Times New Roman"/>
              </a:rPr>
              <a:t>оценки процесса воспитания являются: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777240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личностный рост подростк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уровень развития коллектива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положение каждого ребенка в этом коллективе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сформированность позиции воспитателя у педагогов, вожатых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использование воспитательного потенциала различных видов совместной деятельности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93640" y="330120"/>
            <a:ext cx="716724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Что именно необходимо изучать в процессе мониторинга воспитания?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623600"/>
            <a:ext cx="77724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чность самого воспитанника – главный показатель эффективности процесса воспит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витие гуманистических ценностных отношений личности к миру, к людям, к себе (опросник, наблюдение в обычной жизни, в критической ситуаци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Что именно необходимо изучать в процессе мониторинга воспитания?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тский коллектив – одно из важнейших условий развития личности ребе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Какой у нас коллектив» (А.Н. Лутошкин), (уровни развития коллектива, социометрия, собеседовани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Что именно необходимо изучать в процессе мониторинга воспитания?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фессиональную позицию педаго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иагностика профессиональной позиции педагога как воспита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етодика изучения профессиональных ориентиров педагогического коллектива в сфере воспит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Что именно необходимо изучать в процессе мониторинга воспитания?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рганизационные условия, обеспечивающие эффективность процесса воспит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материально-техническое оснащение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едагогический состав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едметно-эстетическая сред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деятельность детских объединений и органов самоуправлен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ограммное обеспечение процесса воспитани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Диагностические метод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блю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нкет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есе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оциомет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г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Требования к методикам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стота и доступность для воспитателей и вожа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продолжительность процедуры по врем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личие элементов занимательности (игровые форм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Соблюдение этических норм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2803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щита интересов и благополучия подростков: принцип добровольности, сообщение целей из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ры предосторожности в исследованиях: принцип «не навред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авить психологический диагноз подростку, навешивать ярлы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глашать результаты диагнос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11280" y="27756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Ситуации для наблюдения:</a:t>
            </a:r>
            <a:r>
              <a:rPr b="1" lang="en-US" sz="2000" spc="-1" strike="noStrike">
                <a:solidFill>
                  <a:srgbClr val="330033"/>
                </a:solidFill>
                <a:latin typeface="Times New Roman"/>
              </a:rPr>
              <a:t> организация жизни в отряде, отрядные и дружинные дела и подготовка к ним, обобщение детьми приобретенного опыта, у столовой и т.д.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11280" y="1484280"/>
          <a:ext cx="8353440" cy="4859280"/>
        </p:xfrm>
        <a:graphic>
          <a:graphicData uri="http://schemas.openxmlformats.org/drawingml/2006/table">
            <a:tbl>
              <a:tblPr/>
              <a:tblGrid>
                <a:gridCol w="4178160"/>
                <a:gridCol w="4175280"/>
              </a:tblGrid>
              <a:tr h="51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Ю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НУ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гатство собираемых сведений (анализ разнообразной информации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тественность услови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устимо использование технических средст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одится без согласи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ъективно (результаты зависят от опыта, квалификации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возможно контролировать ситуацию, вмешиваться в ход событий без их искажени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сс занимает много време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Продолжите тезис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281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6920" indent="-3769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ороший детский лагерь – это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лагерь я приехал, чтобы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ли бы я был начальником детского лагеря, то непременно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амое главное в жизни нашего отряда – это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не кажется, что вожатые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ольше всего меня огорчает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нашем лагере много внимания уделяют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амым значимым в лагере для меня является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следующий год я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циальная ориентация или индивидуалистическая пози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оральное предпочтение или вещественно-предметная ориен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грессивность или доброжела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Анкетирован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84360" y="1600200"/>
          <a:ext cx="8002440" cy="4791240"/>
        </p:xfrm>
        <a:graphic>
          <a:graphicData uri="http://schemas.openxmlformats.org/drawingml/2006/table">
            <a:tbl>
              <a:tblPr/>
              <a:tblGrid>
                <a:gridCol w="4003560"/>
                <a:gridCol w="3998880"/>
              </a:tblGrid>
              <a:tr h="47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Ю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НУ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кая оперативность получения информаци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можность массовости обследован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авнительно малая трудоемкость процедур подготовки, проведения и обработк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сутствие влияния на опрашиваемых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выраженность субъективного пристрастия к кому-либо из отвечающих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сутствие возможности изменять порядок и формулировку вопросов в зависимости от поведения опрашиваемых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стоверность зависит от уровня доверия и мотивов опрашиваемых (приукрашивание, сознательное занижение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Анкетирован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нкета 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орогие ребята! Просим вас ответить на предложенные вопросы нашей анке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ня зовут (Ф. И. О.)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не нравится, когда меня называют (указать)_____________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кой Я (написать прилагательные, которые меня характеризуют) 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ома в свободное время я увлекаюсь: танцами, литературой, прикладным творчеством, музыкой, пением, спортом, театром, туризмом, рисованием, журналистикой, свой вариант_________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ои ожидания от смены (отметить выбранные варианты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) получить новые знания 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) лучше понять и узнать себ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) познакомиться с новыми людьм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) беспечно провести врем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) попробовать себя в самостоятельной жизн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е) что-то ещё (указать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 приехал в лагерь, чтобы (продолжи фразу) 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своих сверстниках я ценю больше всего (отметь 3 наиболее важных для тебя качества). Честность, взаимоуважение, решительность, взаимопомощь, чувство юмора, общительность, интеллект, внешние данные, сильный характер, аккуратность, достоинство, благородство поступков, инициативность, целеустремленность, ответственно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Анкетирован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Анкета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отел ли ты поехать в лагер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ы когда-нибудь отдыхал в лагер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егко ли ты находишь друзе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ы общительный челове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егко ли ты переносишь суету, шум, детский га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ы человек организованны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жешь ли ты попросить о помощи в сложной ситуац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меешь ли ты подчиниться решению коллектива, вожатог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жешь ли ты сам, без посторонней помощи найти себе дело по душ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тебя чаще бывает хорошее настроени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юбишь ли ты придумывать дела, праздники, принимать в них участи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юбишь ли ты спор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верен ли ты, что твоя жизнь в лагере пройдет весело и интересн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354800" cy="13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Анкета для вожатых</a:t>
            </a:r>
            <a:br>
              <a:rPr sz="2800"/>
            </a:b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Особенности протекания адаптационного периода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7931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далось ли заинтересовать ребят, сплотить отряд, создать чувство «МЫ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жились ли в отряде взаимоотношения между мальчиками и девочкам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дела вызывают у ребят наибольший интерес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дела вызывают наибольшее сопротивле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я большая проблема первой недел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му вы научились за время работы в лагер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му научили ребя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ую помощь, и по какой проблеме хотели бы получи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цените по десятибалльной системе свою работу за первые 10 д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предложения вы бы внесли по организации работы с педсоставо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Уровень психологической комфортности 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пребывания ребёнка в отряде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2854440" cy="25797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042920" y="4437000"/>
            <a:ext cx="576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- высокий уровень, максимум комфор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 - легкий дискомф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- 50/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- весьма ощутимый дискомф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 - низкий уровень, максимум дискомфо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Социометр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8002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просный ли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Анкета, которую мы предлагаем тебе заполнить, поможет улучшить отношения в вашем отряде, сделать его дружнее и сплоченнее. Ответь, пожалуйста, на следующие вопросы: их всего тр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Представь, что ваш отряд отправляется в самостоятельное и нелегкое путешествие. Кого бы ты хотел видеть командиром вашей группы?..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Если бы вашему отряду пришлось участвовать в дружинном деле, кого бы ты хотел видеть координатором этой подготовки?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Кого из отряда ты бы пригласил к себе на вечеринку, день рождения или просто в гости?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осле каждого вопроса напиши по три фамилии тех ребят в отряде, которые соответствуют твоему выбору. Обязательно подпиши свою анкету. Спасибо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0033"/>
                </a:solidFill>
                <a:latin typeface="Times New Roman"/>
              </a:rPr>
              <a:t>Обработка полученных результатов (социоматрица)</a:t>
            </a:r>
            <a:endParaRPr b="0" lang="en-US" sz="25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684360" y="1600200"/>
          <a:ext cx="8135640" cy="4361040"/>
        </p:xfrm>
        <a:graphic>
          <a:graphicData uri="http://schemas.openxmlformats.org/drawingml/2006/table">
            <a:tbl>
              <a:tblPr/>
              <a:tblGrid>
                <a:gridCol w="2006280"/>
                <a:gridCol w="766800"/>
                <a:gridCol w="766800"/>
                <a:gridCol w="766800"/>
                <a:gridCol w="766800"/>
                <a:gridCol w="765360"/>
                <a:gridCol w="765000"/>
                <a:gridCol w="763560"/>
                <a:gridCol w="768240"/>
              </a:tblGrid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ираю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ира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...............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...............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...............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...............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................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.................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................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..................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е число выборов (рейтинг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0033"/>
                </a:solidFill>
                <a:latin typeface="Times New Roman"/>
              </a:rPr>
              <a:t>Интерпретация полученных результатов</a:t>
            </a:r>
            <a:endParaRPr b="0" lang="en-US" sz="2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800244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лученные рейтинги покажут вам в наиболее общем виде картину межличностных отношений в коллективе. Анализируя их можно сделать вывод о наличии в не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лидер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авторитетных школьников, имеющих заметно более высокие рейтинги (в нашем случае это школьники Б и Г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рядовы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членов коллектива, которые поддерживают в целом неплохие отношения с большинством членов коллектива – они имеют средние рейтинги (в нашем случае это школьники А, Е и Ж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одиноче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то есть тех, кто поддерживает хорошие отношения с очень узким кругом своих одноклассников или только друг с другом – они имеют невысокие рейтинги (в нашем случае это школьники В, Д и З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отверженны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то есть тех, кто не принят в коллективе – они, как правило, имеют нулевой рейтинг или рейтинг в 1-2 бал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сли проанализировать взаимные выборы членов коллектива и выявить совпадения выборов друг друга теми или иными школьниками, то можно получить представление о дружеских отношениях и личных взаимных симпатиях в коллективе. Например, в нашем случае такой вывод можно сделать о школьниках А и Б, Б и Г, В и Д – они всегда называли фамилии друг друга в ответах на все предложенные им вопро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Цветопись </a:t>
            </a: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(А.Н. Лутошкин)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684360" y="1557360"/>
          <a:ext cx="7775280" cy="3984480"/>
        </p:xfrm>
        <a:graphic>
          <a:graphicData uri="http://schemas.openxmlformats.org/drawingml/2006/table">
            <a:tbl>
              <a:tblPr/>
              <a:tblGrid>
                <a:gridCol w="3166920"/>
                <a:gridCol w="1297080"/>
                <a:gridCol w="3311280"/>
              </a:tblGrid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е настро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в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троение отря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/ прич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4000" y="1599840"/>
            <a:ext cx="8002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етодика отслеживания эмоционального состояния ребё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жалуйста, не спеши, остановись, подумай, ответь, как прожит ден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то повлияло на твоё настроение сегодн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стояние здоровь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ношения с вожаты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ношение с ребятами в отряд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год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кука в отряд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сталос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лухи, конфликты, сплетни в отряд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оска по дом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чень лич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42920" y="69228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Цветопись </a:t>
            </a: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(А.Н. Лутошк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Нужно ли это? (актуальность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современном обществе никакая профессиональная деятельность не может считаться таковой, если отсутствует простой и четкий механизм отслеживания эффективности эт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0033"/>
                </a:solidFill>
                <a:latin typeface="Times New Roman"/>
              </a:rPr>
              <a:t>Диагностические</a:t>
            </a:r>
            <a:br>
              <a:rPr sz="4000"/>
            </a:br>
            <a:r>
              <a:rPr b="0" lang="en-US" sz="4000" spc="-1" strike="noStrike">
                <a:solidFill>
                  <a:srgbClr val="330033"/>
                </a:solidFill>
                <a:latin typeface="Times New Roman"/>
              </a:rPr>
              <a:t>игры и упражнения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07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Цветик-семицветик» (направленность желаний, единство ценносте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Забор мнений» (эмоциональное состояние в отряд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Копилка хороших поступков» (три хороших поступ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Корабль среди скал» (корабль, капитан, скал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Хвасталки» (преодоление застенчивости, радость успехам други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Зачем это нужно?</a:t>
            </a:r>
            <a:br>
              <a:rPr sz="3800"/>
            </a:b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Цели диагностики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воевременно решать поставленные зада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едупреждать те или иные психолого-педагогические пробл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нтролировать социально-психологические изменения в отря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рректировать свою профессиональную деятельность (программу отрядной работы или лагеря в цело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Стереотип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азателем хорошей организации процесса воспитания в лагере является высокая активность детей в общественной жизни, их хорошие выступления на всевозможных творческих конкурсах, выставках, фестивалях, викторинах, олимпиадах, соревнованиях и т.п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т подход плох уже потому, что даже само участие детей в подобных конкурсах иногда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может иметь весьма сомнительную воспитательную ценнос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Стереотип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рганизация процесса воспитания в лагере оценивается хорошо, есл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жатый грамотно заполняет всю необходимую документацию: отрядный журнал, дневник, план воспитательной работы, анализ ее проведения за день и т.п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отряде и лагере имеются органы ученического самоуправле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водится определенное количество отрядных и дружинных дел по заранее определенным тема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тко и последовательно выполняется план воспитательной работы вожат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ожет ли педантичное следование плану воспитательной работы и наличие нужных галочек напротив всех запланированных мероприятий свидетельствовать о качестве организации воспитательного процесса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нтроль выполнения плана позволяет узнать лишь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числ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проведенных дел: отрядных дел, благотворительных акций, бесед, встреч с интересными людьми, походы, экскурсий и т.д., и т.п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ыли ли все эти дела действительно воспитывающими – этого ни из планов, ни из прилагаемых к нему сценариев, увы, никак не узнать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Стереотип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итерием результативности организуемого процесса воспитания считается уровень воспитанности детей, а его показателем,– демонстрируемый большинством учащих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сок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ровень воспитан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что, если ребенок никогда не сможет достичь того уровня воспитанности, который устанавливается как стандартный и желательный для всех? Не сможет не по своей вине, а, к примеру, в силу сложных семейных обстоятельств или особенностей своего физического и интеллектуального развития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меет ли кто-либо моральное право оценивать дет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 совершенно разной личной судьбой и разной социальной ситуацией развития в соответствии с единым стандартом, сравнивая их с этим стандартом, сравнивая их друг с другом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Быть может…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учше показателем результативности воспитания рассматривать не степень приближения ребенка к единому для всех стандарту, а степень его изменения по сравнению с самим собой – каким был, каким ста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6T15:43:14Z</dcterms:created>
  <dc:creator>User</dc:creator>
  <dc:description/>
  <dc:language>en-US</dc:language>
  <cp:lastModifiedBy>zadorin_ks</cp:lastModifiedBy>
  <dcterms:modified xsi:type="dcterms:W3CDTF">2008-10-30T04:34:13Z</dcterms:modified>
  <cp:revision>73</cp:revision>
  <dc:subject/>
  <dc:title>Мониторинг воспитательной деятельности</dc:title>
</cp:coreProperties>
</file>