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2C6-CFD5-46F8-9FEA-7FD1E17E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392-54FF-4033-975C-8C8D423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A93-B14E-4D76-B59B-5FAA1F0D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0DC-D74F-4A16-92A0-16C7B19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CAED-FA2F-430C-880A-0F229C76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8E3C-23CA-4ECC-993C-1B4FEAE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F59C-EDBA-41D2-9933-8608EA3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630F-C19F-4E4E-8AB7-DDECD24A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5A9-87DB-468A-981A-F71D11C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9E5B-2B4E-43BE-A0F9-E10E1C7D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F91D-6962-44C9-BD79-474338F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C7F-715C-4231-9852-6DD26BA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A66A-BB1C-4B6E-9801-A45D06D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6A25-A7AF-4EC9-9215-F67435E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473C-F500-4FD0-821D-A869959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D9EB-6C7A-4436-97FE-93A6AFBA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283C-2C26-4C5B-9EBF-931033B1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ACC-70CD-4824-B128-9BFC2CF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C88-D7B6-4DB1-AB5A-BDA38547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4B0-3EE5-47EE-BD89-59F6C253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C1C-B8A6-4484-9ECA-567FC4E4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5F0-0CF4-4165-A122-A41353B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6A8-4B9C-4BB9-AFEC-BAB2A15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B9F-F483-46B3-92D1-7E5B0B5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E7E8-4381-445F-A3A5-9ADC73DBB2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5BED-F3F6-4859-B570-5D78C9ED16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Диагностика личности и коллектива в Детском </a:t>
            </a:r>
            <a:br>
              <a:rPr sz="36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оздоровительном лагер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и диагностики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ллектива как показатель результативности воспит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54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Причина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: как мы понимаем «воспитание», учитываем ли специфику данного процесс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это не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не выполнение обязан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реализация моей 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ознание + деятельность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ая выбирается нами сам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Более важными критериями </a:t>
            </a:r>
            <a:br>
              <a:rPr sz="3000"/>
            </a:b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оценки процесса воспитания являются: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ичностный рост подрост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ровень развития коллекти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ожение каждого ребенка в этом коллектив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формированность позиции воспитателя у педагогов, вожат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использование воспитательного потенциала различных видов совместной деятель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3640" y="330120"/>
            <a:ext cx="71672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236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 самого воспитанника – главный показатель эффективности 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к себе (опросник, наблюдение в обычной жизни, в критической ситу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ский коллектив – одно из важнейших условий развития личности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, (уровни развития коллектива, социометрия, собеседо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ую позицию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агностика профессиональной позиции педагога как воспит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ика изучения профессиональных ориентиров педагогического коллектива в сфере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Что именно необходимо изучать в процессе мониторинга воспитани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дагогический соста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метно-эстетическая сре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иагностические мет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ци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Требования к методикам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та и доступность для воспитателей и вож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одолжительность процедуры п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элементов занимательности (игровые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облюдение этических н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щита интересов и благополучия подростков: принцип добровольности, сообщение целей из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ы предосторожности в исследованиях: принцип «не навр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вить психологический диагноз подростку, навешивать ярл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глашать результаты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Ситуации для наблюдения: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организация жизни в отряде, отрядные и дружинные дела и подготовка к ним, обобщение детьми приобретенного опыта, у столовой и т.д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484280"/>
          <a:ext cx="8353440" cy="4859280"/>
        </p:xfrm>
        <a:graphic>
          <a:graphicData uri="http://schemas.openxmlformats.org/drawingml/2006/table">
            <a:tbl>
              <a:tblPr/>
              <a:tblGrid>
                <a:gridCol w="4178160"/>
                <a:gridCol w="417528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ство собираемых сведений (анализ разнообразной информаци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ость усло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о использование технических средст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без соглас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о (результаты зависят от опыта, квалификаци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озможно контролировать ситуацию, вмешиваться в ход событий без их искаже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занимает мно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одолжите тези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детский лагерь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лагерь я приехал, чтоб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я был начальником детского лагеря, то непремен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е главное в жизни нашего отряд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е кажется, что вожаты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е всего меня огорч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м лагере много внимания уделяю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значимым в лагере для меня являет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ледующий год 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ая ориентация или индивидуалистическая 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ральное предпочтение или вещественно-предмет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рессивность или доброжел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600200"/>
          <a:ext cx="8002440" cy="4791240"/>
        </p:xfrm>
        <a:graphic>
          <a:graphicData uri="http://schemas.openxmlformats.org/drawingml/2006/table">
            <a:tbl>
              <a:tblPr/>
              <a:tblGrid>
                <a:gridCol w="4003560"/>
                <a:gridCol w="399888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оперативность получения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массовости об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о малая трудоемкость процедур подготовки, проведения и обрабо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лияния на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раженность субъективного пристрастия к кому-либо из отвечающ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озможности изменять порядок и формулировку вопросов в зависимости от поведения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верность зависит от уровня доверия и мотивов опрашиваемых (приукрашивание, сознательное зани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кета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рогие ребята! Просим вас ответить на предложенные вопросы нашей анк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я зовут (Ф. И. О.)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нравится, когда меня называют (указать)___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ой Я (написать прилагательные, которые меня характеризуют)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а в свободное время я увлекаюсь: танцами, литературой, прикладным творчеством, музыкой, пением, спортом, театром, туризмом, рисованием, журналистикой, свой вариант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ожидания от смены (отметить выбранные вариан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олучить новые знания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лучше понять и узнать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познакомиться с новыми людь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беспечно провести врем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) попробовать себя в самостоятельной жиз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) что-то ещё (указат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риехал в лагерь, чтобы (продолжи фразу)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воих сверстниках я ценю больше всего (отметь 3 наиболее важных для тебя качества). Честность, взаимоуважение, решительность, взаимопомощь, чувство юмора, общительность, интеллект, внешние данные, сильный характер, аккуратность, достоинство, благородство поступков, инициативность, целеустремленность, ответств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нкет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кет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ел ли ты поехать в лагер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когда-нибудь отдыхал в лаг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о ли ты находишь друз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общитель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о ли ты переносишь суету, шум, детский г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человек организован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шь ли ты попросить о помощи в сложной ситу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ешь ли ты подчиниться решению коллектива, вожат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шь ли ты сам, без посторонней помощи найти себе дело по ду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тебя чаще бывает хорошее настро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шь ли ты придумывать дела, праздники, принимать в них учас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шь ли ты спор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рен ли ты, что твоя жизнь в лагере пройдет весело и интерес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548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нкета для вожатых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обенности протекания адаптационного период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ли заинтересовать ребят, сплотить отряд, создать чувство «МЫ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лись ли в отряде взаимоотношения между мальчиками и девоч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ела вызывают у ребят наибольший интер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ела вызывают наибольшее сопроти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ольшая проблема первой не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вы научились за время работы в лаг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научили ребя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помощь, и по какой проблеме хотели бы пол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е по десятибалльной системе свою работу за первые 10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едложения вы бы внесли по организации работы с педсостав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Уровень психологической комфортности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ребывания ребёнка в отряд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2854440" cy="2579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42920" y="44370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- высокий уровень, максимум комфо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 легки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весьма ощутимы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- низкий уровень, максимум дис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циометр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в вашем отряд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отряд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отряду пришлось участвовать в дружинном деле, кого бы ты хотел видеть координатором этой подготовки?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отряда ты бы пригласил к себе на вечеринку, день рождения или просто в гости?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ребят в отряде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Обработка полученных результатов (социоматрица)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1600200"/>
          <a:ext cx="8135640" cy="4361040"/>
        </p:xfrm>
        <a:graphic>
          <a:graphicData uri="http://schemas.openxmlformats.org/drawingml/2006/table">
            <a:tbl>
              <a:tblPr/>
              <a:tblGrid>
                <a:gridCol w="2006280"/>
                <a:gridCol w="766800"/>
                <a:gridCol w="766800"/>
                <a:gridCol w="766800"/>
                <a:gridCol w="766800"/>
                <a:gridCol w="765360"/>
                <a:gridCol w="765000"/>
                <a:gridCol w="763560"/>
                <a:gridCol w="7682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33"/>
                </a:solidFill>
                <a:latin typeface="Times New Roman"/>
              </a:rPr>
              <a:t>Интерпретация полученных результатов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ветопись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А.Н. Лутошкин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557360"/>
          <a:ext cx="7775280" cy="3984480"/>
        </p:xfrm>
        <a:graphic>
          <a:graphicData uri="http://schemas.openxmlformats.org/drawingml/2006/table">
            <a:tbl>
              <a:tblPr/>
              <a:tblGrid>
                <a:gridCol w="3166920"/>
                <a:gridCol w="1297080"/>
                <a:gridCol w="33112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ение 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пр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ика отслеживания эмоционального состояния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алуйста, не спеши, остановись, подумай, ответь, как прожит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повлияло на твоё настроение сегод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ояние здоров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я с вожат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е с ребятами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ука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ухи, конфликты, сплетни в отря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ска по д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ли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692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Цветопись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Нужно ли это? (актуальность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временном обществе никакая профессиональная деятельность не может считаться таковой, если отсутствует простой и четкий механизм отслеживания эффективности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Диагностические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игры и упражн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Цветик-семицветик» (направленность желаний, единство ценност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бор мнений» (эмоциональное состояние в отряд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пилка хороших поступков» (три хороших поступ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абль среди скал» (корабль, капитан, ск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васталки» (преодоление застенчивости, радость успехам друг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чем это нужно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Цели диагностик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временно решать поставлен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упреждать те или иные психолого-педагогическ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тролировать социально-психологические изменения в отря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ректировать свою профессиональную деятельность (программу отрядной работы или лагеря в цел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ем хорошей организации процесса воспитания в лагере является высокая активность детей в общественной жизни, их хорошие выступления на всевозможных творческих конкурсах, выставках, фестивалях, викторинах, олимпиадах, соревнованиях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подход плох уже потому, что даже само участие детей в подобных конкурсах ин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ет иметь весьма сомнительную воспитательную ц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процесса воспитания в лагере оценивается хорошо, ес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жатый грамотно заполняет всю необходимую документацию: отрядный журнал, дневник, план воспитательной работы, анализ ее проведения за день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ряде и лагере имеются органы ученического самоуправ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одится определенное количество отрядных и дружинных дел по заранее определенным тем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ко и последовательно выполняется план воспитательной работы вожа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т ли педантичное следование плану воспитательной работы и наличие нужных галочек напротив всех запланированных мероприятий свидетельствовать о качестве организации воспитательного процесс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ь выполнения плана позволяет узнать лишь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оведенных дел: отрядных дел, благотворительных акций, бесед, встреч с интересными людьми, походы, экскурсий и т.д., и т.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ыли ли все эти дела действительно воспитывающими – этого ни из планов, ни из прилагаемых к нему сценариев, увы, никак не узн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тереот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ем результативности организуемого процесса воспитания считается уровень воспитанности детей, а его показателем,– демонстрируемый большинством учащих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воспита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что, если ребенок никогда не сможет достичь того уровня воспитанности, который устанавливается как стандартный и желательный для всех? Не сможет не по своей вине, а, к примеру, в силу сложных семейных обстоятельств или особенностей своего физического и интеллектуального развит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меет ли кто-либо моральное право оценивать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совершенно разной личной судьбой и разной социальной ситуацией развития в соответствии с единым стандартом, сравнивая их с этим стандартом, сравнивая их друг с друг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Быть может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чше показателем результативности воспитания рассматривать не степень приближения ребенка к единому для всех стандарту, а степень его изменения по сравнению с самим собой – каким был, каким с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3:14Z</dcterms:created>
  <dc:creator>User</dc:creator>
  <dc:description/>
  <dc:language>en-US</dc:language>
  <cp:lastModifiedBy>zadorin_ks</cp:lastModifiedBy>
  <dcterms:modified xsi:type="dcterms:W3CDTF">2008-10-30T04:34:13Z</dcterms:modified>
  <cp:revision>73</cp:revision>
  <dc:subject/>
  <dc:title>Мониторинг воспитательной деятельности</dc:title>
</cp:coreProperties>
</file>